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6673-2854-40E1-9E31-179C35231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112F9-A42D-4EAB-889C-98D037F7D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2DB0D-B0A9-4B72-9106-BE3687B35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D9074-FDF7-4D22-BDB8-9F6931E05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47611-A6C2-42FB-A9FA-830F0D720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117DA-9681-4A60-9423-D099F1EAF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31F2D-1B5B-4D6B-915B-6899D7132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4E742-8072-4CC9-838B-9E8A61C88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CB9A7-0199-4DB5-A10C-158B5440A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6F7AD-F76C-48A0-832D-67F52A96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02D22-FA5A-41BA-B0E0-386BA078A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40452-A7C4-4316-B6FD-3216C4FE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478A4-0360-4B66-A5F8-11EE921F2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0E94-EE7C-4D68-8A19-D66D4ABD95BD}" type="datetime">
              <a:rPr b="0" lang="en-US" sz="1000" spc="-1" strike="noStrike">
                <a:solidFill>
                  <a:srgbClr val="000099"/>
                </a:solidFill>
                <a:latin typeface="Times New Roman"/>
              </a:rPr>
              <a:t>07/31/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4346-34A5-4550-AB4C-F744014825AB}"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0DAC-E03E-4885-91BE-F129A357ADE4}"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BC61-8547-4006-9038-FE38F626B79D}"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E774-ABF1-4672-A1C4-94C8FFED3896}"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F438-48ED-4E5B-8191-249F6DD64A2C}"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CC97-4E69-4D83-85DB-B265D91E500E}"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8901-DBA5-4788-89A7-75E2E0EAA151}"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6548-28C9-41CC-819D-D9373199D997}"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C5D3-2ABF-4D92-8545-CC6AD680CDDA}"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974B-0B44-4DE6-9372-60DC845DEC07}"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19CD-6175-45A7-99B8-B6332784C298}"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1EB0-911F-4455-894E-844902C64739}"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D37B-52F2-40E7-AB6C-9EA805245414}"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13DD-B005-4C30-968F-F08B8668E8CC}"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1269-E5A5-49E6-B6C3-72F67CD6BB36}"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E2FA-815F-43F6-BC10-C31F45D455DF}"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EFDC-0D28-4AD4-A8FF-2B7A8F987739}"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