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3.wmf" ContentType="image/x-wmf"/>
  <Override PartName="/ppt/media/image4.wmf" ContentType="image/x-wmf"/>
  <Override PartName="/ppt/media/image6.gif" ContentType="image/gi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6A47-F3D6-4DEC-BC36-FBB42F837F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 is a German tradition, dating to about 7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ule” log was a large foundational log placed in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omes from an associated celebratory cry heard about Christmastime because the nights were becoming sh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tree is a German tradition, dating to about 700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ule” log was a large foundational log placed in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e comes from an associated celebratory cry heard about Christmastime because the nights were becoming shor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tch name for Nicholas was Sinterklaas, which became Santa Cla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on Christmas day partly because of the Dutch Santa Claus 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tch name for Nicholas was Sinterklaas, which became Santa Cla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on Christmas day partly because of the Dutch Santa Claus legen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from folktales told of a magician that punished naughty children and rewarded good children with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from folktales told of a magician that punished naughty children and rewarded good children with pres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letoe was used as a Christmas decoration for years, but was associated with pagan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ddess of love – probably where kissing under the mistletoe comes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y replaced it, where the thorns remind of Christ’s crown on the cross and the red berries of His shed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stletoe was used as a Christmas decoration for years, but was associated with pagan ritu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ddess of love – probably where kissing under the mistletoe comes fr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y replaced it, where the thorns remind of Christ’s crown on the cross and the red berries of His shed b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ghty children in Italy were the first to get a lump of coal in the st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ughty children in Italy were the first to get a lump of coal in the stock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or “carols” [songs] were sung by small choirs for the pleasure of those that happened to walk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ards started in London in 18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or “carols” [songs] were sung by small choirs for the pleasure of those that happened to walk b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ards started in London in 184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ing “carols” [songs] accompanied by a group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el in French is translated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ging “carols” [songs] accompanied by a group d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el in French is translated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s abbreviated Xmas because the word for Christ in Greek is Xris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s abbreviated Xmas because the word for Christ in Greek is Xristo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eve is celebrated because the Jewish tradition is that the new day starts at sundown [therefore Christmas eve is actually the start of Christmas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Jews (by heritage) are also Christians (by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rae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eve is celebrated because the Jewish tradition is that the new day starts at sundown [therefore Christmas eve is actually the start of Christmas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Jews (by heritage) are also Christians (by fai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ot Center in Flo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untry pavilion has a section dedicated to the history and traditions of Christmas (during the Christmas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cot Center in Flori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country pavilion has a section dedicated to the history and traditions of Christmas (during the Christmas se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grims did not celebrat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brought their Christmas traditions, especially in the 1700s and early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s a national celebration gathered momentum during the mid-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grims did not celebrat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igrants brought their Christmas traditions, especially in the 1700s and early 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s a national celebration gathered momentum during the mid-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Ambassador to Mexico, J.R. Poinsett, imported (what became) the poinsettia for Christmas in 18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Ambassador to Mexico, J.R. Poinsett, imported (what became) the poinsettia for Christmas in 182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sleigh, reindeer, etc. came from 2 published works in 1822 and 1863-18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2 – “The Night Befor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3-1886 – magazine published pictures of Santa’s workshop, Santa reading letters, Santa checking his lis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sleigh, reindeer, etc. came from 2 published works in 1822 and 1863-1886</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22 – “The Night Befor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63-1886 – magazine published pictures of Santa’s workshop, Santa reading letters, Santa checking his list,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to become popular in 1860s, and by 1874 Macy’s in New York developed Christmas theme window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decorations became common in 1880 when Woolworth’s began to sell manufactured orn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to become popular in 1860s, and by 1874 Macy’s in New York developed Christmas theme window display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e decorations became common in 1880 when Woolworth’s began to sell manufactured orna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door White House tree tradition started in 1923 with President Cooli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door White House tree tradition started in 1923 with President Cooli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ost popular secular songs at Christma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g Crosby’s “White Christmas” (19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Autry’s “Rudolf the Red-nosed Reindeer” (19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most popular secular songs at Christmas a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g Crosby’s “White Christmas” (194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Autry’s “Rudolf the Red-nosed Reindeer” (1949)</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something to celebrate for ever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raditions incorporating aspects from man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religious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s something to celebrate for everybod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traditions incorporating aspects from many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 religious ev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s the birth of Jesus, Savior to Chris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partly because the Bible tells of the wise men (magi) bringing gifts to the Christ-child as they came to worship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ebrates the birth of Jesus, Savior to Christi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partly because the Bible tells of the wise men (magi) bringing gifts to the Christ-child as they came to worship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ity scene comes from the Bible, especially in the books of Matthew and Lu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ity scene comes from the Bible, especially in the books of Matthew and Lu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Claus comes from a real person in 325 A.D. – Saint Nicholas in 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utation for kindness and gene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of financial miracles on behalf of the poor and unha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ly Christian nati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 Claus comes from a real person in 325 A.D. – Saint Nicholas in 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utation for kindness and genero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of financial miracles on behalf of the poor and unhapp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Mostly Christian nation at this t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red and white suit came from the traditional Bishop’s robes that Saint Nicholas would have w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red and white suit came from the traditional Bishop’s robes that Saint Nicholas would have w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ings were originally hung, hoping that Saint Nicholas would bring gold coins (as legend says he did for three poor girls that needed money to get mar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filled with small gifts, especially fruit and n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ckings were originally hung, hoping that Saint Nicholas would bring gold coins (as legend says he did for three poor girls that needed money to get marr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were filled with small gifts, especially fruit and nu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587289-1454-48B8-B864-D9A98C582B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3AD6BE-21F2-4AF9-BD89-A139406D5E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616501-83D1-4571-8719-D8A77DD371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FE7D81-C5F5-407E-A958-888905F1E3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8524D-CAB4-4937-8EDA-AB75F79EB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51EE3-360A-4941-A403-9AFDABB21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99800-1A83-4017-B0FD-9F21805FE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F76A0-BBF5-468D-B201-A1C405A4E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31C44-17C8-48FF-B20B-9F019100C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9EBA6-7116-41D2-BB5F-A323242A7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BDF8D-772D-4D5D-94F4-5DD8A2A54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322DEC-56FC-449D-BB16-EE2CF8ECD4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755D1-7A1F-4722-A51C-D78B16086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37BDA-C4F3-4427-B9D5-6E93B97DE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344F2-6944-4D8C-B76B-1FEC142AA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CECE6-DA3E-4A0A-95EB-5B9A7926A9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471E5-DC25-46C3-8070-13CA12653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1B5D12-038A-48BE-BAAF-813EADA48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AF2727-786B-48A1-8FCF-205B57DFD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F78A0E-BB62-488C-B293-69DED7446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B2A4E2-87B8-43BC-A660-775EBFAB5D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DC57BF-7588-4E68-89F1-3413509F5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7C4FB1-B04B-49CB-94FC-A635005A26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7C25AF-8822-4318-9451-A8B2EFA730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ristmas Around the World</a:t>
            </a:r>
            <a:endParaRPr b="0" lang="en-US" sz="1000" spc="-1" strike="noStrike">
              <a:solidFill>
                <a:srgbClr val="000000"/>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16B1-39E7-46FB-85F9-7E6AF43241CC}"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ristmas Around the World</a:t>
            </a:r>
            <a:endParaRPr b="0" lang="en-US" sz="1000" spc="-1" strike="noStrike">
              <a:solidFill>
                <a:srgbClr val="000000"/>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D703-2A8F-4C59-B5CB-E30ED94B108A}"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Around the World</a:t>
            </a:r>
            <a:endParaRPr b="0" lang="en-US" sz="4200" spc="-1" strike="noStrike">
              <a:solidFill>
                <a:srgbClr val="ffffcc"/>
              </a:solidFill>
              <a:latin typeface="Tahoma"/>
            </a:endParaRPr>
          </a:p>
        </p:txBody>
      </p:sp>
      <p:pic>
        <p:nvPicPr>
          <p:cNvPr id="134" name="Picture 5" descr="j0297865"/>
          <p:cNvPicPr/>
          <p:nvPr/>
        </p:nvPicPr>
        <p:blipFill>
          <a:blip r:embed="rId1"/>
          <a:stretch/>
        </p:blipFill>
        <p:spPr>
          <a:xfrm>
            <a:off x="1574640" y="1792440"/>
            <a:ext cx="1803600" cy="1803240"/>
          </a:xfrm>
          <a:prstGeom prst="rect">
            <a:avLst/>
          </a:prstGeom>
          <a:ln w="0">
            <a:noFill/>
          </a:ln>
        </p:spPr>
      </p:pic>
      <p:pic>
        <p:nvPicPr>
          <p:cNvPr id="135" name="Picture 8" descr="j0286738"/>
          <p:cNvPicPr/>
          <p:nvPr/>
        </p:nvPicPr>
        <p:blipFill>
          <a:blip r:embed="rId2"/>
          <a:stretch/>
        </p:blipFill>
        <p:spPr>
          <a:xfrm>
            <a:off x="5562720" y="4114800"/>
            <a:ext cx="1617480" cy="1546200"/>
          </a:xfrm>
          <a:prstGeom prst="rect">
            <a:avLst/>
          </a:prstGeom>
          <a:ln w="0">
            <a:noFill/>
          </a:ln>
        </p:spPr>
      </p:pic>
      <p:pic>
        <p:nvPicPr>
          <p:cNvPr id="136" name="Picture 10" descr="j0098115"/>
          <p:cNvPicPr/>
          <p:nvPr/>
        </p:nvPicPr>
        <p:blipFill>
          <a:blip r:embed="rId3"/>
          <a:stretch/>
        </p:blipFill>
        <p:spPr>
          <a:xfrm>
            <a:off x="1523880" y="4191120"/>
            <a:ext cx="1819440" cy="1339560"/>
          </a:xfrm>
          <a:prstGeom prst="rect">
            <a:avLst/>
          </a:prstGeom>
          <a:ln w="0">
            <a:noFill/>
          </a:ln>
        </p:spPr>
      </p:pic>
      <p:pic>
        <p:nvPicPr>
          <p:cNvPr id="137" name="Picture 13" descr="j0183086"/>
          <p:cNvPicPr/>
          <p:nvPr/>
        </p:nvPicPr>
        <p:blipFill>
          <a:blip r:embed="rId4"/>
          <a:stretch/>
        </p:blipFill>
        <p:spPr>
          <a:xfrm>
            <a:off x="5257800" y="1676520"/>
            <a:ext cx="1698480" cy="182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ermany</a:t>
            </a: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tree is a German tradition, dating to about 700 A.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Yule” log was a large foundational log placed in the fireplace</a:t>
            </a:r>
            <a:endParaRPr b="0" lang="en-US" sz="32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omes from an associated celebratory cry heard about Christmastime because the nights were becoming short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olland</a:t>
            </a: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tch name for Nicholas was Sinterklaas, which became Santa Cla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on Christmas day partly because of the Dutch Santa Claus legen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ends from folktales told of a magician that punished naughty children and rewarded good children with pres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letoe was used as a Christmas decoration for years, but was associated with pagan rituals</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goddess of love – probably where kissing under the mistletoe comes from</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lly replaced it, where the thorns remind of Christ’s crown on the cross and the red berries of His shed blo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taly</a:t>
            </a:r>
            <a:endParaRPr b="0" lang="en-US" sz="42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ughty children in Italy were the first to get a lump of coal in the stoc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ngland</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gs or “carols” [songs] were sung by small choirs for the pleasure of those that happened to walk b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cards started in London in 184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rance</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ing “carols” [songs] accompanied by a group danc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el in French is translated Christm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reece</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is abbreviated Xmas because the word for Christ in Greek is Xris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srael</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eve is celebrated because the Jewish tradition is that the new day starts at sundown [therefore Christmas eve is actually the start of Christmas da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Jews (by heritage) are also Christians (by fai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exico</a:t>
            </a: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Nochebuena</a:t>
            </a:r>
            <a:r>
              <a:rPr b="0" lang="en-US" sz="2800" spc="-1" strike="noStrike">
                <a:solidFill>
                  <a:srgbClr val="ffffff"/>
                </a:solidFill>
                <a:latin typeface="Tahoma"/>
              </a:rPr>
              <a:t>,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pic>
        <p:nvPicPr>
          <p:cNvPr id="139" name="Picture 7" descr=""/>
          <p:cNvPicPr/>
          <p:nvPr/>
        </p:nvPicPr>
        <p:blipFill>
          <a:blip r:embed="rId1"/>
          <a:stretch/>
        </p:blipFill>
        <p:spPr>
          <a:xfrm>
            <a:off x="892080" y="2268360"/>
            <a:ext cx="3167280" cy="851040"/>
          </a:xfrm>
          <a:prstGeom prst="rect">
            <a:avLst/>
          </a:prstGeom>
          <a:ln w="0">
            <a:noFill/>
          </a:ln>
        </p:spPr>
      </p:pic>
      <p:pic>
        <p:nvPicPr>
          <p:cNvPr id="140" name="Picture 22" descr="j0283185"/>
          <p:cNvPicPr/>
          <p:nvPr/>
        </p:nvPicPr>
        <p:blipFill>
          <a:blip r:embed="rId2"/>
          <a:stretch/>
        </p:blipFill>
        <p:spPr>
          <a:xfrm>
            <a:off x="5181480" y="2133720"/>
            <a:ext cx="2806920" cy="3211560"/>
          </a:xfrm>
          <a:prstGeom prst="rect">
            <a:avLst/>
          </a:prstGeom>
          <a:ln w="0">
            <a:noFill/>
          </a:ln>
        </p:spPr>
      </p:pic>
      <p:pic>
        <p:nvPicPr>
          <p:cNvPr id="141" name="Picture 19" descr="SO02974_"/>
          <p:cNvPicPr/>
          <p:nvPr/>
        </p:nvPicPr>
        <p:blipFill>
          <a:blip r:embed="rId3"/>
          <a:stretch/>
        </p:blipFill>
        <p:spPr>
          <a:xfrm>
            <a:off x="1600200" y="3733920"/>
            <a:ext cx="1928880" cy="2009520"/>
          </a:xfrm>
          <a:prstGeom prst="rect">
            <a:avLst/>
          </a:prstGeom>
          <a:ln w="0">
            <a:noFill/>
          </a:ln>
        </p:spPr>
      </p:pic>
      <p:sp>
        <p:nvSpPr>
          <p:cNvPr id="142"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pcot Center in Florida</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country pavilion has a section dedicated to the history and traditions of Christmas (during the Christmas sea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grims did not celebrate Christma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igrants brought their Christmas traditions, especially in the 1700s and early 1800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as a national celebration gathered momentum during the mid-1800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Ambassador to Mexico, J.R. Poinsett, imported (what became) the poinsettia for Christmas in 182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sleigh, reindeer, etc. came from 2 published works in 1822 and 1863-1886</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22 – “The Night Before Christmas”</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63-1886 – magazine published pictures of Santa’s workshop, Santa reading letters, Santa checking his list,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ed to become popular in 1860s, and by 1874 Macy’s in New York developed Christmas theme window display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e decorations became common in 1880 when Woolworth’s began to sell manufactured ornam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door White House tree tradition started in 1923 with President Coolid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most popular secular songs at Christmas are:</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g Crosby’s “White Christmas” (1942)</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 Autry’s “Rudolf the Red-nosed Reindeer” (1949)</a:t>
            </a:r>
            <a:endParaRPr b="0" lang="en-US" sz="28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upon the Montgomery Wards booklet of the same named given away free in 1939 – written by a father attempting to cheer up a sad daughter grieving over a dieing moth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s something to celebrate for everybody:</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 traditions incorporating aspects from many countries</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ificant religious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73152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tory</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tion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a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lebrates the birth of Jesus, Savior to Christian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partly because the Bible tells of the wise men (magi) bringing gifts to the Christ-child as they came to worship Hi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ity scene comes from the Bible, especially in the books of Matthew and Luk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olic Church set December 25</a:t>
            </a:r>
            <a:r>
              <a:rPr b="0" lang="en-US" sz="3200" spc="-1" strike="noStrike" baseline="30000">
                <a:solidFill>
                  <a:srgbClr val="ffffff"/>
                </a:solidFill>
                <a:latin typeface="Tahoma"/>
              </a:rPr>
              <a:t>th</a:t>
            </a:r>
            <a:r>
              <a:rPr b="0" lang="en-US" sz="3200" spc="-1" strike="noStrike">
                <a:solidFill>
                  <a:srgbClr val="ffffff"/>
                </a:solidFill>
                <a:latin typeface="Tahoma"/>
              </a:rPr>
              <a:t> as the celebration date to combine with the Roman holiday of the winter solstice (when sun has no apparent North or South movement) in 336 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 Claus comes from a real person in 325 A.D. – Saint Nicholas in Turkey*</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utation for kindness and generosity</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ends of financial miracles on behalf of the poor and unhappy</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Mostly Christian nation at this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red and white suit came from the traditional Bishop’s robes that Saint Nicholas would have wor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ckings were originally hung, hoping that Saint Nicholas would bring gold coins (as legend says he did for three poor girls that needed money to get marrie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were filled with small gifts, especially fruit and nu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7T21:10:23Z</dcterms:created>
  <dc:creator>Warren Sargent</dc:creator>
  <dc:description/>
  <dc:language>en-US</dc:language>
  <cp:lastModifiedBy>RomaK</cp:lastModifiedBy>
  <dcterms:modified xsi:type="dcterms:W3CDTF">2015-09-02T09:51:20Z</dcterms:modified>
  <cp:revision>16</cp:revision>
  <dc:subject/>
  <dc:title>Christmas</dc:title>
</cp:coreProperties>
</file>