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26.gif" ContentType="image/gif"/>
  <Override PartName="/ppt/media/image29.wmf" ContentType="image/x-wmf"/>
  <Override PartName="/ppt/media/image19.jpeg" ContentType="image/jpeg"/>
  <Override PartName="/ppt/media/image18.png" ContentType="image/png"/>
  <Override PartName="/ppt/media/image8.jpeg" ContentType="image/jpeg"/>
  <Override PartName="/ppt/media/image5.png" ContentType="image/png"/>
  <Override PartName="/ppt/media/image13.jpeg" ContentType="image/jpeg"/>
  <Override PartName="/ppt/media/image40.jpeg" ContentType="image/jpeg"/>
  <Override PartName="/ppt/media/image17.wmf" ContentType="image/x-wmf"/>
  <Override PartName="/ppt/media/image9.png" ContentType="image/png"/>
  <Override PartName="/ppt/media/image11.jpeg" ContentType="image/jpeg"/>
  <Override PartName="/ppt/media/image36.jpeg" ContentType="image/jpeg"/>
  <Override PartName="/ppt/media/image30.jpeg" ContentType="image/jpeg"/>
  <Override PartName="/ppt/media/image16.jpeg" ContentType="image/jpeg"/>
  <Override PartName="/ppt/media/image35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39.wmf" ContentType="image/x-wmf"/>
  <Override PartName="/ppt/media/image41.jpeg" ContentType="image/jpeg"/>
  <Override PartName="/ppt/media/image4.jpeg" ContentType="image/jpeg"/>
  <Override PartName="/ppt/media/image38.wmf" ContentType="image/x-wmf"/>
  <Override PartName="/ppt/media/image34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12.jpeg" ContentType="image/jpeg"/>
  <Override PartName="/ppt/media/image28.wmf" ContentType="image/x-wmf"/>
  <Override PartName="/ppt/media/image37.jpeg" ContentType="image/jpeg"/>
  <Override PartName="/ppt/media/image6.png" ContentType="image/png"/>
  <Override PartName="/ppt/media/image14.wmf" ContentType="image/x-wmf"/>
  <Override PartName="/ppt/media/image3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01E6-DF20-4612-A589-120FE2F500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rganized public procession on a festive or ceremonial occa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rganized public procession on a festive or ceremonial occa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we live in that consists of the 50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we live in that consists of the 50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works for the government that helps to make and create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 was a se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works for the government that helps to make and create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 was a se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u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l induction into office. A formal beginning or int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resident has an inauguration into the Presid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u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l induction into office. A formal beginning or int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resident has an inauguration into the Presid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chelle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’s wif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chelle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’s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20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e of the inau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20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e of the inau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ule of conduct or procedure established by custom, agreement, or autho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ule of conduct or procedure established by custom, agreement, or autho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ece of cloth, usually rectangular, of distinctive color and design, used as a symb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ece of cloth, usually rectangular, of distinctive color and design, used as a symb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in charge that you may listen to or follow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in charge that you may listen to or follow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lemn, formal declaration or promise to fulfill a p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lemn, formal declaration or promise to fulfill a p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is elected to have authority or control over a group of peop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is elected to have authority or control over a group of peo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ia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daughter. She is in the 5th gr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ia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daughter. She is in the 5th g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ed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hired to protect the President at all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hired to protect the President at all 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sha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 youngest daughter. She is in the 2nd gr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sha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 youngest daughter. She is in the 2nd g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away from danger or h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and dad always protect me by holding my hand when I cross the str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away from danger or h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and dad always protect me by holding my hand when I cross the str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ecutive mansion of the President of the United States. This is where the President lives and wo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ecutive mansion of the President of the United States. This is where the President lives and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tivity  you do that you produce or accomplish some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ckson had to work hard on his science pro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had to go to work at the hospital yeste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tivity  you do that you produce or accomplish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ckson had to work hard on his scienc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had to go to work at the hospital yeste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ing to a large group of people. Who is giving this spee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tin Luther King J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ing to a large group of people. Who is giving this spee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tin Luther King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one says that they will or will not do some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one says that they will or will not d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al Off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al Office is the president's formal work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he often addresses the American public and the world on television or rad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president deals with the issues of the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al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al Office is the president's formal work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he often addresses the American public and the world on television or rad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president deals with the issues of the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D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’s capit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nt to Washington D.C. and saw the White House and the Washington Mon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D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’s capi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nt to Washington D.C. and saw the White House and the Washington Mon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or ability to make a cho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or ability to make a ch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EBB-7EB1-4D84-B544-E8D9A4C4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98B1-B82B-4099-9333-4F27F7A3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ACC3-7610-4714-9161-890BC2C2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5AB8-7D40-4274-A916-D55B633A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6C4D-A4B3-4E3E-AA08-5E965ECC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CDD5-7224-431F-B9AC-88CA8472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CA6E-CFA2-48F2-B079-8AAAFB31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9E7E-5B60-44B2-9580-1C7071F5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D8BB-A334-4794-8682-1ACD75AE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082F-9208-45CC-88F5-107EFC24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33BF-A6CB-4BDE-B1AA-E3C89825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666F-D677-4FAF-8C16-5129FD7E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3FB6-C835-42C7-89C2-9D6AFEF6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E0B1-4D50-4CBD-935B-03660755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C301-9291-45BB-AB63-3A105C76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E635-77C6-4D10-879F-A4397C8C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F5C1-D47C-4B45-80B1-DEB9155A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C3891-FB31-4911-96F8-33FB66BB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61F59-0184-4954-8A80-40389D0B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1BC7D-6CED-4044-BCE6-E5E9D58C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818BD-0053-4B60-88A0-B5F17577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23F76-74DD-48A1-86DB-D3AC1612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7AE-3A61-4057-AC89-6805CA20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0B898-75BE-4F54-AF73-C63516F6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7A003-5C8E-4AA6-8DA1-E8E10458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50609-8B0F-4EDE-A31F-8EA8BA99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9421C-2808-4548-B3E3-EF24AB55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09C79-03C4-4FB8-BFDF-782C3CAB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CCE24-16BF-4634-BC20-CD8329D8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ED789-82FE-4D16-B04A-B2F2859D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F0882-1833-4A8E-A122-4FFAE22C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C5BBF-4853-419F-8528-FAB3E850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808E1-8FC5-4DF1-BAA3-100220FD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55C6-B06A-4200-B998-FA551C33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2BF4C-0E81-4E6B-83A4-9846C7AA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84794-5DB2-41D7-893E-DF7232A8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E8A64-335A-465D-B19B-CD49441F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B67CA-AD88-40EE-AC12-A484285B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13999-AEDF-48B8-9ADF-A6FB7A40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5789B-D592-4B97-A78D-645E6145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5BEFD-2382-4D7C-AAA8-4CD9249E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E7CA3-699D-41A4-A1FD-659DA5A6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92AFC-36C7-4BCE-9260-41054354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CB9A-E8FD-4670-B7E1-A4103AB5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C7BF-0F68-4512-91CC-BA6AE5F5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D83-7A3F-4F74-89BB-6A169B1E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0168-A788-442B-8324-5FD91636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0948-F773-4537-8DCF-2468F97D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57E4-1491-44C5-AD94-AC2FBE94FF8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A176-BF8B-43A4-8C92-6119A3AFA62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FF38-E5B6-4133-88CC-40162832C2B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113B-C43D-437F-B651-DC916986BF2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aps.google.com/maps?hl=en&amp;q=map+of+us&amp;um=1&amp;ie=UTF-8&amp;split=0&amp;sa=X&amp;oi=geocode_result&amp;resnum=1&amp;ct=image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128520"/>
            <a:ext cx="8431560" cy="2028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barack obama.jpg"/>
          <p:cNvPicPr/>
          <p:nvPr/>
        </p:nvPicPr>
        <p:blipFill>
          <a:blip r:embed="rId2"/>
          <a:stretch/>
        </p:blipFill>
        <p:spPr>
          <a:xfrm>
            <a:off x="6022800" y="2097000"/>
            <a:ext cx="2084400" cy="2889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Photo of the Presidential Seal"/>
          <p:cNvPicPr/>
          <p:nvPr/>
        </p:nvPicPr>
        <p:blipFill>
          <a:blip r:embed="rId3"/>
          <a:stretch/>
        </p:blipFill>
        <p:spPr>
          <a:xfrm>
            <a:off x="914400" y="1981080"/>
            <a:ext cx="3362400" cy="3381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ra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organized public procession on a festive or ceremonial occas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MSj00749390000[1].wav" descr=""/>
          <p:cNvPicPr/>
          <p:nvPr/>
        </p:nvPicPr>
        <p:blipFill>
          <a:blip r:embed="rId1"/>
          <a:stretch/>
        </p:blipFill>
        <p:spPr>
          <a:xfrm>
            <a:off x="380880" y="6019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ttp://www.fotosearch.com/bthumb/EYW/EYW115/e008561.jpg"/>
          <p:cNvPicPr/>
          <p:nvPr/>
        </p:nvPicPr>
        <p:blipFill>
          <a:blip r:embed="rId2"/>
          <a:stretch/>
        </p:blipFill>
        <p:spPr>
          <a:xfrm>
            <a:off x="762120" y="3200400"/>
            <a:ext cx="3438360" cy="2286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www.fotosearch.com/bthumb/GLW/GLW465/gwt235001.jpg"/>
          <p:cNvPicPr/>
          <p:nvPr/>
        </p:nvPicPr>
        <p:blipFill>
          <a:blip r:embed="rId3"/>
          <a:stretch/>
        </p:blipFill>
        <p:spPr>
          <a:xfrm>
            <a:off x="6477120" y="584280"/>
            <a:ext cx="2000160" cy="1473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http://www.fotosearch.com/bthumb/ICN/ICN178/F0002806.jpg"/>
          <p:cNvPicPr/>
          <p:nvPr/>
        </p:nvPicPr>
        <p:blipFill>
          <a:blip r:embed="rId4"/>
          <a:stretch/>
        </p:blipFill>
        <p:spPr>
          <a:xfrm>
            <a:off x="5181480" y="2438280"/>
            <a:ext cx="2748240" cy="4133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1954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nited St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ountry we live in that consists of the 50 sta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http://www.google.com/mapdata?CxXA8zUCHYWJS_og____________AQwtwPM1AjWFiUv6QLACSJwBUgJVU2gBkAEPygECZW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819520"/>
            <a:ext cx="708660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na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erson who works for the government that helps to make and create law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 was a senato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2" descr="http://www.fotosearch.com/bthumb/phd/PHD162/25043.jpg"/>
          <p:cNvPicPr/>
          <p:nvPr/>
        </p:nvPicPr>
        <p:blipFill>
          <a:blip r:embed="rId1"/>
          <a:stretch/>
        </p:blipFill>
        <p:spPr>
          <a:xfrm>
            <a:off x="762120" y="3378240"/>
            <a:ext cx="1752480" cy="26607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http://www.fotosearch.com/bthumb/UNU/UNU126/u11737664.jpg"/>
          <p:cNvPicPr/>
          <p:nvPr/>
        </p:nvPicPr>
        <p:blipFill>
          <a:blip r:embed="rId2"/>
          <a:stretch/>
        </p:blipFill>
        <p:spPr>
          <a:xfrm>
            <a:off x="4419720" y="3581280"/>
            <a:ext cx="4141800" cy="275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augu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al induction into office. A formal beginning or introduc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ery president has an inauguration into the Presidenc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chelle Ob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’s wif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2" descr="Malia Obama Picture"/>
          <p:cNvPicPr/>
          <p:nvPr/>
        </p:nvPicPr>
        <p:blipFill>
          <a:blip r:embed="rId1"/>
          <a:stretch/>
        </p:blipFill>
        <p:spPr>
          <a:xfrm>
            <a:off x="1676520" y="2514600"/>
            <a:ext cx="498456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anuary 20, 200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date of the inaugu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3" descr="C:\Documents and Settings\jones62\Local Settings\Temporary Internet Files\Content.IE5\3Q3XBORY\MMj02831900000[1].gif"/>
          <p:cNvPicPr/>
          <p:nvPr/>
        </p:nvPicPr>
        <p:blipFill>
          <a:blip r:embed="rId1"/>
          <a:stretch/>
        </p:blipFill>
        <p:spPr>
          <a:xfrm>
            <a:off x="3909960" y="278136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Documents and Settings\jones62\Local Settings\Temporary Internet Files\Content.IE5\3Q3XBORY\MMj02831900000[1].gif"/>
          <p:cNvPicPr/>
          <p:nvPr/>
        </p:nvPicPr>
        <p:blipFill>
          <a:blip r:embed="rId2"/>
          <a:stretch/>
        </p:blipFill>
        <p:spPr>
          <a:xfrm>
            <a:off x="3909960" y="278136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Documents and Settings\jones62\Local Settings\Temporary Internet Files\Content.IE5\3Q3XBORY\MMj02831900000[1].gif"/>
          <p:cNvPicPr/>
          <p:nvPr/>
        </p:nvPicPr>
        <p:blipFill>
          <a:blip r:embed="rId3"/>
          <a:stretch/>
        </p:blipFill>
        <p:spPr>
          <a:xfrm>
            <a:off x="3909960" y="278136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Documents and Settings\jones62\Local Settings\Temporary Internet Files\Content.IE5\6I1F02F0\MCj02329220000[1].wmf"/>
          <p:cNvPicPr/>
          <p:nvPr/>
        </p:nvPicPr>
        <p:blipFill>
          <a:blip r:embed="rId4"/>
          <a:stretch/>
        </p:blipFill>
        <p:spPr>
          <a:xfrm>
            <a:off x="2022480" y="2506680"/>
            <a:ext cx="5195880" cy="3360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aw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rule of conduct or procedure established by custom, agreement, or author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C:\Documents and Settings\jones62\Local Settings\Temporary Internet Files\Content.IE5\ZO7J9NGJ\MCj02411730000[1].wmf"/>
          <p:cNvPicPr/>
          <p:nvPr/>
        </p:nvPicPr>
        <p:blipFill>
          <a:blip r:embed="rId1"/>
          <a:stretch/>
        </p:blipFill>
        <p:spPr>
          <a:xfrm>
            <a:off x="1143000" y="3809880"/>
            <a:ext cx="2284560" cy="228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C:\Documents and Settings\jones62\Local Settings\Temporary Internet Files\Content.IE5\73MURPX2\MCj01495100000[1].wmf"/>
          <p:cNvPicPr/>
          <p:nvPr/>
        </p:nvPicPr>
        <p:blipFill>
          <a:blip r:embed="rId2"/>
          <a:stretch/>
        </p:blipFill>
        <p:spPr>
          <a:xfrm>
            <a:off x="4800600" y="2895480"/>
            <a:ext cx="3781440" cy="2911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la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iece of cloth, usually rectangular, of distinctive color and design, used as a symb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C:\Documents and Settings\jones62\Local Settings\Temporary Internet Files\Content.IE5\3Q3XBORY\MPj04386450000[1].jpg"/>
          <p:cNvPicPr/>
          <p:nvPr/>
        </p:nvPicPr>
        <p:blipFill>
          <a:blip r:embed="rId1"/>
          <a:stretch/>
        </p:blipFill>
        <p:spPr>
          <a:xfrm>
            <a:off x="4648320" y="2743200"/>
            <a:ext cx="4057560" cy="3246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C:\Documents and Settings\jones62\Local Settings\Temporary Internet Files\Content.IE5\73MURPX2\MPj04386220000[1].jpg"/>
          <p:cNvPicPr/>
          <p:nvPr/>
        </p:nvPicPr>
        <p:blipFill>
          <a:blip r:embed="rId2"/>
          <a:stretch/>
        </p:blipFill>
        <p:spPr>
          <a:xfrm>
            <a:off x="228600" y="3429000"/>
            <a:ext cx="3828960" cy="3063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d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one in charge that you may listen to or follow the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1" descr="C:\Documents and Settings\jones62\Local Settings\Temporary Internet Files\Content.IE5\3Q3XBORY\MCj04375430000[1].wmf"/>
          <p:cNvPicPr/>
          <p:nvPr/>
        </p:nvPicPr>
        <p:blipFill>
          <a:blip r:embed="rId1"/>
          <a:stretch/>
        </p:blipFill>
        <p:spPr>
          <a:xfrm>
            <a:off x="1076400" y="2835360"/>
            <a:ext cx="6391080" cy="3314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at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solemn, formal declaration or promise to fulfill a p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3" descr="oath.jpg"/>
          <p:cNvPicPr/>
          <p:nvPr/>
        </p:nvPicPr>
        <p:blipFill>
          <a:blip r:embed="rId1"/>
          <a:stretch/>
        </p:blipFill>
        <p:spPr>
          <a:xfrm>
            <a:off x="2666880" y="2666880"/>
            <a:ext cx="373392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sid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erson who is elected to have authority or control over a group of peopl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3" descr="clinton.gif"/>
          <p:cNvPicPr/>
          <p:nvPr/>
        </p:nvPicPr>
        <p:blipFill>
          <a:blip r:embed="rId1"/>
          <a:stretch/>
        </p:blipFill>
        <p:spPr>
          <a:xfrm>
            <a:off x="1066680" y="2971800"/>
            <a:ext cx="1791000" cy="2552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washington.gif"/>
          <p:cNvPicPr/>
          <p:nvPr/>
        </p:nvPicPr>
        <p:blipFill>
          <a:blip r:embed="rId2"/>
          <a:stretch/>
        </p:blipFill>
        <p:spPr>
          <a:xfrm>
            <a:off x="5638680" y="3124080"/>
            <a:ext cx="1695600" cy="2476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lia Ob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’s daughter. She is in the 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2" descr="http://images.huffingtonpost.com/gadgets/slideshows/865/slide_865_15133_large.jpg"/>
          <p:cNvPicPr/>
          <p:nvPr/>
        </p:nvPicPr>
        <p:blipFill>
          <a:blip r:embed="rId1"/>
          <a:stretch/>
        </p:blipFill>
        <p:spPr>
          <a:xfrm>
            <a:off x="1600200" y="259092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med fo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m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v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ir For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Picture 1" descr="C:\Documents and Settings\jones62\Local Settings\Temporary Internet Files\Content.IE5\HJMT9WVH\MCj04299090000[1].wmf"/>
          <p:cNvPicPr/>
          <p:nvPr/>
        </p:nvPicPr>
        <p:blipFill>
          <a:blip r:embed="rId1"/>
          <a:stretch/>
        </p:blipFill>
        <p:spPr>
          <a:xfrm>
            <a:off x="6400800" y="914400"/>
            <a:ext cx="1854360" cy="1832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C:\Documents and Settings\jones62\Local Settings\Temporary Internet Files\Content.IE5\SHESL96M\MPj04224220000[1].jpg"/>
          <p:cNvPicPr/>
          <p:nvPr/>
        </p:nvPicPr>
        <p:blipFill>
          <a:blip r:embed="rId2"/>
          <a:stretch/>
        </p:blipFill>
        <p:spPr>
          <a:xfrm>
            <a:off x="5791320" y="3962520"/>
            <a:ext cx="2438280" cy="1749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C:\Documents and Settings\jones62\Local Settings\Temporary Internet Files\Content.IE5\SHESL96M\MPj04224220000[1].jpg"/>
          <p:cNvPicPr/>
          <p:nvPr/>
        </p:nvPicPr>
        <p:blipFill>
          <a:blip r:embed="rId3"/>
          <a:stretch/>
        </p:blipFill>
        <p:spPr>
          <a:xfrm>
            <a:off x="5334120" y="-2583000"/>
            <a:ext cx="3809880" cy="2732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C:\Program Files\Microsoft Office\MEDIA\CAGCAT10\j0233070.wmf"/>
          <p:cNvPicPr/>
          <p:nvPr/>
        </p:nvPicPr>
        <p:blipFill>
          <a:blip r:embed="rId4"/>
          <a:stretch/>
        </p:blipFill>
        <p:spPr>
          <a:xfrm>
            <a:off x="228600" y="4648320"/>
            <a:ext cx="2962440" cy="1484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C:\Documents and Settings\jones62\Local Settings\Temporary Internet Files\Content.IE5\HJMT9WVH\MCj04299150000[1].wmf"/>
          <p:cNvPicPr/>
          <p:nvPr/>
        </p:nvPicPr>
        <p:blipFill>
          <a:blip r:embed="rId5"/>
          <a:stretch/>
        </p:blipFill>
        <p:spPr>
          <a:xfrm>
            <a:off x="2819520" y="2286000"/>
            <a:ext cx="1838160" cy="1806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cret serv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ople hired to protect the President at all tim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Agents ????"/>
          <p:cNvPicPr/>
          <p:nvPr/>
        </p:nvPicPr>
        <p:blipFill>
          <a:blip r:embed="rId1"/>
          <a:stretch/>
        </p:blipFill>
        <p:spPr>
          <a:xfrm>
            <a:off x="1938240" y="2666880"/>
            <a:ext cx="585324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asha Ob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’s  youngest daughter. She is in 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2" descr="http://images.huffingtonpost.com/gadgets/slideshows/865/slide_865_15137_large.jpg"/>
          <p:cNvPicPr/>
          <p:nvPr/>
        </p:nvPicPr>
        <p:blipFill>
          <a:blip r:embed="rId1"/>
          <a:stretch/>
        </p:blipFill>
        <p:spPr>
          <a:xfrm>
            <a:off x="1981080" y="259092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t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keep away from danger or har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mom and dad always protect me by holding my hand when I cross the stre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ite Hou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executive mansion of the President of the United States. This is where the President lives and work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3" descr="white house.jpg"/>
          <p:cNvPicPr/>
          <p:nvPr/>
        </p:nvPicPr>
        <p:blipFill>
          <a:blip r:embed="rId1"/>
          <a:stretch/>
        </p:blipFill>
        <p:spPr>
          <a:xfrm>
            <a:off x="1523880" y="2819520"/>
            <a:ext cx="5924520" cy="3828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activity  you do that you produce or accomplish someth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ckson had to </a:t>
            </a:r>
            <a:r>
              <a:rPr b="0" lang="en-US" sz="2600" spc="-1" strike="noStrike">
                <a:solidFill>
                  <a:srgbClr val="0b5395"/>
                </a:solidFill>
                <a:latin typeface="Constantia"/>
              </a:rPr>
              <a:t>work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d on his science projec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mom had to go to </a:t>
            </a:r>
            <a:r>
              <a:rPr b="0" lang="en-US" sz="2600" spc="-1" strike="noStrike">
                <a:solidFill>
                  <a:srgbClr val="0b5395"/>
                </a:solidFill>
                <a:latin typeface="Constantia"/>
              </a:rPr>
              <a:t>work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t the hospital yesterda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1" descr="C:\Documents and Settings\jones62\Local Settings\Temporary Internet Files\Content.IE5\ZO7J9NGJ\MPj04225270000[1].jpg"/>
          <p:cNvPicPr/>
          <p:nvPr/>
        </p:nvPicPr>
        <p:blipFill>
          <a:blip r:embed="rId1"/>
          <a:stretch/>
        </p:blipFill>
        <p:spPr>
          <a:xfrm>
            <a:off x="4952880" y="4343400"/>
            <a:ext cx="3448080" cy="2027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pee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alking to a large group of people. Who is giving this speec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tin Luther King J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5" descr="mlk.jpg"/>
          <p:cNvPicPr/>
          <p:nvPr/>
        </p:nvPicPr>
        <p:blipFill>
          <a:blip r:embed="rId1"/>
          <a:stretch/>
        </p:blipFill>
        <p:spPr>
          <a:xfrm>
            <a:off x="4495680" y="2514600"/>
            <a:ext cx="360540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m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someone says that they will or will not do someth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C:\Documents and Settings\jones62\Local Settings\Temporary Internet Files\Content.IE5\73MURPX2\MCPE03088_0000[1].wmf"/>
          <p:cNvPicPr/>
          <p:nvPr/>
        </p:nvPicPr>
        <p:blipFill>
          <a:blip r:embed="rId1"/>
          <a:stretch/>
        </p:blipFill>
        <p:spPr>
          <a:xfrm>
            <a:off x="2666880" y="2590920"/>
            <a:ext cx="3353040" cy="3849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val Off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Oval Office is the president's formal worksp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is where he often addresses the American public and the world on television or rad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 the president deals with the issues of the da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3" descr="oval office.jpg"/>
          <p:cNvPicPr/>
          <p:nvPr/>
        </p:nvPicPr>
        <p:blipFill>
          <a:blip r:embed="rId1"/>
          <a:stretch/>
        </p:blipFill>
        <p:spPr>
          <a:xfrm>
            <a:off x="2286000" y="3886200"/>
            <a:ext cx="440388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ashington D.C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ur nation’s capita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 went to Washington D.C. and saw the White House and the Washington Monu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le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ight or ability to make a choi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1" descr="C:\Documents and Settings\jones62\Local Settings\Temporary Internet Files\Content.IE5\73MURPX2\MPj03848740000[1].jpg"/>
          <p:cNvPicPr/>
          <p:nvPr/>
        </p:nvPicPr>
        <p:blipFill>
          <a:blip r:embed="rId1"/>
          <a:stretch/>
        </p:blipFill>
        <p:spPr>
          <a:xfrm>
            <a:off x="736560" y="3352680"/>
            <a:ext cx="3301920" cy="316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Documents and Settings\jones62\Local Settings\Temporary Internet Files\Content.IE5\73MURPX2\MCj02809250000[1].wmf"/>
          <p:cNvPicPr/>
          <p:nvPr/>
        </p:nvPicPr>
        <p:blipFill>
          <a:blip r:embed="rId2"/>
          <a:stretch/>
        </p:blipFill>
        <p:spPr>
          <a:xfrm>
            <a:off x="4856040" y="1981080"/>
            <a:ext cx="360360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4:02:37Z</dcterms:created>
  <dc:creator>Hillsborough Public Schools</dc:creator>
  <dc:description/>
  <dc:language>en-US</dc:language>
  <cp:lastModifiedBy>RomaK</cp:lastModifiedBy>
  <dcterms:modified xsi:type="dcterms:W3CDTF">2015-09-02T09:51:02Z</dcterms:modified>
  <cp:revision>40</cp:revision>
  <dc:subject/>
  <dc:title>Barack Obama</dc:title>
</cp:coreProperties>
</file>