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6.gif" ContentType="image/gif"/>
  <Override PartName="/ppt/media/image29.wmf" ContentType="image/x-wmf"/>
  <Override PartName="/ppt/media/image19.jpeg" ContentType="image/jpeg"/>
  <Override PartName="/ppt/media/image18.png" ContentType="image/png"/>
  <Override PartName="/ppt/media/image8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17.wmf" ContentType="image/x-wmf"/>
  <Override PartName="/ppt/media/image9.png" ContentType="image/png"/>
  <Override PartName="/ppt/media/image11.jpeg" ContentType="image/jpeg"/>
  <Override PartName="/ppt/media/image36.jpeg" ContentType="image/jpeg"/>
  <Override PartName="/ppt/media/image30.jpeg" ContentType="image/jpeg"/>
  <Override PartName="/ppt/media/image16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9.wmf" ContentType="image/x-wmf"/>
  <Override PartName="/ppt/media/image41.jpeg" ContentType="image/jpeg"/>
  <Override PartName="/ppt/media/image4.jpeg" ContentType="image/jpeg"/>
  <Override PartName="/ppt/media/image38.wmf" ContentType="image/x-wmf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2.jpeg" ContentType="image/jpeg"/>
  <Override PartName="/ppt/media/image28.wmf" ContentType="image/x-wmf"/>
  <Override PartName="/ppt/media/image37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BAFD-ECB0-46DE-8EDC-600278B6E6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DB7-2C07-4B46-939C-1E18EEE2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B0B-C8F7-413E-9F86-EB754CA9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A7F-35E1-4917-892B-C987ABBF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7B5-CF97-40F0-9DFB-E9E5CB32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ABA6-2803-466C-9C06-563A281A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A336-A21E-4E37-8C65-109812ED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C3D9-3330-4E88-975A-48364448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D1AB-B9BD-46BA-A27D-CBA630EE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D544-A732-43F9-8BFD-9DBFC1DB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85E6-5C01-4A28-BD9E-E72FA555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144E-BC17-4EB8-BF72-2594C8A3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233-B022-4F7C-84B6-F8A63942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A7CE-5A7C-41F1-BC4B-010554E9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253A-9233-41CE-AF88-55D1BFF3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96B0-04FB-4FEF-B21C-882BD2EF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A077-2A76-4BFE-80D5-214057DB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171D-4D52-4588-B112-07AC5D7F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75FA-32CE-41DA-90FA-834992CE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D22E-FE06-4DD5-82E6-219A851E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0F8AA-8273-467F-91A8-7961F462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72C7E-E7A8-483B-8D8A-8101A49D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8128-0B80-4BC7-BE66-BAC21101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D8D-EFFE-4F72-9809-DFA8FAA5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FA65-B31B-4EBE-954A-3C4DA8A0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C9DCD-F694-4F31-875E-6A187B42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A9BC-D51B-44B7-9ED2-B4674081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E845D-7B82-4646-AB86-C2938C52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4D5D-DFD6-4D8E-9911-AD006FDB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30F2-7F5F-4411-B7AF-6845C5CC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540A-6751-4C6F-B84D-13314198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D9422-D283-492F-B257-0478F7FA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592D4-0BED-4203-8FEE-1D080041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5B28-A143-4110-86A0-78613F77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DF2-AD3F-47FD-A773-F3318C50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7499-F0F6-4103-B790-430A0426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3B1E7-87AE-4E46-A4AE-FB7070E5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57C04-4F91-4214-8A35-562751D5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46192-600D-4725-B4EF-925C9412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87D9-1AC6-4545-BBBD-DBA9001E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2DDA9-138B-402F-AC6E-62BD6755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692D3-0079-4264-B12C-CC61E9D9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AAFE-AD06-49AD-80CF-D455D552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9F30-3EFC-46A7-8A21-5D4CDB08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286-36CE-49E2-95A4-8EFC8D35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F95-10AE-4DA3-97B2-1B01171F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ACB-CE3A-4CC3-8DFA-4C680823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3B1-97CF-4D6E-A374-FE95529B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1CF-3BA6-4655-9AAC-4491319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8A7C-DE23-4F68-8B50-C50A0A93452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7363-AB49-441D-A20A-764D18C13F8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8B17-3CC4-4774-AF89-A9ABE188FE9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B6CB-41CB-4336-9965-BE2288A7182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q=map+of+us&amp;um=1&amp;ie=UTF-8&amp;split=0&amp;sa=X&amp;oi=geocode_result&amp;resnum=1&amp;ct=image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28520"/>
            <a:ext cx="8431560" cy="2028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barack obama.jpg"/>
          <p:cNvPicPr/>
          <p:nvPr/>
        </p:nvPicPr>
        <p:blipFill>
          <a:blip r:embed="rId2"/>
          <a:stretch/>
        </p:blipFill>
        <p:spPr>
          <a:xfrm>
            <a:off x="6022800" y="2097000"/>
            <a:ext cx="2084400" cy="288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Photo of the Presidential Seal"/>
          <p:cNvPicPr/>
          <p:nvPr/>
        </p:nvPicPr>
        <p:blipFill>
          <a:blip r:embed="rId3"/>
          <a:stretch/>
        </p:blipFill>
        <p:spPr>
          <a:xfrm>
            <a:off x="914400" y="1981080"/>
            <a:ext cx="3362400" cy="338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a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organized public procession on a festive or ceremonial occa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MSj00749390000[1].wav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www.fotosearch.com/bthumb/EYW/EYW115/e008561.jpg"/>
          <p:cNvPicPr/>
          <p:nvPr/>
        </p:nvPicPr>
        <p:blipFill>
          <a:blip r:embed="rId2"/>
          <a:stretch/>
        </p:blipFill>
        <p:spPr>
          <a:xfrm>
            <a:off x="762120" y="3200400"/>
            <a:ext cx="343836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fotosearch.com/bthumb/GLW/GLW465/gwt235001.jpg"/>
          <p:cNvPicPr/>
          <p:nvPr/>
        </p:nvPicPr>
        <p:blipFill>
          <a:blip r:embed="rId3"/>
          <a:stretch/>
        </p:blipFill>
        <p:spPr>
          <a:xfrm>
            <a:off x="6477120" y="58428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www.fotosearch.com/bthumb/ICN/ICN178/F0002806.jpg"/>
          <p:cNvPicPr/>
          <p:nvPr/>
        </p:nvPicPr>
        <p:blipFill>
          <a:blip r:embed="rId4"/>
          <a:stretch/>
        </p:blipFill>
        <p:spPr>
          <a:xfrm>
            <a:off x="5181480" y="2438280"/>
            <a:ext cx="274824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95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ed St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untry we live in that consists of the 50 sta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http://www.google.com/mapdata?CxXA8zUCHYWJS_og____________AQwtwPM1AjWFiUv6QLACSJwBUgJVU2gBkAEPygECZW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819520"/>
            <a:ext cx="70866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n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works for the government that helps to make and create law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 was a senat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www.fotosearch.com/bthumb/phd/PHD162/25043.jpg"/>
          <p:cNvPicPr/>
          <p:nvPr/>
        </p:nvPicPr>
        <p:blipFill>
          <a:blip r:embed="rId1"/>
          <a:stretch/>
        </p:blipFill>
        <p:spPr>
          <a:xfrm>
            <a:off x="762120" y="3378240"/>
            <a:ext cx="1752480" cy="2660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://www.fotosearch.com/bthumb/UNU/UNU126/u11737664.jpg"/>
          <p:cNvPicPr/>
          <p:nvPr/>
        </p:nvPicPr>
        <p:blipFill>
          <a:blip r:embed="rId2"/>
          <a:stretch/>
        </p:blipFill>
        <p:spPr>
          <a:xfrm>
            <a:off x="4419720" y="3581280"/>
            <a:ext cx="4141800" cy="275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augu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induction into office. A formal beginning or intro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 president has an inauguration into the Presidenc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chelle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wi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Malia Obama Picture"/>
          <p:cNvPicPr/>
          <p:nvPr/>
        </p:nvPicPr>
        <p:blipFill>
          <a:blip r:embed="rId1"/>
          <a:stretch/>
        </p:blipFill>
        <p:spPr>
          <a:xfrm>
            <a:off x="1676520" y="2514600"/>
            <a:ext cx="498456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anuary 20, 200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ate of the inaugu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C:\Documents and Settings\jones62\Local Settings\Temporary Internet Files\Content.IE5\3Q3XBORY\MMj02831900000[1].gif"/>
          <p:cNvPicPr/>
          <p:nvPr/>
        </p:nvPicPr>
        <p:blipFill>
          <a:blip r:embed="rId1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jones62\Local Settings\Temporary Internet Files\Content.IE5\3Q3XBORY\MMj02831900000[1].gif"/>
          <p:cNvPicPr/>
          <p:nvPr/>
        </p:nvPicPr>
        <p:blipFill>
          <a:blip r:embed="rId2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jones62\Local Settings\Temporary Internet Files\Content.IE5\3Q3XBORY\MMj02831900000[1].gif"/>
          <p:cNvPicPr/>
          <p:nvPr/>
        </p:nvPicPr>
        <p:blipFill>
          <a:blip r:embed="rId3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Documents and Settings\jones62\Local Settings\Temporary Internet Files\Content.IE5\6I1F02F0\MCj02329220000[1].wmf"/>
          <p:cNvPicPr/>
          <p:nvPr/>
        </p:nvPicPr>
        <p:blipFill>
          <a:blip r:embed="rId4"/>
          <a:stretch/>
        </p:blipFill>
        <p:spPr>
          <a:xfrm>
            <a:off x="2022480" y="2506680"/>
            <a:ext cx="519588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w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ule of conduct or procedure established by custom, agreement, or author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C:\Documents and Settings\jones62\Local Settings\Temporary Internet Files\Content.IE5\ZO7J9NGJ\MCj02411730000[1].wmf"/>
          <p:cNvPicPr/>
          <p:nvPr/>
        </p:nvPicPr>
        <p:blipFill>
          <a:blip r:embed="rId1"/>
          <a:stretch/>
        </p:blipFill>
        <p:spPr>
          <a:xfrm>
            <a:off x="1143000" y="3809880"/>
            <a:ext cx="228456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jones62\Local Settings\Temporary Internet Files\Content.IE5\73MURPX2\MCj01495100000[1].wmf"/>
          <p:cNvPicPr/>
          <p:nvPr/>
        </p:nvPicPr>
        <p:blipFill>
          <a:blip r:embed="rId2"/>
          <a:stretch/>
        </p:blipFill>
        <p:spPr>
          <a:xfrm>
            <a:off x="4800600" y="2895480"/>
            <a:ext cx="3781440" cy="291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a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iece of cloth, usually rectangular, of distinctive color and design, used as a symb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C:\Documents and Settings\jones62\Local Settings\Temporary Internet Files\Content.IE5\3Q3XBORY\MPj04386450000[1].jpg"/>
          <p:cNvPicPr/>
          <p:nvPr/>
        </p:nvPicPr>
        <p:blipFill>
          <a:blip r:embed="rId1"/>
          <a:stretch/>
        </p:blipFill>
        <p:spPr>
          <a:xfrm>
            <a:off x="4648320" y="2743200"/>
            <a:ext cx="4057560" cy="3246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C:\Documents and Settings\jones62\Local Settings\Temporary Internet Files\Content.IE5\73MURPX2\MPj04386220000[1].jpg"/>
          <p:cNvPicPr/>
          <p:nvPr/>
        </p:nvPicPr>
        <p:blipFill>
          <a:blip r:embed="rId2"/>
          <a:stretch/>
        </p:blipFill>
        <p:spPr>
          <a:xfrm>
            <a:off x="228600" y="3429000"/>
            <a:ext cx="382896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d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one in charge that you may listen to or follow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1" descr="C:\Documents and Settings\jones62\Local Settings\Temporary Internet Files\Content.IE5\3Q3XBORY\MCj04375430000[1].wmf"/>
          <p:cNvPicPr/>
          <p:nvPr/>
        </p:nvPicPr>
        <p:blipFill>
          <a:blip r:embed="rId1"/>
          <a:stretch/>
        </p:blipFill>
        <p:spPr>
          <a:xfrm>
            <a:off x="1076400" y="2835360"/>
            <a:ext cx="639108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olemn, formal declaration or promise to fulfill a p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oath.jpg"/>
          <p:cNvPicPr/>
          <p:nvPr/>
        </p:nvPicPr>
        <p:blipFill>
          <a:blip r:embed="rId1"/>
          <a:stretch/>
        </p:blipFill>
        <p:spPr>
          <a:xfrm>
            <a:off x="2666880" y="26668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sid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is elected to have authority or control over a group of peop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clinton.gif"/>
          <p:cNvPicPr/>
          <p:nvPr/>
        </p:nvPicPr>
        <p:blipFill>
          <a:blip r:embed="rId1"/>
          <a:stretch/>
        </p:blipFill>
        <p:spPr>
          <a:xfrm>
            <a:off x="1066680" y="2971800"/>
            <a:ext cx="1791000" cy="2552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washington.gif"/>
          <p:cNvPicPr/>
          <p:nvPr/>
        </p:nvPicPr>
        <p:blipFill>
          <a:blip r:embed="rId2"/>
          <a:stretch/>
        </p:blipFill>
        <p:spPr>
          <a:xfrm>
            <a:off x="5638680" y="3124080"/>
            <a:ext cx="169560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li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daughter. She is in the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http://images.huffingtonpost.com/gadgets/slideshows/865/slide_865_15133_large.jpg"/>
          <p:cNvPicPr/>
          <p:nvPr/>
        </p:nvPicPr>
        <p:blipFill>
          <a:blip r:embed="rId1"/>
          <a:stretch/>
        </p:blipFill>
        <p:spPr>
          <a:xfrm>
            <a:off x="160020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med fo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m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v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Fo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1" descr="C:\Documents and Settings\jones62\Local Settings\Temporary Internet Files\Content.IE5\HJMT9WVH\MCj04299090000[1].wmf"/>
          <p:cNvPicPr/>
          <p:nvPr/>
        </p:nvPicPr>
        <p:blipFill>
          <a:blip r:embed="rId1"/>
          <a:stretch/>
        </p:blipFill>
        <p:spPr>
          <a:xfrm>
            <a:off x="6400800" y="914400"/>
            <a:ext cx="1854360" cy="1832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jones62\Local Settings\Temporary Internet Files\Content.IE5\SHESL96M\MPj04224220000[1].jpg"/>
          <p:cNvPicPr/>
          <p:nvPr/>
        </p:nvPicPr>
        <p:blipFill>
          <a:blip r:embed="rId2"/>
          <a:stretch/>
        </p:blipFill>
        <p:spPr>
          <a:xfrm>
            <a:off x="5791320" y="3962520"/>
            <a:ext cx="2438280" cy="1749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Documents and Settings\jones62\Local Settings\Temporary Internet Files\Content.IE5\SHESL96M\MPj04224220000[1].jpg"/>
          <p:cNvPicPr/>
          <p:nvPr/>
        </p:nvPicPr>
        <p:blipFill>
          <a:blip r:embed="rId3"/>
          <a:stretch/>
        </p:blipFill>
        <p:spPr>
          <a:xfrm>
            <a:off x="5334120" y="-2583000"/>
            <a:ext cx="3809880" cy="2732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Program Files\Microsoft Office\MEDIA\CAGCAT10\j0233070.wmf"/>
          <p:cNvPicPr/>
          <p:nvPr/>
        </p:nvPicPr>
        <p:blipFill>
          <a:blip r:embed="rId4"/>
          <a:stretch/>
        </p:blipFill>
        <p:spPr>
          <a:xfrm>
            <a:off x="228600" y="464832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C:\Documents and Settings\jones62\Local Settings\Temporary Internet Files\Content.IE5\HJMT9WVH\MCj04299150000[1].wmf"/>
          <p:cNvPicPr/>
          <p:nvPr/>
        </p:nvPicPr>
        <p:blipFill>
          <a:blip r:embed="rId5"/>
          <a:stretch/>
        </p:blipFill>
        <p:spPr>
          <a:xfrm>
            <a:off x="2819520" y="2286000"/>
            <a:ext cx="1838160" cy="1806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cret serv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ople hired to protect the President at all tim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Agents ????"/>
          <p:cNvPicPr/>
          <p:nvPr/>
        </p:nvPicPr>
        <p:blipFill>
          <a:blip r:embed="rId1"/>
          <a:stretch/>
        </p:blipFill>
        <p:spPr>
          <a:xfrm>
            <a:off x="1938240" y="2666880"/>
            <a:ext cx="58532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sh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 youngest daughter. She is i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2" descr="http://images.huffingtonpost.com/gadgets/slideshows/865/slide_865_15137_large.jpg"/>
          <p:cNvPicPr/>
          <p:nvPr/>
        </p:nvPicPr>
        <p:blipFill>
          <a:blip r:embed="rId1"/>
          <a:stretch/>
        </p:blipFill>
        <p:spPr>
          <a:xfrm>
            <a:off x="198108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keep away from danger or ha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and dad always protect me by holding my hand when I cross the stre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ite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xecutive mansion of the President of the United States. This is where the President lives and wo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white house.jpg"/>
          <p:cNvPicPr/>
          <p:nvPr/>
        </p:nvPicPr>
        <p:blipFill>
          <a:blip r:embed="rId1"/>
          <a:stretch/>
        </p:blipFill>
        <p:spPr>
          <a:xfrm>
            <a:off x="1523880" y="2819520"/>
            <a:ext cx="592452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ctivity  you do that you produce or accomplish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ckson had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d on his science proj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had to go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 the hospital yester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" descr="C:\Documents and Settings\jones62\Local Settings\Temporary Internet Files\Content.IE5\ZO7J9NGJ\MPj04225270000[1].jpg"/>
          <p:cNvPicPr/>
          <p:nvPr/>
        </p:nvPicPr>
        <p:blipFill>
          <a:blip r:embed="rId1"/>
          <a:stretch/>
        </p:blipFill>
        <p:spPr>
          <a:xfrm>
            <a:off x="4952880" y="4343400"/>
            <a:ext cx="3448080" cy="2027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ee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lking to a large group of people. Who is giving this speec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tin Luther King J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mlk.jpg"/>
          <p:cNvPicPr/>
          <p:nvPr/>
        </p:nvPicPr>
        <p:blipFill>
          <a:blip r:embed="rId1"/>
          <a:stretch/>
        </p:blipFill>
        <p:spPr>
          <a:xfrm>
            <a:off x="4495680" y="2514600"/>
            <a:ext cx="360540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m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someone says that they will or will not do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jones62\Local Settings\Temporary Internet Files\Content.IE5\73MURPX2\MCPE03088_0000[1].wmf"/>
          <p:cNvPicPr/>
          <p:nvPr/>
        </p:nvPicPr>
        <p:blipFill>
          <a:blip r:embed="rId1"/>
          <a:stretch/>
        </p:blipFill>
        <p:spPr>
          <a:xfrm>
            <a:off x="2666880" y="2590920"/>
            <a:ext cx="3353040" cy="384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al Off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Oval Office is the president's formal worksp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where he often addresses the American public and the world on television or rad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the president deals with the issues of the 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oval office.jpg"/>
          <p:cNvPicPr/>
          <p:nvPr/>
        </p:nvPicPr>
        <p:blipFill>
          <a:blip r:embed="rId1"/>
          <a:stretch/>
        </p:blipFill>
        <p:spPr>
          <a:xfrm>
            <a:off x="2286000" y="3886200"/>
            <a:ext cx="44038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ashington D.C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ur nation’s capit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went to Washington D.C. and saw the White House and the Washington Mon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ight or ability to make a cho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1" descr="C:\Documents and Settings\jones62\Local Settings\Temporary Internet Files\Content.IE5\73MURPX2\MPj03848740000[1].jpg"/>
          <p:cNvPicPr/>
          <p:nvPr/>
        </p:nvPicPr>
        <p:blipFill>
          <a:blip r:embed="rId1"/>
          <a:stretch/>
        </p:blipFill>
        <p:spPr>
          <a:xfrm>
            <a:off x="736560" y="3352680"/>
            <a:ext cx="3301920" cy="316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jones62\Local Settings\Temporary Internet Files\Content.IE5\73MURPX2\MCj02809250000[1].wmf"/>
          <p:cNvPicPr/>
          <p:nvPr/>
        </p:nvPicPr>
        <p:blipFill>
          <a:blip r:embed="rId2"/>
          <a:stretch/>
        </p:blipFill>
        <p:spPr>
          <a:xfrm>
            <a:off x="4856040" y="1981080"/>
            <a:ext cx="36036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4:02:37Z</dcterms:created>
  <dc:creator>Hillsborough Public Schools</dc:creator>
  <dc:description/>
  <dc:language>en-US</dc:language>
  <cp:lastModifiedBy>RomaK</cp:lastModifiedBy>
  <dcterms:modified xsi:type="dcterms:W3CDTF">2015-09-02T09:51:02Z</dcterms:modified>
  <cp:revision>40</cp:revision>
  <dc:subject/>
  <dc:title>Barack Obama</dc:title>
</cp:coreProperties>
</file>