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9AF57-4819-4D4A-86E6-2DB243292D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New Government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New Government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s….what to do, what to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 wanted slaves to cou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did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mean south had more people in their the 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-Fifths Compromise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of every 5 slaves count as a person for representation and tax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some what happy…see what happens when you work togeth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s….what to do, what to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 wanted slaves to cou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did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mean south had more people in their the 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-Fifths Compromise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of every 5 slaves count as a person for representation and tax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some what happy…see what happens when you work togeth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sues with Trade…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pl  in the North wanted congress to regulate 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 in the South did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red losing money/sl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regulations until 18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ess decided to tax im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ulate interstate and foreign 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sues with Trade…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pl  in the North wanted congress to regulate 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 in the South did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red losing money/sl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regulations until 18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ess decided to tax im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ulate interstate and foreign 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am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am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S START OVER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eration of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: President ~ enforce laws (helped by VP &amp; assistants) 15 executive depts.- leaders make up  cabin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islative: Congress ~ make laws, 2 ho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100 me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 435 members (present day #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icial: All courts ~ interpret the laws; Supreme Court (9 justices), 12 appeal courts/9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cts/ few “special court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S START OVER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eration of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: President ~ enforce laws (helped by VP &amp; assistants) 15 executive depts.- leaders make up  cabin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islative: Congress ~ make laws, 2 ho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100 me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 435 members (present day #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icial: All courts ~ interpret the laws; Supreme Court (9 justices), 12 appeal courts/9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cts/ few “special court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&amp; Bal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islativ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Pres by not giving 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ck new/get rid of ag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reject treaties (need 2/3 vote to pa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ject presidential appoint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 impeach pres, then Senate d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Judicial by creating/abolishing lower cou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each federal jud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&amp; Bal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islativ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Pres by not giving 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ck new/get rid of ag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reject treaties (need 2/3 vote to pa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ject presidential appoint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 impeach pres, then Senate d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Judicial by creating/abolishing lower cou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each federal jud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&amp; Bal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icial: pardon convicts/appoint judg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islative: veto (not sign) a b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to can be overridden by 2/3 vote in both ho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ici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lare laws unconstitutional, then void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icial Review declare laws/practices uncon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&amp; Bal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icial: pardon convicts/appoint judg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islative: veto (not sign) a b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to can be overridden by 2/3 vote in both ho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ici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lare laws unconstitutional, then void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icial Review declare laws/practices uncon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&amp; Bal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on the pp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oral college (elects p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ges appointed/senators (used to be appoin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: 2y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: 6y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: 4yr (2 terms in a life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reme Court: life or impeach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&amp; Bal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on the pp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oral college (elects p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ges appointed/senators (used to be appoin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: 2y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: 6y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: 4yr (2 terms in a life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reme Court: life or impeach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it…No, we don’t….Lets tal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deralis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ed new con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 trade/strong gov’t/help nations $ pr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-Federalis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 new con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lt it didn’t protect fundamental r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it…No, we don’t….Lets tal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deralis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ed new con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 trade/strong gov’t/help nations $ pr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-Federalis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 new con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lt it didn’t protect fundamental r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First…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ticles of the Confed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 8y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more power to states then central gov’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First…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ticles of the Confed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 8y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more power to states then central gov’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fying the Constitu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of 13 states needed to approve for the new gov’t to take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fying the Constitu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of 13 states needed to approve for the new gov’t to take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s be Flexible!!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cles were to rigid, no way to change with the 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ONE NEEDED TO BE FLEXIB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 can be changed (amended) in 4 way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 Proposal by congress (2/3 vote both hous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ratified/accepted by ¾ vote of state legisl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 2/3 vote both ho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ratification ¾ Const Convention in ¾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&amp; 4 never u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s be Flexible!!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cles were to rigid, no way to change with the 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ONE NEEDED TO BE FLEXIB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 can be changed (amended) in 4 way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 Proposal by congress (2/3 vote both hous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ratified/accepted by ¾ vote of state legisl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 2/3 vote both ho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ratification ¾ Const Convention in ¾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&amp; 4 never u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ending the Con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ending the Con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-Feds wanted more rights for the people protected sooooo……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l of Rights: (1st 10 amendme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d to get anti-federalist to approve the new Con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icts const, and grants individual r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-Feds wanted more rights for the people protected sooooo……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l of Rights: (1st 10 amendme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d to get anti-federalist to approve the new Con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icts const, and grants individual r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ll of R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: freedom of religion, press, &amp; spe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: right to bare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: no housing sold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: no illegal search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iz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: right not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iminate one self/ no double jeopar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: Right to a speedy &amp; fair tr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: Trial by a jury of your pe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: No Cruel or unusual punish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: Just b/c its not stated doesn’t mean it doesn’t exist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: Everything in the Constitution is up to the states to interpr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ll of R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: freedom of religion, press, &amp; spe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: right to bare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: no housing sold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: no illegal search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iz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: right not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iminate one self/ no double jeopar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: Right to a speedy &amp; fair tr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: Trial by a jury of your pe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: No Cruel or unusual punish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: Just b/c its not stated doesn’t mean it doesn’t exist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: Everything in the Constitution is up to the states to interpr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!!!!!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get ready to do a cheat sheet and have test =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!!!!!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get ready to do a cheat sheet and have test =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u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b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gov’t couldn’t collect t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no way to get 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couldn’t pay back $ lent for the Amer R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Owed $ to: oth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ries/priva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tiz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no wanted to trade       with the US b/c Amer didn’t have power to enforce any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ritorial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1 would give Amer a break over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ther nations gave amer nonsense over land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tates were fighting each other over boundaries &amp; 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u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b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gov’t couldn’t collect t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no way to get 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couldn’t pay back $ lent for the Amer R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Owed $ to: oth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ries/priva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tiz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no wanted to trade       with the US b/c Amer didn’t have power to enforce any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ritorial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1 would give Amer a break over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ther nations gave amer nonsense over land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tates were fighting each other over boundaries &amp; 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MPLISH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pt nation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otiated the Treaty of Paris 17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ed the Amer R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d 2 law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Ordinance of 1785: sale of public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Northwest Ordinance: made a plan of how to govern new terri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MPLISH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pt nation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otiated the Treaty of Paris 17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ed the Amer R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d 2 law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Ordinance of 1785: sale of public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Northwest Ordinance: made a plan of how to govern new terri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l me….wait don’t; nah go ahea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pl liked not being told what to do, but wanted someone to help  run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ed a stronger gov’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 couldn’t make payments on land; were losing farms to the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l me….wait don’t; nah go ahea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pl liked not being told what to do, but wanted someone to help  run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ed a stronger gov’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 couldn’t make payments on land; were losing farms to the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ff his head!!! (not really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y’s Rebe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niel Shay (former militia leader) lead a group of angry farmers who lost their farms in Mass in 178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as easily ended, but opened the doors for the discussion of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for stronger central gov’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ff his head!!! (not really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y’s Rebe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niel Shay (former militia leader) lead a group of angry farmers who lost their farms in Mass in 178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as easily ended, but opened the doors for the discussion of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for stronger central gov’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al Con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t to REVISE the Art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ce Hall in Philly, 17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of 13: sent delegates (RI did not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 ppl (aka: founding fath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 lawyers/1/2 famers-merch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Washington president of the con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Madison: Secre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women, Native Americans, or African-Americ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al Con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t to REVISE the Art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ce Hall in Philly, 17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of 13: sent delegates (RI did not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 ppl (aka: founding fath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 lawyers/1/2 famers-merch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Washington president of the con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Madison: Secre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women, Native Americans, or African-Americ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way! No, MY way! Hey let’s COMPROMISE!!! =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Jersey Pla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tates have equal rep in gov’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ginia Pla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 based on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Compromi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e gov’t into 2 ho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: upper house: senate ~ 2 reps per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: lower house: house of representatives ~ based on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make up cong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way! No, MY way! Hey let’s COMPROMISE!!! =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Jersey Pla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tates have equal rep in gov’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ginia Pla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 based on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Compromi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e gov’t into 2 ho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: upper house: senate ~ 2 reps per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: lower house: house of representatives ~ based on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make up cong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EEBB-2085-450E-839A-756ADF31E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BA44-8AB2-4A3A-89E6-2DF06150E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5A54-B3CB-4CB3-971B-0C4B1D0B7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113F-950F-4D71-9CB5-7C20EFE67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9175-A745-426F-8CE0-7CBA9153F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D42C-45BB-4D3F-A65E-423500923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BC38-158E-4B71-9E75-11E744F62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DBA2-79CE-48B9-9620-276DCBC4D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94A5-283D-4DBC-A530-F4538A28F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545C-B5F0-4B3C-AB26-661B0D99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66D6-F030-4552-862C-975D345A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4A73-CF54-4A08-AD97-9EDE24A7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F691B-A391-47B0-AB3B-4D3CC768C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Kristen ITC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 </a:t>
            </a:r>
            <a:r>
              <a:rPr b="0" lang="en-US" sz="4400" spc="-1" strike="noStrike">
                <a:solidFill>
                  <a:srgbClr val="3333ff"/>
                </a:solidFill>
                <a:latin typeface="Kristen ITC"/>
              </a:rPr>
              <a:t>New</a:t>
            </a: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 </a:t>
            </a:r>
            <a:r>
              <a:rPr b="0" lang="en-US" sz="4400" spc="-1" strike="noStrike">
                <a:solidFill>
                  <a:srgbClr val="cc0000"/>
                </a:solidFill>
                <a:latin typeface="Kristen ITC"/>
              </a:rPr>
              <a:t>G</a:t>
            </a:r>
            <a:r>
              <a:rPr b="0" lang="en-US" sz="4400" spc="-1" strike="noStrike">
                <a:solidFill>
                  <a:srgbClr val="3333ff"/>
                </a:solidFill>
                <a:latin typeface="Kristen ITC"/>
              </a:rPr>
              <a:t>o</a:t>
            </a:r>
            <a:r>
              <a:rPr b="0" lang="en-US" sz="4400" spc="-1" strike="noStrike">
                <a:solidFill>
                  <a:srgbClr val="cc0000"/>
                </a:solidFill>
                <a:latin typeface="Kristen ITC"/>
              </a:rPr>
              <a:t>v</a:t>
            </a:r>
            <a:r>
              <a:rPr b="0" lang="en-US" sz="4400" spc="-1" strike="noStrike">
                <a:solidFill>
                  <a:srgbClr val="3333ff"/>
                </a:solidFill>
                <a:latin typeface="Kristen ITC"/>
              </a:rPr>
              <a:t>e</a:t>
            </a:r>
            <a:r>
              <a:rPr b="0" lang="en-US" sz="4400" spc="-1" strike="noStrike">
                <a:solidFill>
                  <a:srgbClr val="cc0000"/>
                </a:solidFill>
                <a:latin typeface="Kristen ITC"/>
              </a:rPr>
              <a:t>r</a:t>
            </a:r>
            <a:r>
              <a:rPr b="0" lang="en-US" sz="4400" spc="-1" strike="noStrike">
                <a:solidFill>
                  <a:srgbClr val="3333ff"/>
                </a:solidFill>
                <a:latin typeface="Kristen ITC"/>
              </a:rPr>
              <a:t>n</a:t>
            </a:r>
            <a:r>
              <a:rPr b="0" lang="en-US" sz="4400" spc="-1" strike="noStrike">
                <a:solidFill>
                  <a:srgbClr val="cc0000"/>
                </a:solidFill>
                <a:latin typeface="Kristen ITC"/>
              </a:rPr>
              <a:t>m</a:t>
            </a:r>
            <a:r>
              <a:rPr b="0" lang="en-US" sz="4400" spc="-1" strike="noStrike">
                <a:solidFill>
                  <a:srgbClr val="3333ff"/>
                </a:solidFill>
                <a:latin typeface="Kristen ITC"/>
              </a:rPr>
              <a:t>e</a:t>
            </a:r>
            <a:r>
              <a:rPr b="0" lang="en-US" sz="4400" spc="-1" strike="noStrike">
                <a:solidFill>
                  <a:srgbClr val="cc0000"/>
                </a:solidFill>
                <a:latin typeface="Kristen ITC"/>
              </a:rPr>
              <a:t>n</a:t>
            </a:r>
            <a:r>
              <a:rPr b="0" lang="en-US" sz="4400" spc="-1" strike="noStrike">
                <a:solidFill>
                  <a:srgbClr val="3333ff"/>
                </a:solidFill>
                <a:latin typeface="Kristen ITC"/>
              </a:rPr>
              <a:t>t</a:t>
            </a:r>
            <a:r>
              <a:rPr b="0" lang="en-US" sz="4400" spc="-1" strike="noStrike">
                <a:solidFill>
                  <a:srgbClr val="cc0000"/>
                </a:solidFill>
                <a:latin typeface="Kristen ITC"/>
              </a:rPr>
              <a:t>!</a:t>
            </a:r>
            <a:r>
              <a:rPr b="0" lang="en-US" sz="4400" spc="-1" strike="noStrike">
                <a:solidFill>
                  <a:srgbClr val="3333ff"/>
                </a:solidFill>
                <a:latin typeface="Kristen ITC"/>
              </a:rPr>
              <a:t>!</a:t>
            </a:r>
            <a:r>
              <a:rPr b="0" lang="en-US" sz="4400" spc="-1" strike="noStrike">
                <a:solidFill>
                  <a:srgbClr val="cc0000"/>
                </a:solidFill>
                <a:latin typeface="Kristen ITC"/>
              </a:rPr>
              <a:t>!</a:t>
            </a:r>
            <a:r>
              <a:rPr b="0" lang="en-US" sz="4400" spc="-1" strike="noStrike">
                <a:solidFill>
                  <a:srgbClr val="3333ff"/>
                </a:solidFill>
                <a:latin typeface="Kristen ITC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First-American-Flag-by-Betsy-Ross"/>
          <p:cNvPicPr/>
          <p:nvPr/>
        </p:nvPicPr>
        <p:blipFill>
          <a:blip r:embed="rId1"/>
          <a:stretch/>
        </p:blipFill>
        <p:spPr>
          <a:xfrm>
            <a:off x="1600200" y="2514600"/>
            <a:ext cx="6095880" cy="365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Harrington"/>
              </a:rPr>
              <a:t>Slaves….what to do, what to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Harringt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Harrington"/>
              </a:rPr>
              <a:t>South wanted slaves to 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Harringt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Harrington"/>
              </a:rPr>
              <a:t>North did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Harrington"/>
              </a:rPr>
              <a:t>Would mean south had more people in their the 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Harringt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Harrington"/>
              </a:rPr>
              <a:t>Three-Fifths Compromise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Harrington"/>
              </a:rPr>
              <a:t>3 of every 5 slaves count as a person for representation and tax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Harrington"/>
              </a:rPr>
              <a:t>Everyone some what happy…see what happens when you work togeth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77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1" dur="77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3" dur="77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5" dur="77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66cc"/>
                </a:solidFill>
                <a:latin typeface="Kristen ITC"/>
              </a:rPr>
              <a:t>Issues with Trade…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cc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Kristen ITC"/>
              </a:rPr>
              <a:t>Ppl  in the North wanted congress to regulate t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cc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Kristen ITC"/>
              </a:rPr>
              <a:t>Farmers in the South did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66cc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Kristen ITC"/>
              </a:rPr>
              <a:t>feared losing money/sl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66cc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Kristen ITC"/>
              </a:rPr>
              <a:t>no regulations until 18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cc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Kristen ITC"/>
              </a:rPr>
              <a:t>Congress decided to tax im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66cc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Kristen ITC"/>
              </a:rPr>
              <a:t>regulate interstate and foreign t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Goudy Old Style"/>
              </a:rPr>
              <a:t>Preambl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preamble1"/>
          <p:cNvPicPr/>
          <p:nvPr/>
        </p:nvPicPr>
        <p:blipFill>
          <a:blip r:embed="rId1"/>
          <a:stretch/>
        </p:blipFill>
        <p:spPr>
          <a:xfrm>
            <a:off x="2590920" y="1162080"/>
            <a:ext cx="4559040" cy="5695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LETS START OVER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Seperation of Po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Executive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: President ~ enforce laws (helped by VP &amp; assistants) 15 executive depts.- leaders make up  cabin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Legislative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: Congress ~ make laws, 2 ho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enate 100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HoR 435 members (present day #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Judicial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: All courts ~ interpret the laws; Supreme Court (9 justices), 12 appeal courts/9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istricts/ few “special cour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1" dur="2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2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7" dur="2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2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3" dur="20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separationofpowers"/>
          <p:cNvPicPr/>
          <p:nvPr/>
        </p:nvPicPr>
        <p:blipFill>
          <a:blip r:embed="rId1"/>
          <a:stretch/>
        </p:blipFill>
        <p:spPr>
          <a:xfrm>
            <a:off x="0" y="304920"/>
            <a:ext cx="8686800" cy="57560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rrington"/>
              </a:rPr>
              <a:t>Checks &amp; Bal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arringt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arrington"/>
              </a:rPr>
              <a:t>Legislativ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arrington"/>
              </a:rPr>
              <a:t>check Pres by not giving 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arrington"/>
              </a:rPr>
              <a:t>block new/get rid of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arrington"/>
              </a:rPr>
              <a:t>Senate reject treaties (need 2/3 vote to pa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arrington"/>
              </a:rPr>
              <a:t>reject presidential appoint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arrington"/>
              </a:rPr>
              <a:t>HoR impeach pres, then Senate d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arrington"/>
              </a:rPr>
              <a:t>Check Judicial by creating/abolishing lower cou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arrington"/>
              </a:rPr>
              <a:t>impeach federal jud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64" dur="2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6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rrington"/>
              </a:rPr>
              <a:t>Checks &amp; Bal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Executiv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Judicial: pardon convicts/appoint judges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Legislative: veto (not sign) a 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veto can be overridden by 2/3 vote in both ho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oudy Old Style"/>
              </a:rPr>
              <a:t>Jud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declare laws unconstitutional, then void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Judicial Review declare laws/practices uncon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ChksBalnces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2960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rrington"/>
              </a:rPr>
              <a:t>Checks &amp; Bal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avie"/>
              </a:rPr>
              <a:t>Checks on the pp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Ravi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avie"/>
              </a:rPr>
              <a:t>Electoral college (elects pr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Ravi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avie"/>
              </a:rPr>
              <a:t>Judges appointed/senators (used to be appoin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Ravi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avie"/>
              </a:rPr>
              <a:t>HoR: 2y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Ravi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avie"/>
              </a:rPr>
              <a:t>Senate: 6y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Ravi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avi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Ravie"/>
              </a:rPr>
              <a:t>Pres: 4yr (2 terms in a lifeti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Ravi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avie"/>
              </a:rPr>
              <a:t>Supreme Court: life or impeach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3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6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9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2" dur="2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5" dur="2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8" dur="2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1" dur="20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We want it…No, we don’t….Lets talk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ff66cc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cc"/>
                </a:solidFill>
                <a:latin typeface="Kristen ITC"/>
              </a:rPr>
              <a:t>Federalist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901"/>
              </a:spcBef>
              <a:buClr>
                <a:srgbClr val="ff66cc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cc"/>
                </a:solidFill>
                <a:latin typeface="Kristen ITC"/>
              </a:rPr>
              <a:t>supported new con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901"/>
              </a:spcBef>
              <a:buClr>
                <a:srgbClr val="ff66cc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cc"/>
                </a:solidFill>
                <a:latin typeface="Kristen ITC"/>
              </a:rPr>
              <a:t>reg trade/strong gov’t/help nations $ pro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99cc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Kristen ITC"/>
              </a:rPr>
              <a:t>Anti-Federalists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901"/>
              </a:spcBef>
              <a:buClr>
                <a:srgbClr val="99cc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Kristen ITC"/>
              </a:rPr>
              <a:t>anti new con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901"/>
              </a:spcBef>
              <a:buClr>
                <a:srgbClr val="99cc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Kristen ITC"/>
              </a:rPr>
              <a:t>felt it didn’t protect fundamental righ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99ff"/>
                </a:solidFill>
                <a:latin typeface="Curlz MT"/>
              </a:rPr>
              <a:t>But First…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Kristen ITC"/>
              </a:rPr>
              <a:t>The Articles of the Confed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Kristen ITC"/>
              </a:rPr>
              <a:t>Last 8y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Kristen ITC"/>
              </a:rPr>
              <a:t>Gave more power to states then central gov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articlesofconfederation"/>
          <p:cNvPicPr/>
          <p:nvPr/>
        </p:nvPicPr>
        <p:blipFill>
          <a:blip r:embed="rId1"/>
          <a:stretch/>
        </p:blipFill>
        <p:spPr>
          <a:xfrm>
            <a:off x="5943600" y="3200400"/>
            <a:ext cx="2419200" cy="3657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image001"/>
          <p:cNvPicPr/>
          <p:nvPr/>
        </p:nvPicPr>
        <p:blipFill>
          <a:blip r:embed="rId2"/>
          <a:stretch/>
        </p:blipFill>
        <p:spPr>
          <a:xfrm>
            <a:off x="380880" y="3124080"/>
            <a:ext cx="5353200" cy="3394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Ravie"/>
              </a:rPr>
              <a:t>Ratifying the Constitu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9 of 13 states needed to approve for the new gov’t to take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Harrington"/>
              </a:rPr>
              <a:t>Lets be Flexible!!!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Harringt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Harrington"/>
              </a:rPr>
              <a:t>Articles were to rigid, no way to change with the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Harrington"/>
              </a:rPr>
              <a:t>NEW ONE NEEDED TO BE FLEXIBL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66cc"/>
              </a:buClr>
              <a:buFont typeface="Harringt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cc"/>
                </a:solidFill>
                <a:latin typeface="Harrington"/>
              </a:rPr>
              <a:t>Constitution can be changed (amended) in 4 way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Harrington"/>
              </a:rPr>
              <a:t>1- Proposal by congress (2/3 vote both hou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Harrington"/>
              </a:rPr>
              <a:t>   </a:t>
            </a:r>
            <a:r>
              <a:rPr b="1" lang="en-US" sz="2800" spc="-1" strike="noStrike">
                <a:solidFill>
                  <a:srgbClr val="009999"/>
                </a:solidFill>
                <a:latin typeface="Harrington"/>
              </a:rPr>
              <a:t>~ratified/accepted by ¾ vote of state legisl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Harrington"/>
              </a:rPr>
              <a:t>2- 2/3 vote both ho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Harrington"/>
              </a:rPr>
              <a:t>   </a:t>
            </a:r>
            <a:r>
              <a:rPr b="1" lang="en-US" sz="2800" spc="-1" strike="noStrike">
                <a:solidFill>
                  <a:srgbClr val="99cc00"/>
                </a:solidFill>
                <a:latin typeface="Harrington"/>
              </a:rPr>
              <a:t>~ratification ¾ Const Convention in ¾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Harrington"/>
              </a:rPr>
              <a:t>3 &amp; 4 never u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gp"/>
          <p:cNvPicPr/>
          <p:nvPr/>
        </p:nvPicPr>
        <p:blipFill>
          <a:blip r:embed="rId1"/>
          <a:stretch/>
        </p:blipFill>
        <p:spPr>
          <a:xfrm>
            <a:off x="0" y="0"/>
            <a:ext cx="1752480" cy="1531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gp"/>
          <p:cNvPicPr/>
          <p:nvPr/>
        </p:nvPicPr>
        <p:blipFill>
          <a:blip r:embed="rId2"/>
          <a:stretch/>
        </p:blipFill>
        <p:spPr>
          <a:xfrm>
            <a:off x="7086600" y="0"/>
            <a:ext cx="1752480" cy="1531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9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7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2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7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2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7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2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ending the Constit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process_amending"/>
          <p:cNvPicPr/>
          <p:nvPr/>
        </p:nvPicPr>
        <p:blipFill>
          <a:blip r:embed="rId1"/>
          <a:stretch/>
        </p:blipFill>
        <p:spPr>
          <a:xfrm>
            <a:off x="685800" y="1371600"/>
            <a:ext cx="8458200" cy="54864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Ravie"/>
              </a:rPr>
              <a:t>Anti-Feds wanted more rights for the people protected sooooo……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Harringt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Harrington"/>
              </a:rPr>
              <a:t>Bill of Rights: (1st 10 amendme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Harrington"/>
              </a:rPr>
              <a:t>created to get anti-federalist to approve the new Con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Harrington"/>
              </a:rPr>
              <a:t>restricts const, and grants individual r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tbor-prt"/>
          <p:cNvPicPr/>
          <p:nvPr/>
        </p:nvPicPr>
        <p:blipFill>
          <a:blip r:embed="rId1"/>
          <a:stretch/>
        </p:blipFill>
        <p:spPr>
          <a:xfrm>
            <a:off x="1219320" y="3886200"/>
            <a:ext cx="6172200" cy="2971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Ravie"/>
              </a:rPr>
              <a:t>The Bill of R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Ravie"/>
              </a:rPr>
              <a:t>1: freedom of religion, press, &amp; spe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Ravie"/>
              </a:rPr>
              <a:t>2: right to bare a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Ravie"/>
              </a:rPr>
              <a:t>3: no housing sold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Ravie"/>
              </a:rPr>
              <a:t>4: no illegal search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Ravie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Ravie"/>
              </a:rPr>
              <a:t>seiz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Ravie"/>
              </a:rPr>
              <a:t>5: right not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Ravie"/>
              </a:rPr>
              <a:t>    </a:t>
            </a:r>
            <a:r>
              <a:rPr b="0" lang="en-US" sz="2400" spc="-1" strike="noStrike">
                <a:solidFill>
                  <a:srgbClr val="ff66cc"/>
                </a:solidFill>
                <a:latin typeface="Ravie"/>
              </a:rPr>
              <a:t>incriminate one self/ no double jeopard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0" y="1371600"/>
            <a:ext cx="4038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Ravie"/>
              </a:rPr>
              <a:t>6: Right to a speedy &amp; fair tr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Ravie"/>
              </a:rPr>
              <a:t>7: Trial by a jury of your p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Ravie"/>
              </a:rPr>
              <a:t>8: No Cruel or unusual</a:t>
            </a:r>
            <a:r>
              <a:rPr b="0" lang="en-US" sz="2400" spc="-1" strike="noStrike">
                <a:solidFill>
                  <a:srgbClr val="000000"/>
                </a:solidFill>
                <a:latin typeface="Ravie"/>
              </a:rPr>
              <a:t> </a:t>
            </a:r>
            <a:r>
              <a:rPr b="0" lang="en-US" sz="2400" spc="-1" strike="noStrike">
                <a:solidFill>
                  <a:srgbClr val="99cc00"/>
                </a:solidFill>
                <a:latin typeface="Ravie"/>
              </a:rPr>
              <a:t>punis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Ravie"/>
              </a:rPr>
              <a:t>9: Just b/c its not stated doesn’t mean it doesn’t exist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Ravie"/>
              </a:rPr>
              <a:t>10: Everything in the Constitution is up to the states to interpr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9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4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9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4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9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4" dur="2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9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Kristen ITC"/>
              </a:rPr>
              <a:t>THE END!!!!!!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Harrington"/>
              </a:rPr>
              <a:t>Now get ready to do a cheat sheet and have test =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 u="sng">
                <a:solidFill>
                  <a:srgbClr val="808080"/>
                </a:solidFill>
                <a:uFillTx/>
                <a:latin typeface="Ravie"/>
              </a:rPr>
              <a:t>Troubl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45720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99cc00"/>
                </a:solidFill>
                <a:uFillTx/>
                <a:latin typeface="Arial"/>
              </a:rPr>
              <a:t>Deb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~ gov’t couldn’t collect t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~ no way to get 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~ couldn’t pay back $ lent for the Amer R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~ Owed $ to: other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countries/private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citiz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T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~no wanted to trade       with the US b/c Amer didn’t have power to enforce any 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236196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c00cc"/>
                </a:solidFill>
                <a:uFillTx/>
                <a:latin typeface="Arial"/>
              </a:rPr>
              <a:t>Territorial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- no1 would give Amer a break over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- other nations gave amer nonsense over land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- states were fighting each other over boundaries &amp;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cc"/>
                </a:solidFill>
                <a:latin typeface="Ravie"/>
              </a:rPr>
              <a:t>ACCOMPLISH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66ff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Ravie"/>
              </a:rPr>
              <a:t>kept nation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Ravie"/>
              </a:rPr>
              <a:t>negotiated the Treaty of Paris 178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Font typeface="Ravi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Ravie"/>
              </a:rPr>
              <a:t>ended the Amer R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Ravie"/>
              </a:rPr>
              <a:t>Created 2 la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avie"/>
              </a:rPr>
              <a:t>	</a:t>
            </a:r>
            <a:r>
              <a:rPr b="0" lang="en-US" sz="2800" spc="-1" strike="noStrike">
                <a:solidFill>
                  <a:srgbClr val="99cc00"/>
                </a:solidFill>
                <a:latin typeface="Ravie"/>
              </a:rPr>
              <a:t>1-Ordinance of 1785: sale of public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avie"/>
              </a:rPr>
              <a:t>	</a:t>
            </a:r>
            <a:r>
              <a:rPr b="0" lang="en-US" sz="2800" spc="-1" strike="noStrike">
                <a:solidFill>
                  <a:srgbClr val="33cc33"/>
                </a:solidFill>
                <a:latin typeface="Ravie"/>
              </a:rPr>
              <a:t>2-Northwest Ordinance: made a plan of how to govern new terri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cc"/>
                </a:solidFill>
                <a:latin typeface="Kristen ITC"/>
              </a:rPr>
              <a:t>Tell me….wait don’t; nah go ahead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Kristen ITC"/>
              </a:rPr>
              <a:t>ppl liked not being told what to do, but wanted someone to help  run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cc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cc"/>
                </a:solidFill>
                <a:latin typeface="Kristen ITC"/>
              </a:rPr>
              <a:t>wanted a stronger gov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Kristen ITC"/>
              </a:rPr>
              <a:t>farmers couldn’t make payments on land; were losing farms to the b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the_week_14157_27"/>
          <p:cNvPicPr/>
          <p:nvPr/>
        </p:nvPicPr>
        <p:blipFill>
          <a:blip r:embed="rId1"/>
          <a:stretch/>
        </p:blipFill>
        <p:spPr>
          <a:xfrm>
            <a:off x="5638680" y="2514600"/>
            <a:ext cx="3267360" cy="244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cc"/>
                </a:solidFill>
                <a:latin typeface="Goudy Old Style"/>
              </a:rPr>
              <a:t>Take off his head!!! </a:t>
            </a:r>
            <a:r>
              <a:rPr b="0" lang="en-US" sz="3600" spc="-1" strike="noStrike">
                <a:solidFill>
                  <a:srgbClr val="cc00cc"/>
                </a:solidFill>
                <a:latin typeface="Goudy Old Style"/>
              </a:rPr>
              <a:t>(not really)</a:t>
            </a:r>
            <a:br>
              <a:rPr sz="3600"/>
            </a:br>
            <a:r>
              <a:rPr b="0" lang="en-US" sz="6000" spc="-1" strike="noStrike">
                <a:solidFill>
                  <a:srgbClr val="ff3300"/>
                </a:solidFill>
                <a:latin typeface="Chiller"/>
              </a:rPr>
              <a:t>Shay’s Rebell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cc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cc"/>
                </a:solidFill>
                <a:latin typeface="Goudy Old Style"/>
              </a:rPr>
              <a:t>Daniel Shay (former militia leader) lead a group of angry farmers who lost their farms in Mass in 178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Goudy Old Style"/>
              </a:rPr>
              <a:t>It was easily ended, but opened the doors for the discussion of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Goudy Old Style"/>
              </a:rPr>
              <a:t>need for stronger central gov’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asset_upload_file867_11926"/>
          <p:cNvPicPr/>
          <p:nvPr/>
        </p:nvPicPr>
        <p:blipFill>
          <a:blip r:embed="rId1"/>
          <a:stretch/>
        </p:blipFill>
        <p:spPr>
          <a:xfrm>
            <a:off x="5638680" y="36576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5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comic"/>
              </a:rPr>
              <a:t>Constitutional Conv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Kristen ITC"/>
              </a:rPr>
              <a:t>Meant to </a:t>
            </a: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Kristen ITC"/>
              </a:rPr>
              <a:t>REVISE</a:t>
            </a:r>
            <a:r>
              <a:rPr b="0" lang="en-US" sz="2800" spc="-1" strike="noStrike">
                <a:solidFill>
                  <a:srgbClr val="ff3300"/>
                </a:solidFill>
                <a:latin typeface="Kristen ITC"/>
              </a:rPr>
              <a:t> the Art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Kristen ITC"/>
              </a:rPr>
              <a:t>Independence Hall in Philly, 178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Kristen ITC"/>
              </a:rPr>
              <a:t>12 of 13: sent delegates (RI did not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Kristen ITC"/>
              </a:rPr>
              <a:t>55 ppl (aka: founding fath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Kristen ITC"/>
              </a:rPr>
              <a:t>1/2 lawyers/1/2 famers-merch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Kristen ITC"/>
              </a:rPr>
              <a:t>George Washington president of the con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Kristen ITC"/>
              </a:rPr>
              <a:t>James Madison: Secre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Kristen ITC"/>
              </a:rPr>
              <a:t>no women, Native Americans, or African-Americ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ConstitutionalConvention1787"/>
          <p:cNvPicPr/>
          <p:nvPr/>
        </p:nvPicPr>
        <p:blipFill>
          <a:blip r:embed="rId1"/>
          <a:stretch/>
        </p:blipFill>
        <p:spPr>
          <a:xfrm>
            <a:off x="609480" y="762120"/>
            <a:ext cx="8305920" cy="54673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Kristen ITC"/>
              </a:rPr>
              <a:t>My way!</a:t>
            </a:r>
            <a:r>
              <a:rPr b="1" i="1" lang="en-US" sz="4000" spc="-1" strike="noStrike">
                <a:solidFill>
                  <a:srgbClr val="000000"/>
                </a:solidFill>
                <a:latin typeface="Kristen ITC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Kristen ITC"/>
              </a:rPr>
              <a:t>No, MY way!</a:t>
            </a:r>
            <a:r>
              <a:rPr b="1" i="1" lang="en-US" sz="4000" spc="-1" strike="noStrike">
                <a:solidFill>
                  <a:srgbClr val="000000"/>
                </a:solidFill>
                <a:latin typeface="Kristen ITC"/>
              </a:rPr>
              <a:t> Hey let’s </a:t>
            </a:r>
            <a:r>
              <a:rPr b="1" i="1" lang="en-US" sz="4000" spc="-1" strike="noStrike">
                <a:solidFill>
                  <a:srgbClr val="ff66cc"/>
                </a:solidFill>
                <a:latin typeface="Kristen ITC"/>
              </a:rPr>
              <a:t>COMPROMISE!!!</a:t>
            </a:r>
            <a:r>
              <a:rPr b="1" i="1" lang="en-US" sz="4000" spc="-1" strike="noStrike">
                <a:solidFill>
                  <a:srgbClr val="000000"/>
                </a:solidFill>
                <a:latin typeface="Kristen ITC"/>
              </a:rPr>
              <a:t> =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New Jersey Pl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ll states have equal rep in gov’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Virginia Pl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rep based on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Great Compromis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66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cc"/>
                </a:solidFill>
                <a:latin typeface="Arial"/>
              </a:rPr>
              <a:t>divide gov’t into 2 ho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Arial"/>
              </a:rPr>
              <a:t>1: upper house: senate ~ 2 reps per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Arial"/>
              </a:rPr>
              <a:t>2: lower house: house of representatives ~ based on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66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cc"/>
                </a:solidFill>
                <a:latin typeface="Arial"/>
              </a:rPr>
              <a:t>these make up con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9T14:40:22Z</dcterms:created>
  <dc:creator>agrabianowski</dc:creator>
  <dc:description/>
  <dc:language>en-US</dc:language>
  <cp:lastModifiedBy>RomaK</cp:lastModifiedBy>
  <dcterms:modified xsi:type="dcterms:W3CDTF">2015-09-02T09:50:53Z</dcterms:modified>
  <cp:revision>42</cp:revision>
  <dc:subject/>
  <dc:title>A New Government!!!!</dc:title>
</cp:coreProperties>
</file>