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0723-1F3A-4B4D-91CF-EB1269647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9EF-EC8F-4A7C-B30A-997ACA29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DA2-BF53-43A9-86AA-998E30BD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FD6-3BE9-4A25-ABEF-D771B8FD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6D6-3E4F-4D4A-B9ED-18DB9B21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BE3-6CC3-40BB-BB34-A946D579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CEE-34B4-4709-BBEB-684864C9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3B8-64A7-4003-8AEB-D92E0998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EF9-4455-4BE7-A15E-89947236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5A8-6D56-4E4C-9D06-497A1D63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179-A104-4560-B10E-483D46B6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0BC-DA3A-4F4C-8C3F-CA8E10BE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5A5-D573-4095-B941-7ADBD71D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9C3E-EA7F-4511-8873-D81CEF633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ew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G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o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v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r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m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t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irst-American-Flag-by-Betsy-Ross"/>
          <p:cNvPicPr/>
          <p:nvPr/>
        </p:nvPicPr>
        <p:blipFill>
          <a:blip r:embed="rId1"/>
          <a:stretch/>
        </p:blipFill>
        <p:spPr>
          <a:xfrm>
            <a:off x="1600200" y="2514600"/>
            <a:ext cx="609588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Slaves….what to do, what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Harrington"/>
              </a:rPr>
              <a:t>South wanted slaves to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Harrington"/>
              </a:rPr>
              <a:t>Nor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Harrington"/>
              </a:rPr>
              <a:t>Would mean south had more people in their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Harrington"/>
              </a:rPr>
              <a:t>Three-Fifths Compromise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3 of every 5 slaves count as a person for representation and tax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Harrington"/>
              </a:rPr>
              <a:t>Everyone some what happy…see what happens when you work togeth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Kristen ITC"/>
              </a:rPr>
              <a:t>Issues with Trade…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Ppl  in the North wanted congress to regulat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armers in the Sou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eared losing money/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no regulations until 18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Congress decided to tax im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regulate interstate and foreign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Goudy Old Style"/>
              </a:rPr>
              <a:t>Pream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reamble1"/>
          <p:cNvPicPr/>
          <p:nvPr/>
        </p:nvPicPr>
        <p:blipFill>
          <a:blip r:embed="rId1"/>
          <a:stretch/>
        </p:blipFill>
        <p:spPr>
          <a:xfrm>
            <a:off x="2590920" y="1162080"/>
            <a:ext cx="4559040" cy="569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LETS START OVER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Seperation of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ecu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President ~ enforce laws (helped by VP &amp; assistants) 15 executive depts.- leaders make up  cabi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gisla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Congress ~ make laws, 2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nate 10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oR 435 members (present day #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Judicial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All courts ~ interpret the laws; Supreme Court (9 justices), 12 appeal courts/9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stricts/ few “special cou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separationofpowers"/>
          <p:cNvPicPr/>
          <p:nvPr/>
        </p:nvPicPr>
        <p:blipFill>
          <a:blip r:embed="rId1"/>
          <a:stretch/>
        </p:blipFill>
        <p:spPr>
          <a:xfrm>
            <a:off x="0" y="304920"/>
            <a:ext cx="8686800" cy="575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Legisla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Pres by not giving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block new/get rid of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Senate reject treaties (need 2/3 vote to p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reject presidential appoin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HoR impeach pres, then Senate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Judicial by creating/abolishing lowe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impeach federal ju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xecu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Judicial: pardon convicts/appoint judge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Legislative: veto (not sign) a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veto can be overridden by 2/3 vote in both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Jud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declare laws unconstitutional, then voi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Judicial Review declare laws/practices un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hksBalnc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vie"/>
              </a:rPr>
              <a:t>Checks on the pp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Electoral college (elects p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Judges appointed/senators (used to be appoin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HoR: 2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enate: 6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Pres: 4yr (2 terms in a life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upreme Court: life or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We want it…No, we don’t….Lets tal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Kristen ITC"/>
              </a:rPr>
              <a:t>Federalis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supported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reg trade/strong gov’t/help nations $ pr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Kristen ITC"/>
              </a:rPr>
              <a:t>Anti-Federalist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anti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felt it didn’t protect fundamental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Curlz MT"/>
              </a:rPr>
              <a:t>But First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The Articles of the Con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Kristen ITC"/>
              </a:rPr>
              <a:t>Last 8y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Kristen ITC"/>
              </a:rPr>
              <a:t>Gave more power to states then central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rticlesofconfederation"/>
          <p:cNvPicPr/>
          <p:nvPr/>
        </p:nvPicPr>
        <p:blipFill>
          <a:blip r:embed="rId1"/>
          <a:stretch/>
        </p:blipFill>
        <p:spPr>
          <a:xfrm>
            <a:off x="5943600" y="3200400"/>
            <a:ext cx="241920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image001"/>
          <p:cNvPicPr/>
          <p:nvPr/>
        </p:nvPicPr>
        <p:blipFill>
          <a:blip r:embed="rId2"/>
          <a:stretch/>
        </p:blipFill>
        <p:spPr>
          <a:xfrm>
            <a:off x="380880" y="3124080"/>
            <a:ext cx="535320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Ratifying the Constit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9 of 13 states needed to approve for the new gov’t to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Lets be Flexible!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Articles were to rigid, no way to change with th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Harrington"/>
              </a:rPr>
              <a:t>NEW ONE NEEDED TO BE FLEX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Harrington"/>
              </a:rPr>
              <a:t>Constitution can be changed (amended) in 4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1- Proposal by congress (2/3 vote both hou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~ratified/accepted by ¾ vote of state legisl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2- 2/3 vote both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~ratification ¾ Const Convention in ¾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Harrington"/>
              </a:rPr>
              <a:t>3 &amp; 4 never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p"/>
          <p:cNvPicPr/>
          <p:nvPr/>
        </p:nvPicPr>
        <p:blipFill>
          <a:blip r:embed="rId1"/>
          <a:stretch/>
        </p:blipFill>
        <p:spPr>
          <a:xfrm>
            <a:off x="0" y="0"/>
            <a:ext cx="1752480" cy="153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gp"/>
          <p:cNvPicPr/>
          <p:nvPr/>
        </p:nvPicPr>
        <p:blipFill>
          <a:blip r:embed="rId2"/>
          <a:stretch/>
        </p:blipFill>
        <p:spPr>
          <a:xfrm>
            <a:off x="7086600" y="0"/>
            <a:ext cx="1752480" cy="153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rocess_amending"/>
          <p:cNvPicPr/>
          <p:nvPr/>
        </p:nvPicPr>
        <p:blipFill>
          <a:blip r:embed="rId1"/>
          <a:stretch/>
        </p:blipFill>
        <p:spPr>
          <a:xfrm>
            <a:off x="6858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Anti-Feds wanted more rights for the people protected sooooo…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Harrington"/>
              </a:rPr>
              <a:t>Bill of Rights: (1st 10 amend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created to get anti-federalist to approve the new 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restricts const, and grants individu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tbor-prt"/>
          <p:cNvPicPr/>
          <p:nvPr/>
        </p:nvPicPr>
        <p:blipFill>
          <a:blip r:embed="rId1"/>
          <a:stretch/>
        </p:blipFill>
        <p:spPr>
          <a:xfrm>
            <a:off x="1219320" y="3886200"/>
            <a:ext cx="6172200" cy="297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Ravie"/>
              </a:rPr>
              <a:t>The 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1: freedom of religion, press, &amp;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2: right to bare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3: no housing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4: no illegal search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5: right no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incriminate one self/ no double jeopar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Ravie"/>
              </a:rPr>
              <a:t>6: Right to a speedy &amp; fair 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7: Trial by a jury of you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8: No Cruel or unusual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pun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9: Just b/c its not stated doesn’t mean it doesn’t exis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10: Everything in the Constitution is up to the states to interpr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Kristen ITC"/>
              </a:rPr>
              <a:t>THE END!!!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Harrington"/>
              </a:rPr>
              <a:t>Now get ready to do a cheat sheet and have test =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808080"/>
                </a:solidFill>
                <a:uFillTx/>
                <a:latin typeface="Ravie"/>
              </a:rPr>
              <a:t>Troub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572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gov’t couldn’t collect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no way to get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couldn’t pay back $ lent for the Amer R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Owed $ to: other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untries/private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itiz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Territori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no1 would give Amer a break ov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other nations gave amer nonsense over lan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states were fighting each other over boundaries &amp;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Ravie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Ravie"/>
              </a:rPr>
              <a:t>kept nation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Ravie"/>
              </a:rPr>
              <a:t>negotiated the Treaty of Paris 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Ravie"/>
              </a:rPr>
              <a:t>ended the Amer R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Ravie"/>
              </a:rPr>
              <a:t>Created 2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1-Ordinance of 1785: sale of public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Ravie"/>
              </a:rPr>
              <a:t>2-Northwest Ordinance: made a plan of how to govern new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Kristen ITC"/>
              </a:rPr>
              <a:t>Tell me….wait don’t; nah go ahe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ppl liked not being told what to do, but wanted someone to help  run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Kristen ITC"/>
              </a:rPr>
              <a:t>wanted a stronger gov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Kristen ITC"/>
              </a:rPr>
              <a:t>farmers couldn’t make payments on land; were losing farms to the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the_week_14157_27"/>
          <p:cNvPicPr/>
          <p:nvPr/>
        </p:nvPicPr>
        <p:blipFill>
          <a:blip r:embed="rId1"/>
          <a:stretch/>
        </p:blipFill>
        <p:spPr>
          <a:xfrm>
            <a:off x="5638680" y="2514600"/>
            <a:ext cx="326736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Goudy Old Style"/>
              </a:rPr>
              <a:t>Take off his head!!! </a:t>
            </a:r>
            <a:r>
              <a:rPr b="0" lang="en-US" sz="3600" spc="-1" strike="noStrike">
                <a:solidFill>
                  <a:srgbClr val="cc00cc"/>
                </a:solidFill>
                <a:latin typeface="Goudy Old Style"/>
              </a:rPr>
              <a:t>(not really)</a:t>
            </a:r>
            <a:br>
              <a:rPr sz="3600"/>
            </a:br>
            <a:r>
              <a:rPr b="0" lang="en-US" sz="6000" spc="-1" strike="noStrike">
                <a:solidFill>
                  <a:srgbClr val="ff3300"/>
                </a:solidFill>
                <a:latin typeface="Chiller"/>
              </a:rPr>
              <a:t>Shay’s Rebell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Goudy Old Style"/>
              </a:rPr>
              <a:t>Daniel Shay (former militia leader) lead a group of angry farmers who lost their farms in Mass in 178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It was easily ended, but opened the doors for the discussion of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need for stronger central gov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sset_upload_file867_11926"/>
          <p:cNvPicPr/>
          <p:nvPr/>
        </p:nvPicPr>
        <p:blipFill>
          <a:blip r:embed="rId1"/>
          <a:stretch/>
        </p:blipFill>
        <p:spPr>
          <a:xfrm>
            <a:off x="563868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"/>
              </a:rPr>
              <a:t>Constitutional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Meant to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Kristen ITC"/>
              </a:rPr>
              <a:t>REVISE</a:t>
            </a: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 th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Independence Hall in Philly,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12 of 13: sent delegates (RI did no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55 ppl (aka: founding fa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1/2 lawyers/1/2 famers-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George Washington president of the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James Madison: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no women, Native Americans, or African-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onstitutionalConvention1787"/>
          <p:cNvPicPr/>
          <p:nvPr/>
        </p:nvPicPr>
        <p:blipFill>
          <a:blip r:embed="rId1"/>
          <a:stretch/>
        </p:blipFill>
        <p:spPr>
          <a:xfrm>
            <a:off x="609480" y="762120"/>
            <a:ext cx="8305920" cy="546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Kristen ITC"/>
              </a:rPr>
              <a:t>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Kristen ITC"/>
              </a:rPr>
              <a:t>No, 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Hey let’s </a:t>
            </a:r>
            <a:r>
              <a:rPr b="1" i="1" lang="en-US" sz="4000" spc="-1" strike="noStrike">
                <a:solidFill>
                  <a:srgbClr val="ff66cc"/>
                </a:solidFill>
                <a:latin typeface="Kristen ITC"/>
              </a:rPr>
              <a:t>COMPROMISE!!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=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ew Jersey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 states have equal rep in gov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irginia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rep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Great Compromi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divide gov’t into 2 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1: upper house: senate ~ 2 reps pe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2: lower house: house of representatives ~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these make up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4:40:22Z</dcterms:created>
  <dc:creator>agrabianowski</dc:creator>
  <dc:description/>
  <dc:language>en-US</dc:language>
  <cp:lastModifiedBy>RomaK</cp:lastModifiedBy>
  <dcterms:modified xsi:type="dcterms:W3CDTF">2015-09-02T09:50:53Z</dcterms:modified>
  <cp:revision>42</cp:revision>
  <dc:subject/>
  <dc:title>A New Government!!!!</dc:title>
</cp:coreProperties>
</file>