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FD47-D74C-43A8-8151-0BDF0E5B9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17B-68C5-4D17-8DDD-D4AF6C1A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4BC-7EE6-4340-AC80-5D029461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77B-F40C-4DE8-88B9-C9F9F117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64A-5176-43A2-987E-670E5028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B0AF-7110-4BEE-81E6-A7AD02EC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1F28-078B-4E89-A064-2E19BA13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6F3E-FE89-4C13-B1D7-3DA35270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E097-EACF-42A0-ABA3-FFB65F73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C195-0A54-409C-9F3D-6EF7AFFD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5A77-B245-4E8F-B939-A595E705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12A7-B1B6-48FC-8F8B-C24B3F73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7D1-D243-44CF-842B-A6CEA18F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94C0-E355-4AA8-9003-91E628CF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2A8A-D3FA-41CB-888C-BF6D874C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E908-F2DA-4E03-A9D0-6BFB393E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217D-3DE7-4B50-A890-03B581CA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7F59-3B79-45FC-8010-FCC2B4A8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BB8-BB34-4AE6-9F68-8AE3BB7B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5AF-3DBA-420E-A27B-D5454E89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71E3-9B7E-4B09-BBD6-81E480A2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F8D-F3B6-43DB-B796-69658FFC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153-D3B7-455B-B642-49BBC3CE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C6A-0C4C-4ADF-923F-F2BB5482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388-3D3C-41B7-977C-DD1456C5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90D1-C1F2-4ADB-9301-F716EC2056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277B-F538-4076-91B9-7E26F3EBE7D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560" y="3581280"/>
            <a:ext cx="64767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715000" cy="6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and y-intercept.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Just substitute the “m” with the slope value and the “b” with the y-intercept value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181120" y="1981080"/>
            <a:ext cx="3754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86600" y="1981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001000" y="25909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590920" y="4952880"/>
            <a:ext cx="3754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5562 L -0.06666 0.2781 E">
                                      <p:cBhvr>
                                        <p:cTn id="7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445 L -0.03333 0.18911 E">
                                      <p:cBhvr>
                                        <p:cTn id="7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Grap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the point where the line crosses the y axi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-380880" y="1600200"/>
            <a:ext cx="4723920" cy="3809880"/>
            <a:chOff x="-380880" y="1600200"/>
            <a:chExt cx="4723920" cy="3809880"/>
          </a:xfrm>
        </p:grpSpPr>
        <p:pic>
          <p:nvPicPr>
            <p:cNvPr id="110" name="Picture 14" descr="[image]"/>
            <p:cNvPicPr/>
            <p:nvPr/>
          </p:nvPicPr>
          <p:blipFill>
            <a:blip r:embed="rId1"/>
            <a:stretch/>
          </p:blipFill>
          <p:spPr>
            <a:xfrm>
              <a:off x="173160" y="1600200"/>
              <a:ext cx="41698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5"/>
            <p:cNvSpPr/>
            <p:nvPr/>
          </p:nvSpPr>
          <p:spPr>
            <a:xfrm>
              <a:off x="-380880" y="1853280"/>
              <a:ext cx="11084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Rectangle 16"/>
            <p:cNvSpPr/>
            <p:nvPr/>
          </p:nvSpPr>
          <p:spPr>
            <a:xfrm>
              <a:off x="-380880" y="1853280"/>
              <a:ext cx="4434480" cy="329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3" name="Rectangle 22"/>
          <p:cNvSpPr/>
          <p:nvPr/>
        </p:nvSpPr>
        <p:spPr>
          <a:xfrm>
            <a:off x="4952880" y="114300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8"/>
              <p:cNvSpPr txBox="1"/>
              <p:nvPr/>
            </p:nvSpPr>
            <p:spPr>
              <a:xfrm>
                <a:off x="5867280" y="2743200"/>
                <a:ext cx="45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9"/>
              <p:cNvSpPr txBox="1"/>
              <p:nvPr/>
            </p:nvSpPr>
            <p:spPr>
              <a:xfrm>
                <a:off x="7315200" y="2666880"/>
                <a:ext cx="15238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Rectangle 31"/>
          <p:cNvSpPr/>
          <p:nvPr/>
        </p:nvSpPr>
        <p:spPr>
          <a:xfrm>
            <a:off x="4267080" y="34290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-3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  = m =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Line 35"/>
          <p:cNvSpPr/>
          <p:nvPr/>
        </p:nvSpPr>
        <p:spPr>
          <a:xfrm flipV="1">
            <a:off x="2209680" y="3657600"/>
            <a:ext cx="0" cy="4572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Line 36"/>
          <p:cNvSpPr/>
          <p:nvPr/>
        </p:nvSpPr>
        <p:spPr>
          <a:xfrm>
            <a:off x="2286000" y="3733920"/>
            <a:ext cx="60948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5"/>
              <p:cNvSpPr txBox="1"/>
              <p:nvPr/>
            </p:nvSpPr>
            <p:spPr>
              <a:xfrm>
                <a:off x="5715000" y="3886200"/>
                <a:ext cx="914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    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er 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Rectangle 47"/>
          <p:cNvSpPr/>
          <p:nvPr/>
        </p:nvSpPr>
        <p:spPr>
          <a:xfrm>
            <a:off x="7391520" y="38098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7010280" y="3429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2666880" y="53341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028E-008 L 0.02917 0.16651 E">
                                      <p:cBhvr>
                                        <p:cTn id="16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14167 0.09991 E">
                                      <p:cBhvr>
                                        <p:cTn id="167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7544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40752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To write equations given the slope and a point using  Point-Slope For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7960" y="1676160"/>
            <a:ext cx="42670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172200" y="1600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924680" y="1676520"/>
            <a:ext cx="38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8153280" y="1676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718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764280" y="434340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32" name="Object 16"/>
          <p:cNvGraphicFramePr/>
          <p:nvPr/>
        </p:nvGraphicFramePr>
        <p:xfrm>
          <a:off x="1066680" y="4983120"/>
          <a:ext cx="28195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8312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8"/>
          <p:cNvGraphicFramePr/>
          <p:nvPr/>
        </p:nvGraphicFramePr>
        <p:xfrm>
          <a:off x="5410080" y="2209680"/>
          <a:ext cx="281952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20968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Object 19"/>
              <p:cNvSpPr txBox="1"/>
              <p:nvPr/>
            </p:nvSpPr>
            <p:spPr>
              <a:xfrm>
                <a:off x="5378400" y="2743200"/>
                <a:ext cx="295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0"/>
              <p:cNvSpPr txBox="1"/>
              <p:nvPr/>
            </p:nvSpPr>
            <p:spPr>
              <a:xfrm>
                <a:off x="5486400" y="3352680"/>
                <a:ext cx="2782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AutoShape 24"/>
          <p:cNvSpPr/>
          <p:nvPr/>
        </p:nvSpPr>
        <p:spPr>
          <a:xfrm>
            <a:off x="6934320" y="3352680"/>
            <a:ext cx="685800" cy="304920"/>
          </a:xfrm>
          <a:custGeom>
            <a:avLst/>
            <a:gdLst>
              <a:gd name="textAreaLeft" fmla="*/ 0 w 685800"/>
              <a:gd name="textAreaRight" fmla="*/ 194040 w 685800"/>
              <a:gd name="textAreaTop" fmla="*/ 11736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9"/>
              <p:cNvSpPr txBox="1"/>
              <p:nvPr/>
            </p:nvSpPr>
            <p:spPr>
              <a:xfrm>
                <a:off x="5029200" y="3886200"/>
                <a:ext cx="3540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0"/>
              <p:cNvSpPr txBox="1"/>
              <p:nvPr/>
            </p:nvSpPr>
            <p:spPr>
              <a:xfrm>
                <a:off x="5529240" y="4495680"/>
                <a:ext cx="2540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AutoShape 33"/>
          <p:cNvSpPr/>
          <p:nvPr/>
        </p:nvSpPr>
        <p:spPr>
          <a:xfrm>
            <a:off x="6858000" y="3276720"/>
            <a:ext cx="1523880" cy="38088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5867280" y="5029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AutoShape 39"/>
          <p:cNvSpPr/>
          <p:nvPr/>
        </p:nvSpPr>
        <p:spPr>
          <a:xfrm>
            <a:off x="6553080" y="4876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05 0.1 E">
                                      <p:cBhvr>
                                        <p:cTn id="20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1.11111E-006 L -0.24583 0.08889 E">
                                      <p:cBhvr>
                                        <p:cTn id="21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02917 0.09445 E">
                                      <p:cBhvr>
                                        <p:cTn id="22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9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6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6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579132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 Substitute x, y, and m into y = mx+b and </a:t>
            </a:r>
            <a:r>
              <a:rPr b="0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find the value of b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(the y-intercept).  Then write the equation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ubstituting m and b values into y = mx + b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419720" y="182844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943600" y="17524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7924680" y="18288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8229600" y="18288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7432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572000" y="28195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(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724280" y="3352680"/>
            <a:ext cx="3810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2      -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6172200" y="3733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112E-017 L 0.01667 0.08889 E">
                                      <p:cBhvr>
                                        <p:cTn id="299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0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30833 0.07801 E">
                                      <p:cBhvr>
                                        <p:cTn id="30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15417 0.08333 E">
                                      <p:cBhvr>
                                        <p:cTn id="315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7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3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338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5300"/>
                            </p:stCondLst>
                            <p:childTnLst>
                              <p:par>
                                <p:cTn id="344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9600"/>
                            </p:stCondLst>
                            <p:childTnLst>
                              <p:par>
                                <p:cTn id="3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96480"/>
            <a:ext cx="6400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y =  mx+b along with the slope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6019920" y="1905120"/>
                <a:ext cx="51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10"/>
          <p:cNvSpPr/>
          <p:nvPr/>
        </p:nvSpPr>
        <p:spPr>
          <a:xfrm>
            <a:off x="304920" y="518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3434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3"/>
              <p:cNvSpPr txBox="1"/>
              <p:nvPr/>
            </p:nvSpPr>
            <p:spPr>
              <a:xfrm>
                <a:off x="7467480" y="1981080"/>
                <a:ext cx="16765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4648320" y="2666880"/>
                <a:ext cx="15555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6324480" y="2666880"/>
                <a:ext cx="1069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7"/>
              <p:cNvSpPr txBox="1"/>
              <p:nvPr/>
            </p:nvSpPr>
            <p:spPr>
              <a:xfrm>
                <a:off x="7848720" y="2666880"/>
                <a:ext cx="8064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18"/>
          <p:cNvSpPr/>
          <p:nvPr/>
        </p:nvSpPr>
        <p:spPr>
          <a:xfrm>
            <a:off x="4343400" y="320040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5715000" y="3124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7696080" y="32004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739152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4648320" y="396252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½(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3429000" y="609588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4876920" y="4419720"/>
            <a:ext cx="3292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-1      -1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AutoShape 28"/>
          <p:cNvSpPr/>
          <p:nvPr/>
        </p:nvSpPr>
        <p:spPr>
          <a:xfrm>
            <a:off x="6172200" y="46483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0.05 0.0777 E">
                                      <p:cBhvr>
                                        <p:cTn id="415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2125 0.0777 E">
                                      <p:cBhvr>
                                        <p:cTn id="42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-0.1 0.0777 E">
                                      <p:cBhvr>
                                        <p:cTn id="434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40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5800"/>
                            </p:stCondLst>
                            <p:childTnLst>
                              <p:par>
                                <p:cTn id="446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8900"/>
                            </p:stCondLst>
                            <p:childTnLst>
                              <p:par>
                                <p:cTn id="4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900"/>
                            </p:stCondLst>
                            <p:childTnLst>
                              <p:par>
                                <p:cTn id="457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463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9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Point-Slope For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447920" y="4648320"/>
          <a:ext cx="25905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648320"/>
                    <a:ext cx="2590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12"/>
          <p:cNvSpPr/>
          <p:nvPr/>
        </p:nvSpPr>
        <p:spPr>
          <a:xfrm>
            <a:off x="992880" y="403848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762120" y="51044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8006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8"/>
              <p:cNvSpPr txBox="1"/>
              <p:nvPr/>
            </p:nvSpPr>
            <p:spPr>
              <a:xfrm>
                <a:off x="7620120" y="2057400"/>
                <a:ext cx="1371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0"/>
              <p:cNvSpPr txBox="1"/>
              <p:nvPr/>
            </p:nvSpPr>
            <p:spPr>
              <a:xfrm>
                <a:off x="6324480" y="198108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4800600" y="2590920"/>
                <a:ext cx="1555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2"/>
              <p:cNvSpPr txBox="1"/>
              <p:nvPr/>
            </p:nvSpPr>
            <p:spPr>
              <a:xfrm>
                <a:off x="6553080" y="2590920"/>
                <a:ext cx="1069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3"/>
              <p:cNvSpPr txBox="1"/>
              <p:nvPr/>
            </p:nvSpPr>
            <p:spPr>
              <a:xfrm>
                <a:off x="7848720" y="2514600"/>
                <a:ext cx="8064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24"/>
          <p:cNvSpPr/>
          <p:nvPr/>
        </p:nvSpPr>
        <p:spPr>
          <a:xfrm>
            <a:off x="4800600" y="32004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83600" indent="-18360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4" name="Object 25"/>
          <p:cNvGraphicFramePr/>
          <p:nvPr/>
        </p:nvGraphicFramePr>
        <p:xfrm>
          <a:off x="5638680" y="3581280"/>
          <a:ext cx="25909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581280"/>
                    <a:ext cx="25909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26"/>
          <p:cNvSpPr/>
          <p:nvPr/>
        </p:nvSpPr>
        <p:spPr>
          <a:xfrm>
            <a:off x="6172200" y="32004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8153280" y="32004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777240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9"/>
              <p:cNvSpPr txBox="1"/>
              <p:nvPr/>
            </p:nvSpPr>
            <p:spPr>
              <a:xfrm>
                <a:off x="5638680" y="4038480"/>
                <a:ext cx="2514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AutoShape 30"/>
          <p:cNvSpPr/>
          <p:nvPr/>
        </p:nvSpPr>
        <p:spPr>
          <a:xfrm>
            <a:off x="7010280" y="4114800"/>
            <a:ext cx="685800" cy="152280"/>
          </a:xfrm>
          <a:custGeom>
            <a:avLst/>
            <a:gdLst>
              <a:gd name="textAreaLeft" fmla="*/ 0 w 685800"/>
              <a:gd name="textAreaRight" fmla="*/ 194040 w 685800"/>
              <a:gd name="textAreaTop" fmla="*/ 5868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AutoShape 31"/>
          <p:cNvSpPr/>
          <p:nvPr/>
        </p:nvSpPr>
        <p:spPr>
          <a:xfrm>
            <a:off x="6934320" y="4114800"/>
            <a:ext cx="1371600" cy="15228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2"/>
              <p:cNvSpPr txBox="1"/>
              <p:nvPr/>
            </p:nvSpPr>
            <p:spPr>
              <a:xfrm>
                <a:off x="5562720" y="4572000"/>
                <a:ext cx="2558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3"/>
              <p:cNvSpPr txBox="1"/>
              <p:nvPr/>
            </p:nvSpPr>
            <p:spPr>
              <a:xfrm>
                <a:off x="5715000" y="5046840"/>
                <a:ext cx="2133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 Box 34"/>
          <p:cNvSpPr/>
          <p:nvPr/>
        </p:nvSpPr>
        <p:spPr>
          <a:xfrm>
            <a:off x="5867280" y="541008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-2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      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3124080" y="5638680"/>
            <a:ext cx="320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y= ½x – 3</a:t>
            </a: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AutoShape 36"/>
          <p:cNvSpPr/>
          <p:nvPr/>
        </p:nvSpPr>
        <p:spPr>
          <a:xfrm>
            <a:off x="6629400" y="53341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0.05834 0.0555 E">
                                      <p:cBhvr>
                                        <p:cTn id="54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1841E-006 L -0.2375 0.06105 E">
                                      <p:cBhvr>
                                        <p:cTn id="549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53469E-006 L -0.01667 0.0666 E">
                                      <p:cBhvr>
                                        <p:cTn id="55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6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5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578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589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5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5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8Z</dcterms:modified>
  <cp:revision>19</cp:revision>
  <dc:subject/>
  <dc:title>The World Of Triangles</dc:title>
</cp:coreProperties>
</file>