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CC93-B1C8-4CFC-9D3C-544614E49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World Of Linear Equatio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riting Linear Equations            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n Slope-Intercept Form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 = mx +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ld Of Linear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Linear Equations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lope-Intercept Fo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mx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you are given:  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slope and y-intercep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nding the equation of the line in  y= mx + b form.  Given: slope and y-intercept.  Just substitute the “m” with the slope value and the “b” with the y-intercept valu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 ½  an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-intercept = -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mx +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given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and y-interc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the equation of the line in  y= mx + b form.  Given: slope and y-intercept.  Just substitute the “m” with the slope value and the “b” with the y-intercept val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 ½ 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-intercept = 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mx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you are given:  A Graph</a:t>
            </a:r>
            <a:br>
              <a:rPr sz="1200"/>
            </a:b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nd the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 – intercept =  b  = the point where the line crosses the y axis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             = m =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    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 – intercept =  b  = -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               = m =   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mx +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given:  A Grap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– intercept =  b  = the point where the line crosses the y 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             = m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– intercept =  b  = 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               = m =   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mx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you are given: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The slope and a poi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Given: slope (m) and a point (x,y). To write equations given the slope and a point using  Point-Slope Form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½ and point (4,-1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½x – 3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oint-Slope 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give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The slope and a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: slope (m) and a point (x,y). To write equations given the slope and a point using  Point-Slope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½ and point (4,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½x –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-Slope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you are given: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The slope and a poi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Given: slope (m) and a point (x,y).  Substitute x, y, and m into y = mx+b and find the value of b (the y-intercept).  Then write the equation substituting m and b values into y = mx + b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½ and point (4,-1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 = mx  + 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 = ½(4)  + 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  =   2   + 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2      -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3  =   b      So!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  =  ½  and b  =  -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give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The slope and a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: slope (m) and a point (x,y).  Substitute x, y, and m into y = mx+b and find the value of b (the y-intercept).  Then write the equation substituting m and b values into y = mx +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½ and point (4,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mx  + 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= ½(4)  + 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 =   2   + 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     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  =   b      S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 =  ½  and b  =  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you are given: 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               Two poin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nding the equation of the line in  y= mx + b form.  Given: Two points.  First find the slope (m) and then substitute one of the points x and y values into y =  mx+b along with the slope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oint (-2, -4) &amp; Point (2, -2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nd the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             = m =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½ and point (2, -2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 = mx  + 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2 = ½(2)  +  b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2  =   1   + 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      -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3   =   b      So!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  =  ½  and b  =  -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give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Two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the equation of the line in  y= mx + b form.  Given: Two points.  First find the slope (m) and then substitute one of the points x and y values into y =  mx+b along with the slop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(-2, -4) &amp; Point (2, 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             = m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½ and point (2, 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mx  + 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 = ½(2)  +  b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  =   1   + 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    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   =   b      S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 =  ½  and b  =  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you are given: 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               Two poin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nding the equation of the line in  y= mx + b form.  Given: Two points.  First find the slope (m) and then substitute one of the points x and y values into Point-Slope Form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oint-Slope 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oint (-2, -4) &amp; Point (2, -2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nd the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         = m =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½ and point (2, -2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2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-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½x – 3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give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Two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the equation of the line in  y= mx + b form.  Given: Two points.  First find the slope (m) and then substitute one of the points x and y values into Point-Slope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-Slope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(-2, -4) &amp; Point (2, 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         = m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½ and point (2, 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½x –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3ADA-EB04-45D6-8676-521CE3C25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6C7B-86A1-499C-8FE2-F0DA4DE1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5A83-C1BB-4ED4-AC7B-47C9DF591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BFC7-4250-4698-8D23-857DFFD63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B558-1DA7-45B2-9AC3-629E06332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FC354-F2FB-461E-9CCB-61D561BE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761A6-228F-4BF2-91D6-749658F5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4413-2A17-44FB-9BD8-E00495CC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5EDC-40BE-450C-9220-40A94828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3F6C-1904-4F78-B2D7-7913C3D1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9367-721D-4C42-88A9-4FF91D6C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B11F-C4A5-475A-AD23-854CFBC0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6075B-2E24-44F3-BE76-C4B71ECE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2B511-174E-4AA6-9F85-9ABCD1A2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563B-5BC9-41C8-9591-14FB11D4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62DE-FC07-4BE1-A9E4-2ED93282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8C82-5259-4673-A2C5-7072FA354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2165-0F1C-4DFE-9FC0-5836978B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AB50-C06A-44A2-B074-B3A187F7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DAA4-6C20-4098-A9E0-400ED511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CCDE-C0F2-459C-BC8F-3A11040E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5642-210B-46B9-AD6D-05AAF935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6A90-653E-44C8-BA10-B08C28A1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FBFA-C057-438A-A6EF-637544B6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861B-D97A-4A89-9828-534DC9B8C52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0DEA-BB1A-4E9A-87D6-77F7B6BC9D51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World Of Linear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47560" y="3581280"/>
            <a:ext cx="6476760" cy="19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Writing Linear Equations               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In Slope-Intercept Form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292929"/>
                </a:solidFill>
                <a:latin typeface="Arial"/>
              </a:rPr>
              <a:t>y = mx + b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4760" y="685440"/>
            <a:ext cx="5715000" cy="67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you are given: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lop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y-inter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40388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Finding the equation of the line in  y= mx + b form.  </a:t>
            </a:r>
            <a:r>
              <a:rPr b="1" i="1" lang="en-US" sz="2600" spc="-1" strike="noStrike" u="sng">
                <a:solidFill>
                  <a:srgbClr val="292929"/>
                </a:solidFill>
                <a:uFillTx/>
                <a:latin typeface="Arial"/>
              </a:rPr>
              <a:t>Given: slope and y-intercept.</a:t>
            </a:r>
            <a:r>
              <a:rPr b="1" lang="en-US" sz="26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Just substitute the “m” with the slope value and the “b” with the y-intercept value.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181120" y="1981080"/>
            <a:ext cx="375444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434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lope = ½  an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y-intercept = -3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y= mx + b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86600" y="1981080"/>
            <a:ext cx="609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8001000" y="25909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3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2590920" y="4952880"/>
            <a:ext cx="37544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5562 L -0.06666 0.2781 E">
                                      <p:cBhvr>
                                        <p:cTn id="69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3 0.0445 L -0.03333 0.18911 E">
                                      <p:cBhvr>
                                        <p:cTn id="72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00200" y="457200"/>
            <a:ext cx="6019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you are given: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 Grap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266720" y="1600200"/>
            <a:ext cx="48769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nd the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y – intercept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= 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b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= the point where the line crosses the y axis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Slop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=             = m =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             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09" name="Group 13"/>
          <p:cNvGrpSpPr/>
          <p:nvPr/>
        </p:nvGrpSpPr>
        <p:grpSpPr>
          <a:xfrm>
            <a:off x="-380880" y="1600200"/>
            <a:ext cx="4723920" cy="3809880"/>
            <a:chOff x="-380880" y="1600200"/>
            <a:chExt cx="4723920" cy="3809880"/>
          </a:xfrm>
        </p:grpSpPr>
        <p:pic>
          <p:nvPicPr>
            <p:cNvPr id="110" name="Picture 14" descr="[image]"/>
            <p:cNvPicPr/>
            <p:nvPr/>
          </p:nvPicPr>
          <p:blipFill>
            <a:blip r:embed="rId1"/>
            <a:stretch/>
          </p:blipFill>
          <p:spPr>
            <a:xfrm>
              <a:off x="173160" y="1600200"/>
              <a:ext cx="416988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5"/>
            <p:cNvSpPr/>
            <p:nvPr/>
          </p:nvSpPr>
          <p:spPr>
            <a:xfrm>
              <a:off x="-380880" y="1853280"/>
              <a:ext cx="1108440" cy="50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2" name="Rectangle 16"/>
            <p:cNvSpPr/>
            <p:nvPr/>
          </p:nvSpPr>
          <p:spPr>
            <a:xfrm>
              <a:off x="-380880" y="1853280"/>
              <a:ext cx="4434480" cy="329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113" name="Rectangle 22"/>
          <p:cNvSpPr/>
          <p:nvPr/>
        </p:nvSpPr>
        <p:spPr>
          <a:xfrm>
            <a:off x="4952880" y="1143000"/>
            <a:ext cx="4038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28"/>
              <p:cNvSpPr txBox="1"/>
              <p:nvPr/>
            </p:nvSpPr>
            <p:spPr>
              <a:xfrm>
                <a:off x="5867280" y="2743200"/>
                <a:ext cx="457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is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u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29"/>
              <p:cNvSpPr txBox="1"/>
              <p:nvPr/>
            </p:nvSpPr>
            <p:spPr>
              <a:xfrm>
                <a:off x="7315200" y="2666880"/>
                <a:ext cx="152388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hang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'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hang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'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Rectangle 31"/>
          <p:cNvSpPr/>
          <p:nvPr/>
        </p:nvSpPr>
        <p:spPr>
          <a:xfrm>
            <a:off x="4267080" y="3429000"/>
            <a:ext cx="4343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y – intercept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= 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b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= -3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Slop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=               = m =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y= mx + b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Oval 33"/>
          <p:cNvSpPr/>
          <p:nvPr/>
        </p:nvSpPr>
        <p:spPr>
          <a:xfrm>
            <a:off x="2209680" y="411480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Line 35"/>
          <p:cNvSpPr/>
          <p:nvPr/>
        </p:nvSpPr>
        <p:spPr>
          <a:xfrm flipV="1">
            <a:off x="2209680" y="3657600"/>
            <a:ext cx="0" cy="4572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Line 36"/>
          <p:cNvSpPr/>
          <p:nvPr/>
        </p:nvSpPr>
        <p:spPr>
          <a:xfrm>
            <a:off x="2286000" y="3733920"/>
            <a:ext cx="609480" cy="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5"/>
              <p:cNvSpPr txBox="1"/>
              <p:nvPr/>
            </p:nvSpPr>
            <p:spPr>
              <a:xfrm>
                <a:off x="5715000" y="3886200"/>
                <a:ext cx="9144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up    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ver 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Rectangle 47"/>
          <p:cNvSpPr/>
          <p:nvPr/>
        </p:nvSpPr>
        <p:spPr>
          <a:xfrm>
            <a:off x="7391520" y="3809880"/>
            <a:ext cx="609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Rectangle 49"/>
          <p:cNvSpPr/>
          <p:nvPr/>
        </p:nvSpPr>
        <p:spPr>
          <a:xfrm>
            <a:off x="7010280" y="34290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Rectangle 50"/>
          <p:cNvSpPr/>
          <p:nvPr/>
        </p:nvSpPr>
        <p:spPr>
          <a:xfrm>
            <a:off x="2666880" y="5334120"/>
            <a:ext cx="3754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0028E-008 L 0.02917 0.16651 E">
                                      <p:cBhvr>
                                        <p:cTn id="165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95837E-006 L -0.14167 0.09991 E">
                                      <p:cBhvr>
                                        <p:cTn id="173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you are given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Th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lop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375444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07520" indent="-40752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Given: slope (m) and a point (x,y).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To write equations given the slope and a point using  Point-Slope Form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7960" y="1676160"/>
            <a:ext cx="426708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lope =½ and point (4,-1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6172200" y="160020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7924680" y="1676520"/>
            <a:ext cx="381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8153280" y="167652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2971800" y="5562720"/>
            <a:ext cx="3754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92929"/>
                </a:solidFill>
                <a:latin typeface="Arial"/>
              </a:rPr>
              <a:t>y= ½x – 3 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764280" y="4343400"/>
            <a:ext cx="34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292929"/>
                </a:solidFill>
                <a:uFillTx/>
                <a:latin typeface="Times New Roman"/>
              </a:rPr>
              <a:t>Point-Slope Form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32" name="Object 16"/>
          <p:cNvGraphicFramePr/>
          <p:nvPr/>
        </p:nvGraphicFramePr>
        <p:xfrm>
          <a:off x="1066680" y="4983120"/>
          <a:ext cx="2819520" cy="56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983120"/>
                    <a:ext cx="281952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18"/>
          <p:cNvGraphicFramePr/>
          <p:nvPr/>
        </p:nvGraphicFramePr>
        <p:xfrm>
          <a:off x="5410080" y="2209680"/>
          <a:ext cx="2819520" cy="56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2209680"/>
                    <a:ext cx="281952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6" name="Object 19"/>
              <p:cNvSpPr txBox="1"/>
              <p:nvPr/>
            </p:nvSpPr>
            <p:spPr>
              <a:xfrm>
                <a:off x="5378400" y="2743200"/>
                <a:ext cx="29574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20"/>
              <p:cNvSpPr txBox="1"/>
              <p:nvPr/>
            </p:nvSpPr>
            <p:spPr>
              <a:xfrm>
                <a:off x="5486400" y="3352680"/>
                <a:ext cx="27828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8" name="AutoShape 24"/>
          <p:cNvSpPr/>
          <p:nvPr/>
        </p:nvSpPr>
        <p:spPr>
          <a:xfrm>
            <a:off x="6934320" y="3352680"/>
            <a:ext cx="685800" cy="304920"/>
          </a:xfrm>
          <a:custGeom>
            <a:avLst/>
            <a:gdLst>
              <a:gd name="textAreaLeft" fmla="*/ 0 w 685800"/>
              <a:gd name="textAreaRight" fmla="*/ 194040 w 685800"/>
              <a:gd name="textAreaTop" fmla="*/ 11736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29"/>
              <p:cNvSpPr txBox="1"/>
              <p:nvPr/>
            </p:nvSpPr>
            <p:spPr>
              <a:xfrm>
                <a:off x="5029200" y="3886200"/>
                <a:ext cx="35402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∗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30"/>
              <p:cNvSpPr txBox="1"/>
              <p:nvPr/>
            </p:nvSpPr>
            <p:spPr>
              <a:xfrm>
                <a:off x="5529240" y="4495680"/>
                <a:ext cx="25401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AutoShape 33"/>
          <p:cNvSpPr/>
          <p:nvPr/>
        </p:nvSpPr>
        <p:spPr>
          <a:xfrm>
            <a:off x="6858000" y="3276720"/>
            <a:ext cx="1523880" cy="380880"/>
          </a:xfrm>
          <a:custGeom>
            <a:avLst/>
            <a:gdLst>
              <a:gd name="textAreaLeft" fmla="*/ 266400 w 1523880"/>
              <a:gd name="textAreaRight" fmla="*/ 1104840 w 15238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Text Box 38"/>
          <p:cNvSpPr/>
          <p:nvPr/>
        </p:nvSpPr>
        <p:spPr>
          <a:xfrm>
            <a:off x="5867280" y="50292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-1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	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   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	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-1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3" name="AutoShape 39"/>
          <p:cNvSpPr/>
          <p:nvPr/>
        </p:nvSpPr>
        <p:spPr>
          <a:xfrm>
            <a:off x="6553080" y="4876920"/>
            <a:ext cx="76320" cy="761760"/>
          </a:xfrm>
          <a:prstGeom prst="downArrow">
            <a:avLst>
              <a:gd name="adj1" fmla="val 50000"/>
              <a:gd name="adj2" fmla="val 249528"/>
            </a:avLst>
          </a:prstGeom>
          <a:solidFill>
            <a:srgbClr val="00ff00"/>
          </a:solidFill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47840" indent="-447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22222E-006 L 0.05 0.1 E">
                                      <p:cBhvr>
                                        <p:cTn id="216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022E-016 1.11111E-006 L -0.24583 0.08889 E">
                                      <p:cBhvr>
                                        <p:cTn id="225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-0.02917 0.09445 E">
                                      <p:cBhvr>
                                        <p:cTn id="235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3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7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74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28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2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28440" y="-360"/>
            <a:ext cx="579132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you are given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Th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lop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287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292929"/>
                </a:solidFill>
                <a:uFillTx/>
                <a:latin typeface="Arial"/>
              </a:rPr>
              <a:t>Given: slope (m) and a point (x,y).</a:t>
            </a: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  Substitute x, y, and m into y = mx+b and </a:t>
            </a:r>
            <a:r>
              <a:rPr b="0" lang="en-US" sz="2600" spc="-1" strike="noStrike" u="sng">
                <a:solidFill>
                  <a:srgbClr val="292929"/>
                </a:solidFill>
                <a:uFillTx/>
                <a:latin typeface="Arial"/>
              </a:rPr>
              <a:t>find the value of b</a:t>
            </a: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 (the y-intercept).  Then write the equation</a:t>
            </a:r>
            <a:r>
              <a:rPr b="1" lang="en-US" sz="2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substituting m and b values into y = mx + b.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419720" y="1828440"/>
            <a:ext cx="4572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Slope =½ and point (4,-1)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b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5943600" y="1752480"/>
            <a:ext cx="609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7924680" y="1828800"/>
            <a:ext cx="38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8229600" y="182880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2743200" y="5562720"/>
            <a:ext cx="3754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4572000" y="281952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½(4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b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185040" indent="-185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4724280" y="3352680"/>
            <a:ext cx="381024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b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-2      -2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     So!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 =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nd b  =  -3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AutoShape 17"/>
          <p:cNvSpPr/>
          <p:nvPr/>
        </p:nvSpPr>
        <p:spPr>
          <a:xfrm>
            <a:off x="6172200" y="3733920"/>
            <a:ext cx="76320" cy="761760"/>
          </a:xfrm>
          <a:prstGeom prst="downArrow">
            <a:avLst>
              <a:gd name="adj1" fmla="val 50000"/>
              <a:gd name="adj2" fmla="val 249528"/>
            </a:avLst>
          </a:prstGeom>
          <a:solidFill>
            <a:srgbClr val="00ff00"/>
          </a:solidFill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47840" indent="-447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55112E-017 L 0.01667 0.08889 E">
                                      <p:cBhvr>
                                        <p:cTn id="318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111E-006 L -0.30833 0.07801 E">
                                      <p:cBhvr>
                                        <p:cTn id="326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-0.15417 0.08333 E">
                                      <p:cBhvr>
                                        <p:cTn id="335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3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49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9600"/>
                            </p:stCondLst>
                            <p:childTnLst>
                              <p:par>
                                <p:cTn id="3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21600"/>
                            </p:stCondLst>
                            <p:childTnLst>
                              <p:par>
                                <p:cTn id="360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25300"/>
                            </p:stCondLst>
                            <p:childTnLst>
                              <p:par>
                                <p:cTn id="366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29600"/>
                            </p:stCondLst>
                            <p:childTnLst>
                              <p:par>
                                <p:cTn id="3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3880" y="96480"/>
            <a:ext cx="640080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you are given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wo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038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inding the equation of the line in  y= mx + b form.  </a:t>
            </a:r>
            <a:r>
              <a:rPr b="1" i="1" lang="en-US" sz="2400" spc="-1" strike="noStrike">
                <a:solidFill>
                  <a:srgbClr val="292929"/>
                </a:solidFill>
                <a:latin typeface="Arial"/>
              </a:rPr>
              <a:t>Given: Two points.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Arial"/>
              </a:rPr>
              <a:t>First find the slope (m)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and then substitute one of the points x and y values into y =  mx+b along with the slope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12"/>
              <p:cNvSpPr txBox="1"/>
              <p:nvPr/>
            </p:nvSpPr>
            <p:spPr>
              <a:xfrm>
                <a:off x="6019920" y="1905120"/>
                <a:ext cx="5140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is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u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Rectangle 10"/>
          <p:cNvSpPr/>
          <p:nvPr/>
        </p:nvSpPr>
        <p:spPr>
          <a:xfrm>
            <a:off x="304920" y="5180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oint (-2, -4) &amp; Point (2, -2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4343400" y="1676520"/>
            <a:ext cx="3352680" cy="11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ind the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Slop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=             = m =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13"/>
              <p:cNvSpPr txBox="1"/>
              <p:nvPr/>
            </p:nvSpPr>
            <p:spPr>
              <a:xfrm>
                <a:off x="7467480" y="1981080"/>
                <a:ext cx="167652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hang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'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hang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'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15"/>
              <p:cNvSpPr txBox="1"/>
              <p:nvPr/>
            </p:nvSpPr>
            <p:spPr>
              <a:xfrm>
                <a:off x="4648320" y="2666880"/>
                <a:ext cx="155556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16"/>
              <p:cNvSpPr txBox="1"/>
              <p:nvPr/>
            </p:nvSpPr>
            <p:spPr>
              <a:xfrm>
                <a:off x="6324480" y="2666880"/>
                <a:ext cx="106992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7"/>
              <p:cNvSpPr txBox="1"/>
              <p:nvPr/>
            </p:nvSpPr>
            <p:spPr>
              <a:xfrm>
                <a:off x="7848720" y="2666880"/>
                <a:ext cx="80640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Rectangle 18"/>
          <p:cNvSpPr/>
          <p:nvPr/>
        </p:nvSpPr>
        <p:spPr>
          <a:xfrm>
            <a:off x="4343400" y="3200400"/>
            <a:ext cx="4038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Slope =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½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and point (2, -2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m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b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Rectangle 19"/>
          <p:cNvSpPr/>
          <p:nvPr/>
        </p:nvSpPr>
        <p:spPr>
          <a:xfrm>
            <a:off x="5715000" y="3124080"/>
            <a:ext cx="609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½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5" name="Rectangle 20"/>
          <p:cNvSpPr/>
          <p:nvPr/>
        </p:nvSpPr>
        <p:spPr>
          <a:xfrm>
            <a:off x="7696080" y="320040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Rectangle 21"/>
          <p:cNvSpPr/>
          <p:nvPr/>
        </p:nvSpPr>
        <p:spPr>
          <a:xfrm>
            <a:off x="7391520" y="32004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Rectangle 23"/>
          <p:cNvSpPr/>
          <p:nvPr/>
        </p:nvSpPr>
        <p:spPr>
          <a:xfrm>
            <a:off x="4648320" y="396252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29840" indent="-42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-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½(2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Rectangle 25"/>
          <p:cNvSpPr/>
          <p:nvPr/>
        </p:nvSpPr>
        <p:spPr>
          <a:xfrm>
            <a:off x="3429000" y="6095880"/>
            <a:ext cx="2971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9" name="Text Box 26"/>
          <p:cNvSpPr/>
          <p:nvPr/>
        </p:nvSpPr>
        <p:spPr>
          <a:xfrm>
            <a:off x="4876920" y="4419720"/>
            <a:ext cx="32922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b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-1      -1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3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      So!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  =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and b  =  -3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AutoShape 28"/>
          <p:cNvSpPr/>
          <p:nvPr/>
        </p:nvSpPr>
        <p:spPr>
          <a:xfrm>
            <a:off x="6172200" y="4648320"/>
            <a:ext cx="76320" cy="761760"/>
          </a:xfrm>
          <a:prstGeom prst="downArrow">
            <a:avLst>
              <a:gd name="adj1" fmla="val 50000"/>
              <a:gd name="adj2" fmla="val 249528"/>
            </a:avLst>
          </a:prstGeom>
          <a:solidFill>
            <a:srgbClr val="00ff00"/>
          </a:solidFill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47840" indent="-447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3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391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9300"/>
                            </p:stCondLst>
                            <p:childTnLst>
                              <p:par>
                                <p:cTn id="3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3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4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4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4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4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42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4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4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53469E-006 L 0.05 0.0777 E">
                                      <p:cBhvr>
                                        <p:cTn id="438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8300"/>
                            </p:stCondLst>
                            <p:childTnLst>
                              <p:par>
                                <p:cTn id="4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8300"/>
                            </p:stCondLst>
                            <p:childTnLst>
                              <p:par>
                                <p:cTn id="4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70213E-006 L -0.2125 0.0777 E">
                                      <p:cBhvr>
                                        <p:cTn id="447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20300"/>
                            </p:stCondLst>
                            <p:childTnLst>
                              <p:par>
                                <p:cTn id="4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0300"/>
                            </p:stCondLst>
                            <p:childTnLst>
                              <p:par>
                                <p:cTn id="4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53469E-006 L -0.1 0.0777 E">
                                      <p:cBhvr>
                                        <p:cTn id="456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22300"/>
                            </p:stCondLst>
                            <p:childTnLst>
                              <p:par>
                                <p:cTn id="4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2300"/>
                            </p:stCondLst>
                            <p:childTnLst>
                              <p:par>
                                <p:cTn id="462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25800"/>
                            </p:stCondLst>
                            <p:childTnLst>
                              <p:par>
                                <p:cTn id="468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28900"/>
                            </p:stCondLst>
                            <p:childTnLst>
                              <p:par>
                                <p:cTn id="4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30900"/>
                            </p:stCondLst>
                            <p:childTnLst>
                              <p:par>
                                <p:cTn id="479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34600"/>
                            </p:stCondLst>
                            <p:childTnLst>
                              <p:par>
                                <p:cTn id="485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38900"/>
                            </p:stCondLst>
                            <p:childTnLst>
                              <p:par>
                                <p:cTn id="49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f you are given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wo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593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inding the equation of the line in  y= mx + b form.  </a:t>
            </a:r>
            <a:r>
              <a:rPr b="1" i="1" lang="en-US" sz="2400" spc="-1" strike="noStrike">
                <a:solidFill>
                  <a:srgbClr val="292929"/>
                </a:solidFill>
                <a:latin typeface="Arial"/>
              </a:rPr>
              <a:t>Given: Two points.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Arial"/>
              </a:rPr>
              <a:t>First find the slope (m)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and then substitute one of the points x and y values into Point-Slope Form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73" name="Object 13"/>
          <p:cNvGraphicFramePr/>
          <p:nvPr/>
        </p:nvGraphicFramePr>
        <p:xfrm>
          <a:off x="1447920" y="4648320"/>
          <a:ext cx="25905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4648320"/>
                    <a:ext cx="25905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Text Box 12"/>
          <p:cNvSpPr/>
          <p:nvPr/>
        </p:nvSpPr>
        <p:spPr>
          <a:xfrm>
            <a:off x="992880" y="4038480"/>
            <a:ext cx="34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292929"/>
                </a:solidFill>
                <a:uFillTx/>
                <a:latin typeface="Times New Roman"/>
              </a:rPr>
              <a:t>Point-Slope Form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762120" y="510444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oint (-2, -4) &amp; Point (2, -2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4800600" y="1676520"/>
            <a:ext cx="3352680" cy="11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ind the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Slop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=         = m =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18"/>
              <p:cNvSpPr txBox="1"/>
              <p:nvPr/>
            </p:nvSpPr>
            <p:spPr>
              <a:xfrm>
                <a:off x="7620120" y="2057400"/>
                <a:ext cx="13716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hang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'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hang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'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20"/>
              <p:cNvSpPr txBox="1"/>
              <p:nvPr/>
            </p:nvSpPr>
            <p:spPr>
              <a:xfrm>
                <a:off x="6324480" y="1981080"/>
                <a:ext cx="514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is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u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21"/>
              <p:cNvSpPr txBox="1"/>
              <p:nvPr/>
            </p:nvSpPr>
            <p:spPr>
              <a:xfrm>
                <a:off x="4800600" y="2590920"/>
                <a:ext cx="155592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22"/>
              <p:cNvSpPr txBox="1"/>
              <p:nvPr/>
            </p:nvSpPr>
            <p:spPr>
              <a:xfrm>
                <a:off x="6553080" y="2590920"/>
                <a:ext cx="106992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23"/>
              <p:cNvSpPr txBox="1"/>
              <p:nvPr/>
            </p:nvSpPr>
            <p:spPr>
              <a:xfrm>
                <a:off x="7848720" y="2514600"/>
                <a:ext cx="80640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Rectangle 24"/>
          <p:cNvSpPr/>
          <p:nvPr/>
        </p:nvSpPr>
        <p:spPr>
          <a:xfrm>
            <a:off x="4800600" y="320040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83600" indent="-18360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Slope =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½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and point (2, -2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183600" indent="-18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183600" indent="-18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84" name="Object 25"/>
          <p:cNvGraphicFramePr/>
          <p:nvPr/>
        </p:nvGraphicFramePr>
        <p:xfrm>
          <a:off x="5638680" y="3581280"/>
          <a:ext cx="2590920" cy="52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581280"/>
                    <a:ext cx="259092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Rectangle 26"/>
          <p:cNvSpPr/>
          <p:nvPr/>
        </p:nvSpPr>
        <p:spPr>
          <a:xfrm>
            <a:off x="6172200" y="320040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½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Rectangle 27"/>
          <p:cNvSpPr/>
          <p:nvPr/>
        </p:nvSpPr>
        <p:spPr>
          <a:xfrm>
            <a:off x="8153280" y="3200400"/>
            <a:ext cx="533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Rectangle 28"/>
          <p:cNvSpPr/>
          <p:nvPr/>
        </p:nvSpPr>
        <p:spPr>
          <a:xfrm>
            <a:off x="7772400" y="32004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29"/>
              <p:cNvSpPr txBox="1"/>
              <p:nvPr/>
            </p:nvSpPr>
            <p:spPr>
              <a:xfrm>
                <a:off x="5638680" y="4038480"/>
                <a:ext cx="251460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0" name="AutoShape 30"/>
          <p:cNvSpPr/>
          <p:nvPr/>
        </p:nvSpPr>
        <p:spPr>
          <a:xfrm>
            <a:off x="7010280" y="4114800"/>
            <a:ext cx="685800" cy="152280"/>
          </a:xfrm>
          <a:custGeom>
            <a:avLst/>
            <a:gdLst>
              <a:gd name="textAreaLeft" fmla="*/ 0 w 685800"/>
              <a:gd name="textAreaRight" fmla="*/ 194040 w 685800"/>
              <a:gd name="textAreaTop" fmla="*/ 5868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AutoShape 31"/>
          <p:cNvSpPr/>
          <p:nvPr/>
        </p:nvSpPr>
        <p:spPr>
          <a:xfrm>
            <a:off x="6934320" y="4114800"/>
            <a:ext cx="1371600" cy="152280"/>
          </a:xfrm>
          <a:custGeom>
            <a:avLst/>
            <a:gdLst>
              <a:gd name="textAreaLeft" fmla="*/ 239760 w 1371600"/>
              <a:gd name="textAreaRight" fmla="*/ 994320 w 13716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32"/>
              <p:cNvSpPr txBox="1"/>
              <p:nvPr/>
            </p:nvSpPr>
            <p:spPr>
              <a:xfrm>
                <a:off x="5562720" y="4572000"/>
                <a:ext cx="25588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∗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33"/>
              <p:cNvSpPr txBox="1"/>
              <p:nvPr/>
            </p:nvSpPr>
            <p:spPr>
              <a:xfrm>
                <a:off x="5715000" y="5046840"/>
                <a:ext cx="213372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Text Box 34"/>
          <p:cNvSpPr/>
          <p:nvPr/>
        </p:nvSpPr>
        <p:spPr>
          <a:xfrm>
            <a:off x="5867280" y="5410080"/>
            <a:ext cx="251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  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-2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         -2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5" name="Rectangle 35"/>
          <p:cNvSpPr/>
          <p:nvPr/>
        </p:nvSpPr>
        <p:spPr>
          <a:xfrm>
            <a:off x="3124080" y="5638680"/>
            <a:ext cx="3200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438840" indent="-438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y= ½x – 3</a:t>
            </a:r>
            <a:r>
              <a:rPr b="0" lang="en-US" sz="6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6" name="AutoShape 36"/>
          <p:cNvSpPr/>
          <p:nvPr/>
        </p:nvSpPr>
        <p:spPr>
          <a:xfrm>
            <a:off x="6629400" y="5334120"/>
            <a:ext cx="76320" cy="761760"/>
          </a:xfrm>
          <a:prstGeom prst="downArrow">
            <a:avLst>
              <a:gd name="adj1" fmla="val 50000"/>
              <a:gd name="adj2" fmla="val 249528"/>
            </a:avLst>
          </a:prstGeom>
          <a:solidFill>
            <a:srgbClr val="00ff00"/>
          </a:solidFill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47840" indent="-447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0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1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5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70213E-006 L 0.05834 0.0555 E">
                                      <p:cBhvr>
                                        <p:cTn id="569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11841E-006 L -0.2375 0.06105 E">
                                      <p:cBhvr>
                                        <p:cTn id="577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5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58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2.53469E-006 L -0.01667 0.0666 E">
                                      <p:cBhvr>
                                        <p:cTn id="586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5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595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9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6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6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609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620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6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6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6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77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2" dur="770" fill="hold"/>
                                        <p:tgtEl>
                                          <p:spTgt spid="1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4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6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2:03:16Z</dcterms:created>
  <dc:creator>its</dc:creator>
  <dc:description/>
  <dc:language>en-US</dc:language>
  <cp:lastModifiedBy>RomaK</cp:lastModifiedBy>
  <dcterms:modified xsi:type="dcterms:W3CDTF">2015-09-04T09:23:58Z</dcterms:modified>
  <cp:revision>19</cp:revision>
  <dc:subject/>
  <dc:title>The World Of Triangles</dc:title>
</cp:coreProperties>
</file>