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816B-66D8-4260-9F15-2A73848E10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angular triangle is a triangle which has three equal ang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exactly the same size and sha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right triangle with legs a and b and hypotenuse c, a2+b2=c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triangle has three unequal sides it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hich has three equal angl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(at least) two equal sides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riangles that are equal are called ______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Obt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ll three sides of equal length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Equiang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Equ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an angle of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Scal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one of the angles is greater than 90° is a ______ tri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Isosc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c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Obt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Hypotenuse of a right triang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The smalles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The side opposite the right 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ythagorean Theorem stat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p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(a+b)2/2=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2+b2=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Pythagorean Theorem to solv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in which all three angles are less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btuse triangle is a triangle in which one of the angles i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triangle is triangle with an angle of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iangle with three un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sosceles triangle is a triangle with (at least) two equal s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quilateral triangle is a triangle with all three sides of equal leng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494-F45F-46FD-87BA-56F8242D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D8F-A6BB-48F4-8AB7-CDC3419B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4E1-E785-48D1-8C50-89E3FB45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FAA3-209E-45CD-A1F7-701ADA3C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8B76-411E-4FFC-8261-756FB6F8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365F-D953-481F-9E67-A276E8BB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331-2CD1-4A32-BCC9-D3F965A2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6A45-041B-4CC2-8D09-54596438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BC6A-D923-4014-87B1-4B6CB66A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D417-CAD9-45AE-A874-1EBEA91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897E-6F61-4DE5-92F8-FEE9E2D8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09FA-F33F-4D01-B61B-A8F44057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EE46-84BE-4AAE-A70A-93CA37F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42AA-D331-4535-96CA-8B58F109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9E18-51BE-4F11-BD6B-ED71CBF1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2179-344E-48F5-BE2A-1FB4DBE4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3272-54FD-4077-896F-B2006ADD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443-D4F8-42D6-A6F8-0F8D335A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0B36-9418-4F77-9D6B-4064F0CC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5B0-49D9-4B39-90D7-F59CE91C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50B3-4BEE-4AB7-A6BB-E74595E9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1E67-7DD1-4C9D-8DB5-080E89C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79E6-6360-45B3-8343-5AB1A414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E30-25DC-4B1E-95BA-F89C778D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30B5-CDC0-4EC7-B804-77DB8BEC84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0FB9-0A2E-48D3-9A8B-E7E8393CDFE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World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1" name="Picture 6" descr="linkedtriangles"/>
          <p:cNvPicPr/>
          <p:nvPr/>
        </p:nvPicPr>
        <p:blipFill>
          <a:blip r:embed="rId1"/>
          <a:stretch/>
        </p:blipFill>
        <p:spPr>
          <a:xfrm>
            <a:off x="2819520" y="2895480"/>
            <a:ext cx="396216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angular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angular triangle is a triangle which has three equal angl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7" descr="equiangular"/>
          <p:cNvPicPr/>
          <p:nvPr/>
        </p:nvPicPr>
        <p:blipFill>
          <a:blip r:embed="rId1"/>
          <a:stretch/>
        </p:blipFill>
        <p:spPr>
          <a:xfrm>
            <a:off x="5105520" y="2235240"/>
            <a:ext cx="3733560" cy="3195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gruen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ongruent triangles are triangles whose corresponding angles and sides are congruent. 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y are exactly the same size and shap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3" name="Picture 6" descr="Congruent"/>
          <p:cNvPicPr/>
          <p:nvPr/>
        </p:nvPicPr>
        <p:blipFill>
          <a:blip r:embed="rId1"/>
          <a:stretch/>
        </p:blipFill>
        <p:spPr>
          <a:xfrm>
            <a:off x="4800600" y="3200400"/>
            <a:ext cx="4343400" cy="172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ypoten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hypotenuse of a right triangle is the triangle's longest side, i.e., the side opposite the right 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6" name="Picture 7" descr="Hypotenuse"/>
          <p:cNvPicPr/>
          <p:nvPr/>
        </p:nvPicPr>
        <p:blipFill>
          <a:blip r:embed="rId1"/>
          <a:stretch/>
        </p:blipFill>
        <p:spPr>
          <a:xfrm>
            <a:off x="4648320" y="2619360"/>
            <a:ext cx="4343400" cy="272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thagorean Theor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For a right triangle with legs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and hypotenuse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, a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9" name="Picture 6" descr="PTheorem"/>
          <p:cNvPicPr/>
          <p:nvPr/>
        </p:nvPicPr>
        <p:blipFill>
          <a:blip r:embed="rId1"/>
          <a:srcRect l="0" t="0" r="62919" b="22993"/>
          <a:stretch/>
        </p:blipFill>
        <p:spPr>
          <a:xfrm>
            <a:off x="4856040" y="2336760"/>
            <a:ext cx="344988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Qui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ease complete the following quiz that covers the information that was just presented to you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f a triangle has three unequal sides it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hich has three equal angl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(at least) two equal sides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wo triangles that are equal are called ______ triang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Obtus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ll three sides of equal length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Equiangula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Equilate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s a 3-sided polygon.  Every triangle has three sides and three angles. When added together, the three angles equal 18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" name="Picture 6" descr="triangle"/>
          <p:cNvPicPr/>
          <p:nvPr/>
        </p:nvPicPr>
        <p:blipFill>
          <a:blip r:embed="rId1"/>
          <a:stretch/>
        </p:blipFill>
        <p:spPr>
          <a:xfrm>
            <a:off x="4876920" y="2344680"/>
            <a:ext cx="4038480" cy="3133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an angle of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Congru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Righ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Scalen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one of the angles is greater than 90° is a ______ triangle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Isosce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cu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Obtus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What is the Hypotenuse of a right triangle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The smalles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The side opposite the right ang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Pythagorean Theorem states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) (a+b)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/2=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) a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+b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=c</a:t>
            </a:r>
            <a:r>
              <a:rPr b="0" lang="en-US" sz="24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the Pythagorean Theorem to solve the following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 =  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 = 1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swer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 = 13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ut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in which all three angles are less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7" name="Picture 12" descr="acute"/>
          <p:cNvPicPr/>
          <p:nvPr/>
        </p:nvPicPr>
        <p:blipFill>
          <a:blip r:embed="rId1"/>
          <a:stretch/>
        </p:blipFill>
        <p:spPr>
          <a:xfrm>
            <a:off x="4952880" y="2479680"/>
            <a:ext cx="358164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tus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obtuse triangle is a triangle in which one of the angles is greater than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7" descr="obtuse"/>
          <p:cNvPicPr/>
          <p:nvPr/>
        </p:nvPicPr>
        <p:blipFill>
          <a:blip r:embed="rId1"/>
          <a:stretch/>
        </p:blipFill>
        <p:spPr>
          <a:xfrm>
            <a:off x="5105520" y="2940120"/>
            <a:ext cx="3504960" cy="2050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right triangle is triangle with an angle of 90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76920" y="2438280"/>
            <a:ext cx="3733560" cy="3657600"/>
          </a:xfrm>
          <a:prstGeom prst="rtTriangl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876920" y="5791320"/>
            <a:ext cx="3045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alene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 triangle with three un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8" name="Picture 7" descr="Scalene"/>
          <p:cNvPicPr/>
          <p:nvPr/>
        </p:nvPicPr>
        <p:blipFill>
          <a:blip r:embed="rId1"/>
          <a:stretch/>
        </p:blipFill>
        <p:spPr>
          <a:xfrm>
            <a:off x="4952880" y="25210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isosceles triangle is a triangle with (at least) two equal sid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1" name="Picture 7" descr="Isosceles"/>
          <p:cNvPicPr/>
          <p:nvPr/>
        </p:nvPicPr>
        <p:blipFill>
          <a:blip r:embed="rId1"/>
          <a:stretch/>
        </p:blipFill>
        <p:spPr>
          <a:xfrm>
            <a:off x="5626080" y="2133720"/>
            <a:ext cx="248940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osceles Triangle Theor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78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following movie shows that if two sides of a triangle are congruent, then the angles opposite those sides are congruent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4" name="IsoTriTh.avi" descr=""/>
          <p:cNvPicPr/>
          <p:nvPr/>
        </p:nvPicPr>
        <p:blipFill>
          <a:blip r:embed="rId1"/>
          <a:stretch/>
        </p:blipFill>
        <p:spPr>
          <a:xfrm>
            <a:off x="3760920" y="1828800"/>
            <a:ext cx="59436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44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quilateral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 equilateral triangle is a triangle with all three sides of equal length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7" name="Picture 7" descr="equilateral"/>
          <p:cNvPicPr/>
          <p:nvPr/>
        </p:nvPicPr>
        <p:blipFill>
          <a:blip r:embed="rId1"/>
          <a:stretch/>
        </p:blipFill>
        <p:spPr>
          <a:xfrm>
            <a:off x="5029200" y="2367000"/>
            <a:ext cx="3429000" cy="3321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2:03:16Z</dcterms:created>
  <dc:creator>its</dc:creator>
  <dc:description/>
  <dc:language>en-US</dc:language>
  <cp:lastModifiedBy>RomaK</cp:lastModifiedBy>
  <dcterms:modified xsi:type="dcterms:W3CDTF">2015-09-04T09:23:51Z</dcterms:modified>
  <cp:revision>10</cp:revision>
  <dc:subject/>
  <dc:title>The World Of Triangles</dc:title>
</cp:coreProperties>
</file>