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0861-CDAB-431D-8E45-5728B3C7C1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The World Of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orld Of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iangular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equiangular triangle is a triangle which has three equal angl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angular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quiangular triangle is a triangle which has three equal ang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gruent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y are exactly the same size and shap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xactly the same size and sha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Hypoten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en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ythagorean Theor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or a right triangle with legs a and b and hypotenuse c, a2+b2=c2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thagorean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ight triangle with legs a and b and hypotenuse c, a2+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riangle Quiz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a triangle has three unequal sides it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triangle has three unequal sides it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hich has three equal angles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hich has three equal angles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(at least) two equal sides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(at least) two equal sides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wo triangles that are equal are called ______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Obtus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riangles that are equal are called ______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Obt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all three sides of equal length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all three sides of equal length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an angle of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an angle of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7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all three angles are less than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all three angles are less than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one of the angles is greater than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one of the angles is greater than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9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is the Hypotenuse of a right triangle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The smalles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ypotenuse of a right triang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The smalles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ythagorean Theorem states …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pr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(a+b)2/2=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thagorean Theorem stat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(a+b)2/2=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se the Pythagorean Theorem to solve the following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=  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 = 1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 = 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 = 1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Pythagorean Theorem to solv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cut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all three angles are less than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all three angles are less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Obtus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obtuse triangle is a triangle in which one of the angles is greater than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btuse triangle is a triangle in which one of the angles i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ight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right triangle is triangle with an angle of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triangle is triangle with an angle of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calen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three unequal sid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three unequal s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sosceles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isosceles triangle is a triangle with (at least) two equal sid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sosceles triangle is a triangle with (at least) two equal s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sosceles Triangle Theorem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sceles Triangle Theor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ilateral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equilateral triangle is a triangle with all three sides of equal length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ateral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quilateral triangle is a triangle with all three sides of equal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BA0-DBE9-4C6D-AE49-A793FD59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BE1-27E9-416D-B933-7DA59CBB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993-7562-4071-A34C-BD58CCEE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347-8098-4372-B931-100534D3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42C0-C683-40FD-8785-3A63D6E9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7B96-06FC-4AAC-BD75-9261D411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10E0-7B65-4DCB-9975-8AE7A1D5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38AA-C63B-4851-9A35-DED1CD0C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F1ED-5F63-43A7-87DC-4FF07BD9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CA6E-9693-4E54-9533-4CA9455A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5A0E-6F3A-40C8-B084-779AE40B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1EF-F050-4EE3-9C47-8A577B31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B3C2-14BE-457C-A8EF-72BC1CB4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6379-807F-4E9E-8C43-B1D1D7C8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3E1F-7F7B-4CD8-AD66-D66CDD3E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F70F-992E-46E8-BA8A-58C09C70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671E-874D-4812-B44E-DAF05112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B677-AF6A-44C8-ACA6-4CACCE92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E52-62C6-49BB-8994-74446E70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715E-B71E-43FA-9BB2-FBE0F72C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CF0-D4D9-4766-9FCB-4455F544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FF5-5D49-4638-BA1F-3550A120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D89-7DEC-4B6A-A3BF-4CAC00E2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597-1FCB-4DEF-B4D1-F70303CA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9594-2D74-42CA-AF6C-36E611210A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057D-DFC5-49B3-B4DA-51004486C6E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Picture 6" descr="linkedtriangles"/>
          <p:cNvPicPr/>
          <p:nvPr/>
        </p:nvPicPr>
        <p:blipFill>
          <a:blip r:embed="rId1"/>
          <a:stretch/>
        </p:blipFill>
        <p:spPr>
          <a:xfrm>
            <a:off x="2819520" y="289548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angular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equiangular triangle is a triangle which has three equal angl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Picture 7" descr="equiangular"/>
          <p:cNvPicPr/>
          <p:nvPr/>
        </p:nvPicPr>
        <p:blipFill>
          <a:blip r:embed="rId1"/>
          <a:stretch/>
        </p:blipFill>
        <p:spPr>
          <a:xfrm>
            <a:off x="5105520" y="2235240"/>
            <a:ext cx="373356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y are exactly the same size and shap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6" descr="Congruent"/>
          <p:cNvPicPr/>
          <p:nvPr/>
        </p:nvPicPr>
        <p:blipFill>
          <a:blip r:embed="rId1"/>
          <a:stretch/>
        </p:blipFill>
        <p:spPr>
          <a:xfrm>
            <a:off x="4800600" y="3200400"/>
            <a:ext cx="434340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ypoten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Picture 7" descr="Hypotenuse"/>
          <p:cNvPicPr/>
          <p:nvPr/>
        </p:nvPicPr>
        <p:blipFill>
          <a:blip r:embed="rId1"/>
          <a:stretch/>
        </p:blipFill>
        <p:spPr>
          <a:xfrm>
            <a:off x="4648320" y="2619360"/>
            <a:ext cx="4343400" cy="27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ythagorean Theo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 a right triangle with legs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nd hypotenus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 a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9" name="Picture 6" descr="PTheorem"/>
          <p:cNvPicPr/>
          <p:nvPr/>
        </p:nvPicPr>
        <p:blipFill>
          <a:blip r:embed="rId1"/>
          <a:srcRect l="0" t="0" r="62919" b="22993"/>
          <a:stretch/>
        </p:blipFill>
        <p:spPr>
          <a:xfrm>
            <a:off x="4856040" y="2336760"/>
            <a:ext cx="3449880" cy="322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 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a triangle has three unequal sides it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hich has three equal angles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(at least) two equal sides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wo triangles that are equal are called ______ triang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Obtus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769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all three sides of equal length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Picture 6" descr="triangle"/>
          <p:cNvPicPr/>
          <p:nvPr/>
        </p:nvPicPr>
        <p:blipFill>
          <a:blip r:embed="rId1"/>
          <a:stretch/>
        </p:blipFill>
        <p:spPr>
          <a:xfrm>
            <a:off x="4876920" y="2344680"/>
            <a:ext cx="4038480" cy="3133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an angle of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all three angles are less than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one of the angles is greater than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hat is the Hypotenuse of a right triangle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The smalles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Pythagorean Theorem states …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2400" spc="-1" strike="noStrike">
                <a:solidFill>
                  <a:srgbClr val="29292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(a+b)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/2=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se the Pythagorean Theorem to solve the following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=  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 = 1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 = 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 = 1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ut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all three angles are less than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2" descr="acute"/>
          <p:cNvPicPr/>
          <p:nvPr/>
        </p:nvPicPr>
        <p:blipFill>
          <a:blip r:embed="rId1"/>
          <a:stretch/>
        </p:blipFill>
        <p:spPr>
          <a:xfrm>
            <a:off x="4952880" y="2479680"/>
            <a:ext cx="3581640" cy="2316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tus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obtuse triangle is a triangle in which one of the angles is greater than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Picture 7" descr="obtuse"/>
          <p:cNvPicPr/>
          <p:nvPr/>
        </p:nvPicPr>
        <p:blipFill>
          <a:blip r:embed="rId1"/>
          <a:stretch/>
        </p:blipFill>
        <p:spPr>
          <a:xfrm>
            <a:off x="5105520" y="2940120"/>
            <a:ext cx="3504960" cy="2050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right triangle is triangle with an angle of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876920" y="2438280"/>
            <a:ext cx="3733560" cy="365760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876920" y="5791320"/>
            <a:ext cx="3045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len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three unequal sid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Picture 7" descr="Scalene"/>
          <p:cNvPicPr/>
          <p:nvPr/>
        </p:nvPicPr>
        <p:blipFill>
          <a:blip r:embed="rId1"/>
          <a:stretch/>
        </p:blipFill>
        <p:spPr>
          <a:xfrm>
            <a:off x="4952880" y="2521080"/>
            <a:ext cx="3810240" cy="2847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sceles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isosceles triangle is a triangle with (at least) two equal sid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Picture 7" descr="Isosceles"/>
          <p:cNvPicPr/>
          <p:nvPr/>
        </p:nvPicPr>
        <p:blipFill>
          <a:blip r:embed="rId1"/>
          <a:stretch/>
        </p:blipFill>
        <p:spPr>
          <a:xfrm>
            <a:off x="5626080" y="2133720"/>
            <a:ext cx="24894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sceles Triangle Theor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78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IsoTriTh.avi" descr=""/>
          <p:cNvPicPr/>
          <p:nvPr/>
        </p:nvPicPr>
        <p:blipFill>
          <a:blip r:embed="rId1"/>
          <a:stretch/>
        </p:blipFill>
        <p:spPr>
          <a:xfrm>
            <a:off x="3760920" y="182880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44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lateral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equilateral triangle is a triangle with all three sides of equal length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Picture 7" descr="equilateral"/>
          <p:cNvPicPr/>
          <p:nvPr/>
        </p:nvPicPr>
        <p:blipFill>
          <a:blip r:embed="rId1"/>
          <a:stretch/>
        </p:blipFill>
        <p:spPr>
          <a:xfrm>
            <a:off x="5029200" y="2367000"/>
            <a:ext cx="342900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03:16Z</dcterms:created>
  <dc:creator>its</dc:creator>
  <dc:description/>
  <dc:language>en-US</dc:language>
  <cp:lastModifiedBy>RomaK</cp:lastModifiedBy>
  <dcterms:modified xsi:type="dcterms:W3CDTF">2015-09-04T09:23:51Z</dcterms:modified>
  <cp:revision>10</cp:revision>
  <dc:subject/>
  <dc:title>The World Of Triangles</dc:title>
</cp:coreProperties>
</file>