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EA74-8A76-413C-91D3-123C473157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92929"/>
                </a:solidFill>
                <a:latin typeface="Arial"/>
              </a:rPr>
              <a:t>The World Of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World Of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quiangular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equiangular triangle is a triangle which has three equal angles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angular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quiangular triangle is a triangle which has three equal ang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gruent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gruent triangles are triangles whose corresponding angles and sides are congruent. 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y are exactly the same size and shape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triangles are triangles whose corresponding angles and sides are congruent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exactly the same size and sha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Hypoten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hypotenuse of a right triangle is the triangle's longest side, i.e., the side opposite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poten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potenuse of a right triangle is the triangle's longest side, i.e., the side opposite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Pythagorean Theor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or a right triangle with legs a and b and hypotenuse c, a2+b2=c2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ythagorean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ight triangle with legs a and b and hypotenuse c, a2+b2=c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riangle Quiz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lease complete the following quiz that covers the information that was just presented to you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complete the following quiz that covers the information that was just presented to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a triangle has three unequal sides it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Obt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triangle has three unequal sides it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Obt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hich has three equal angles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Equilater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hich has three equal angles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Equ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(at least) two equal sides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(at least) two equal sides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4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wo triangles that are equal are called ______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Acute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Obtuse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riangles that are equal are called ______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cu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Obt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all three sides of equal length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all three sides of equal length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s a 3-sided polygon.  Every triangle has three sides and three angles. When added together, the three angles equal 18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s a 3-sided polygon.  Every triangle has three sides and three angles. When added together, the three angles equal 18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an angle of 90°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an angle of 90°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7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n which all three angles are less than 90°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n which all three angles are less than 90°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8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n which one of the angles is greater than 90°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n which one of the angles is greater than 90°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9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is the Hypotenuse of a right triangle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The smalles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Hypotenuse of a right triang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The smalles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10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Pythagorean Theorem states …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pr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(a+b)2/2=c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ythagorean Theorem stat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(a+b)2/2=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1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Use the Pythagorean Theorem to solve the following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=  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 = 1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 = 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 = 1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Pythagorean Theorem to solve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cute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n which all three angles are less than 9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ute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n which all three angles are less than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Obtuse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obtuse triangle is a triangle in which one of the angles is greater than 9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use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btuse triangle is a triangle in which one of the angles is greater than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ight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right triangle is triangle with an angle of 9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ight triangle is triangle with an angle of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calene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three unequal sides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ne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three unequal s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sosceles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isosceles triangle is a triangle with (at least) two equal sides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sceles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sosceles triangle is a triangle with (at least) two equal s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sosceles Triangle Theorem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ollowing movie shows that if two sides of a triangle are congruent, then the angles opposite those sides are congruent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sceles Triangle Theor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movie shows that if two sides of a triangle are congruent, then the angles opposite those sides are congru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quilateral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equilateral triangle is a triangle with all three sides of equal length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ateral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quilateral triangle is a triangle with all three sides of equal l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1171-FF19-4037-A4AA-B06C3797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A203-1664-4A62-85CF-31CEEFCD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E613-383C-4E7E-AD82-F7DE114D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16BB-4BAE-4531-93E1-561A2997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9139-2906-4C58-85F2-7EC299D2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A3C1-C1E2-491A-9C6D-8D469FE7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1A16-76E8-4466-BC47-8CF507F3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75D3-5BED-413F-9A15-5B43236A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4376-BF02-4C08-9243-B216F6F2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D272-75EB-4AF8-B3D9-B7D04138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FBB5-321C-4590-BA17-C7AA99FE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EA12-B7B4-4555-BA57-5034C690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A3F1-FB07-4874-925C-2C7740CA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F5C8-B4C0-482B-9965-77F96FEC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49E3-33FE-47BE-89BD-1049B450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EED1-8BB4-46C1-942F-D6563D49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DC73-51B3-45A9-98E5-14D534C5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7D37-89D4-4A55-B252-47A67750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C430-6061-454E-9404-4CED8B8E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FE35-334E-48FF-A757-16CB8799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F30E-4502-4EF1-B8E6-50F565B1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F4EB-1031-44E9-B9FF-F593AB8B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7CF8-0495-4657-9216-067D78CB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04E9-EEF0-4A27-B52E-6D8DC132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281B-0C0D-4187-B2C1-9FEFC32D4E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A3D9-B152-480B-BA9E-618678739AB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ld Of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1" name="Picture 6" descr="linkedtriangles"/>
          <p:cNvPicPr/>
          <p:nvPr/>
        </p:nvPicPr>
        <p:blipFill>
          <a:blip r:embed="rId1"/>
          <a:stretch/>
        </p:blipFill>
        <p:spPr>
          <a:xfrm>
            <a:off x="2819520" y="2895480"/>
            <a:ext cx="396216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angular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equiangular triangle is a triangle which has three equal angl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0" name="Picture 7" descr="equiangular"/>
          <p:cNvPicPr/>
          <p:nvPr/>
        </p:nvPicPr>
        <p:blipFill>
          <a:blip r:embed="rId1"/>
          <a:stretch/>
        </p:blipFill>
        <p:spPr>
          <a:xfrm>
            <a:off x="5105520" y="2235240"/>
            <a:ext cx="373356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gruent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gruent triangles are triangles whose corresponding angles and sides are congruent. 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y are exactly the same size and shape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Picture 6" descr="Congruent"/>
          <p:cNvPicPr/>
          <p:nvPr/>
        </p:nvPicPr>
        <p:blipFill>
          <a:blip r:embed="rId1"/>
          <a:stretch/>
        </p:blipFill>
        <p:spPr>
          <a:xfrm>
            <a:off x="4800600" y="3200400"/>
            <a:ext cx="4343400" cy="1728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ypoten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hypotenuse of a right triangle is the triangle's longest side, i.e., the side opposite the right 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6" name="Picture 7" descr="Hypotenuse"/>
          <p:cNvPicPr/>
          <p:nvPr/>
        </p:nvPicPr>
        <p:blipFill>
          <a:blip r:embed="rId1"/>
          <a:stretch/>
        </p:blipFill>
        <p:spPr>
          <a:xfrm>
            <a:off x="4648320" y="2619360"/>
            <a:ext cx="4343400" cy="2728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ythagorean Theor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r a right triangle with legs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and hypotenuse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 a</a:t>
            </a:r>
            <a:r>
              <a:rPr b="0" lang="en-US" sz="2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+b</a:t>
            </a:r>
            <a:r>
              <a:rPr b="0" lang="en-US" sz="2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=c</a:t>
            </a:r>
            <a:r>
              <a:rPr b="0" lang="en-US" sz="2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9" name="Picture 6" descr="PTheorem"/>
          <p:cNvPicPr/>
          <p:nvPr/>
        </p:nvPicPr>
        <p:blipFill>
          <a:blip r:embed="rId1"/>
          <a:srcRect l="0" t="0" r="62919" b="22993"/>
          <a:stretch/>
        </p:blipFill>
        <p:spPr>
          <a:xfrm>
            <a:off x="4856040" y="2336760"/>
            <a:ext cx="3449880" cy="3228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angle Qu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lease complete the following quiz that covers the information that was just presented to you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f a triangle has three unequal sides it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Obtu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hich has three equal angles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Equilate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(at least) two equal sides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wo triangles that are equal are called ______ triangl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Acut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Obtus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769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all three sides of equal length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s a 3-sided polygon.  Every triangle has three sides and three angles. When added together, the three angles equal 18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4" name="Picture 6" descr="triangle"/>
          <p:cNvPicPr/>
          <p:nvPr/>
        </p:nvPicPr>
        <p:blipFill>
          <a:blip r:embed="rId1"/>
          <a:stretch/>
        </p:blipFill>
        <p:spPr>
          <a:xfrm>
            <a:off x="4876920" y="2344680"/>
            <a:ext cx="4038480" cy="3133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an angle of 90°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n which all three angles are less than 90°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n which one of the angles is greater than 90°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What is the Hypotenuse of a right triangle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The smalles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The righ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Pythagorean Theorem states …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en-US" sz="2400" spc="-1" strike="noStrike">
                <a:solidFill>
                  <a:srgbClr val="29292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(a+b)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/2=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a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+b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=c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a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+b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=c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se the Pythagorean Theorem to solve the following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 =  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 = 1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 = 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 = 13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ute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n which all three angles are less than 9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Picture 12" descr="acute"/>
          <p:cNvPicPr/>
          <p:nvPr/>
        </p:nvPicPr>
        <p:blipFill>
          <a:blip r:embed="rId1"/>
          <a:stretch/>
        </p:blipFill>
        <p:spPr>
          <a:xfrm>
            <a:off x="4952880" y="2479680"/>
            <a:ext cx="3581640" cy="2316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tuse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obtuse triangle is a triangle in which one of the angles is greater than 9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0" name="Picture 7" descr="obtuse"/>
          <p:cNvPicPr/>
          <p:nvPr/>
        </p:nvPicPr>
        <p:blipFill>
          <a:blip r:embed="rId1"/>
          <a:stretch/>
        </p:blipFill>
        <p:spPr>
          <a:xfrm>
            <a:off x="5105520" y="2940120"/>
            <a:ext cx="3504960" cy="2050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ght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right triangle is triangle with an angle of 9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4876920" y="2438280"/>
            <a:ext cx="3733560" cy="3657600"/>
          </a:xfrm>
          <a:prstGeom prst="rtTriangl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876920" y="5791320"/>
            <a:ext cx="30456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lene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three unequal sid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8" name="Picture 7" descr="Scalene"/>
          <p:cNvPicPr/>
          <p:nvPr/>
        </p:nvPicPr>
        <p:blipFill>
          <a:blip r:embed="rId1"/>
          <a:stretch/>
        </p:blipFill>
        <p:spPr>
          <a:xfrm>
            <a:off x="4952880" y="2521080"/>
            <a:ext cx="3810240" cy="2847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osceles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isosceles triangle is a triangle with (at least) two equal sid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1" name="Picture 7" descr="Isosceles"/>
          <p:cNvPicPr/>
          <p:nvPr/>
        </p:nvPicPr>
        <p:blipFill>
          <a:blip r:embed="rId1"/>
          <a:stretch/>
        </p:blipFill>
        <p:spPr>
          <a:xfrm>
            <a:off x="5626080" y="2133720"/>
            <a:ext cx="24894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osceles Triangle Theor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78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following movie shows that if two sides of a triangle are congruent, then the angles opposite those sides are congruent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4" name="IsoTriTh.avi" descr=""/>
          <p:cNvPicPr/>
          <p:nvPr/>
        </p:nvPicPr>
        <p:blipFill>
          <a:blip r:embed="rId1"/>
          <a:stretch/>
        </p:blipFill>
        <p:spPr>
          <a:xfrm>
            <a:off x="3760920" y="1828800"/>
            <a:ext cx="594360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44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lateral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equilateral triangle is a triangle with all three sides of equal length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7" name="Picture 7" descr="equilateral"/>
          <p:cNvPicPr/>
          <p:nvPr/>
        </p:nvPicPr>
        <p:blipFill>
          <a:blip r:embed="rId1"/>
          <a:stretch/>
        </p:blipFill>
        <p:spPr>
          <a:xfrm>
            <a:off x="5029200" y="2367000"/>
            <a:ext cx="342900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2:03:16Z</dcterms:created>
  <dc:creator>its</dc:creator>
  <dc:description/>
  <dc:language>en-US</dc:language>
  <cp:lastModifiedBy>RomaK</cp:lastModifiedBy>
  <dcterms:modified xsi:type="dcterms:W3CDTF">2015-09-04T09:23:51Z</dcterms:modified>
  <cp:revision>10</cp:revision>
  <dc:subject/>
  <dc:title>The World Of Triangles</dc:title>
</cp:coreProperties>
</file>