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2.png" ContentType="image/png"/>
  <Override PartName="/ppt/media/image16.wmf" ContentType="image/x-wm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7B224-12BB-4CFF-8D7F-638BC44E8A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Volume of a Cyli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 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Volume of the Solid. To 1 decimal pl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omework/Challe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allenge Ques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 of a Cyli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ight we find the Volume of a Cylind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= A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sion of un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cm – 10m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m – 100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km – 1000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sions of Un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cm2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 mm x 10 m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100 mm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2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0 cm x 100 c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 000 cm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2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00 mm x 1000 m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 000 000 m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ha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0 m x 100 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 000 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km2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0 h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bout when cubic uni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cm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cm x 1cm x 1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 mm × 10 mm × 10 m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00 m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m x 1m x 1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0 cm × 100 cm × 100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 000 000 c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pa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 - The volume of a three-dimensional figure is the amount of space within i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ed in Units Cubed (e.g. cm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 and capacity are relat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pacity is the amount of material (usually liquid) that a container can hol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pacity is measured in millilitres, litres and kilolit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xamples of Capa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es Volume relate to Capacit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00 mL = 1 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00 L = 1 k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cm3 = 1 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,000cm3 = 1000ml = 1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3 = 1000 L = 1 k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nvert 1800 mL to 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800ml =  1800/1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= 1.8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.3 m3 to L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m3 = 1000L (1k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.3m3 = 2.3k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= 2300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Volum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olume of a three-dimensional figure is the amount of space within i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ed in Units Cubed (e.g. cm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pa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Capacity of this cu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gth = 5.53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= A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(5.53 x 5.53) x 5.5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69.11cm3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cm3 = 1m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pacity = 169.11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gth = 5.53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capacity of this rectangular pris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 = Ah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(26 x 12) x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12 × 5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560 cm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cm3 = 1m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pacity = 1560 mL or 1.56 L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000mL = 1L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x 11.08 – Q 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size rainwater tank would be needed to hold the run-off when 40 mm of rain falls on a roof 12 m long and 3.6 m wide? (Answer in litres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 of a Pr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 of a Prism is calculated b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 = Area of cross section x perpendicular he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= A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= (4 x 4) x 4 = 64 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2 equal shapes at the base, but it is not a prism as it has rounded s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Cyli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 of a Cyli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ight we find the Volume of a Cylind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V = A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eces Miss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volume of concrete used to make this pi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 of Concrete = Volume of Big Cylinder – Volume of Small Cylinder (hol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shape is present he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3D shapes can you se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C35C-872B-4F4A-89A9-596A7A5DA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F735-E7C7-4510-8F26-0822D4E18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BAA3-4D10-447B-BB73-9268F9A96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DDE9-4E35-4C66-AB30-BA77E90F5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045D-D205-48CB-A551-B76B3F6C6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9BA4-0410-4905-B8FC-786C35054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E46A-DC57-4946-9F83-B19EF66E3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6A1C-DC0C-4C99-851A-5DB43463A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81BD-D9D9-4E86-9F19-A910FCACB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3DEB-11E4-4051-B65F-92AA1982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46E0-F821-4114-80E7-42947ED0B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3FEE-32A6-4238-A48A-2E4796CB2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6AD2F-B3EA-4D98-8EEB-9FD590CDE2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Volume of a Cylind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HOM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4"/>
          <p:cNvSpPr/>
          <p:nvPr/>
        </p:nvSpPr>
        <p:spPr>
          <a:xfrm>
            <a:off x="1428840" y="5643720"/>
            <a:ext cx="72864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Arial"/>
              </a:rPr>
              <a:t>Find the Volume of the Solid. To 1 decimal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2214720" y="2071800"/>
            <a:ext cx="47862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Homework/Challe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hallenge Ques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3828960" y="3143160"/>
            <a:ext cx="531504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Volume of a Cylind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ow might we find the Volume of a Cylin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V = A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onversion of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1cm – 10m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1m – 100c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1km – 1000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onversions of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1"/>
          <a:stretch/>
        </p:blipFill>
        <p:spPr>
          <a:xfrm>
            <a:off x="4500720" y="4581360"/>
            <a:ext cx="4046400" cy="20545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1116000" y="1341360"/>
            <a:ext cx="6192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1 cm2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= 10 mm x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10 mm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=100 mm2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1 m2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= 100 cm x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100 cm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= 10 000 cm2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1 m2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= 1000 mm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1000 mm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= 1 000 000 mm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1 ha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= 100 m x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100 m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= 10 000 m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1 km2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= 100 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What about when cubic unit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98064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1 cm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1cm x 1cm x 1c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10 mm × 10 mm × 10 m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1000 mm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1 m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1m x 1m x 1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100 cm × 100 cm × 100 c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1 000 000 cm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1"/>
          <a:stretch/>
        </p:blipFill>
        <p:spPr>
          <a:xfrm>
            <a:off x="4859280" y="4653000"/>
            <a:ext cx="365148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apac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50920" y="980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lume - The volume of a three-dimensional figure is the amount of space within i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Measured in Units Cubed (e.g. cm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Volume and capacity are relate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apacity is the amount of material (usually liquid) that a container can hol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apacity is measured in millilitres, litres and kilolit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5" descr=""/>
          <p:cNvPicPr/>
          <p:nvPr/>
        </p:nvPicPr>
        <p:blipFill>
          <a:blip r:embed="rId1"/>
          <a:stretch/>
        </p:blipFill>
        <p:spPr>
          <a:xfrm>
            <a:off x="2916360" y="4869000"/>
            <a:ext cx="3600360" cy="20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Examples of Capac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1187280" y="2271600"/>
            <a:ext cx="6913800" cy="33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alibri"/>
              </a:rPr>
              <a:t>How does Volume relate to Capacity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71360" y="1213920"/>
            <a:ext cx="761508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Calibri"/>
              </a:rPr>
              <a:t>1000 mL = 1 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Calibri"/>
              </a:rPr>
              <a:t>1000 L = 1 k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Calibri"/>
              </a:rPr>
              <a:t>1 cm</a:t>
            </a:r>
            <a:r>
              <a:rPr b="1" lang="en-AU" sz="36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AU" sz="3600" spc="-1" strike="noStrike">
                <a:solidFill>
                  <a:srgbClr val="000000"/>
                </a:solidFill>
                <a:latin typeface="Calibri"/>
              </a:rPr>
              <a:t> = 1 m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Calibri"/>
              </a:rPr>
              <a:t>1,000cm</a:t>
            </a:r>
            <a:r>
              <a:rPr b="1" lang="en-AU" sz="36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AU" sz="3600" spc="-1" strike="noStrike">
                <a:solidFill>
                  <a:srgbClr val="000000"/>
                </a:solidFill>
                <a:latin typeface="Calibri"/>
              </a:rPr>
              <a:t> = 1000ml = 1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Calibri"/>
              </a:rPr>
              <a:t>1 m</a:t>
            </a:r>
            <a:r>
              <a:rPr b="1" lang="en-AU" sz="36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AU" sz="3600" spc="-1" strike="noStrike">
                <a:solidFill>
                  <a:srgbClr val="000000"/>
                </a:solidFill>
                <a:latin typeface="Calibri"/>
              </a:rPr>
              <a:t> = 1000 L = 1 k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onvert 1800 mL to 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1800ml =  1800/1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1.8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2.3 m3 to L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1m3 = 1000L (1k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2.3m3 = 2.3k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2300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1"/>
          <a:stretch/>
        </p:blipFill>
        <p:spPr>
          <a:xfrm>
            <a:off x="5364000" y="2205000"/>
            <a:ext cx="229572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What is Volum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volume of a three-dimensional figure is the amount of space within i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Measured in Units Cubed (e.g. cm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apac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Find the Capacity of this cub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Length = 5.53c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V = A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(5.53 x 5.53) x 5.5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169.11cm3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(1cm3 = 1m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apacity = 169.11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6732720" y="549360"/>
            <a:ext cx="1887480" cy="14000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"/>
          <p:cNvSpPr/>
          <p:nvPr/>
        </p:nvSpPr>
        <p:spPr>
          <a:xfrm>
            <a:off x="6516720" y="1825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Length = 5.5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Find the capacity of this rectangular pris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Volume = </a:t>
            </a:r>
            <a:r>
              <a:rPr b="0" i="1" lang="en-AU" sz="3200" spc="-1" strike="noStrike">
                <a:solidFill>
                  <a:srgbClr val="000000"/>
                </a:solidFill>
                <a:latin typeface="Calibri"/>
              </a:rPr>
              <a:t>Ah </a:t>
            </a:r>
            <a:r>
              <a:rPr b="0" i="1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(26 x 12) x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312 × 5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1560 cm3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(1cm3 = 1m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apacity = 1560 mL or 1.56 L 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(1000mL = 1L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5781600" y="0"/>
            <a:ext cx="336240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Ex 11.08 – Q 7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799308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hat size rainwater tank would be needed to hold the run-off when 40 mm of rain falls on a roof 12 m long and 3.6 m wide? (Answer in litres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Volume of a Pr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400" spc="-1" strike="noStrike">
                <a:solidFill>
                  <a:srgbClr val="000000"/>
                </a:solidFill>
                <a:latin typeface="Calibri"/>
              </a:rPr>
              <a:t>Volume of a Prism is calculated by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Volume = Area of cross section x perpendicular he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V = A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V = (4 x 4) x 4 = 64 m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5643720" y="3714840"/>
            <a:ext cx="28288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What is thi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t has 2 equal shapes at the base, but it is not a prism as it has rounded si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It is a Cylind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5929200" y="3357720"/>
            <a:ext cx="255276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Volume of a Cylind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ow might we find the Volume of a Cylin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V = A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5429160" y="3071880"/>
            <a:ext cx="332892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Pieces Mis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Find the volume of concrete used to make this pi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Volume of Concrete = Volume of Big Cylinder – Volume of Small Cylinder (hol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5364000" y="3500280"/>
            <a:ext cx="32544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hat shape is present he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4700520" y="3714840"/>
            <a:ext cx="4443480" cy="2786040"/>
          </a:xfrm>
          <a:prstGeom prst="rect">
            <a:avLst/>
          </a:prstGeom>
          <a:ln w="0">
            <a:noFill/>
          </a:ln>
        </p:spPr>
      </p:pic>
      <p:sp>
        <p:nvSpPr>
          <p:cNvPr id="69" name="TextBox 4"/>
          <p:cNvSpPr/>
          <p:nvPr/>
        </p:nvSpPr>
        <p:spPr>
          <a:xfrm>
            <a:off x="4643280" y="3714840"/>
            <a:ext cx="64296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9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hat 3D shapes can you se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5214960" y="3429000"/>
            <a:ext cx="37670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07:35:10Z</dcterms:created>
  <dc:creator>Corporate Edition</dc:creator>
  <dc:description/>
  <dc:language>en-US</dc:language>
  <cp:lastModifiedBy>RomaK</cp:lastModifiedBy>
  <dcterms:modified xsi:type="dcterms:W3CDTF">2015-09-04T09:23:43Z</dcterms:modified>
  <cp:revision>53</cp:revision>
  <dc:subject/>
  <dc:title>Slide 1</dc:title>
</cp:coreProperties>
</file>