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7D88-2F96-48B9-A893-30C425275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the Solid. To 1 decimal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x 1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0 m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x 100 c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c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 x 1000 m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m x 100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0 m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 = 1 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cm3 = 1000ml = 1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3 = 1000 L = 1 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163-E445-4378-B2A4-AF4A9C74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CDA-7A24-4CA3-A0C8-2358A43F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52D-AC8D-409C-9143-9C66D9F2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361-3790-4D3D-A29A-89555EAF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0DD-AC8F-47E7-A6A9-BC464EF3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F51C-0B4C-4AB6-813C-73E6691B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AD2-E918-4E94-9EED-D40D3C92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4B0-AA82-4C2D-980A-62BF5F03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669-2251-4B63-ADA2-803E33FE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763-C523-429D-ADAB-387DF0B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824-114C-4A1E-990D-34B0DF6D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B2F-572D-4E65-A0E4-03059AB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686C-78F7-416A-99B2-4D037596B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428840" y="5643720"/>
            <a:ext cx="7286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Find the Volume of the Solid. To 1 decima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214720" y="2071800"/>
            <a:ext cx="4786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omework/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llenge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828960" y="3143160"/>
            <a:ext cx="5315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cm – 10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 – 100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km – 1000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500720" y="4581360"/>
            <a:ext cx="4046400" cy="2054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116000" y="1341360"/>
            <a:ext cx="619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c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m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100 m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c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c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cm2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0 m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0 m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 000 000 m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m x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00 m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 000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= 100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about when cubic uni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80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cm x 1cm x 1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 mm × 10 mm × 1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0 m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m x 1m x 1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0 cm × 100 cm × 10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 000 000 cm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4859280" y="4653000"/>
            <a:ext cx="3651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920" y="980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- 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and capacity are rel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the amount of material (usually liquid) that a container can h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is measured in millilitres, litres and kilolit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3600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 of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69138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does Volume relate to Capaci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1360" y="1213920"/>
            <a:ext cx="761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mL = 1 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 m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,000c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ml = 1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1" lang="en-A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 = 1000 L = 1 k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vert 1800 mL to 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800ml =  1800/1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.8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 m3 to L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1m3 = 1000L (1k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.3m3 = 2.3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2300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295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Volu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of a three-dimensional figure is the amount of space within 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d in Units Cubed (e.g. cm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c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ngth = 5.53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5.53 x 5.53) x 5.5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69.11cm3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69.11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188748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6516720" y="1825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ngth = 5.5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capacity of this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Ah 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(26 x 12) x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312 × 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560 cm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cm3 = 1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pacity = 1560 mL or 1.56 L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1000mL = 1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781600" y="0"/>
            <a:ext cx="33624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 11.08 – Q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9930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ize rainwater tank would be needed to hold the run-off when 40 mm of rain falls on a roof 12 m long and 3.6 m wide? (Answer in litre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Pr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00000"/>
                </a:solidFill>
                <a:latin typeface="Calibri"/>
              </a:rPr>
              <a:t>Volume of a Prism is calculated b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= Area of cross section x perpendicular 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(4 x 4) x 4 = 64 m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643720" y="3714840"/>
            <a:ext cx="2828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has 2 equal shapes at the base, but it is not a prism as it has rounded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t is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5527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Volume of a Cyli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might we find the Volume of a Cylin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 = 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29160" y="3071880"/>
            <a:ext cx="33289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ieces Mi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volume of concrete used to make this 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Volume of Concrete = Volume of Big Cylinder – Volume of Small Cylinder (ho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254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shape is present he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700520" y="3714840"/>
            <a:ext cx="4443480" cy="27860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43280" y="3714840"/>
            <a:ext cx="6429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9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3D shapes can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214960" y="3429000"/>
            <a:ext cx="3767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7:35:10Z</dcterms:created>
  <dc:creator>Corporate Edition</dc:creator>
  <dc:description/>
  <dc:language>en-US</dc:language>
  <cp:lastModifiedBy>RomaK</cp:lastModifiedBy>
  <dcterms:modified xsi:type="dcterms:W3CDTF">2015-09-04T09:23:43Z</dcterms:modified>
  <cp:revision>53</cp:revision>
  <dc:subject/>
  <dc:title>Slide 1</dc:title>
</cp:coreProperties>
</file>