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DA97-0C21-40C2-8A95-C6C26CE238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o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B6E-880A-48FF-B3A6-0CFB8A31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E4E-A360-447A-B556-EAB3ADA2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F84-E241-4982-BF67-04C48AD8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9964-D31F-4E35-956C-1121E233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C92-5DF0-4F02-B835-2D01DA6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55D-D698-4991-8913-8A10EDA1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816-37A5-4317-83C5-CD866242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17C-E381-421B-8C69-D86FA24C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191-DCD5-4908-BF18-27E49DD0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F4E-E091-4E35-B45B-7F5238D1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B8F-4C9B-4217-B09A-6EBDC751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D01B-F025-4D4B-8D7B-F1041E62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5C03-E0BE-4412-8DD7-0B22C4E0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"/>
          <p:cNvSpPr/>
          <p:nvPr/>
        </p:nvSpPr>
        <p:spPr>
          <a:xfrm flipV="1">
            <a:off x="4800600" y="533160"/>
            <a:ext cx="0" cy="281916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"/>
          <p:cNvGrpSpPr/>
          <p:nvPr/>
        </p:nvGrpSpPr>
        <p:grpSpPr>
          <a:xfrm>
            <a:off x="4800600" y="2819520"/>
            <a:ext cx="304920" cy="533160"/>
            <a:chOff x="4800600" y="2819520"/>
            <a:chExt cx="304920" cy="533160"/>
          </a:xfrm>
        </p:grpSpPr>
        <p:sp>
          <p:nvSpPr>
            <p:cNvPr id="54" name="Line 9"/>
            <p:cNvSpPr/>
            <p:nvPr/>
          </p:nvSpPr>
          <p:spPr>
            <a:xfrm>
              <a:off x="4800600" y="2819520"/>
              <a:ext cx="3049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5105520" y="2819520"/>
              <a:ext cx="0" cy="5331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2"/>
          <p:cNvSpPr/>
          <p:nvPr/>
        </p:nvSpPr>
        <p:spPr>
          <a:xfrm>
            <a:off x="838080" y="914400"/>
            <a:ext cx="304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952880" y="7621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idprint"/>
              </a:rPr>
              <a:t>Normal to 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4"/>
          <p:cNvSpPr/>
          <p:nvPr/>
        </p:nvSpPr>
        <p:spPr>
          <a:xfrm>
            <a:off x="1447920" y="2133720"/>
            <a:ext cx="6476760" cy="2971800"/>
          </a:xfrm>
          <a:prstGeom prst="parallelogram">
            <a:avLst>
              <a:gd name="adj" fmla="val 54485"/>
            </a:avLst>
          </a:prstGeom>
          <a:solidFill>
            <a:srgbClr val="c0c0c0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2819520" y="2819160"/>
            <a:ext cx="3962160" cy="1066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581280" y="2590920"/>
            <a:ext cx="2514600" cy="1523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3352680" y="2438280"/>
            <a:ext cx="2743200" cy="1905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4800600" y="914040"/>
            <a:ext cx="1066680" cy="243828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5867280" y="914400"/>
            <a:ext cx="0" cy="220968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13"/>
          <p:cNvGrpSpPr/>
          <p:nvPr/>
        </p:nvGrpSpPr>
        <p:grpSpPr>
          <a:xfrm>
            <a:off x="5638320" y="2743200"/>
            <a:ext cx="228600" cy="380520"/>
            <a:chOff x="5638320" y="2743200"/>
            <a:chExt cx="228600" cy="380520"/>
          </a:xfrm>
        </p:grpSpPr>
        <p:sp>
          <p:nvSpPr>
            <p:cNvPr id="65" name="Line 11"/>
            <p:cNvSpPr/>
            <p:nvPr/>
          </p:nvSpPr>
          <p:spPr>
            <a:xfrm flipH="1">
              <a:off x="5638320" y="2743200"/>
              <a:ext cx="228600" cy="633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5638680" y="2806560"/>
              <a:ext cx="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Line 14"/>
          <p:cNvSpPr/>
          <p:nvPr/>
        </p:nvSpPr>
        <p:spPr>
          <a:xfrm flipV="1">
            <a:off x="4800600" y="3047760"/>
            <a:ext cx="1066680" cy="284040"/>
          </a:xfrm>
          <a:prstGeom prst="line">
            <a:avLst/>
          </a:prstGeom>
          <a:ln w="38160">
            <a:solidFill>
              <a:srgbClr val="00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 flipV="1">
            <a:off x="5486040" y="3124080"/>
            <a:ext cx="2057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477120" y="4876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ion of a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838080" y="55627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Plane and line (which  intersects the  pla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 flipV="1">
            <a:off x="3733920" y="3047760"/>
            <a:ext cx="1371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 rot="827400">
            <a:off x="1371600" y="1066680"/>
            <a:ext cx="4952880" cy="3886200"/>
          </a:xfrm>
          <a:prstGeom prst="rect">
            <a:avLst/>
          </a:prstGeom>
          <a:solidFill>
            <a:srgbClr val="cc99ff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666880" y="1219320"/>
            <a:ext cx="3810240" cy="434340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4114800" y="2057400"/>
            <a:ext cx="2362320" cy="3505320"/>
          </a:xfrm>
          <a:prstGeom prst="line">
            <a:avLst/>
          </a:prstGeom>
          <a:ln w="1908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2666880" y="1219320"/>
            <a:ext cx="1447920" cy="838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 flipH="1">
            <a:off x="5638320" y="4114800"/>
            <a:ext cx="1676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7162920" y="380844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886200" y="68580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447920" y="2286000"/>
            <a:ext cx="4572000" cy="2819520"/>
          </a:xfrm>
          <a:prstGeom prst="rect">
            <a:avLst/>
          </a:prstGeom>
          <a:solidFill>
            <a:srgbClr val="ffccff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3886200" y="838080"/>
            <a:ext cx="1828800" cy="441972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3962520" y="3657600"/>
            <a:ext cx="1752480" cy="1600200"/>
          </a:xfrm>
          <a:prstGeom prst="line">
            <a:avLst/>
          </a:prstGeom>
          <a:ln w="19080">
            <a:solidFill>
              <a:srgbClr val="8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3962520" y="858960"/>
            <a:ext cx="2819160" cy="380988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3962520" y="838080"/>
            <a:ext cx="2819160" cy="106704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6781680" y="1870200"/>
            <a:ext cx="76320" cy="2819160"/>
          </a:xfrm>
          <a:prstGeom prst="line">
            <a:avLst/>
          </a:prstGeom>
          <a:ln w="19080">
            <a:solidFill>
              <a:srgbClr val="00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2666880" y="54388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between base and longest diag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3657600" y="457164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8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385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4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6" dur="385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5"/>
          <p:cNvSpPr/>
          <p:nvPr/>
        </p:nvSpPr>
        <p:spPr>
          <a:xfrm flipV="1">
            <a:off x="1509840" y="4093920"/>
            <a:ext cx="5410080" cy="60948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2209680" y="2590920"/>
            <a:ext cx="4114800" cy="365760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7"/>
          <p:cNvSpPr/>
          <p:nvPr/>
        </p:nvSpPr>
        <p:spPr>
          <a:xfrm flipH="1">
            <a:off x="4211640" y="1239840"/>
            <a:ext cx="7920" cy="3117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191120" y="1295280"/>
            <a:ext cx="2057400" cy="495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1523520" y="1295280"/>
            <a:ext cx="266724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4191120" y="129528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 flipH="1">
            <a:off x="2209680" y="1295280"/>
            <a:ext cx="198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3"/>
          <p:cNvSpPr/>
          <p:nvPr/>
        </p:nvSpPr>
        <p:spPr>
          <a:xfrm rot="1060800">
            <a:off x="1767960" y="3247920"/>
            <a:ext cx="4953240" cy="2286000"/>
          </a:xfrm>
          <a:prstGeom prst="rect">
            <a:avLst/>
          </a:prstGeom>
          <a:solidFill>
            <a:srgbClr val="ccff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>
            <a:off x="4191120" y="1295280"/>
            <a:ext cx="2438280" cy="3733920"/>
          </a:xfrm>
          <a:prstGeom prst="line">
            <a:avLst/>
          </a:prstGeom>
          <a:ln w="19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>
            <a:off x="4191120" y="4343400"/>
            <a:ext cx="2458800" cy="685800"/>
          </a:xfrm>
          <a:prstGeom prst="line">
            <a:avLst/>
          </a:prstGeom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4191120" y="3962520"/>
            <a:ext cx="380880" cy="533160"/>
            <a:chOff x="4191120" y="3962520"/>
            <a:chExt cx="380880" cy="533160"/>
          </a:xfrm>
        </p:grpSpPr>
        <p:sp>
          <p:nvSpPr>
            <p:cNvPr id="98" name="Line 16"/>
            <p:cNvSpPr/>
            <p:nvPr/>
          </p:nvSpPr>
          <p:spPr>
            <a:xfrm>
              <a:off x="4191120" y="3962520"/>
              <a:ext cx="38088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7"/>
            <p:cNvSpPr/>
            <p:nvPr/>
          </p:nvSpPr>
          <p:spPr>
            <a:xfrm>
              <a:off x="4572000" y="4114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385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385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2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4" dur="38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6"/>
          <p:cNvSpPr/>
          <p:nvPr/>
        </p:nvSpPr>
        <p:spPr>
          <a:xfrm rot="8572800">
            <a:off x="3310920" y="3476160"/>
            <a:ext cx="3476520" cy="1552680"/>
          </a:xfrm>
          <a:prstGeom prst="rtTriangle">
            <a:avLst/>
          </a:prstGeom>
          <a:solidFill>
            <a:srgbClr val="bbe0e3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5943600" y="685440"/>
            <a:ext cx="0" cy="194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5943600" y="685800"/>
            <a:ext cx="955800" cy="31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>
            <a:off x="3234960" y="685800"/>
            <a:ext cx="270828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 flipH="1">
            <a:off x="5105520" y="685800"/>
            <a:ext cx="838080" cy="3581280"/>
          </a:xfrm>
          <a:prstGeom prst="line">
            <a:avLst/>
          </a:prstGeom>
          <a:ln w="1260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5105520" y="2590920"/>
            <a:ext cx="838080" cy="1600200"/>
          </a:xfrm>
          <a:prstGeom prst="line">
            <a:avLst/>
          </a:prstGeom>
          <a:ln w="1908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6"/>
          <p:cNvGrpSpPr/>
          <p:nvPr/>
        </p:nvGrpSpPr>
        <p:grpSpPr>
          <a:xfrm>
            <a:off x="5181480" y="3886200"/>
            <a:ext cx="228600" cy="304920"/>
            <a:chOff x="5181480" y="3886200"/>
            <a:chExt cx="228600" cy="304920"/>
          </a:xfrm>
        </p:grpSpPr>
        <p:sp>
          <p:nvSpPr>
            <p:cNvPr id="108" name="Line 14"/>
            <p:cNvSpPr/>
            <p:nvPr/>
          </p:nvSpPr>
          <p:spPr>
            <a:xfrm>
              <a:off x="5181480" y="3886200"/>
              <a:ext cx="228600" cy="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5"/>
            <p:cNvSpPr/>
            <p:nvPr/>
          </p:nvSpPr>
          <p:spPr>
            <a:xfrm>
              <a:off x="5410080" y="3886200"/>
              <a:ext cx="0" cy="3049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7"/>
          <p:cNvGrpSpPr/>
          <p:nvPr/>
        </p:nvGrpSpPr>
        <p:grpSpPr>
          <a:xfrm>
            <a:off x="5686920" y="2341440"/>
            <a:ext cx="204840" cy="412560"/>
            <a:chOff x="5686920" y="2341440"/>
            <a:chExt cx="204840" cy="412560"/>
          </a:xfrm>
        </p:grpSpPr>
        <p:sp>
          <p:nvSpPr>
            <p:cNvPr id="111" name="Line 18"/>
            <p:cNvSpPr/>
            <p:nvPr/>
          </p:nvSpPr>
          <p:spPr>
            <a:xfrm flipH="1" flipV="1">
              <a:off x="5686920" y="2366640"/>
              <a:ext cx="48240" cy="38736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9"/>
            <p:cNvSpPr/>
            <p:nvPr/>
          </p:nvSpPr>
          <p:spPr>
            <a:xfrm flipV="1">
              <a:off x="5686920" y="2341440"/>
              <a:ext cx="204840" cy="25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0"/>
          <p:cNvGrpSpPr/>
          <p:nvPr/>
        </p:nvGrpSpPr>
        <p:grpSpPr>
          <a:xfrm>
            <a:off x="5969520" y="2298960"/>
            <a:ext cx="236160" cy="405720"/>
            <a:chOff x="5969520" y="2298960"/>
            <a:chExt cx="236160" cy="405720"/>
          </a:xfrm>
        </p:grpSpPr>
        <p:sp>
          <p:nvSpPr>
            <p:cNvPr id="114" name="Line 21"/>
            <p:cNvSpPr/>
            <p:nvPr/>
          </p:nvSpPr>
          <p:spPr>
            <a:xfrm>
              <a:off x="5969520" y="2298960"/>
              <a:ext cx="236160" cy="22320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H="1">
              <a:off x="6032880" y="2522160"/>
              <a:ext cx="172800" cy="182520"/>
            </a:xfrm>
            <a:prstGeom prst="line">
              <a:avLst/>
            </a:prstGeom>
            <a:ln w="126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4"/>
          <p:cNvSpPr/>
          <p:nvPr/>
        </p:nvSpPr>
        <p:spPr>
          <a:xfrm rot="984000">
            <a:off x="1981080" y="3124080"/>
            <a:ext cx="4295880" cy="2695680"/>
          </a:xfrm>
          <a:prstGeom prst="flowChartDecision">
            <a:avLst/>
          </a:prstGeom>
          <a:solidFill>
            <a:srgbClr val="ccccff">
              <a:alpha val="48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V="1">
            <a:off x="3818160" y="396000"/>
            <a:ext cx="369360" cy="53424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>
            <a:off x="4193280" y="418320"/>
            <a:ext cx="363600" cy="276048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175640" y="367200"/>
            <a:ext cx="1980000" cy="4645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 flipH="1">
            <a:off x="2144880" y="394920"/>
            <a:ext cx="2027880" cy="344880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133720" y="3886200"/>
            <a:ext cx="4038480" cy="11430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>
            <a:off x="3809520" y="3200400"/>
            <a:ext cx="762120" cy="2514600"/>
          </a:xfrm>
          <a:prstGeom prst="line">
            <a:avLst/>
          </a:prstGeom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4191120" y="457200"/>
            <a:ext cx="0" cy="4038480"/>
          </a:xfrm>
          <a:prstGeom prst="line">
            <a:avLst/>
          </a:prstGeom>
          <a:ln w="1908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5"/>
          <p:cNvGrpSpPr/>
          <p:nvPr/>
        </p:nvGrpSpPr>
        <p:grpSpPr>
          <a:xfrm>
            <a:off x="4191120" y="353880"/>
            <a:ext cx="1066680" cy="4065840"/>
            <a:chOff x="4191120" y="353880"/>
            <a:chExt cx="1066680" cy="4065840"/>
          </a:xfrm>
        </p:grpSpPr>
        <p:sp>
          <p:nvSpPr>
            <p:cNvPr id="125" name="Line 13"/>
            <p:cNvSpPr/>
            <p:nvPr/>
          </p:nvSpPr>
          <p:spPr>
            <a:xfrm>
              <a:off x="4191120" y="353880"/>
              <a:ext cx="1066680" cy="3581640"/>
            </a:xfrm>
            <a:prstGeom prst="line">
              <a:avLst/>
            </a:prstGeom>
            <a:ln w="190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4"/>
            <p:cNvSpPr/>
            <p:nvPr/>
          </p:nvSpPr>
          <p:spPr>
            <a:xfrm flipV="1">
              <a:off x="4191120" y="396252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8"/>
          <p:cNvGrpSpPr/>
          <p:nvPr/>
        </p:nvGrpSpPr>
        <p:grpSpPr>
          <a:xfrm>
            <a:off x="4191120" y="3886200"/>
            <a:ext cx="304560" cy="457200"/>
            <a:chOff x="4191120" y="3886200"/>
            <a:chExt cx="304560" cy="457200"/>
          </a:xfrm>
        </p:grpSpPr>
        <p:sp>
          <p:nvSpPr>
            <p:cNvPr id="128" name="Line 16"/>
            <p:cNvSpPr/>
            <p:nvPr/>
          </p:nvSpPr>
          <p:spPr>
            <a:xfrm flipV="1">
              <a:off x="4191120" y="3886200"/>
              <a:ext cx="304560" cy="7632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4495680" y="3886200"/>
              <a:ext cx="0" cy="457200"/>
            </a:xfrm>
            <a:prstGeom prst="line">
              <a:avLst/>
            </a:prstGeom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2590920" y="1219320"/>
            <a:ext cx="4876560" cy="1904760"/>
          </a:xfrm>
          <a:prstGeom prst="rect">
            <a:avLst/>
          </a:prstGeom>
          <a:solidFill>
            <a:srgbClr val="0099ff">
              <a:alpha val="52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990720" y="3124080"/>
            <a:ext cx="6476760" cy="2362320"/>
          </a:xfrm>
          <a:prstGeom prst="parallelogram">
            <a:avLst>
              <a:gd name="adj" fmla="val 68542"/>
            </a:avLst>
          </a:prstGeom>
          <a:solidFill>
            <a:srgbClr val="ff7c80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99036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5866920" y="1219320"/>
            <a:ext cx="160020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 flipV="1">
            <a:off x="990720" y="3124080"/>
            <a:ext cx="6476760" cy="23623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V="1">
            <a:off x="990720" y="1218960"/>
            <a:ext cx="6476760" cy="4257720"/>
          </a:xfrm>
          <a:prstGeom prst="line">
            <a:avLst/>
          </a:prstGeom>
          <a:ln w="19080">
            <a:solidFill>
              <a:srgbClr val="008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3T03:53:03Z</dcterms:created>
  <dc:creator>.</dc:creator>
  <dc:description/>
  <dc:language>en-US</dc:language>
  <cp:lastModifiedBy>RomaK</cp:lastModifiedBy>
  <dcterms:modified xsi:type="dcterms:W3CDTF">2015-09-04T09:23:28Z</dcterms:modified>
  <cp:revision>50</cp:revision>
  <dc:subject/>
  <dc:title>Slide 1</dc:title>
</cp:coreProperties>
</file>