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6B81-16C1-455C-8C75-E78BA06F51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35B-8C12-4BDF-B5B7-9DCD405A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61B-88D8-422C-A97A-C7C81FF6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0A4-ED66-45A3-8D10-FC7539D1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0BE-56CB-42F1-87E8-122A0874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DB5-6246-4F5A-8D1C-F4837EBA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DD4-6F88-4B32-939B-D8F79032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77A9-1FD8-4541-A989-080C6208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12B-8870-4037-93F8-2759271C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8A7-8756-4C4E-83DC-ED794E99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DDE-89F5-4F35-AF2D-05DD5EA2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B47-246A-4A80-9760-D6E3ED2C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CE0-D1CD-45CF-ADE6-A357A744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B7BA-A2C0-48E4-8BDD-FDC1E4497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4800600" y="533160"/>
            <a:ext cx="0" cy="28191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4800600" y="2819520"/>
            <a:ext cx="304920" cy="533160"/>
            <a:chOff x="4800600" y="2819520"/>
            <a:chExt cx="304920" cy="533160"/>
          </a:xfrm>
        </p:grpSpPr>
        <p:sp>
          <p:nvSpPr>
            <p:cNvPr id="54" name="Line 9"/>
            <p:cNvSpPr/>
            <p:nvPr/>
          </p:nvSpPr>
          <p:spPr>
            <a:xfrm>
              <a:off x="4800600" y="28195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5105520" y="281952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2"/>
          <p:cNvSpPr/>
          <p:nvPr/>
        </p:nvSpPr>
        <p:spPr>
          <a:xfrm>
            <a:off x="838080" y="9144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952880" y="762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idprint"/>
              </a:rPr>
              <a:t>Normal to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4800600" y="914040"/>
            <a:ext cx="1066680" cy="2438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5867280" y="914400"/>
            <a:ext cx="0" cy="220968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5638320" y="2743200"/>
            <a:ext cx="228600" cy="380520"/>
            <a:chOff x="5638320" y="2743200"/>
            <a:chExt cx="228600" cy="380520"/>
          </a:xfrm>
        </p:grpSpPr>
        <p:sp>
          <p:nvSpPr>
            <p:cNvPr id="65" name="Line 11"/>
            <p:cNvSpPr/>
            <p:nvPr/>
          </p:nvSpPr>
          <p:spPr>
            <a:xfrm flipH="1">
              <a:off x="5638320" y="2743200"/>
              <a:ext cx="228600" cy="633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5638680" y="280656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14"/>
          <p:cNvSpPr/>
          <p:nvPr/>
        </p:nvSpPr>
        <p:spPr>
          <a:xfrm flipV="1">
            <a:off x="4800600" y="3047760"/>
            <a:ext cx="1066680" cy="28404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 flipV="1">
            <a:off x="5486040" y="3124080"/>
            <a:ext cx="2057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47712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838080" y="5562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 flipV="1">
            <a:off x="3733920" y="3047760"/>
            <a:ext cx="1371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 rot="827400">
            <a:off x="1371600" y="1066680"/>
            <a:ext cx="4952880" cy="3886200"/>
          </a:xfrm>
          <a:prstGeom prst="rect">
            <a:avLst/>
          </a:prstGeom>
          <a:solidFill>
            <a:srgbClr val="cc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666880" y="1219320"/>
            <a:ext cx="3810240" cy="43434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4114800" y="2057400"/>
            <a:ext cx="2362320" cy="35053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2666880" y="1219320"/>
            <a:ext cx="1447920" cy="838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5638320" y="411480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7162920" y="380844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886200" y="68580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447920" y="2286000"/>
            <a:ext cx="4572000" cy="2819520"/>
          </a:xfrm>
          <a:prstGeom prst="rect">
            <a:avLst/>
          </a:prstGeom>
          <a:solidFill>
            <a:srgbClr val="ffcc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886200" y="838080"/>
            <a:ext cx="1828800" cy="441972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962520" y="3657600"/>
            <a:ext cx="1752480" cy="160020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962520" y="858960"/>
            <a:ext cx="2819160" cy="380988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3962520" y="838080"/>
            <a:ext cx="2819160" cy="106704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781680" y="1870200"/>
            <a:ext cx="76320" cy="281916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66880" y="54388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3657600" y="45716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5"/>
          <p:cNvSpPr/>
          <p:nvPr/>
        </p:nvSpPr>
        <p:spPr>
          <a:xfrm flipV="1">
            <a:off x="1509840" y="4093920"/>
            <a:ext cx="5410080" cy="6094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209680" y="2590920"/>
            <a:ext cx="4114800" cy="36576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4211640" y="1239840"/>
            <a:ext cx="7920" cy="311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191120" y="1295280"/>
            <a:ext cx="205740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1523520" y="1295280"/>
            <a:ext cx="26672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191120" y="129528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H="1">
            <a:off x="2209680" y="1295280"/>
            <a:ext cx="198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 rot="1060800">
            <a:off x="1767960" y="3247920"/>
            <a:ext cx="4953240" cy="2286000"/>
          </a:xfrm>
          <a:prstGeom prst="rect">
            <a:avLst/>
          </a:prstGeom>
          <a:solidFill>
            <a:srgbClr val="ccff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4191120" y="1295280"/>
            <a:ext cx="2438280" cy="373392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4191120" y="4343400"/>
            <a:ext cx="2458800" cy="68580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4191120" y="3962520"/>
            <a:ext cx="380880" cy="533160"/>
            <a:chOff x="4191120" y="3962520"/>
            <a:chExt cx="380880" cy="533160"/>
          </a:xfrm>
        </p:grpSpPr>
        <p:sp>
          <p:nvSpPr>
            <p:cNvPr id="98" name="Line 16"/>
            <p:cNvSpPr/>
            <p:nvPr/>
          </p:nvSpPr>
          <p:spPr>
            <a:xfrm>
              <a:off x="4191120" y="3962520"/>
              <a:ext cx="38088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457200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8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38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6"/>
          <p:cNvSpPr/>
          <p:nvPr/>
        </p:nvSpPr>
        <p:spPr>
          <a:xfrm rot="8572800">
            <a:off x="3310920" y="3476160"/>
            <a:ext cx="3476520" cy="1552680"/>
          </a:xfrm>
          <a:prstGeom prst="rtTriangle">
            <a:avLst/>
          </a:prstGeom>
          <a:solidFill>
            <a:srgbClr val="bbe0e3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5943600" y="685440"/>
            <a:ext cx="0" cy="19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43600" y="685800"/>
            <a:ext cx="955800" cy="31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234960" y="685800"/>
            <a:ext cx="270828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5105520" y="685800"/>
            <a:ext cx="838080" cy="358128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5105520" y="2590920"/>
            <a:ext cx="838080" cy="1600200"/>
          </a:xfrm>
          <a:prstGeom prst="line">
            <a:avLst/>
          </a:prstGeom>
          <a:ln w="1908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181480" y="3886200"/>
            <a:ext cx="228600" cy="304920"/>
            <a:chOff x="5181480" y="3886200"/>
            <a:chExt cx="228600" cy="304920"/>
          </a:xfrm>
        </p:grpSpPr>
        <p:sp>
          <p:nvSpPr>
            <p:cNvPr id="108" name="Line 14"/>
            <p:cNvSpPr/>
            <p:nvPr/>
          </p:nvSpPr>
          <p:spPr>
            <a:xfrm>
              <a:off x="5181480" y="3886200"/>
              <a:ext cx="228600" cy="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>
              <a:off x="5410080" y="3886200"/>
              <a:ext cx="0" cy="3049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7"/>
          <p:cNvGrpSpPr/>
          <p:nvPr/>
        </p:nvGrpSpPr>
        <p:grpSpPr>
          <a:xfrm>
            <a:off x="5686920" y="2341440"/>
            <a:ext cx="204840" cy="412560"/>
            <a:chOff x="5686920" y="2341440"/>
            <a:chExt cx="204840" cy="412560"/>
          </a:xfrm>
        </p:grpSpPr>
        <p:sp>
          <p:nvSpPr>
            <p:cNvPr id="111" name="Line 18"/>
            <p:cNvSpPr/>
            <p:nvPr/>
          </p:nvSpPr>
          <p:spPr>
            <a:xfrm flipH="1" flipV="1">
              <a:off x="5686920" y="2366640"/>
              <a:ext cx="48240" cy="38736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9"/>
            <p:cNvSpPr/>
            <p:nvPr/>
          </p:nvSpPr>
          <p:spPr>
            <a:xfrm flipV="1">
              <a:off x="5686920" y="2341440"/>
              <a:ext cx="204840" cy="25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0"/>
          <p:cNvGrpSpPr/>
          <p:nvPr/>
        </p:nvGrpSpPr>
        <p:grpSpPr>
          <a:xfrm>
            <a:off x="5969520" y="2298960"/>
            <a:ext cx="236160" cy="405720"/>
            <a:chOff x="5969520" y="2298960"/>
            <a:chExt cx="236160" cy="405720"/>
          </a:xfrm>
        </p:grpSpPr>
        <p:sp>
          <p:nvSpPr>
            <p:cNvPr id="114" name="Line 21"/>
            <p:cNvSpPr/>
            <p:nvPr/>
          </p:nvSpPr>
          <p:spPr>
            <a:xfrm>
              <a:off x="5969520" y="2298960"/>
              <a:ext cx="236160" cy="223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H="1">
              <a:off x="6032880" y="2522160"/>
              <a:ext cx="172800" cy="1825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 rot="984000">
            <a:off x="1981080" y="3124080"/>
            <a:ext cx="4295880" cy="2695680"/>
          </a:xfrm>
          <a:prstGeom prst="flowChartDecision">
            <a:avLst/>
          </a:prstGeom>
          <a:solidFill>
            <a:srgbClr val="ccccff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3818160" y="396000"/>
            <a:ext cx="369360" cy="5342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193280" y="418320"/>
            <a:ext cx="363600" cy="2760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175640" y="367200"/>
            <a:ext cx="1980000" cy="4645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2144880" y="394920"/>
            <a:ext cx="2027880" cy="3448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33720" y="3886200"/>
            <a:ext cx="4038480" cy="1143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3809520" y="3200400"/>
            <a:ext cx="762120" cy="25146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191120" y="457200"/>
            <a:ext cx="0" cy="4038480"/>
          </a:xfrm>
          <a:prstGeom prst="line">
            <a:avLst/>
          </a:prstGeom>
          <a:ln w="190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4191120" y="353880"/>
            <a:ext cx="1066680" cy="4065840"/>
            <a:chOff x="4191120" y="353880"/>
            <a:chExt cx="1066680" cy="4065840"/>
          </a:xfrm>
        </p:grpSpPr>
        <p:sp>
          <p:nvSpPr>
            <p:cNvPr id="125" name="Line 13"/>
            <p:cNvSpPr/>
            <p:nvPr/>
          </p:nvSpPr>
          <p:spPr>
            <a:xfrm>
              <a:off x="4191120" y="353880"/>
              <a:ext cx="1066680" cy="3581640"/>
            </a:xfrm>
            <a:prstGeom prst="line">
              <a:avLst/>
            </a:prstGeom>
            <a:ln w="190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 flipV="1">
              <a:off x="4191120" y="396252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4191120" y="3886200"/>
            <a:ext cx="304560" cy="457200"/>
            <a:chOff x="4191120" y="3886200"/>
            <a:chExt cx="304560" cy="457200"/>
          </a:xfrm>
        </p:grpSpPr>
        <p:sp>
          <p:nvSpPr>
            <p:cNvPr id="128" name="Line 16"/>
            <p:cNvSpPr/>
            <p:nvPr/>
          </p:nvSpPr>
          <p:spPr>
            <a:xfrm flipV="1">
              <a:off x="4191120" y="3886200"/>
              <a:ext cx="304560" cy="763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4495680" y="3886200"/>
              <a:ext cx="0" cy="4572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590920" y="1219320"/>
            <a:ext cx="4876560" cy="1904760"/>
          </a:xfrm>
          <a:prstGeom prst="rect">
            <a:avLst/>
          </a:prstGeom>
          <a:solidFill>
            <a:srgbClr val="0099ff">
              <a:alpha val="5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90720" y="3124080"/>
            <a:ext cx="6476760" cy="2362320"/>
          </a:xfrm>
          <a:prstGeom prst="parallelogram">
            <a:avLst>
              <a:gd name="adj" fmla="val 68542"/>
            </a:avLst>
          </a:prstGeom>
          <a:solidFill>
            <a:srgbClr val="ff7c80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99036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586692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990720" y="3124080"/>
            <a:ext cx="6476760" cy="23623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990720" y="1218960"/>
            <a:ext cx="6476760" cy="42577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3:53:03Z</dcterms:created>
  <dc:creator>.</dc:creator>
  <dc:description/>
  <dc:language>en-US</dc:language>
  <cp:lastModifiedBy>RomaK</cp:lastModifiedBy>
  <dcterms:modified xsi:type="dcterms:W3CDTF">2015-09-04T09:23:28Z</dcterms:modified>
  <cp:revision>50</cp:revision>
  <dc:subject/>
  <dc:title>Slide 1</dc:title>
</cp:coreProperties>
</file>