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5E2C-CCCE-4705-86E0-B279ED677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Scal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this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Classify Triang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ir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two sides are the sam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ing Triang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eir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triangles have three acut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 have one right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 triangles have one obtus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A3C-3B16-439C-9BDB-7CD57B41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406-EFF5-4D65-AA40-A444B3C9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1E12E-0F14-4E7D-9359-A5FB24E8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EFE14-661A-4EF2-9617-069C2699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1D816-9912-4E26-9B90-BBF35D81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2C85C-70EA-454D-902B-6D5E4734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AD4D1-0882-4C23-9584-565E5228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BB87D-9EDA-46D8-B607-663D1CFE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1FADC-A18C-4BEC-B8CA-D7525D61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379C5-4651-4DCE-8E1F-D5A5E3E4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118FF-43FC-492A-BCAE-A640C387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4D5FB-E99C-4C3A-AC86-4F6264E0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9B4-6CA4-4F04-8F40-EBC36AE6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C5F7B-F443-4C7C-8870-732A27E8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170FC-02DE-4996-B9C1-476BD442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7F2DF-913E-47E6-A953-08C1C395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F0E50-8238-48B7-ADCB-DAD206D6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F2FB9-D7B7-4F54-82AC-43076113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BCE5C-C27D-43D7-9239-AAA28BFD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454B9-17A9-4F0A-A558-744AA67C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06054-40AE-452C-89AA-FC0CCF50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E8E02-6DA9-4CBE-9B04-B9DD56F2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42ACF-56B5-45FD-A00E-C9187703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668-CF47-4042-B4CB-33DC1663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7CF0C-E464-41F4-B4D1-9E95AFB8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AA0BA-673E-477A-8909-6AE88EBA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6A4BC-7300-4E45-BA01-430652DF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C158E-B426-4930-BF5C-F22F212E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D8880-7B0F-457D-85B7-3AD7E36D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D5BA9-E0D3-41B6-8E97-40EC879A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2985B-72A9-495F-A9E8-8FE1C7EF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8DE18-0588-491E-A5D1-F7DA1D9D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44EDF-7D27-47BE-B1DB-E769A4E1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7D586-A0ED-4B94-A46B-148915F8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3416-E363-457C-910F-132A92B6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18361-5581-4516-8C4F-85B70D6D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127B3-9CE0-4DB0-8B39-136CF9EC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65A79-2942-4782-9037-1B11BA33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4715B-97FD-415C-8321-970FDD90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74941-E0BC-4C8A-96C5-0CBA93BC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6043A-6833-47F7-BBAD-EB2F79A3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BC96F-A983-4067-9613-DC8198B9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578FC-59CA-478D-B885-3E4128BC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DF47B-4B6F-47F8-952A-AF473D6E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FA2EA-BBED-418D-9543-DCFEF0A4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1076-31D9-40E4-9EA0-7F9A5EAA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F473A-C328-4E49-A691-8526A78C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91BF6-5F4F-4B79-B983-0B623E75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8FBE2-2A55-49FE-9871-B636AF8D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90556-9916-4F1C-8072-64426645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4C8CF-38E0-4C69-B567-4ED0E518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B5C3-2616-4451-91F2-2BD9837F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3B71-0F23-4CB2-B35B-C22A0CEE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CFFA-D9F8-4C40-85D3-BE2B25A6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7F03-3974-436C-A396-60511BFF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BFC4-4F36-4824-AEB5-7E26B571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235-BA77-40DB-9CFA-A0441B81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1B2B-0713-48F8-98D0-DD62FB11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2C41-B74D-4992-9488-4C04C1CB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F7FC-417A-46FB-9A51-06008199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ED34-9850-4D5D-9CC3-D58E6FF9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8640-A402-455C-BEC6-E83E3D1C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065F7-1CEA-47DC-84D4-544950EA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7F6D5-8CD5-482E-AA75-E90FF8CF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417AC-4E2A-44DF-ADC7-422E63FB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EACA5-B5A4-4B99-ACDC-3DC13180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B47A2-CC62-4966-A0E0-BA22650D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588-AF55-4E14-B380-34BB1C3D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639EE-CCA7-465C-9415-DA554321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AC6D-4F9A-43FC-8844-7E0F83F7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BE84E-C2FC-4E36-8DB7-D38786DE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5F20-A963-421C-AA01-6181EB85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CE6A-A0FB-46D0-858D-FE0197CE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DCB5-3F22-43B8-815B-CD4083E2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132A7-6E3B-4C0A-9C83-37F651CF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79B38-453D-4D03-9F7E-9EEDFCDD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0D294-BA15-4615-B9B7-16C1CCB2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232BF-9F17-48E2-A184-3094E932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ACC-E2CB-4F35-945D-28176C8E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95978-188C-4B43-89E0-0C61E7CF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7825C-8E88-4777-8FD6-48044B14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6DC09-9D54-4E33-B49F-A699DF31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8BCD8-6A93-457B-B596-D177A996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386D1-408A-422D-B595-42DE5160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22ED1-197D-43DC-9262-BDC59328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32804-DE85-4FCE-8E41-AD057BCA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58608-995A-4DF1-A87C-7DA38A71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83622-9318-459C-885D-33548DC1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D1BF7-2B8A-47E0-99D7-40704F23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78F-A484-47D4-9278-BB483214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08FCC-0E5D-4001-8613-24121102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C1337-B3D0-4BE7-B47B-7B091045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E5F41-B986-441E-B61D-EBFCDCB4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EC067-05A1-4724-8890-5DF64AD3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71239-F353-4122-9D4A-58DB5029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3B08F-1EB2-4CF2-9B97-A2C4DA43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81826-1C5B-4D17-9F27-3483670C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52103-8069-46F5-B9B3-28149CFE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0899D-764F-45C3-9E8D-0CB98AE2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0D90D-67BC-45B1-B6D5-CE8F75DA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A52-1448-4F80-9D12-7A735AE7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7DBA0-C0B4-4038-A086-AA0B97C3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F9A74-C767-44D3-A289-AAE28E3D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1FEEA-9860-4C74-858C-B0E27ADC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3CEE4-0A2F-4E30-A716-5787F8E8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25B5D-E235-4BCD-BD0C-5C04EA28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202B5-5F13-4296-A0D7-BC3685B0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F120C-9389-4D81-939F-7CCB7B89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36600-8D37-4F4F-8274-BBF3BE96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74DC3-339A-44B8-A5DC-B468AAE0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E90E7-1A9F-467C-B17B-F10BE02C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B16-E0A9-44C3-90AC-B6951756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37EB2-FECC-4148-853D-F680A10E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A17D6-94B8-455C-B63C-5A741494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F0AD4-AD97-461F-ABC3-89595384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33B11-3606-4A51-91AC-AFCF75D3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6BE3F-04A4-4DE1-8AD5-3133D2D1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D7BCB-FC47-4758-B55B-A8EB8D54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F0808-5390-457E-8DB1-ADE3DC70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1721A-EC2A-478A-B6BC-800552F0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17500-F933-40C0-9CE1-90517AEE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BA677-064B-4DCE-BD9F-7C20BD96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74C-8098-45CA-813A-0FF1B1A0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132A0-B52E-4968-AA68-08232F61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A199C-C7C0-4FA8-895B-2DA1B3CC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0310E-8342-4D64-998A-A4A3A2D7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96A56-73BF-494A-A49F-407D74B9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1489A-95BA-4E05-9E8F-C1F272B6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D3490-B358-438C-8A88-BDA47149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6849C-B823-4D01-BCC3-57157A8B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A7E07-D806-4423-83D9-BE5DF536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02EE6-C6B2-4402-B2FF-D5F9B771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986B8-7992-4B4C-B1C3-00D665F0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849-C0C2-4053-B908-7E09E977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CAB41-ECA8-4E01-BFCB-0F3FCC54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40824-8FF4-4099-AF70-94858A87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AE9C9-398D-4C51-919F-6B7434EC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31F91-9032-4711-ADDF-9A5F74DC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10FE4-0B64-4B3D-8CA6-A7E749B6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20B24-A277-4EC4-8E30-A2A70449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B746F-2A2F-4E2D-B1B8-3129A1B8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CE715-5944-4028-8C7F-D959CD1E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F23F6-1D38-4F58-B1B4-BE63BF75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E3F2E-2466-4B1B-BAA1-95D7DC63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322A-274F-4662-8FEF-837723F7F61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4452-72D8-4C08-985E-AA7BD92009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B619-7634-4727-95CA-EA6E3A16542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46C8-B9BF-41BD-84B2-A21FB3F81E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AB0C-8B61-46FE-8E94-D482704F338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F5FF-36C3-4B1C-B76D-5ECD67E3BB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A0AD-E6E0-4C95-9A4D-1A382850AB2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FA8B-0ABA-410F-922A-3EDFDB569A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20A4-C469-4A30-94C5-E855E9B6F01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1B05-1DD9-4F80-BD35-DB4794B78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7D96-98C3-4923-BEE8-421E5471B77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3CF1-564B-4E2A-B8A8-54B18C81E3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7FA0-E5A4-4BB1-A382-FB03EAC9FC9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E169-CC2F-42DA-A139-DAB7B360D4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AB15-8B95-4CEF-BE83-8371692717C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4A54-901E-4AED-A28F-F6A3A74C93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C20B-2379-4D3F-996E-8FB47C92F4B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CF15-98FE-4555-B391-461303FD29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2A0D-213C-4E41-90E8-0A47DC1DDBB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25E8-38D9-4D6D-8BF9-001E629E96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372C-239C-44C6-A194-13526704169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21DA-CE3A-412E-A9CA-4AC81F8D69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D462-9112-41BC-A1A2-26EEAAD00E3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67EC-E7CA-4146-90EA-A9CCD8F3BB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1905120" y="2133720"/>
            <a:ext cx="3657600" cy="1600200"/>
          </a:xfrm>
          <a:prstGeom prst="rtTriangle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295280" y="43434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762120" y="2438280"/>
            <a:ext cx="5790960" cy="152424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838080" y="44956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533520" y="5562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1828800" y="2133720"/>
            <a:ext cx="2057400" cy="24382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09480" y="5029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685800" y="44956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tuse Scal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 this triangle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AutoShape 10"/>
          <p:cNvSpPr/>
          <p:nvPr/>
        </p:nvSpPr>
        <p:spPr>
          <a:xfrm>
            <a:off x="1523880" y="2438280"/>
            <a:ext cx="3429000" cy="1600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1371600" y="4419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ight Isosce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wo Ways to Classify Triangle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ir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 Their Si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449604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le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sc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calen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2200" y="1980720"/>
            <a:ext cx="785196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8"/>
          <p:cNvSpPr/>
          <p:nvPr/>
        </p:nvSpPr>
        <p:spPr>
          <a:xfrm>
            <a:off x="1371600" y="3200400"/>
            <a:ext cx="4572000" cy="1371600"/>
          </a:xfrm>
          <a:custGeom>
            <a:avLst/>
            <a:gdLst/>
            <a:ahLst/>
            <a:rect l="l" t="t" r="r" b="b"/>
            <a:pathLst>
              <a:path w="2880" h="864">
                <a:moveTo>
                  <a:pt x="1968" y="0"/>
                </a:moveTo>
                <a:lnTo>
                  <a:pt x="0" y="864"/>
                </a:lnTo>
                <a:lnTo>
                  <a:pt x="2880" y="624"/>
                </a:lnTo>
                <a:lnTo>
                  <a:pt x="196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sosceles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least two sides are the same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3124080" y="30481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528" y="0"/>
                </a:moveTo>
                <a:lnTo>
                  <a:pt x="0" y="1632"/>
                </a:lnTo>
                <a:lnTo>
                  <a:pt x="1008" y="1632"/>
                </a:lnTo>
                <a:lnTo>
                  <a:pt x="528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ying Triangle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By Their 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5791320" cy="32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ut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triangles hav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cute ang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Freeform 7"/>
          <p:cNvSpPr/>
          <p:nvPr/>
        </p:nvSpPr>
        <p:spPr>
          <a:xfrm>
            <a:off x="2743200" y="3124080"/>
            <a:ext cx="2743200" cy="2362320"/>
          </a:xfrm>
          <a:custGeom>
            <a:avLst/>
            <a:gdLst/>
            <a:ahLst/>
            <a:rect l="l" t="t" r="r" b="b"/>
            <a:pathLst>
              <a:path w="1728" h="1488">
                <a:moveTo>
                  <a:pt x="720" y="0"/>
                </a:moveTo>
                <a:lnTo>
                  <a:pt x="0" y="1488"/>
                </a:lnTo>
                <a:lnTo>
                  <a:pt x="1728" y="1248"/>
                </a:lnTo>
                <a:lnTo>
                  <a:pt x="72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ght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ht triangles have one right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Freeform 6"/>
          <p:cNvSpPr/>
          <p:nvPr/>
        </p:nvSpPr>
        <p:spPr>
          <a:xfrm>
            <a:off x="2514600" y="3276720"/>
            <a:ext cx="3124080" cy="1981080"/>
          </a:xfrm>
          <a:custGeom>
            <a:avLst/>
            <a:gdLst/>
            <a:ahLst/>
            <a:rect l="l" t="t" r="r" b="b"/>
            <a:pathLst>
              <a:path w="1968" h="1248">
                <a:moveTo>
                  <a:pt x="0" y="0"/>
                </a:moveTo>
                <a:lnTo>
                  <a:pt x="0" y="1248"/>
                </a:lnTo>
                <a:lnTo>
                  <a:pt x="1968" y="1248"/>
                </a:lnTo>
                <a:lnTo>
                  <a:pt x="0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btuse Triang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use triangles have one obtuse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8"/>
          <p:cNvSpPr/>
          <p:nvPr/>
        </p:nvSpPr>
        <p:spPr>
          <a:xfrm>
            <a:off x="1523880" y="3276720"/>
            <a:ext cx="4876920" cy="1371600"/>
          </a:xfrm>
          <a:custGeom>
            <a:avLst/>
            <a:gdLst/>
            <a:ahLst/>
            <a:rect l="l" t="t" r="r" b="b"/>
            <a:pathLst>
              <a:path w="3072" h="864">
                <a:moveTo>
                  <a:pt x="1824" y="0"/>
                </a:moveTo>
                <a:lnTo>
                  <a:pt x="0" y="864"/>
                </a:lnTo>
                <a:lnTo>
                  <a:pt x="3072" y="864"/>
                </a:lnTo>
                <a:lnTo>
                  <a:pt x="1824" y="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9:23:19Z</dcterms:modified>
  <cp:revision>40</cp:revision>
  <dc:subject/>
  <dc:title>PowerPoint Presentation</dc:title>
</cp:coreProperties>
</file>