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E606-29A7-4EEA-9989-AF6039E422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D7E-060C-464C-8EEA-9D443528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590-DE3B-4608-B845-385A36AE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A69-1925-42CC-BED8-E9D1B9E8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A24-4375-4086-B90E-9AC7D836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237-19D3-49DE-9EB7-245ACAA3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91B-1B84-4208-A687-17002885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B5A-B5A9-41E3-981D-B69BFA8B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5BA-7AD6-4A8E-B576-34AE7262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7D5-4296-4E47-85F2-EFFCB37C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3B5-E40F-4C4C-BE5F-E4351201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675-6AF9-467C-AC33-AF3C0689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665-27B1-43A6-95EC-ACE40F1D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0A42-C7AB-40F6-B6FC-039EB2734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1"/>
          <p:cNvSpPr/>
          <p:nvPr/>
        </p:nvSpPr>
        <p:spPr>
          <a:xfrm>
            <a:off x="714240" y="622440"/>
            <a:ext cx="55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2"/>
          <p:cNvSpPr/>
          <p:nvPr/>
        </p:nvSpPr>
        <p:spPr>
          <a:xfrm>
            <a:off x="663480" y="1370160"/>
            <a:ext cx="748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3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3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22" name="Text Box 24"/>
          <p:cNvSpPr/>
          <p:nvPr/>
        </p:nvSpPr>
        <p:spPr>
          <a:xfrm>
            <a:off x="324000" y="407664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7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9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, 7, 10, 1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24000" y="1557360"/>
            <a:ext cx="40320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value of the denominator of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fifth term, in this sequ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859280" y="2637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, 4, 7, 11, 18,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859280" y="3573360"/>
            <a:ext cx="40323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eventh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859280" y="1557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 sequence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478800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133200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25092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 rot="16200000">
            <a:off x="-160200" y="3059280"/>
            <a:ext cx="38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34800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334800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334800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334800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334800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334800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53964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53964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53964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53964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53964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7"/>
          <p:cNvSpPr/>
          <p:nvPr/>
        </p:nvSpPr>
        <p:spPr>
          <a:xfrm>
            <a:off x="53964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/>
          <p:cNvSpPr/>
          <p:nvPr/>
        </p:nvSpPr>
        <p:spPr>
          <a:xfrm>
            <a:off x="241128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1474920" y="5493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241128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1"/>
          <p:cNvSpPr/>
          <p:nvPr/>
        </p:nvSpPr>
        <p:spPr>
          <a:xfrm>
            <a:off x="1474920" y="5445000"/>
            <a:ext cx="79200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>
            <a:off x="226692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320364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3745080" y="13413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3746520" y="23194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>
            <a:off x="3741840" y="3295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3746520" y="4276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3746520" y="5257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9"/>
          <p:cNvSpPr/>
          <p:nvPr/>
        </p:nvSpPr>
        <p:spPr>
          <a:xfrm flipH="1">
            <a:off x="1322280" y="58420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 flipH="1">
            <a:off x="226188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 flipH="1">
            <a:off x="320004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2"/>
          <p:cNvSpPr/>
          <p:nvPr/>
        </p:nvSpPr>
        <p:spPr>
          <a:xfrm flipH="1" flipV="1">
            <a:off x="934560" y="526248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 flipH="1" flipV="1">
            <a:off x="936720" y="42926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 flipH="1" flipV="1">
            <a:off x="922320" y="33062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 flipH="1" flipV="1">
            <a:off x="932040" y="2325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 flipH="1" flipV="1">
            <a:off x="932040" y="1344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 rot="16200000">
            <a:off x="2135160" y="42069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 rot="16200000">
            <a:off x="259560" y="3092760"/>
            <a:ext cx="41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"/>
          <p:cNvSpPr/>
          <p:nvPr/>
        </p:nvSpPr>
        <p:spPr>
          <a:xfrm>
            <a:off x="586584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 rot="16200000">
            <a:off x="4372920" y="307224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1"/>
          <p:cNvSpPr/>
          <p:nvPr/>
        </p:nvSpPr>
        <p:spPr>
          <a:xfrm>
            <a:off x="788184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2"/>
          <p:cNvSpPr/>
          <p:nvPr/>
        </p:nvSpPr>
        <p:spPr>
          <a:xfrm>
            <a:off x="788184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3"/>
          <p:cNvSpPr/>
          <p:nvPr/>
        </p:nvSpPr>
        <p:spPr>
          <a:xfrm>
            <a:off x="788184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4"/>
          <p:cNvSpPr/>
          <p:nvPr/>
        </p:nvSpPr>
        <p:spPr>
          <a:xfrm>
            <a:off x="788184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5"/>
          <p:cNvSpPr/>
          <p:nvPr/>
        </p:nvSpPr>
        <p:spPr>
          <a:xfrm>
            <a:off x="788184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6"/>
          <p:cNvSpPr/>
          <p:nvPr/>
        </p:nvSpPr>
        <p:spPr>
          <a:xfrm>
            <a:off x="788184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507348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8"/>
          <p:cNvSpPr/>
          <p:nvPr/>
        </p:nvSpPr>
        <p:spPr>
          <a:xfrm>
            <a:off x="507348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9"/>
          <p:cNvSpPr/>
          <p:nvPr/>
        </p:nvSpPr>
        <p:spPr>
          <a:xfrm>
            <a:off x="507348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0"/>
          <p:cNvSpPr/>
          <p:nvPr/>
        </p:nvSpPr>
        <p:spPr>
          <a:xfrm>
            <a:off x="507348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1"/>
          <p:cNvSpPr/>
          <p:nvPr/>
        </p:nvSpPr>
        <p:spPr>
          <a:xfrm>
            <a:off x="507348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2"/>
          <p:cNvSpPr/>
          <p:nvPr/>
        </p:nvSpPr>
        <p:spPr>
          <a:xfrm>
            <a:off x="507348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3"/>
          <p:cNvSpPr/>
          <p:nvPr/>
        </p:nvSpPr>
        <p:spPr>
          <a:xfrm>
            <a:off x="694548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4"/>
          <p:cNvSpPr/>
          <p:nvPr/>
        </p:nvSpPr>
        <p:spPr>
          <a:xfrm>
            <a:off x="600876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5"/>
          <p:cNvSpPr/>
          <p:nvPr/>
        </p:nvSpPr>
        <p:spPr>
          <a:xfrm>
            <a:off x="694548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6"/>
          <p:cNvSpPr/>
          <p:nvPr/>
        </p:nvSpPr>
        <p:spPr>
          <a:xfrm>
            <a:off x="600876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7"/>
          <p:cNvSpPr/>
          <p:nvPr/>
        </p:nvSpPr>
        <p:spPr>
          <a:xfrm>
            <a:off x="6800760" y="9208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8"/>
          <p:cNvSpPr/>
          <p:nvPr/>
        </p:nvSpPr>
        <p:spPr>
          <a:xfrm>
            <a:off x="773748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9"/>
          <p:cNvSpPr/>
          <p:nvPr/>
        </p:nvSpPr>
        <p:spPr>
          <a:xfrm>
            <a:off x="8278920" y="13539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0"/>
          <p:cNvSpPr/>
          <p:nvPr/>
        </p:nvSpPr>
        <p:spPr>
          <a:xfrm>
            <a:off x="8280360" y="23320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1"/>
          <p:cNvSpPr/>
          <p:nvPr/>
        </p:nvSpPr>
        <p:spPr>
          <a:xfrm>
            <a:off x="8275680" y="33084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2"/>
          <p:cNvSpPr/>
          <p:nvPr/>
        </p:nvSpPr>
        <p:spPr>
          <a:xfrm>
            <a:off x="8280360" y="4289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3"/>
          <p:cNvSpPr/>
          <p:nvPr/>
        </p:nvSpPr>
        <p:spPr>
          <a:xfrm>
            <a:off x="8280360" y="5270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4"/>
          <p:cNvSpPr/>
          <p:nvPr/>
        </p:nvSpPr>
        <p:spPr>
          <a:xfrm flipH="1">
            <a:off x="5856120" y="58546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 flipH="1">
            <a:off x="679572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 flipH="1">
            <a:off x="773388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7"/>
          <p:cNvSpPr/>
          <p:nvPr/>
        </p:nvSpPr>
        <p:spPr>
          <a:xfrm flipH="1" flipV="1">
            <a:off x="5468400" y="527544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8"/>
          <p:cNvSpPr/>
          <p:nvPr/>
        </p:nvSpPr>
        <p:spPr>
          <a:xfrm flipH="1" flipV="1">
            <a:off x="5470560" y="43052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9"/>
          <p:cNvSpPr/>
          <p:nvPr/>
        </p:nvSpPr>
        <p:spPr>
          <a:xfrm flipH="1" flipV="1">
            <a:off x="5455800" y="331956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0"/>
          <p:cNvSpPr/>
          <p:nvPr/>
        </p:nvSpPr>
        <p:spPr>
          <a:xfrm flipH="1" flipV="1">
            <a:off x="5465880" y="233856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1"/>
          <p:cNvSpPr/>
          <p:nvPr/>
        </p:nvSpPr>
        <p:spPr>
          <a:xfrm flipH="1" flipV="1">
            <a:off x="5465880" y="13568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2"/>
          <p:cNvSpPr/>
          <p:nvPr/>
        </p:nvSpPr>
        <p:spPr>
          <a:xfrm rot="16200000">
            <a:off x="6669000" y="42195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3"/>
          <p:cNvSpPr/>
          <p:nvPr/>
        </p:nvSpPr>
        <p:spPr>
          <a:xfrm rot="16200000">
            <a:off x="4793760" y="310536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23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34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44" name="Text Box 24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6, 9, 12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24000" y="299736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next term in the linear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4859280" y="458136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, 10, 14, 18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4859280" y="1628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linear sequence below is generated by the term 4n + ?. What is the extra numb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49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60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70" name="Text Box 24"/>
          <p:cNvSpPr/>
          <p:nvPr/>
        </p:nvSpPr>
        <p:spPr>
          <a:xfrm>
            <a:off x="4859280" y="4221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29, 22, 15, 8,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859280" y="170028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5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e linear sequence be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324000" y="3213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, 1, 2, 3, 5, 8, 13, 21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324000" y="155736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ider the Fibonacci sequence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24000" y="4005360"/>
            <a:ext cx="4032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Square Root of the 1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76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86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87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97" name="Text Box 25"/>
          <p:cNvSpPr/>
          <p:nvPr/>
        </p:nvSpPr>
        <p:spPr>
          <a:xfrm>
            <a:off x="4859280" y="2205000"/>
            <a:ext cx="40323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ule for generating a sequence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four on to the previous ter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the first term is 1, what is the third term, U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324000" y="414972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6, 10, 15, 2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324000" y="1628640"/>
            <a:ext cx="403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many sides does the shape associated with this sequenc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22" name="Text Box 25"/>
          <p:cNvSpPr/>
          <p:nvPr/>
        </p:nvSpPr>
        <p:spPr>
          <a:xfrm>
            <a:off x="4859280" y="1700280"/>
            <a:ext cx="4032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previous four answers form a geometric sequence. What is the next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24000" y="1628640"/>
            <a:ext cx="403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ultiply your previous two answers together to find the next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2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3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46" name="Text Box 27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, 2, 4, 8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250920" y="2708280"/>
            <a:ext cx="4032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value of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the seventh term, in the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4859280" y="1628640"/>
            <a:ext cx="403236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 the sequence of Prime Numbers what would U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the fifth term, eq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50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60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61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71" name="Text Box 24"/>
          <p:cNvSpPr/>
          <p:nvPr/>
        </p:nvSpPr>
        <p:spPr>
          <a:xfrm>
            <a:off x="250920" y="436572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7, 11, 15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324000" y="177336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common difference in this linear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4859280" y="1628640"/>
            <a:ext cx="403236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oduct of your previous two answers should equal 44. If this is the second term,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in a sequence with a common difference of -10 what would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the first term,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7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8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8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8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96" name="Text Box 24"/>
          <p:cNvSpPr/>
          <p:nvPr/>
        </p:nvSpPr>
        <p:spPr>
          <a:xfrm>
            <a:off x="250920" y="4508640"/>
            <a:ext cx="403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= 4n +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324000" y="1557360"/>
            <a:ext cx="40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um of the first five terms in the linear sequence generat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7"/>
          <p:cNvSpPr/>
          <p:nvPr/>
        </p:nvSpPr>
        <p:spPr>
          <a:xfrm>
            <a:off x="4859280" y="206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00, 20, 4, 0.8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4859280" y="314172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divisor in the above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8:02:02Z</dcterms:created>
  <dc:creator>Wardman</dc:creator>
  <dc:description/>
  <dc:language>en-US</dc:language>
  <cp:lastModifiedBy>LEGION</cp:lastModifiedBy>
  <dcterms:modified xsi:type="dcterms:W3CDTF">2015-09-08T12:13:47Z</dcterms:modified>
  <cp:revision>11</cp:revision>
  <dc:subject/>
  <dc:title>Slide 1</dc:title>
</cp:coreProperties>
</file>