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4C5D-320E-4694-80EA-39B91B829C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32A6-C781-4240-BB2F-1C2DF737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AE28-15D1-44DE-90CE-92653FA4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09239-912B-48D7-84C7-7575C420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B48ED-7019-4CDA-B64F-4519C507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0F21-9D1A-4C9B-928E-CC9951DB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4043-0C44-419F-9A27-032CD176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42FE-1A44-4EC1-BE75-27F89635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3762-1F4E-40CB-B3A4-0F5A177A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3713-BA72-4F32-8685-F45DBCE5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5F63-3FD9-4CD7-B5C2-F34ECBB5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71DF-5E23-4C05-B043-98A117DD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DFEF-42E0-4775-8DEF-306D6DA4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7F5E-82C9-45CB-A954-6905E637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89AF-B10A-4D31-8352-CDEEA150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5206-A25C-444E-B494-75555369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6FD4-DABF-4A07-A067-781B4A37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C2C1-575F-4D79-ACE8-BEE27486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18FE-4C96-45AA-9692-61C41E0D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871A-70AE-4078-84B8-C009E623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BB2B5-963E-4E7F-82C7-287A309B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723A-71AF-4005-8F82-6C394D3D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4CFF-3751-43B3-A3A8-4E93017D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F9A1-F03B-4611-A732-73A6E30D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E618E-95FB-4342-9876-E961C907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F7A8-AA2D-429F-9EBB-612259638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BD86-33BB-401D-A2EB-A4F924A81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6, 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7, 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5, 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4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2"/>
          <p:cNvSpPr/>
          <p:nvPr/>
        </p:nvSpPr>
        <p:spPr>
          <a:xfrm rot="1621200">
            <a:off x="2146320" y="4433400"/>
            <a:ext cx="685800" cy="53352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337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600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2514600" y="50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2514600" y="3733920"/>
            <a:ext cx="83808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4, 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5, 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3, 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2, y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 rot="1621200">
            <a:off x="2819160" y="2361960"/>
            <a:ext cx="68580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590920" y="1828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21337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28954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>
            <a:off x="3048120" y="2743200"/>
            <a:ext cx="53316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-clas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 Projec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C:\Users\grosso\AppData\Local\Microsoft\Windows\Temporary Internet Files\Content.IE5\YH7D04NZ\MCj02903430000[1].wmf"/>
          <p:cNvPicPr/>
          <p:nvPr/>
        </p:nvPicPr>
        <p:blipFill>
          <a:blip r:embed="rId3"/>
          <a:stretch/>
        </p:blipFill>
        <p:spPr>
          <a:xfrm>
            <a:off x="2209680" y="1676520"/>
            <a:ext cx="1579680" cy="2670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C:\Users\grosso\AppData\Local\Microsoft\Windows\Temporary Internet Files\Content.IE5\YH7D04NZ\MCj02903430000[1].wmf"/>
          <p:cNvPicPr/>
          <p:nvPr/>
        </p:nvPicPr>
        <p:blipFill>
          <a:blip r:embed="rId4"/>
          <a:stretch/>
        </p:blipFill>
        <p:spPr>
          <a:xfrm>
            <a:off x="4191120" y="3505320"/>
            <a:ext cx="1579320" cy="26701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0"/>
          <p:cNvSpPr/>
          <p:nvPr/>
        </p:nvSpPr>
        <p:spPr>
          <a:xfrm>
            <a:off x="304920" y="380880"/>
            <a:ext cx="350496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6, y -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06668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33"/>
          <p:cNvCxnSpPr/>
          <p:nvPr/>
        </p:nvCxnSpPr>
        <p:spPr>
          <a:xfrm>
            <a:off x="2999160" y="1676520"/>
            <a:ext cx="18774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Straight Arrow Connector 37"/>
          <p:cNvCxnSpPr/>
          <p:nvPr/>
        </p:nvCxnSpPr>
        <p:spPr>
          <a:xfrm>
            <a:off x="4875840" y="1676520"/>
            <a:ext cx="29160" cy="1829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form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t is a change that occurs that maps or moves a shape in a specific directions onto an image. These are translations, rotations, reflections, and di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-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transformation that “slides” a shape to another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“slide” a shape up, down, right, left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 y)            ( x + 2,  y -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4"/>
          <p:cNvCxnSpPr/>
          <p:nvPr/>
        </p:nvCxnSpPr>
        <p:spPr>
          <a:xfrm>
            <a:off x="1600200" y="464832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7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Line 9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 rot="1621200">
            <a:off x="5029200" y="304776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4876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4419720" y="3276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4864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3809520" y="32004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 rot="1621200">
            <a:off x="3350880" y="3057480"/>
            <a:ext cx="681120" cy="5986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5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6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3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43828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182880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28954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H="1">
            <a:off x="2819160" y="32004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0"/>
          <p:cNvSpPr/>
          <p:nvPr/>
        </p:nvSpPr>
        <p:spPr>
          <a:xfrm rot="1621200">
            <a:off x="2362320" y="3048120"/>
            <a:ext cx="695160" cy="617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 rot="1621200">
            <a:off x="3363480" y="3008160"/>
            <a:ext cx="690480" cy="6303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rot="1621200">
            <a:off x="3362040" y="4349520"/>
            <a:ext cx="706320" cy="5950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30481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8195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0988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505320" y="358128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0492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16002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1621200">
            <a:off x="3344400" y="3003120"/>
            <a:ext cx="708120" cy="658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 rot="1621200">
            <a:off x="3332160" y="1974600"/>
            <a:ext cx="706320" cy="6858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1240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124080" y="1676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7432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8098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3505320" y="2209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1, 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0, 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2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3, y -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 rot="1621200">
            <a:off x="4419720" y="411444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4495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37339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480060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9"/>
          <p:cNvSpPr/>
          <p:nvPr/>
        </p:nvSpPr>
        <p:spPr>
          <a:xfrm flipH="1" flipV="1">
            <a:off x="3962160" y="3809880"/>
            <a:ext cx="533160" cy="45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 rot="1621200">
            <a:off x="5041440" y="2575080"/>
            <a:ext cx="638280" cy="604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95288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49568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54864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9:24:48Z</dcterms:created>
  <dc:creator>GFR</dc:creator>
  <dc:description/>
  <dc:language>en-US</dc:language>
  <cp:lastModifiedBy>RomaK</cp:lastModifiedBy>
  <dcterms:modified xsi:type="dcterms:W3CDTF">2015-09-04T09:22:44Z</dcterms:modified>
  <cp:revision>38</cp:revision>
  <dc:subject/>
  <dc:title>Translations</dc:title>
</cp:coreProperties>
</file>