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FE08-102A-41D5-B572-42DEC01292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6,  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7, 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5,  -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4, y -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6,  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7, 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5,  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4, y -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4, 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5, 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3, 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2, y +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4, 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5, 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3, 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2, y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-cla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lation Proje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n-cla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 Projec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(x, y)     (x + 6, y -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6, y -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s: It is a change that occurs that maps or moves a shape in a specific directions onto an image. These are translations, rotations, reflections, and dil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-image: The position of the shape before the change is m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: The position of the shape after the change is m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: A transformation that “slides” a shape to another lo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fin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s: It is a change that occurs that maps or moves a shape in a specific directions onto an image. These are translations, rotations, reflections, and di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: The position of the shape before the change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age: The position of the shape after the change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: A transformation that “slides” a shape to another lo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“slide” a shape up, down, right, left or 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, y)            ( x + 2,  y -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l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You “slide” a shape up, down, right, left or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       ( x + 2,  y -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3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2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4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5, y +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3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2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4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5, y +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5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6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4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- 3, y +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5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6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4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- 3, y +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2, 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3,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1, -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0, y -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2, 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3,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1, 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0, y -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-2,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-3,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-1,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0, y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-2, 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-3,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-1,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0, y +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1,  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0, -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2, -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3, y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1, 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0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2, 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3, y -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 (3, 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 (2,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 (4, 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x, y)     (x + 5, y +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 (-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 (-3,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 (3, 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 (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 (4, 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x, y)     (x + 5, y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A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B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86AF9-7BF7-457E-900E-F63AD27F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C0142-7E7C-4E5E-A4BC-07FD020F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24901-C58D-43B9-BFA3-8A2248D02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12D91-D730-455D-80D6-6E347132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5FD39-B0A5-4F6E-93CB-F1F89D9B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C13B-12A2-4BB4-BF01-11FB6D61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E846-9589-45A3-8ACC-F0B3458D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2B70-6D20-42A8-84A9-987F84C9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0D9A-DF1C-4DDC-A0F1-24D33203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B7B3-96FD-42DC-B12B-88B9FB09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2C00-2247-4CE1-A707-7CBB6B33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AFF85-91E2-4B7F-82DA-DF36FC1E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70E4-2B1C-4C41-A44B-4CF027D6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BA2E-9B5C-4AB1-84BE-3ED5173A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2DE3-7DF3-455E-B8B3-25FF815F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EE3F-93E7-447C-B0A9-B959ED02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59C4-A699-430E-A716-64F213B2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032E8-B088-4F38-8BC4-704F70D2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0FB9F-1A87-4BD7-AC05-8B4C3CF2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8FFA5-1A85-4D98-8AA1-672D0C0B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13ECE-31E6-425D-AD1D-9EF90722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61968-35E2-41A1-8C6E-89C1EFB4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B8FDA-A1EB-431B-AC9A-D94F27D1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6333B-1707-4A2B-A653-8E66677E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A587-ED5D-4CAE-87FF-08730AAA12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4D31-C6CD-4E84-8643-FD98723D69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anslation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6, 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7, 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5,  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4, y -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2"/>
          <p:cNvSpPr/>
          <p:nvPr/>
        </p:nvSpPr>
        <p:spPr>
          <a:xfrm rot="1621200">
            <a:off x="2146320" y="4433400"/>
            <a:ext cx="685800" cy="53352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33720" y="4038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16002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2514600" y="5029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9"/>
          <p:cNvSpPr/>
          <p:nvPr/>
        </p:nvSpPr>
        <p:spPr>
          <a:xfrm flipV="1">
            <a:off x="2514600" y="3733920"/>
            <a:ext cx="83808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4,  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5, 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3, 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2, y +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2"/>
          <p:cNvSpPr/>
          <p:nvPr/>
        </p:nvSpPr>
        <p:spPr>
          <a:xfrm rot="1621200">
            <a:off x="2819160" y="2361960"/>
            <a:ext cx="685800" cy="5331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2590920" y="1828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21337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8"/>
          <p:cNvSpPr/>
          <p:nvPr/>
        </p:nvSpPr>
        <p:spPr>
          <a:xfrm>
            <a:off x="289548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9"/>
          <p:cNvSpPr/>
          <p:nvPr/>
        </p:nvSpPr>
        <p:spPr>
          <a:xfrm>
            <a:off x="3048120" y="2743200"/>
            <a:ext cx="533160" cy="6094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-class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anslation Projec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C:\Users\grosso\AppData\Local\Microsoft\Windows\Temporary Internet Files\Content.IE5\YH7D04NZ\MCj02903430000[1].wmf"/>
          <p:cNvPicPr/>
          <p:nvPr/>
        </p:nvPicPr>
        <p:blipFill>
          <a:blip r:embed="rId3"/>
          <a:stretch/>
        </p:blipFill>
        <p:spPr>
          <a:xfrm>
            <a:off x="2209680" y="1676520"/>
            <a:ext cx="1579680" cy="2670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C:\Users\grosso\AppData\Local\Microsoft\Windows\Temporary Internet Files\Content.IE5\YH7D04NZ\MCj02903430000[1].wmf"/>
          <p:cNvPicPr/>
          <p:nvPr/>
        </p:nvPicPr>
        <p:blipFill>
          <a:blip r:embed="rId4"/>
          <a:stretch/>
        </p:blipFill>
        <p:spPr>
          <a:xfrm>
            <a:off x="4191120" y="3505320"/>
            <a:ext cx="1579320" cy="26701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10"/>
          <p:cNvSpPr/>
          <p:nvPr/>
        </p:nvSpPr>
        <p:spPr>
          <a:xfrm>
            <a:off x="304920" y="380880"/>
            <a:ext cx="350496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6, y -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1066680" y="1219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33"/>
          <p:cNvCxnSpPr/>
          <p:nvPr/>
        </p:nvCxnSpPr>
        <p:spPr>
          <a:xfrm>
            <a:off x="2999160" y="1676520"/>
            <a:ext cx="187740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Straight Arrow Connector 37"/>
          <p:cNvCxnSpPr/>
          <p:nvPr/>
        </p:nvCxnSpPr>
        <p:spPr>
          <a:xfrm>
            <a:off x="4875840" y="1676520"/>
            <a:ext cx="29160" cy="1829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form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t is a change that occurs that maps or moves a shape in a specific directions onto an image. These are translations, rotations, reflections, and di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-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osition of the shap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ange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osition of the shap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hange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transformation that “slides” a shape to another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l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“slide” a shape up, down, right, left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, y)            ( x + 2,  y -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4"/>
          <p:cNvCxnSpPr/>
          <p:nvPr/>
        </p:nvCxnSpPr>
        <p:spPr>
          <a:xfrm>
            <a:off x="1600200" y="464832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7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Line 9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3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3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2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4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5, y +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9"/>
          <p:cNvSpPr/>
          <p:nvPr/>
        </p:nvSpPr>
        <p:spPr>
          <a:xfrm rot="1621200">
            <a:off x="5029200" y="3047760"/>
            <a:ext cx="706320" cy="6508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4876920" y="2590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4"/>
          <p:cNvSpPr/>
          <p:nvPr/>
        </p:nvSpPr>
        <p:spPr>
          <a:xfrm>
            <a:off x="4419720" y="3276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548640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 flipH="1">
            <a:off x="3809520" y="32004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160344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 rot="1621200">
            <a:off x="3350880" y="3057480"/>
            <a:ext cx="681120" cy="5986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5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6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4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- 3, y +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2438280" y="2590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1828800" y="3200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289548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 flipH="1">
            <a:off x="2819160" y="320040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0"/>
          <p:cNvSpPr/>
          <p:nvPr/>
        </p:nvSpPr>
        <p:spPr>
          <a:xfrm rot="1621200">
            <a:off x="2362320" y="3048120"/>
            <a:ext cx="695160" cy="6174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160344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 rot="1621200">
            <a:off x="3363480" y="3008160"/>
            <a:ext cx="690480" cy="63036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2,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3,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1, 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0, y -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 rot="1621200">
            <a:off x="3362040" y="4349520"/>
            <a:ext cx="706320" cy="5950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3048120" y="4038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2819520" y="4648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3809880" y="4952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3505320" y="3581280"/>
            <a:ext cx="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0492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16002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 flipV="1">
            <a:off x="419112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 rot="1621200">
            <a:off x="3344400" y="3003120"/>
            <a:ext cx="708120" cy="6588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-2,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-3,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-1,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0, y +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2"/>
          <p:cNvSpPr/>
          <p:nvPr/>
        </p:nvSpPr>
        <p:spPr>
          <a:xfrm rot="1621200">
            <a:off x="3332160" y="1974600"/>
            <a:ext cx="706320" cy="68580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312408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3124080" y="1676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2743200" y="2209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38098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"/>
          <p:cNvSpPr/>
          <p:nvPr/>
        </p:nvSpPr>
        <p:spPr>
          <a:xfrm flipV="1">
            <a:off x="3505320" y="2209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1, 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0, 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2, -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3, y -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2"/>
          <p:cNvSpPr/>
          <p:nvPr/>
        </p:nvSpPr>
        <p:spPr>
          <a:xfrm rot="1621200">
            <a:off x="4419720" y="4114440"/>
            <a:ext cx="706320" cy="6508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44956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37339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4800600" y="4724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9"/>
          <p:cNvSpPr/>
          <p:nvPr/>
        </p:nvSpPr>
        <p:spPr>
          <a:xfrm flipH="1" flipV="1">
            <a:off x="3962160" y="3809880"/>
            <a:ext cx="533160" cy="4572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1679400" y="914400"/>
          <a:ext cx="54896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54896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Line 3"/>
          <p:cNvSpPr/>
          <p:nvPr/>
        </p:nvSpPr>
        <p:spPr>
          <a:xfrm>
            <a:off x="1981080" y="4038480"/>
            <a:ext cx="48769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 flipV="1">
            <a:off x="4267080" y="1219320"/>
            <a:ext cx="0" cy="5029200"/>
          </a:xfrm>
          <a:prstGeom prst="line">
            <a:avLst/>
          </a:prstGeom>
          <a:ln w="475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858000" y="3886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114800" y="838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 rot="1621200">
            <a:off x="3429000" y="3047760"/>
            <a:ext cx="706320" cy="65088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80880" y="4495680"/>
            <a:ext cx="1371600" cy="1789920"/>
          </a:xfrm>
          <a:prstGeom prst="rect">
            <a:avLst/>
          </a:prstGeom>
          <a:solidFill>
            <a:srgbClr val="0000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 (-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 (-3,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 (-1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7315200" y="4572000"/>
            <a:ext cx="1371600" cy="178992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’ (3, 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’ (2,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’ (4, 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380880" y="304920"/>
            <a:ext cx="3505320" cy="10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x, y)     (x + 5, y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"/>
          <p:cNvSpPr/>
          <p:nvPr/>
        </p:nvSpPr>
        <p:spPr>
          <a:xfrm>
            <a:off x="1219320" y="1066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2"/>
          <p:cNvSpPr/>
          <p:nvPr/>
        </p:nvSpPr>
        <p:spPr>
          <a:xfrm rot="1621200">
            <a:off x="5041440" y="2575080"/>
            <a:ext cx="638280" cy="604800"/>
          </a:xfrm>
          <a:prstGeom prst="rtTriangl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3429000" y="2590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2895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3809880" y="3581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4952880" y="2133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4495680" y="2895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548640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9"/>
          <p:cNvSpPr/>
          <p:nvPr/>
        </p:nvSpPr>
        <p:spPr>
          <a:xfrm flipH="1">
            <a:off x="3809520" y="2819520"/>
            <a:ext cx="1143000" cy="5331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9:24:48Z</dcterms:created>
  <dc:creator>GFR</dc:creator>
  <dc:description/>
  <dc:language>en-US</dc:language>
  <cp:lastModifiedBy>RomaK</cp:lastModifiedBy>
  <dcterms:modified xsi:type="dcterms:W3CDTF">2015-09-04T09:22:44Z</dcterms:modified>
  <cp:revision>38</cp:revision>
  <dc:subject/>
  <dc:title>Translations</dc:title>
</cp:coreProperties>
</file>