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09AC-62D7-41D6-B244-52AE2A647705}" type="slidenum"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a square from these toothpi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a square from these toothpick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hree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hree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pig look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pig look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wo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wo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fancy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fancy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ZERO moves! Just turn your head to the side 12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ZERO moves! Just turn your head to the side 120 degree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sticks to create 4 equilateral triangles of equa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move sticks to create 4 equilateral triangles of equal size.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total moves!!!  Now you try number 2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total moves!!!  Now you try number 2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fish swim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fish swim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FC0-CFB5-42BC-BA71-EA0B88F2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030-D6F5-42A9-993E-9BB3BB20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A8B-06B7-412E-B0D4-585058A4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4E6-7805-4E06-9923-4D6D5E0E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E4B-10BE-47BB-BB63-AD4C5769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375-3113-4D95-B792-EF342B5B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254-9094-47E2-A5A7-03C06179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F8A-7BB3-4500-B891-9D49573E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CBC-EB35-496A-A534-19F435A0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008-6FA1-4AA7-A77E-01D0AE35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00C-0FE2-4B9F-AFEB-28CBB32F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968-0340-45F0-82B0-C38960D9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729A-777F-48DD-A851-84004007A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xample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920" y="1336680"/>
            <a:ext cx="190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many moves to make a square from these toothpick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Line 12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4b11"/>
                </a:solidFill>
                <a:latin typeface="Comic Sans MS"/>
              </a:rPr>
              <a:t>Done in three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533412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5433840" y="4170240"/>
            <a:ext cx="357480" cy="14940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3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85800" y="1447920"/>
            <a:ext cx="146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make the pig look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0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3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Oval 15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6400800" y="3886200"/>
            <a:ext cx="357120" cy="9684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7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533520" y="1447920"/>
            <a:ext cx="161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ow many moves to get the cherry outside of the old-fashioned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1" name="Picture 1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7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3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9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5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1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one in two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7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533520" y="1447920"/>
            <a:ext cx="161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get the cherry outside of the fancy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3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676520" y="457200"/>
            <a:ext cx="6400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ne in ZERO moves! Just turn your head to the side 120 degrees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8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28600" y="2057400"/>
            <a:ext cx="192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Remove sticks to create 4 equilateral triangles of equal siz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9" name="Line 14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0" name="Line 15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Line 16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2" name="Line 17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Line 20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Line 21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4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3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8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4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6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1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9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2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6" name="Line 13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54160" y="243828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ne in 2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ne in 2 total moves!!!  Now you try number 2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36576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V="1">
            <a:off x="365760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441972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41972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441972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41972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518148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518148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746280" y="1336680"/>
            <a:ext cx="14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4b11"/>
                </a:solidFill>
                <a:latin typeface="Comic Sans MS"/>
              </a:rPr>
              <a:t>How many moves to make the fish swim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7:07:42Z</dcterms:created>
  <dc:creator>DIST225</dc:creator>
  <dc:description/>
  <dc:language>en-US</dc:language>
  <cp:lastModifiedBy>RomaK</cp:lastModifiedBy>
  <dcterms:modified xsi:type="dcterms:W3CDTF">2015-09-04T09:22:38Z</dcterms:modified>
  <cp:revision>8</cp:revision>
  <dc:subject/>
  <dc:title>Problem Number One: Example </dc:title>
</cp:coreProperties>
</file>