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4.wmf" ContentType="image/x-wmf"/>
  <Override PartName="/ppt/media/image1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596E-9175-44C2-888A-1A57DF61288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 square root symbol before entering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 enter or eq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MATH P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ientific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=s² (A=area &amp; s=s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²means sx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l x 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 = wid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½ b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= height or al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ute: triangles with angles less than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use: triangles with one angle greater than 90º but less than 18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: triangles with one angle equaling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= 7 x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² where 7 is the BASE  and ² is the expon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thagorean Theor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²+B²=C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A &amp; B are legs and the square root of C is the hypotenuse of the right tri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two equal factors of a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root of 144 is 12 since 12 squared = 14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7794-2E49-44BD-96C3-5FA2846EA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F29-40DF-4257-9504-EDD46903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89B3-4480-494B-B6EC-82D45302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5E53-86D9-4467-B89F-8437564A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97B4-80DF-4272-982D-AF211908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B7EAA-9982-48D5-B7C1-5273FA47D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CBCB-50C6-4C1F-B7F4-DF512A39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80EA-DAD7-4501-80CA-104A1410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C7CF-B30C-429A-8152-A207EFDE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659A-F78B-4FD9-9107-F0D885406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E26E-92B6-4036-B345-E180259B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EA6-317B-45C4-80E6-24F49ADD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8958-D911-4F02-BA5F-0721E9A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D8CC1-59BF-49B6-ADEE-444D4790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DCCBF-8477-48C5-A4A3-C62DD8F5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3CC-5A2F-410D-9C10-150AA250C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08DC-24B2-442E-9E1D-95780852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C4FA-3AD6-4BAC-9F40-A6FB1F21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31C4-5EEA-495B-80B9-AEECE0D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9BC-37EA-4E6B-BB10-2DAAC55C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867-E4B1-47C1-815D-6358D4AA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9012-4864-4866-A883-128140E6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801-AF7E-4862-AB33-CFA6C52E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24E9-51BF-4494-B768-4A1CE82F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1" name="Rectangle 3"/>
            <p:cNvSpPr/>
            <p:nvPr/>
          </p:nvSpPr>
          <p:spPr>
            <a:xfrm>
              <a:off x="0" y="1371600"/>
              <a:ext cx="9144000" cy="548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0" y="-1440"/>
              <a:ext cx="9144000" cy="1611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0" y="1609560"/>
              <a:ext cx="9144000" cy="414000"/>
              <a:chOff x="0" y="1609560"/>
              <a:chExt cx="9144000" cy="414000"/>
            </a:xfrm>
          </p:grpSpPr>
          <p:sp>
            <p:nvSpPr>
              <p:cNvPr id="5" name="Rectangle 7"/>
              <p:cNvSpPr/>
              <p:nvPr/>
            </p:nvSpPr>
            <p:spPr>
              <a:xfrm>
                <a:off x="0" y="160956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0" y="171324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0" y="181656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0" y="192024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D355-4B46-45AA-BFA0-222376D9544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-1440"/>
            <a:ext cx="9144000" cy="6859440"/>
            <a:chOff x="0" y="-1440"/>
            <a:chExt cx="9144000" cy="6859440"/>
          </a:xfrm>
        </p:grpSpPr>
        <p:sp>
          <p:nvSpPr>
            <p:cNvPr id="51" name="Rectangle 3"/>
            <p:cNvSpPr/>
            <p:nvPr/>
          </p:nvSpPr>
          <p:spPr>
            <a:xfrm>
              <a:off x="0" y="2895480"/>
              <a:ext cx="9144000" cy="396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0" y="6548400"/>
              <a:ext cx="9144000" cy="30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5"/>
            <p:cNvSpPr/>
            <p:nvPr/>
          </p:nvSpPr>
          <p:spPr>
            <a:xfrm>
              <a:off x="0" y="-1440"/>
              <a:ext cx="9144000" cy="320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6"/>
            <p:cNvGrpSpPr/>
            <p:nvPr/>
          </p:nvGrpSpPr>
          <p:grpSpPr>
            <a:xfrm>
              <a:off x="0" y="3200400"/>
              <a:ext cx="9144000" cy="414000"/>
              <a:chOff x="0" y="3200400"/>
              <a:chExt cx="9144000" cy="414000"/>
            </a:xfrm>
          </p:grpSpPr>
          <p:sp>
            <p:nvSpPr>
              <p:cNvPr id="55" name="Rectangle 7"/>
              <p:cNvSpPr/>
              <p:nvPr/>
            </p:nvSpPr>
            <p:spPr>
              <a:xfrm>
                <a:off x="0" y="3200400"/>
                <a:ext cx="9144000" cy="10368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0" y="3304080"/>
                <a:ext cx="9144000" cy="103320"/>
              </a:xfrm>
              <a:prstGeom prst="rect">
                <a:avLst/>
              </a:prstGeom>
              <a:solidFill>
                <a:srgbClr val="cc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0" y="3407400"/>
                <a:ext cx="9144000" cy="103680"/>
              </a:xfrm>
              <a:prstGeom prst="rect">
                <a:avLst/>
              </a:prstGeom>
              <a:solidFill>
                <a:srgbClr val="cc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0" y="3511080"/>
                <a:ext cx="9144000" cy="103320"/>
              </a:xfrm>
              <a:prstGeom prst="rect">
                <a:avLst/>
              </a:prstGeom>
              <a:solidFill>
                <a:srgbClr val="66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0000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7180-BA17-46BE-A722-C976DEACDCF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1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ntique Olive"/>
              </a:rPr>
              <a:t>MATHEMATIC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imSun"/>
              </a:rPr>
              <a:t>SQUARE ROOT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cientific Calculator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Enter square root symbol before entering the number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lbertus Medium"/>
              </a:rPr>
              <a:t>Press enter or equ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Picture 5" descr="bd09294_"/>
          <p:cNvPicPr/>
          <p:nvPr/>
        </p:nvPicPr>
        <p:blipFill>
          <a:blip r:embed="rId1"/>
          <a:stretch/>
        </p:blipFill>
        <p:spPr>
          <a:xfrm>
            <a:off x="4648320" y="2575080"/>
            <a:ext cx="3809880" cy="323208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ODAY’S MATH PREVI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RECT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pon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cc66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ythagorean Theor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plit dir="in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TH RELA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quare  Roo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enguiat Frisky"/>
              </a:rPr>
              <a:t>Scientific Calculat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Object 4" descr=""/>
          <p:cNvPicPr/>
          <p:nvPr/>
        </p:nvPicPr>
        <p:blipFill>
          <a:blip r:embed="rId1"/>
          <a:stretch/>
        </p:blipFill>
        <p:spPr>
          <a:xfrm>
            <a:off x="4653000" y="2133720"/>
            <a:ext cx="3798720" cy="4114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Squar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ea formula: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=s² (A=area &amp; s=sid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²means sx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wb01353_"/>
          <p:cNvPicPr/>
          <p:nvPr/>
        </p:nvPicPr>
        <p:blipFill>
          <a:blip r:embed="rId1"/>
          <a:stretch/>
        </p:blipFill>
        <p:spPr>
          <a:xfrm>
            <a:off x="4648320" y="2168640"/>
            <a:ext cx="3809880" cy="40431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ertram"/>
              </a:rPr>
              <a:t>Area of Rect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A = l x 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L = 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W = 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Picture 5" descr="wb00952_"/>
          <p:cNvPicPr/>
          <p:nvPr/>
        </p:nvPicPr>
        <p:blipFill>
          <a:blip r:embed="rId1"/>
          <a:stretch/>
        </p:blipFill>
        <p:spPr>
          <a:xfrm>
            <a:off x="4648320" y="3386160"/>
            <a:ext cx="3809880" cy="16095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 Black"/>
              </a:rPr>
              <a:t>Area of Triangle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rea formula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A = ½ b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B =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66ff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radley Hand ITC"/>
              </a:rPr>
              <a:t>H = height or altitu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8" descr="dd01405_"/>
          <p:cNvPicPr/>
          <p:nvPr/>
        </p:nvPicPr>
        <p:blipFill>
          <a:blip r:embed="rId1"/>
          <a:stretch/>
        </p:blipFill>
        <p:spPr>
          <a:xfrm>
            <a:off x="4343400" y="2614680"/>
            <a:ext cx="3809880" cy="330516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Types of Triangles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ute: triangles with angles less than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tuse: triangles with one angle greater than 90º but less than 18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ght: triangles with one angle equaling 90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randomBar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lbertus Extra Bold"/>
              </a:rPr>
              <a:t>CONNECTIONS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s: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= 7 x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7² where 7 is the BASE  and ² is the exponent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Pythagorean Theorem: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A²+B²=C²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ll MT"/>
              </a:rPr>
              <a:t>The square root of A &amp; B are legs and the square root of C is the hypotenuse of the right triang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cover dir="l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Square Roots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One of the two equal factors of a number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33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lbertus Medium"/>
              </a:rPr>
              <a:t>A square root of 144 is 12 since 12 squared = 144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5" descr="bd05092_"/>
          <p:cNvPicPr/>
          <p:nvPr/>
        </p:nvPicPr>
        <p:blipFill>
          <a:blip r:embed="rId1"/>
          <a:stretch/>
        </p:blipFill>
        <p:spPr>
          <a:xfrm>
            <a:off x="4648320" y="246204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9T18:48:45Z</dcterms:created>
  <dc:creator>MS</dc:creator>
  <dc:description/>
  <dc:language>en-US</dc:language>
  <cp:lastModifiedBy>RomaK</cp:lastModifiedBy>
  <dcterms:modified xsi:type="dcterms:W3CDTF">2015-09-04T09:22:22Z</dcterms:modified>
  <cp:revision>8</cp:revision>
  <dc:subject/>
  <dc:title>MATHEMATICS</dc:title>
</cp:coreProperties>
</file>