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4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73E4-7EBD-4B40-9CEF-EF1C645B68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21C-29F8-4456-A150-87542599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EAC-E430-4073-86C2-DD8F9133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B2F-A923-4E1C-8007-04B07AD9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567-8BD6-459A-849D-8B419BE2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E2C4-99AA-4B56-9F21-E45BC0F8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9371-1E09-4BB6-9D86-20FCF429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6C73-C286-4F9E-BDB9-4CE0C6AB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30D9-66BD-4C6E-A126-FD6C0191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E6AB-8B1B-4C05-97F6-CBC6A815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1B04-A152-4CDC-A4E8-10009D89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CD6B-CA92-4C21-851C-826F1553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4BE-17C6-41FB-915F-4AE90D36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C091-FB42-40B4-8150-13F44224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1FD9-E39E-479C-A03F-A713B0C6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C859-8539-4445-8B7A-B133A589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429D-9685-4C09-B7B3-C232518D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F754-0FA4-496F-A39A-099B5CC4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194-E4C7-497B-969F-8A3EDED0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00A-94E5-4673-AC76-7F3FD92E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DCD-11D4-40E7-AF81-B98CAE40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4D4-798B-45E8-A1C5-2B43A1BA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A38-2ECD-45C4-A237-C3C471E1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8C7-D10E-411E-A617-FFF30D67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D65-7218-4619-9A38-6A5CBEC9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DC72-7863-41FD-8E22-FB86B8CD5B7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598E-8A21-40A1-B530-D4C689314E4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tique Olive"/>
              </a:rPr>
              <a:t>MATHEMATIC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 ROOT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cientific Calculato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Enter square root symbol before entering the numbe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Press enter or equ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bd09294_"/>
          <p:cNvPicPr/>
          <p:nvPr/>
        </p:nvPicPr>
        <p:blipFill>
          <a:blip r:embed="rId1"/>
          <a:stretch/>
        </p:blipFill>
        <p:spPr>
          <a:xfrm>
            <a:off x="4648320" y="2575080"/>
            <a:ext cx="3809880" cy="3232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DAY’S MATH PREVI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RECT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 RELA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quare  Roo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cientific Calcul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Object 4" descr=""/>
          <p:cNvPicPr/>
          <p:nvPr/>
        </p:nvPicPr>
        <p:blipFill>
          <a:blip r:embed="rId1"/>
          <a:stretch/>
        </p:blipFill>
        <p:spPr>
          <a:xfrm>
            <a:off x="4653000" y="213372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formula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=s² (A=area &amp; s=sid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²means sx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wb01353_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4043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tram"/>
              </a:rPr>
              <a:t>Area of Rect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 = l x 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 = 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W = 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wb00952_"/>
          <p:cNvPicPr/>
          <p:nvPr/>
        </p:nvPicPr>
        <p:blipFill>
          <a:blip r:embed="rId1"/>
          <a:stretch/>
        </p:blipFill>
        <p:spPr>
          <a:xfrm>
            <a:off x="4648320" y="3386160"/>
            <a:ext cx="3809880" cy="1609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 = ½ b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B =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H = height or altitu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8" descr="dd01405_"/>
          <p:cNvPicPr/>
          <p:nvPr/>
        </p:nvPicPr>
        <p:blipFill>
          <a:blip r:embed="rId1"/>
          <a:stretch/>
        </p:blipFill>
        <p:spPr>
          <a:xfrm>
            <a:off x="4343400" y="2614680"/>
            <a:ext cx="3809880" cy="3305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ypes of Triang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ute: triangles with angles less than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tuse: triangles with one angle greater than 90º but less than 18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ght: triangles with one angle equaling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ertus Extra Bold"/>
              </a:rPr>
              <a:t>CONNEC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= 7 x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where 7 is the BASE  and ² is the exponent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Pythagorean Theorem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²+B²=C²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 square root of A &amp; B are legs and the square root of C is the hypotenuse of the right triang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quare Root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ne of the two equal factors of a number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 square root of 144 is 12 since 12 squared = 144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bd05092_"/>
          <p:cNvPicPr/>
          <p:nvPr/>
        </p:nvPicPr>
        <p:blipFill>
          <a:blip r:embed="rId1"/>
          <a:stretch/>
        </p:blipFill>
        <p:spPr>
          <a:xfrm>
            <a:off x="4648320" y="2462040"/>
            <a:ext cx="3809880" cy="3457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8:48:45Z</dcterms:created>
  <dc:creator>MS</dc:creator>
  <dc:description/>
  <dc:language>en-US</dc:language>
  <cp:lastModifiedBy>RomaK</cp:lastModifiedBy>
  <dcterms:modified xsi:type="dcterms:W3CDTF">2015-09-04T09:22:22Z</dcterms:modified>
  <cp:revision>8</cp:revision>
  <dc:subject/>
  <dc:title>MATHEMATICS</dc:title>
</cp:coreProperties>
</file>