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E09F-05E0-486C-8934-65FDCF317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5355A-09DE-432F-A10E-CC32C02FF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D2B9B-38E0-40F3-AAF5-82903D4B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D33AB-078B-406A-B0E8-0AB0BABDE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ABB5B-1C37-4D24-918D-7F3A8146B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49591-6C6E-466F-A03B-2E29A8AD8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A144E-9F8E-4CA1-B839-96793D6DC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AA251-FF70-40E2-9923-8F1FAB4B9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88E19-CCDB-4208-BE58-8EA26A211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01E97-49B4-4A27-A531-B9BE28676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1AAD1-259C-410F-B14D-F7F484DB6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1D1E8-3B02-487F-804E-730C12B7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6E29-CD4C-4176-879B-34DAE954B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F1C9-4D81-41A9-B9C4-D2D4D5EA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39AB-CCCB-4113-ADC3-C91D80F9A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E5324-1366-45B2-8094-D92971084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4352C-D07F-4EB8-9BC7-8ACE91A3C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DD0E3-A06A-46D1-A05F-760F3B21F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F570-185E-4B23-AF4B-52D573547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22C8C-BAA1-4E44-A75A-AA30B48B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AA63-A8BE-4F4F-8BCA-DCFA2DD1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30E3-7C0D-4B91-8291-661A8D46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A935-2530-475C-92B1-46A37B042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4D99-B763-453D-B602-A81B514FC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D7AD4-EDC2-430D-AFC5-ABF97B2E9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28B2-070B-4D0E-8FD0-3917E3C98C87}" type="datetime2">
              <a:rPr b="0" lang="ur-PK" sz="1400" spc="-1" strike="noStrike">
                <a:solidFill>
                  <a:srgbClr val="000000"/>
                </a:solidFill>
                <a:latin typeface="Times New Roman"/>
              </a:rPr>
              <a:t>جمعہ, 31,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1766-6496-4183-8BB6-6F5E57F17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E320-E34C-4AF8-B940-3076966B6247}" type="datetime2">
              <a:rPr b="0" lang="ur-PK" sz="1400" spc="-1" strike="noStrike">
                <a:solidFill>
                  <a:srgbClr val="ffffff"/>
                </a:solidFill>
                <a:latin typeface="Times New Roman"/>
              </a:rPr>
              <a:t>جمعہ, 31,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7E86-34F2-45F9-9AD3-91F6AAAA87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