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6C21-F920-4359-A339-6C581DBF4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F5F61-BCA6-44AB-A564-8E9A0B0A6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9AA52-4CCD-4E96-80F1-DCAE037A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C35DB-AAB7-4A72-BA64-1A9423D83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12948-0519-4C32-B665-C4B007359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0F10A-7F2C-4CD9-98CA-726AF5B5A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8B113-A04C-4388-A934-D1F1B4C50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53273-183F-4E0F-A0B8-B372A6AAD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A9283-CF9B-45F7-B974-B16B452B7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D7540-D2A8-46E5-A2B7-E8C537147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6AF4B-FE86-4BC1-BDFC-37693C999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08B5B-62E6-47A1-A8F9-3FA2B328C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882EF-9A8B-4CB5-BB98-81EDCC891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FB306-903C-42A2-81BE-F723A4493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6E769-64B4-4941-8543-B78FB78CD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6DA95-5CC0-4565-9EB6-783B31A07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5BCA6-2C63-4E35-BD98-FE6D7D4E4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2E7A6-FA19-40AB-A6C1-FB71FAFDB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42BE9-B7B7-42C9-84BF-26302975A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932E-F9B1-4A6B-A6DA-93B38D41F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A82B-9FFD-4295-B23A-17DD58187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49792-7A35-43A5-92F8-AA0C39F9A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C2E9F-04AA-4BE3-AB46-0AF30AD95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173E-E2F3-4D60-8F5C-1F7ACE877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D0F7-8278-47C3-929F-12D7762EE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929A-4CC8-4197-8FDA-D217EA7CA9C7}" type="datetime2">
              <a:rPr b="0" lang="ur-PK" sz="1400" spc="-1" strike="noStrike">
                <a:solidFill>
                  <a:srgbClr val="000000"/>
                </a:solidFill>
                <a:latin typeface="Times New Roman"/>
              </a:rPr>
              <a:t>جمعرات, 30,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8235-8B50-4607-AE9B-C9C01B04C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C193-452F-44EC-8AA4-171F2CA48FD6}" type="datetime2">
              <a:rPr b="0" lang="ur-PK" sz="1400" spc="-1" strike="noStrike">
                <a:solidFill>
                  <a:srgbClr val="ffffff"/>
                </a:solidFill>
                <a:latin typeface="Times New Roman"/>
              </a:rPr>
              <a:t>جمعرات, 30,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BE01-F1B7-4357-9022-AC6174EF23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