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931D-2765-4E89-A657-086971AD4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375CC-F87F-49AB-9255-B44040C6E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694E1-F7D9-4FCE-95C5-F29B42B3D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E6DF4-9FCC-4A24-914E-DF3A0BEA9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A786C-07B9-4D31-B730-0E71D6965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839CB-1857-4613-8C69-2BFE89A77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7D2DD-B4E2-4D90-B865-E71A57121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F82BC-0966-4A9D-A347-041B436E8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3F62E-83A0-40E2-8AEE-C05BB8C86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6E868-30E7-43BC-BDE6-2DDC2D7CF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3F08B-B44A-471C-8588-A3C561626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6B4CD-D613-4FE5-8E02-2C7B4BB4C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51C8C-E4E6-45D5-97E5-325D3BFAD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69A9B-DF80-41AA-92E8-D90A0D64E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36CA7-1813-4DEC-ADA1-1B0EA5810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6C8CB-C99C-4534-AFE0-54E179A18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A965A-D6F9-498C-9E89-09924E138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8320A-4469-4784-93CD-EAE0D0813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4AA19-C266-4EAB-BE76-025D56F6E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ABDFD-61F1-4F4C-AC19-84DF133F4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B849E-9C8C-4538-84D7-FFC2DA87B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F511A-C6D8-44DE-A053-237A845E4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DFFDE-EE04-4CFF-9093-6DA78BB32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8E2E-DFB4-4C7E-AB13-6FDBB5006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D8133-BCB5-43E1-9CB6-396A845D1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F603-255F-49DE-A3FB-C8D128742B6A}" type="datetime2">
              <a:rPr b="0" lang="ur-PK" sz="1400" spc="-1" strike="noStrike">
                <a:solidFill>
                  <a:srgbClr val="000000"/>
                </a:solidFill>
                <a:latin typeface="Times New Roman"/>
              </a:rPr>
              <a:t>جمعرات, 30,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47B6-F076-4DA2-997F-C72271401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3DB6-C938-4914-AA5B-ED1DDE8CE977}" type="datetime2">
              <a:rPr b="0" lang="ur-PK" sz="1400" spc="-1" strike="noStrike">
                <a:solidFill>
                  <a:srgbClr val="ffffff"/>
                </a:solidFill>
                <a:latin typeface="Times New Roman"/>
              </a:rPr>
              <a:t>جمعرات, 30,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6D9D-4C38-46DE-A3D1-73ACDAC6EE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