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DA0C-5DDD-479A-8C97-3275D41ABF7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Ō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Simplify:  -2(x + 3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Simplify:  3[(5 + 72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-2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(5 + 49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(54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3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Ō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Simplify:  3[(5 + 72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-2x -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(5 + 49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(54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34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1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Adding and Subtr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ing Equations by Adding and Subtrac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+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 +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6 +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 + 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ry a more challenging proble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C67-2B10-4FA0-8436-2E8CDF73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40F-35A1-49BC-A617-291629F0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04D-C6A5-4F46-980A-A34A3907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A02-C6EF-4D2D-9038-5352EA6B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C1143-F979-4E1B-94B6-A79E04E9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790C7-B1C9-4E20-BC8A-2DD07861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53E71-C248-43F4-B77D-05F3B9C2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C7591-3297-44DA-B3D3-E9498CBF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C60EC-6761-4211-9113-1005938B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BB7BD-F92D-4652-9BC5-1B2F904C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DE694-ADC9-4AB9-AC3F-B8BDCEE6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1570-1471-4001-BC99-F7177031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10461-7E91-4B5B-A9AF-F7E60377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C2E90-E619-473C-B0C2-CEF5A952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829B7-183F-4C43-9BF1-4A5C8046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27E2B-BE2B-47B5-97C4-A85A57B4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21DC3-2522-4A12-8FFE-2D8A7E05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CC808-DD8B-49EB-BC26-2E83279E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61EEE-4349-4EA1-AECE-44CCBDC2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A63D2-D06B-4EF3-86FB-9CC7345E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C0426-ED83-43B3-B5FF-9816B69F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E4A60-B262-46BB-9DE9-413FAB8F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E4D-F6B1-43E3-97DA-8666CE19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511A3-D9A9-447C-8411-899BF87E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8F6E0-ABFB-4687-A718-E3A64350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477E9-0A54-4701-99C0-3A754524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01F3-6A80-44AB-88A5-372F0966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3017-D152-4066-9854-8E783E03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474D1-E9C3-4D60-A95A-51F11A25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3217B-3398-4C85-8DBC-F03229DC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E9CF3-AF28-4AA3-B5C5-AB78D15A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227AB-F2A0-4658-929C-42862729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00304-B883-4F29-A106-74FEE150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854-8633-4FAB-A1B9-F822DB7E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43CBD-7525-4BFB-912A-26AD9AB1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340B1-A2E3-4765-A3EB-8559EB2B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07440-C67B-4652-BB6F-63A1DF96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9605F-1AC3-4B69-B8EB-C66AB5FE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E5E7E-98B9-43FC-8755-0F0E55F0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DAA29-ABB2-4E02-AA9C-FB928132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B0DA7-AE50-43AE-9AC1-E50E5782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06DB6-F2BF-4F1C-B7E2-9EB4FB39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59DEA-CB7B-4D61-B6E6-1DAE9238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DD450-9A3E-4068-B907-B1EE2445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1A2-FD2B-4D4D-835F-07D3C32F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04F2B-E700-46E8-91BC-0648C94F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F3E1B-0D09-4E19-8E06-B5D4D9EA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DC9EC-1C8F-45B6-A0A8-84163402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336A1-7692-4B46-B03A-F922CDA8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4B6B2-71A8-4825-9E71-587305E1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BB41D-EE0D-40BD-8554-76136947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854BF-053B-4883-8787-8C756050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3436A-B944-493B-AA17-E5A8E751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DB59E-A28C-4AD8-B8C4-D5BCC83A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159FD-EDE2-417D-8CE2-8E90EE01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01CB-A3D1-45BD-8A03-BAE71280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84985-481C-4FD6-B76B-ADEF498D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975-8240-4706-BD9C-B46F5EE8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B95-20DB-4BF6-BA90-311D813C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768-F547-4543-9B71-F7210387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D9B4-6297-428E-A983-E833CFB9A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78B7-FA77-40A6-8137-4FF1B716BBD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90B8-C1CE-4A6C-8B16-9C08F268C39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7255-1C24-48AB-B240-FB3A03C79A4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3DD3-69D2-4B97-9196-89D0BCBF510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11803"/>
                </a:solidFill>
                <a:latin typeface="Garamond"/>
              </a:rPr>
              <a:t>SŌP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Simplify:  3[(5 + 7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20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124080" y="36576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76720" y="3809880"/>
            <a:ext cx="388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429000" y="3962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419720" y="1600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-2x - 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257800" y="274320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 + 49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257800" y="3429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4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5257800" y="4191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34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5257800" y="48769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1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289548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89548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3124080" y="1523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365760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3.1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ving Equations by Adding and Subtract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8" descr="AG00293_"/>
          <p:cNvPicPr/>
          <p:nvPr/>
        </p:nvPicPr>
        <p:blipFill>
          <a:blip r:embed="rId1"/>
          <a:stretch/>
        </p:blipFill>
        <p:spPr>
          <a:xfrm>
            <a:off x="3886200" y="4724280"/>
            <a:ext cx="1657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362320" y="2514240"/>
            <a:ext cx="2133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5410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03" dur="2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153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14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9002E-006 L -0.09479 0.00231 E">
                                      <p:cBhvr>
                                        <p:cTn id="180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3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285640" y="251424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6781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5410080" y="38098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244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9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93d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6324480" y="2514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6 0 E">
                                      <p:cBhvr>
                                        <p:cTn id="321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371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904760" y="251424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352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67057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3733920" y="37339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34340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952880" y="373392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25146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13343E-006 L -0.10834 -2.13343E-006 E">
                                      <p:cBhvr>
                                        <p:cTn id="385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3520" y="23619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6 + 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876920" y="251460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563868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4290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6248520" y="2438280"/>
            <a:ext cx="1904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 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276720" y="37339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4267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4876920" y="38098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190512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 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458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val 75"/>
          <p:cNvSpPr/>
          <p:nvPr/>
        </p:nvSpPr>
        <p:spPr>
          <a:xfrm>
            <a:off x="2133720" y="3200400"/>
            <a:ext cx="3962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9"/>
          <p:cNvSpPr/>
          <p:nvPr/>
        </p:nvSpPr>
        <p:spPr>
          <a:xfrm>
            <a:off x="6248520" y="1447920"/>
            <a:ext cx="12189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8"/>
          <p:cNvSpPr/>
          <p:nvPr/>
        </p:nvSpPr>
        <p:spPr>
          <a:xfrm>
            <a:off x="1600200" y="1371600"/>
            <a:ext cx="1523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029200" y="190476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3733920" y="17524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6705720" y="28954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25"/>
              <p:cNvSpPr txBox="1"/>
              <p:nvPr/>
            </p:nvSpPr>
            <p:spPr>
              <a:xfrm>
                <a:off x="3200400" y="1828800"/>
                <a:ext cx="41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8"/>
              <p:cNvSpPr txBox="1"/>
              <p:nvPr/>
            </p:nvSpPr>
            <p:spPr>
              <a:xfrm>
                <a:off x="2133720" y="1863720"/>
                <a:ext cx="403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4" name="Rectangle 29"/>
          <p:cNvSpPr/>
          <p:nvPr/>
        </p:nvSpPr>
        <p:spPr>
          <a:xfrm>
            <a:off x="624852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0"/>
              <p:cNvSpPr txBox="1"/>
              <p:nvPr/>
            </p:nvSpPr>
            <p:spPr>
              <a:xfrm>
                <a:off x="6705720" y="1711440"/>
                <a:ext cx="4572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52"/>
              <p:cNvSpPr txBox="1"/>
              <p:nvPr/>
            </p:nvSpPr>
            <p:spPr>
              <a:xfrm>
                <a:off x="4433760" y="1590840"/>
                <a:ext cx="59544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WordArt 55"/>
          <p:cNvSpPr txBox="1"/>
          <p:nvPr/>
        </p:nvSpPr>
        <p:spPr>
          <a:xfrm rot="5400000">
            <a:off x="-1981080" y="35049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58" name="Rectangle 56"/>
          <p:cNvSpPr/>
          <p:nvPr/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7"/>
          <p:cNvSpPr/>
          <p:nvPr/>
        </p:nvSpPr>
        <p:spPr>
          <a:xfrm>
            <a:off x="160020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4"/>
          <p:cNvSpPr/>
          <p:nvPr/>
        </p:nvSpPr>
        <p:spPr>
          <a:xfrm>
            <a:off x="4343400" y="345744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5"/>
          <p:cNvSpPr/>
          <p:nvPr/>
        </p:nvSpPr>
        <p:spPr>
          <a:xfrm>
            <a:off x="5638680" y="3381480"/>
            <a:ext cx="533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6"/>
              <p:cNvSpPr txBox="1"/>
              <p:nvPr/>
            </p:nvSpPr>
            <p:spPr>
              <a:xfrm>
                <a:off x="3016080" y="3276720"/>
                <a:ext cx="4892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Rectangle 67"/>
          <p:cNvSpPr/>
          <p:nvPr/>
        </p:nvSpPr>
        <p:spPr>
          <a:xfrm>
            <a:off x="3657600" y="338148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1"/>
          <p:cNvSpPr/>
          <p:nvPr/>
        </p:nvSpPr>
        <p:spPr>
          <a:xfrm>
            <a:off x="29718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2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4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834 0 E">
                                      <p:cBhvr>
                                        <p:cTn id="61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5 0 E">
                                      <p:cBhvr>
                                        <p:cTn id="669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03:01Z</dcterms:created>
  <dc:creator>User</dc:creator>
  <dc:description/>
  <dc:language>en-US</dc:language>
  <cp:lastModifiedBy>RomaK</cp:lastModifiedBy>
  <dcterms:modified xsi:type="dcterms:W3CDTF">2015-09-04T09:22:06Z</dcterms:modified>
  <cp:revision>25</cp:revision>
  <dc:subject/>
  <dc:title>3.1-Solving Equations by Adding and Subtracting</dc:title>
</cp:coreProperties>
</file>