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AB65-EFC7-4BDC-81E6-BCF1839DC5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F8C-9221-4817-B25B-61DAF4A3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2F3-53C9-479F-AE7F-CE7488CA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036-4459-4FD1-85C8-F2078DA2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CFD-0C4F-4796-A99A-92B60DD9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793E1-C7F9-432A-A38A-A6B1803D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D3B0C-A556-4D05-9632-C287AC98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A1690-4618-4A33-BC39-BE3ECB96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2175E-2B3C-4807-8509-D66ACA91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FEA59-2064-4434-A018-DA3F7616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163A4-D578-4966-A186-572724FC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495CD-7455-4E6A-BA4B-BC538F89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892-7C4D-4375-AF75-BAD0C147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3B3B2-91C0-4B14-88A4-88E4952B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75FD8-D8D2-4D16-924F-2B2A6480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283DD-8F05-4D55-BB72-AE1F1114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F7777-C6A3-4308-BE9C-21DF3564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B7C41-30F2-41EF-B96A-A27E4F5B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F52B-CAC0-4891-9645-C887F936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DE45F-84A2-4D25-B128-81D887E4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CD9DC-F41A-44C4-8D06-4FCCA8C5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4047-D548-4900-B4ED-F9771CEC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35ABE-FB7F-4BB9-B571-B152D813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2F7-F2FD-4DED-BD35-452E13B1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9EB4-7E89-4795-A7A8-3EE2C870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44E13-26AA-4CCE-B798-C3E3CE50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B4ED-DD50-4A41-8F6E-45B1C10E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B953-CF8C-402D-B85A-E6A6B485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0111-F259-4E83-A08C-30BAD998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8CE2-9E88-41BB-86B7-95AD2242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F4C1-864C-49FB-8293-A4D0ED21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EED0E-885A-429F-B08C-8CAF7CEA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C25CC-DD87-4180-B7F0-BEA40D6C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B9085-60A6-4082-AA33-69B715E1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035-E9D5-4C54-8C46-42807DCB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6F0A1-1BEE-4AAF-9E0E-7546B54D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B6F7E-D536-4CD3-81DB-545ED636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C698-AB1C-4B82-9599-9ECF43C3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0189B-004A-447B-8FE3-318F40E9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59C51-7746-4921-93B5-00034650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A6BE4-FD57-4CC9-8FC1-27E33581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5AD6-216F-4C0E-B4AC-773DE515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A2997-A66C-4D75-8C75-3F79F654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40D11-6319-40B8-910F-491D69AC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4E731-04A0-4A81-A1BB-875615D6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444-6C4D-4283-8FC3-79C4203C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8C77E-F1AD-4CE5-8D03-85D6D58D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19156-9B7E-4801-8C2C-DF72E283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8CBA3-E584-4A09-8706-59B13978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23302-5669-4AFB-AA22-FC2AEB33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09948-9327-4F2C-A0B1-A2D4AA57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A42A-AF44-4081-AC3B-7C3C359D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A682-F32A-464B-A075-D9DF6FC5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A62E9-AFF4-4F5B-A3BB-2F4FE01B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95F62-3271-424F-A4EC-C674778A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5F7AE-3DB8-481C-9228-84F6DAE5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896-8349-4F13-8142-2AC6EB26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F20F-F7BB-41AA-B8DF-AABC5760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52F-2116-4DB3-9977-CC1EF5B4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7E6-0834-4FB5-A6E7-BB7F5E0B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B04-E7B0-4DA1-A380-785257D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82A8-7D33-4170-91C5-EEDA3084F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74D6-DEA1-4D6E-950D-29C0BAF285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47D1-071F-4132-A589-1B83637C7B8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F629-C566-4869-B4CF-0405DA0C4B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DECB-5813-4067-AB77-D9139AB477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8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RomaK</cp:lastModifiedBy>
  <dcterms:modified xsi:type="dcterms:W3CDTF">2015-09-04T09:22:06Z</dcterms:modified>
  <cp:revision>25</cp:revision>
  <dc:subject/>
  <dc:title>3.1-Solving Equations by Adding and Subtracting</dc:title>
</cp:coreProperties>
</file>