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412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252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4120" y="873252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5F94-3F21-40AC-B38C-AEFE8F003A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basically describes the steepness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basically describes the steepness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goes up from left to right, then the slope has to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ely, if a line goes down from left to right, then the slope has to be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goes up from left to right, then the slope has to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ely, if a line goes down from left to right, then the slope has to be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is in the form Ax + By = C, we can use the following formula to find the slo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is in the form Ax + By = C, we can use the following formula to find the slo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lines have a slope of zero while vertical lines have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lines have a slope of zero while vertical lines have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B91-F4CF-4727-9783-E4EB94F1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104-CEC5-4783-A821-5ECC2FB7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6209-6044-4D53-AB1E-3451FF97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376-592B-4020-806B-8487238F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FF2-B552-451B-8FA1-681EEFC2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A16-788B-4A19-9F74-9556333B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631-C526-498E-9BD7-D619ADD6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CF6-DEB6-48E4-B114-AE5650E6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C2C-341C-4CDD-97C6-D84F71B8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E8F-4184-4F62-90DD-A6298E1D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500-E881-4092-884C-36952FF4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EEB-282A-4739-9159-45036C32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E5A7-0B25-4F95-B082-8AB366A5D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3880" y="7621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lope of a L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2666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lope basically describes the steepness of a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600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a line goes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u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rom left to right, then the slope has to be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posi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3962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rsely, if a line goes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dow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rom left to right, then the slope has to be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neg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752480" y="45720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finitions of S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0" y="12193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1360" y="3809880"/>
            <a:ext cx="880128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723960" y="3809880"/>
                <a:ext cx="76960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lope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14720" y="380880"/>
            <a:ext cx="2971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3125880" y="380880"/>
                <a:ext cx="289224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Text Box 4"/>
          <p:cNvSpPr/>
          <p:nvPr/>
        </p:nvSpPr>
        <p:spPr>
          <a:xfrm>
            <a:off x="0" y="2514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0" y="4419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380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a line is in the form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x + By = C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we can use the following formula to find the slop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505320" y="2666880"/>
            <a:ext cx="213336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81280" y="2714760"/>
                <a:ext cx="19814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8600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1295280"/>
            <a:ext cx="4038480" cy="533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800600" y="1295280"/>
            <a:ext cx="4038480" cy="533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380880" y="1371600"/>
                <a:ext cx="3895920" cy="52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,4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,6</m:t>
                            </m:r>
                          </m:e>
                        </m:d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4876920" y="1295280"/>
                <a:ext cx="3581280" cy="301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2576520" y="236232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236232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3"/>
          <p:cNvSpPr/>
          <p:nvPr/>
        </p:nvSpPr>
        <p:spPr>
          <a:xfrm>
            <a:off x="343080" y="2286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rizontal lines have a slope of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ero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while vertical lines hav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 s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2743200" y="3048120"/>
            <a:ext cx="3581280" cy="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>
            <a:off x="3886200" y="2590920"/>
            <a:ext cx="0" cy="35049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781680" y="4038480"/>
            <a:ext cx="2133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Horizo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228600" y="4038480"/>
            <a:ext cx="2057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Ver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572000" y="310824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038480" y="4648320"/>
            <a:ext cx="1600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 = no sl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19:31:45Z</dcterms:created>
  <dc:creator>Chester Area School</dc:creator>
  <dc:description/>
  <dc:language>en-US</dc:language>
  <cp:lastModifiedBy>RomaK</cp:lastModifiedBy>
  <dcterms:modified xsi:type="dcterms:W3CDTF">2015-09-04T09:21:22Z</dcterms:modified>
  <cp:revision>18</cp:revision>
  <dc:subject/>
  <dc:title>PowerPoint Presentation</dc:title>
</cp:coreProperties>
</file>