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41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412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CCFE-E83B-4E36-816E-845F0AC083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742-E206-463C-9B66-634633DF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FC3-4D5C-405D-A4FF-1054382E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F1A-EFFF-49D3-A035-3D7D6BA9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2AA-2D83-48A6-A08B-4BF37666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73E-3077-461B-AFA7-EC0AF1EF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EB6-88C8-4EE1-BEBF-4817D2B4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DF6-DF57-4C24-ABAA-217A75A8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065-CF1A-4E8A-9631-47354388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F59-DFED-4BA5-8FA6-87765AFD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0DE-C40F-4985-9307-46CA8231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753-3247-4861-B1C9-C09DF01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344-2CD8-452C-9997-27D1CE03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CBD6-9566-457D-A6B5-A1AF3114C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3880" y="7621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lope of a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666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ope basically describes the steepness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u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ely, 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457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tions of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1360" y="3809880"/>
            <a:ext cx="880128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723960" y="3809880"/>
                <a:ext cx="769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4720" y="380880"/>
            <a:ext cx="2971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25880" y="380880"/>
                <a:ext cx="2892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is in the for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x + By = 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we can use the following formula to find the slop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05320" y="2666880"/>
            <a:ext cx="21333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2714760"/>
                <a:ext cx="1981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80880" y="1371600"/>
                <a:ext cx="3895920" cy="52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,6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876920" y="1295280"/>
                <a:ext cx="3581280" cy="30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576520" y="236232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236232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4308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rizontal lines have a slope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er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ile vertical lines hav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43200" y="3048120"/>
            <a:ext cx="35812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886200" y="2590920"/>
            <a:ext cx="0" cy="3504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0384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28600" y="40384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3108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038480" y="4648320"/>
            <a:ext cx="1600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 = no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31:45Z</dcterms:created>
  <dc:creator>Chester Area School</dc:creator>
  <dc:description/>
  <dc:language>en-US</dc:language>
  <cp:lastModifiedBy>RomaK</cp:lastModifiedBy>
  <dcterms:modified xsi:type="dcterms:W3CDTF">2015-09-04T09:21:22Z</dcterms:modified>
  <cp:revision>18</cp:revision>
  <dc:subject/>
  <dc:title>PowerPoint Presentation</dc:title>
</cp:coreProperties>
</file>