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jpeg" ContentType="image/jpeg"/>
  <Override PartName="/ppt/media/image22.wmf" ContentType="image/x-wmf"/>
  <Override PartName="/ppt/media/image5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8BAA-5067-4D61-ABB7-BF9A31C7D8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 to browser’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slope lesson is interactive and I have students use graph paper as they follow al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formulated for the California High School Exit Exam math standa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o browser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ope lesson is interactive and I have students use graph paper as they follow a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formulated for the California High School Exit Exam math 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“stairs” are all through the line and the same siz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tairs” are all through the line and the same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I make a line if the stairs aren’t the same siz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 make a line if the stairs aren’t the same siz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find the slope, use the formul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ind the slope, use the formu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find the slope, use the formul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ind the slope, use the formu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slope of the following lin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slope of the following li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e slope positive or negativ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, Read from left to r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lope positive or nega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, Read from left to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y for yoursel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2 lines with the following slopes on your graph pap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t anywhere on your coordinate pla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for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2 lines with the following slopes on your graph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nywhere on your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last 2 lines had a positive slope, let’s look at slopes with negative slo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2 lines had a positive slope, let’s look at slopes with negative sl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op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lo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still use rise over run, except the “stairs” are underneath the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ill use rise over run, except the “stairs” are underneath the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y for yoursel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2 lines with the following slopes on your graph pap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t anywhere on your coordinate pla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for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2 lines with the following slopes on your graph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nywhere on your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HSEE Standa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3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ph linear functions, noting that the vertical change (change in y-value) per unit of horizontal change (change in x-value) is always the same and know that the ratio (“rise over run”) is called the slope of a graph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HSEE Stand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 linear functions, noting that the vertical change (change in y-value) per unit of horizontal change (change in x-value) is always the same and know that the ratio (“rise over run”) is called the slope of a graph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you need to 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 the slope on a grap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rst find where the line goes through (intersects the grid lin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a triangle and calculate the slo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need to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slope on a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ind where the line goes through (intersects the grid li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triangle and calculate the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you need to 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cide if it’s a negative or positive slo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ce the triangle on the graph pap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the CAHSEE you can write on the test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need to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e if it’s a negative or positive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 the triangle on the graph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CAHSEE you can write on the t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you need to 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the formu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se is negative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un is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need to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e is negativ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is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it’s your tur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 the slope on each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rst make points where the line intersects the gr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n calculate the slo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you finish early, then also identify where the line crosses the y-ax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’s your 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slope on each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make points where the line intersects the g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calculate the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finish early, then also identify where the line crosses the y-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leased Question from CAHS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eased Question from CAH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o engineers build bridg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engineers build bridg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leased Question from CAHS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eased Question from CAH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o engineers build road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engineers build roa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an we write 7% as a frac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write 7% as a fra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% as a fraction?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mber than any percent is a part of 10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% as a fraction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han any percent is a part of 1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rade of a road is the same as slo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 is the pictur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 fe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0 fe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de of a road is the same as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pictu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lope measures the “rise” and “run” of the stairs beneath or above the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measures the “rise” and “run” of the stairs beneath or above the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2E52-09AB-44DF-811C-2C756B135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EB57-396B-419A-B3DF-8174AB66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FCF1-6E73-4B4E-A6C2-E6CCCF432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F4AA-F40D-4574-8173-B2931CDBA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06BD2-9937-4355-95B6-19DAF513F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5C61E-5637-44C1-987E-F6141701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DC822-4C55-46F1-9A90-15FC9D18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BC5E2-64EC-4288-9656-E8CE2EFF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F2504-19C2-4160-B4A3-F531A19F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3FE8C-DB1C-4257-9388-C65AEBF9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18C76C-9A69-47CD-A2F9-C0069A8D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EC02-A287-4589-9421-F8237631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8A0F43-9F82-4476-81B1-5B85C178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8DEA35-C3C0-466A-A3D6-AD9017EC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96E29-B2E3-4C65-AACA-1219A773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C6D51-95D4-4610-B7D9-FDB90A594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3B39E-678E-4B34-B8E4-4258A01E9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F828-300A-4AC4-B7FE-40CAEF1C8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4AE5-459F-44A9-BB4C-AECA6DB9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5592-C514-4BA7-A79E-973E0593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2141-50F9-439A-A468-4BE23721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E2CC-EB2C-446E-A136-5F2CA6BA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99F4-FDAC-44F8-8FFB-C0D5D323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7CE5-0EFC-486F-8E79-D0325E83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F533-D152-415A-A0E7-04EC70ADE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A43B-A777-4F05-BB1C-09D78F882E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Not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 to browser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slope lesson is interactive and I have students use graph paper as they follow al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formulated for the California High School Exit Exam math 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“stairs” are all through the line and the same siz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4"/>
          <p:cNvSpPr/>
          <p:nvPr/>
        </p:nvSpPr>
        <p:spPr>
          <a:xfrm flipV="1">
            <a:off x="1447920" y="2133360"/>
            <a:ext cx="4419360" cy="43434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 rot="5400000">
            <a:off x="3657600" y="3429000"/>
            <a:ext cx="914400" cy="91440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8"/>
          <p:cNvSpPr/>
          <p:nvPr/>
        </p:nvSpPr>
        <p:spPr>
          <a:xfrm rot="5400000">
            <a:off x="2743200" y="4343400"/>
            <a:ext cx="914400" cy="914400"/>
          </a:xfrm>
          <a:prstGeom prst="rtTriangl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9"/>
          <p:cNvSpPr/>
          <p:nvPr/>
        </p:nvSpPr>
        <p:spPr>
          <a:xfrm rot="5400000">
            <a:off x="4572000" y="2514600"/>
            <a:ext cx="914400" cy="914400"/>
          </a:xfrm>
          <a:prstGeom prst="rtTriangl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10"/>
          <p:cNvSpPr/>
          <p:nvPr/>
        </p:nvSpPr>
        <p:spPr>
          <a:xfrm rot="5400000">
            <a:off x="1828800" y="5257800"/>
            <a:ext cx="914400" cy="9144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I make a line if the stairs aren’t the same siz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4"/>
          <p:cNvSpPr/>
          <p:nvPr/>
        </p:nvSpPr>
        <p:spPr>
          <a:xfrm flipV="1">
            <a:off x="1447920" y="2133360"/>
            <a:ext cx="4419360" cy="43434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5"/>
          <p:cNvSpPr/>
          <p:nvPr/>
        </p:nvSpPr>
        <p:spPr>
          <a:xfrm rot="5400000">
            <a:off x="3657600" y="3429000"/>
            <a:ext cx="914400" cy="91440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6"/>
          <p:cNvSpPr/>
          <p:nvPr/>
        </p:nvSpPr>
        <p:spPr>
          <a:xfrm rot="5400000">
            <a:off x="2286000" y="3962520"/>
            <a:ext cx="914400" cy="1676160"/>
          </a:xfrm>
          <a:prstGeom prst="rtTriangl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9"/>
          <p:cNvSpPr/>
          <p:nvPr/>
        </p:nvSpPr>
        <p:spPr>
          <a:xfrm rot="5400000">
            <a:off x="6781320" y="3047760"/>
            <a:ext cx="914400" cy="1676520"/>
          </a:xfrm>
          <a:prstGeom prst="rtTriangl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10"/>
          <p:cNvSpPr/>
          <p:nvPr/>
        </p:nvSpPr>
        <p:spPr>
          <a:xfrm rot="5400000">
            <a:off x="5104800" y="3962160"/>
            <a:ext cx="914400" cy="1676520"/>
          </a:xfrm>
          <a:prstGeom prst="rtTriangl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1"/>
          <p:cNvSpPr/>
          <p:nvPr/>
        </p:nvSpPr>
        <p:spPr>
          <a:xfrm flipV="1">
            <a:off x="3733920" y="2971800"/>
            <a:ext cx="5181480" cy="2819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 (m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find the slope, use the formu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4"/>
          <p:cNvSpPr/>
          <p:nvPr/>
        </p:nvSpPr>
        <p:spPr>
          <a:xfrm flipV="1">
            <a:off x="4800600" y="2743200"/>
            <a:ext cx="2362320" cy="2286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5"/>
          <p:cNvSpPr/>
          <p:nvPr/>
        </p:nvSpPr>
        <p:spPr>
          <a:xfrm rot="5400000">
            <a:off x="5486400" y="3429000"/>
            <a:ext cx="914400" cy="91440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105520" y="3733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5791320" y="28954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Object 8"/>
          <p:cNvGraphicFramePr/>
          <p:nvPr/>
        </p:nvGraphicFramePr>
        <p:xfrm>
          <a:off x="228600" y="2819520"/>
          <a:ext cx="2590920" cy="178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819520"/>
                    <a:ext cx="2590920" cy="17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 (m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find the slope, use the formu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4"/>
          <p:cNvSpPr/>
          <p:nvPr/>
        </p:nvSpPr>
        <p:spPr>
          <a:xfrm flipV="1">
            <a:off x="4800600" y="2743200"/>
            <a:ext cx="2362320" cy="2286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5"/>
          <p:cNvSpPr/>
          <p:nvPr/>
        </p:nvSpPr>
        <p:spPr>
          <a:xfrm rot="5400000">
            <a:off x="5486400" y="3429000"/>
            <a:ext cx="914400" cy="91440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5105520" y="3733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5791320" y="28954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Object 8"/>
          <p:cNvGraphicFramePr/>
          <p:nvPr/>
        </p:nvGraphicFramePr>
        <p:xfrm>
          <a:off x="1066680" y="2895480"/>
          <a:ext cx="2590920" cy="167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95480"/>
                    <a:ext cx="259092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 (m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the slope of the following lin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Object 21"/>
          <p:cNvGraphicFramePr/>
          <p:nvPr/>
        </p:nvGraphicFramePr>
        <p:xfrm>
          <a:off x="5867280" y="4114800"/>
          <a:ext cx="117324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114800"/>
                    <a:ext cx="117324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Line 5"/>
          <p:cNvSpPr/>
          <p:nvPr/>
        </p:nvSpPr>
        <p:spPr>
          <a:xfrm flipV="1">
            <a:off x="990720" y="2666520"/>
            <a:ext cx="2971800" cy="1676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7"/>
          <p:cNvSpPr/>
          <p:nvPr/>
        </p:nvSpPr>
        <p:spPr>
          <a:xfrm flipV="1">
            <a:off x="4648320" y="2590560"/>
            <a:ext cx="1676160" cy="25146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9"/>
          <p:cNvSpPr/>
          <p:nvPr/>
        </p:nvSpPr>
        <p:spPr>
          <a:xfrm rot="5400000">
            <a:off x="2095200" y="2857320"/>
            <a:ext cx="762120" cy="129528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1203480" y="3352680"/>
            <a:ext cx="32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2133720" y="2666880"/>
            <a:ext cx="32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609480" y="2438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4495680" y="2514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15"/>
          <p:cNvSpPr/>
          <p:nvPr/>
        </p:nvSpPr>
        <p:spPr>
          <a:xfrm rot="5400000">
            <a:off x="4800240" y="3581280"/>
            <a:ext cx="1219320" cy="76212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5257800" y="28195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7"/>
          <p:cNvSpPr/>
          <p:nvPr/>
        </p:nvSpPr>
        <p:spPr>
          <a:xfrm>
            <a:off x="4572000" y="38098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1" name="Object 20"/>
          <p:cNvGraphicFramePr/>
          <p:nvPr/>
        </p:nvGraphicFramePr>
        <p:xfrm>
          <a:off x="6858000" y="2666880"/>
          <a:ext cx="1905120" cy="131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0" y="2666880"/>
                    <a:ext cx="1905120" cy="13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23"/>
          <p:cNvGraphicFramePr/>
          <p:nvPr/>
        </p:nvGraphicFramePr>
        <p:xfrm>
          <a:off x="2630520" y="3886200"/>
          <a:ext cx="985680" cy="92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4" name="Object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30520" y="3886200"/>
                    <a:ext cx="98568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 (m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slope positive or negativ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4"/>
          <p:cNvSpPr/>
          <p:nvPr/>
        </p:nvSpPr>
        <p:spPr>
          <a:xfrm flipV="1">
            <a:off x="2895480" y="2819520"/>
            <a:ext cx="3353040" cy="2286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9" descr="MCj03974460000[1]"/>
          <p:cNvPicPr/>
          <p:nvPr/>
        </p:nvPicPr>
        <p:blipFill>
          <a:blip r:embed="rId1"/>
          <a:stretch/>
        </p:blipFill>
        <p:spPr>
          <a:xfrm>
            <a:off x="2133720" y="3124080"/>
            <a:ext cx="1827000" cy="183996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2"/>
          <p:cNvSpPr/>
          <p:nvPr/>
        </p:nvSpPr>
        <p:spPr>
          <a:xfrm>
            <a:off x="5257800" y="4191120"/>
            <a:ext cx="2743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itive, Read from left to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y for yoursel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 2 lines with the following slopes on your graph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anywhere on your coordinate pla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1676520" y="3048120"/>
          <a:ext cx="127620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048120"/>
                    <a:ext cx="127620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7"/>
          <p:cNvGraphicFramePr/>
          <p:nvPr/>
        </p:nvGraphicFramePr>
        <p:xfrm>
          <a:off x="5105520" y="3048120"/>
          <a:ext cx="1276200" cy="119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3048120"/>
                    <a:ext cx="127620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457200" y="1828800"/>
          <a:ext cx="5715000" cy="4145040"/>
        </p:xfrm>
        <a:graphic>
          <a:graphicData uri="http://schemas.openxmlformats.org/drawingml/2006/table">
            <a:tbl>
              <a:tblPr/>
              <a:tblGrid>
                <a:gridCol w="714240"/>
                <a:gridCol w="714600"/>
                <a:gridCol w="714240"/>
                <a:gridCol w="714600"/>
                <a:gridCol w="714240"/>
                <a:gridCol w="714240"/>
                <a:gridCol w="714600"/>
                <a:gridCol w="714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17" name="Group 100"/>
          <p:cNvGrpSpPr/>
          <p:nvPr/>
        </p:nvGrpSpPr>
        <p:grpSpPr>
          <a:xfrm>
            <a:off x="457200" y="1828800"/>
            <a:ext cx="5715000" cy="4191120"/>
            <a:chOff x="457200" y="1828800"/>
            <a:chExt cx="5715000" cy="4191120"/>
          </a:xfrm>
        </p:grpSpPr>
        <p:sp>
          <p:nvSpPr>
            <p:cNvPr id="218" name="Line 97"/>
            <p:cNvSpPr/>
            <p:nvPr/>
          </p:nvSpPr>
          <p:spPr>
            <a:xfrm>
              <a:off x="3352680" y="182880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98"/>
            <p:cNvSpPr/>
            <p:nvPr/>
          </p:nvSpPr>
          <p:spPr>
            <a:xfrm>
              <a:off x="457200" y="3886200"/>
              <a:ext cx="5715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AutoShape 99"/>
          <p:cNvSpPr/>
          <p:nvPr/>
        </p:nvSpPr>
        <p:spPr>
          <a:xfrm rot="5400000">
            <a:off x="2323440" y="2933640"/>
            <a:ext cx="609840" cy="1447560"/>
          </a:xfrm>
          <a:prstGeom prst="rtTriangle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101"/>
          <p:cNvSpPr/>
          <p:nvPr/>
        </p:nvSpPr>
        <p:spPr>
          <a:xfrm flipV="1">
            <a:off x="1143000" y="2742840"/>
            <a:ext cx="3809880" cy="152388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2" name="Object 103"/>
          <p:cNvGraphicFramePr/>
          <p:nvPr/>
        </p:nvGraphicFramePr>
        <p:xfrm>
          <a:off x="6858000" y="2533680"/>
          <a:ext cx="1523880" cy="143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10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2533680"/>
                    <a:ext cx="1523880" cy="14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457200" y="1828800"/>
          <a:ext cx="5715000" cy="4145040"/>
        </p:xfrm>
        <a:graphic>
          <a:graphicData uri="http://schemas.openxmlformats.org/drawingml/2006/table">
            <a:tbl>
              <a:tblPr/>
              <a:tblGrid>
                <a:gridCol w="714240"/>
                <a:gridCol w="714600"/>
                <a:gridCol w="714240"/>
                <a:gridCol w="714600"/>
                <a:gridCol w="714240"/>
                <a:gridCol w="714240"/>
                <a:gridCol w="714600"/>
                <a:gridCol w="714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25" name="Group 85"/>
          <p:cNvGrpSpPr/>
          <p:nvPr/>
        </p:nvGrpSpPr>
        <p:grpSpPr>
          <a:xfrm>
            <a:off x="457200" y="1828800"/>
            <a:ext cx="5715000" cy="4191120"/>
            <a:chOff x="457200" y="1828800"/>
            <a:chExt cx="5715000" cy="4191120"/>
          </a:xfrm>
        </p:grpSpPr>
        <p:sp>
          <p:nvSpPr>
            <p:cNvPr id="226" name="Line 86"/>
            <p:cNvSpPr/>
            <p:nvPr/>
          </p:nvSpPr>
          <p:spPr>
            <a:xfrm>
              <a:off x="3352680" y="182880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87"/>
            <p:cNvSpPr/>
            <p:nvPr/>
          </p:nvSpPr>
          <p:spPr>
            <a:xfrm>
              <a:off x="457200" y="3886200"/>
              <a:ext cx="5715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AutoShape 88"/>
          <p:cNvSpPr/>
          <p:nvPr/>
        </p:nvSpPr>
        <p:spPr>
          <a:xfrm rot="5400000">
            <a:off x="2514240" y="1752480"/>
            <a:ext cx="1600200" cy="2819160"/>
          </a:xfrm>
          <a:prstGeom prst="rtTriangle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89"/>
          <p:cNvSpPr/>
          <p:nvPr/>
        </p:nvSpPr>
        <p:spPr>
          <a:xfrm flipV="1">
            <a:off x="1219320" y="2133720"/>
            <a:ext cx="3962160" cy="220968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0" name="Object 90"/>
          <p:cNvGraphicFramePr/>
          <p:nvPr/>
        </p:nvGraphicFramePr>
        <p:xfrm>
          <a:off x="6858000" y="2533680"/>
          <a:ext cx="1523880" cy="143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9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2533680"/>
                    <a:ext cx="1523880" cy="14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 (m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ast 2 lines had a positive slope, let’s look at slopes with negative slo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4"/>
          <p:cNvSpPr/>
          <p:nvPr/>
        </p:nvSpPr>
        <p:spPr>
          <a:xfrm>
            <a:off x="2895480" y="3429000"/>
            <a:ext cx="3962520" cy="2286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5" descr="MCj03974460000[1]"/>
          <p:cNvPicPr/>
          <p:nvPr/>
        </p:nvPicPr>
        <p:blipFill>
          <a:blip r:embed="rId1"/>
          <a:stretch/>
        </p:blipFill>
        <p:spPr>
          <a:xfrm rot="5124600">
            <a:off x="3358440" y="2431800"/>
            <a:ext cx="182736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Slope 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 (m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still use rise over run, except the “stairs” are underneath the l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4"/>
          <p:cNvSpPr/>
          <p:nvPr/>
        </p:nvSpPr>
        <p:spPr>
          <a:xfrm>
            <a:off x="2438280" y="3048120"/>
            <a:ext cx="3962520" cy="2286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3352680" y="3581280"/>
            <a:ext cx="1676520" cy="99072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388800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2668680" y="38098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2" name="Object 12"/>
          <p:cNvGraphicFramePr/>
          <p:nvPr/>
        </p:nvGraphicFramePr>
        <p:xfrm>
          <a:off x="6033960" y="2819520"/>
          <a:ext cx="1800360" cy="143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960" y="2819520"/>
                    <a:ext cx="1800360" cy="14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y for yoursel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 2 lines with the following slopes on your graph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anywhere on your coordinate pla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6" name="Object 4"/>
          <p:cNvGraphicFramePr/>
          <p:nvPr/>
        </p:nvGraphicFramePr>
        <p:xfrm>
          <a:off x="1579680" y="3048120"/>
          <a:ext cx="146988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9680" y="3048120"/>
                    <a:ext cx="146988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5"/>
          <p:cNvGraphicFramePr/>
          <p:nvPr/>
        </p:nvGraphicFramePr>
        <p:xfrm>
          <a:off x="4989600" y="3048120"/>
          <a:ext cx="1508040" cy="119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89600" y="3048120"/>
                    <a:ext cx="150804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457200" y="1828800"/>
          <a:ext cx="5715000" cy="4145040"/>
        </p:xfrm>
        <a:graphic>
          <a:graphicData uri="http://schemas.openxmlformats.org/drawingml/2006/table">
            <a:tbl>
              <a:tblPr/>
              <a:tblGrid>
                <a:gridCol w="714240"/>
                <a:gridCol w="714600"/>
                <a:gridCol w="714240"/>
                <a:gridCol w="714600"/>
                <a:gridCol w="714240"/>
                <a:gridCol w="714240"/>
                <a:gridCol w="714600"/>
                <a:gridCol w="714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51" name="Group 85"/>
          <p:cNvGrpSpPr/>
          <p:nvPr/>
        </p:nvGrpSpPr>
        <p:grpSpPr>
          <a:xfrm>
            <a:off x="457200" y="1828800"/>
            <a:ext cx="5715000" cy="4191120"/>
            <a:chOff x="457200" y="1828800"/>
            <a:chExt cx="5715000" cy="4191120"/>
          </a:xfrm>
        </p:grpSpPr>
        <p:sp>
          <p:nvSpPr>
            <p:cNvPr id="252" name="Line 86"/>
            <p:cNvSpPr/>
            <p:nvPr/>
          </p:nvSpPr>
          <p:spPr>
            <a:xfrm>
              <a:off x="3352680" y="182880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87"/>
            <p:cNvSpPr/>
            <p:nvPr/>
          </p:nvSpPr>
          <p:spPr>
            <a:xfrm>
              <a:off x="457200" y="3886200"/>
              <a:ext cx="5715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4" name="AutoShape 88"/>
          <p:cNvSpPr/>
          <p:nvPr/>
        </p:nvSpPr>
        <p:spPr>
          <a:xfrm flipV="1" rot="16200000">
            <a:off x="3771360" y="2705040"/>
            <a:ext cx="533520" cy="2895480"/>
          </a:xfrm>
          <a:prstGeom prst="rtTriangle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89"/>
          <p:cNvSpPr/>
          <p:nvPr/>
        </p:nvSpPr>
        <p:spPr>
          <a:xfrm>
            <a:off x="1600200" y="3733920"/>
            <a:ext cx="4343400" cy="76176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6" name="Object 90"/>
          <p:cNvGraphicFramePr/>
          <p:nvPr/>
        </p:nvGraphicFramePr>
        <p:xfrm>
          <a:off x="6858000" y="2627280"/>
          <a:ext cx="1523880" cy="12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9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2627280"/>
                    <a:ext cx="1523880" cy="12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457200" y="1828800"/>
          <a:ext cx="5715000" cy="4145040"/>
        </p:xfrm>
        <a:graphic>
          <a:graphicData uri="http://schemas.openxmlformats.org/drawingml/2006/table">
            <a:tbl>
              <a:tblPr/>
              <a:tblGrid>
                <a:gridCol w="714240"/>
                <a:gridCol w="714600"/>
                <a:gridCol w="714240"/>
                <a:gridCol w="714600"/>
                <a:gridCol w="714240"/>
                <a:gridCol w="714240"/>
                <a:gridCol w="714600"/>
                <a:gridCol w="714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59" name="Group 85"/>
          <p:cNvGrpSpPr/>
          <p:nvPr/>
        </p:nvGrpSpPr>
        <p:grpSpPr>
          <a:xfrm>
            <a:off x="457200" y="1828800"/>
            <a:ext cx="5715000" cy="4191120"/>
            <a:chOff x="457200" y="1828800"/>
            <a:chExt cx="5715000" cy="4191120"/>
          </a:xfrm>
        </p:grpSpPr>
        <p:sp>
          <p:nvSpPr>
            <p:cNvPr id="260" name="Line 86"/>
            <p:cNvSpPr/>
            <p:nvPr/>
          </p:nvSpPr>
          <p:spPr>
            <a:xfrm>
              <a:off x="3352680" y="182880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Line 87"/>
            <p:cNvSpPr/>
            <p:nvPr/>
          </p:nvSpPr>
          <p:spPr>
            <a:xfrm>
              <a:off x="457200" y="3886200"/>
              <a:ext cx="5715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2" name="AutoShape 88"/>
          <p:cNvSpPr/>
          <p:nvPr/>
        </p:nvSpPr>
        <p:spPr>
          <a:xfrm flipV="1" rot="16200000">
            <a:off x="2018880" y="1485720"/>
            <a:ext cx="2590560" cy="4343400"/>
          </a:xfrm>
          <a:prstGeom prst="rtTriangle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89"/>
          <p:cNvSpPr/>
          <p:nvPr/>
        </p:nvSpPr>
        <p:spPr>
          <a:xfrm>
            <a:off x="685800" y="2057400"/>
            <a:ext cx="5105520" cy="304812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4" name="Object 90"/>
          <p:cNvGraphicFramePr/>
          <p:nvPr/>
        </p:nvGraphicFramePr>
        <p:xfrm>
          <a:off x="6858000" y="2643120"/>
          <a:ext cx="1523880" cy="12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9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2643120"/>
                    <a:ext cx="1523880" cy="12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AHSEE Standar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914400" y="2133720"/>
            <a:ext cx="7391520" cy="27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3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ph linear functions, noting that the vertical change (change in y-value) per unit of horizontal change (change in x-value) is always the same and know that the ratio (“rise over run”) is called the slope of a graph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do you need to do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the slope on a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find where the line goes through (intersects the grid lin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 a triangle and calculate the sl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457200" y="1676520"/>
          <a:ext cx="4038480" cy="461016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73" name="Group 85"/>
          <p:cNvGrpSpPr/>
          <p:nvPr/>
        </p:nvGrpSpPr>
        <p:grpSpPr>
          <a:xfrm>
            <a:off x="304920" y="1981080"/>
            <a:ext cx="4267080" cy="4191120"/>
            <a:chOff x="304920" y="1981080"/>
            <a:chExt cx="4267080" cy="4191120"/>
          </a:xfrm>
        </p:grpSpPr>
        <p:sp>
          <p:nvSpPr>
            <p:cNvPr id="274" name="Line 86"/>
            <p:cNvSpPr/>
            <p:nvPr/>
          </p:nvSpPr>
          <p:spPr>
            <a:xfrm>
              <a:off x="2466720" y="198108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304920" y="4038480"/>
              <a:ext cx="4267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Line 89"/>
          <p:cNvSpPr/>
          <p:nvPr/>
        </p:nvSpPr>
        <p:spPr>
          <a:xfrm>
            <a:off x="685800" y="2438280"/>
            <a:ext cx="3581280" cy="182880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Oval 97"/>
          <p:cNvSpPr/>
          <p:nvPr/>
        </p:nvSpPr>
        <p:spPr>
          <a:xfrm>
            <a:off x="1371600" y="2743200"/>
            <a:ext cx="15228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Oval 98"/>
          <p:cNvSpPr/>
          <p:nvPr/>
        </p:nvSpPr>
        <p:spPr>
          <a:xfrm>
            <a:off x="2438280" y="3276720"/>
            <a:ext cx="15264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do you need to do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de if it’s a negative or positive sl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e the triangle on the graph pa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he CAHSEE you can write on the tes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457200" y="1676520"/>
          <a:ext cx="4038480" cy="461016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83" name="Group 88"/>
          <p:cNvGrpSpPr/>
          <p:nvPr/>
        </p:nvGrpSpPr>
        <p:grpSpPr>
          <a:xfrm>
            <a:off x="304920" y="1981080"/>
            <a:ext cx="4267080" cy="4191120"/>
            <a:chOff x="304920" y="1981080"/>
            <a:chExt cx="4267080" cy="4191120"/>
          </a:xfrm>
        </p:grpSpPr>
        <p:sp>
          <p:nvSpPr>
            <p:cNvPr id="284" name="Line 89"/>
            <p:cNvSpPr/>
            <p:nvPr/>
          </p:nvSpPr>
          <p:spPr>
            <a:xfrm>
              <a:off x="2466720" y="198108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90"/>
            <p:cNvSpPr/>
            <p:nvPr/>
          </p:nvSpPr>
          <p:spPr>
            <a:xfrm>
              <a:off x="304920" y="4038480"/>
              <a:ext cx="4267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6" name="Line 91"/>
          <p:cNvSpPr/>
          <p:nvPr/>
        </p:nvSpPr>
        <p:spPr>
          <a:xfrm>
            <a:off x="685800" y="2438280"/>
            <a:ext cx="3581280" cy="182880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Oval 92"/>
          <p:cNvSpPr/>
          <p:nvPr/>
        </p:nvSpPr>
        <p:spPr>
          <a:xfrm>
            <a:off x="1371600" y="2743200"/>
            <a:ext cx="15228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Oval 93"/>
          <p:cNvSpPr/>
          <p:nvPr/>
        </p:nvSpPr>
        <p:spPr>
          <a:xfrm>
            <a:off x="2438280" y="3276720"/>
            <a:ext cx="15264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94"/>
          <p:cNvSpPr/>
          <p:nvPr/>
        </p:nvSpPr>
        <p:spPr>
          <a:xfrm>
            <a:off x="1447920" y="2895480"/>
            <a:ext cx="0" cy="45720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do you need to do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he formu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e is negative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 is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457200" y="1676520"/>
          <a:ext cx="4038480" cy="461016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94" name="Group 88"/>
          <p:cNvGrpSpPr/>
          <p:nvPr/>
        </p:nvGrpSpPr>
        <p:grpSpPr>
          <a:xfrm>
            <a:off x="304920" y="1981080"/>
            <a:ext cx="4267080" cy="4191120"/>
            <a:chOff x="304920" y="1981080"/>
            <a:chExt cx="4267080" cy="4191120"/>
          </a:xfrm>
        </p:grpSpPr>
        <p:sp>
          <p:nvSpPr>
            <p:cNvPr id="295" name="Line 89"/>
            <p:cNvSpPr/>
            <p:nvPr/>
          </p:nvSpPr>
          <p:spPr>
            <a:xfrm>
              <a:off x="2466720" y="198108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90"/>
            <p:cNvSpPr/>
            <p:nvPr/>
          </p:nvSpPr>
          <p:spPr>
            <a:xfrm>
              <a:off x="304920" y="4038480"/>
              <a:ext cx="4267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7" name="Line 91"/>
          <p:cNvSpPr/>
          <p:nvPr/>
        </p:nvSpPr>
        <p:spPr>
          <a:xfrm>
            <a:off x="685800" y="2438280"/>
            <a:ext cx="3581280" cy="182880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Oval 92"/>
          <p:cNvSpPr/>
          <p:nvPr/>
        </p:nvSpPr>
        <p:spPr>
          <a:xfrm>
            <a:off x="1371600" y="2743200"/>
            <a:ext cx="15228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Oval 93"/>
          <p:cNvSpPr/>
          <p:nvPr/>
        </p:nvSpPr>
        <p:spPr>
          <a:xfrm>
            <a:off x="2438280" y="3276720"/>
            <a:ext cx="15264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Line 94"/>
          <p:cNvSpPr/>
          <p:nvPr/>
        </p:nvSpPr>
        <p:spPr>
          <a:xfrm>
            <a:off x="1447920" y="2895480"/>
            <a:ext cx="0" cy="45720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1" name="Object 97"/>
          <p:cNvGraphicFramePr/>
          <p:nvPr/>
        </p:nvGraphicFramePr>
        <p:xfrm>
          <a:off x="5181480" y="2133720"/>
          <a:ext cx="2057400" cy="14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9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133720"/>
                    <a:ext cx="2057400" cy="14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Line 98"/>
          <p:cNvSpPr/>
          <p:nvPr/>
        </p:nvSpPr>
        <p:spPr>
          <a:xfrm>
            <a:off x="1447920" y="3352680"/>
            <a:ext cx="1066680" cy="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4" name="Object 101"/>
          <p:cNvGraphicFramePr/>
          <p:nvPr/>
        </p:nvGraphicFramePr>
        <p:xfrm>
          <a:off x="5105520" y="4724280"/>
          <a:ext cx="1484280" cy="121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5" name="Object 10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4724280"/>
                    <a:ext cx="1484280" cy="12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Now it’s your tur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the slope on each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make points where the line intersects the gr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calculate the sl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finish early, then also identify where the line crosses the y-ax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Released Question from CAHSE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09" name="Picture 10" descr=""/>
          <p:cNvPicPr/>
          <p:nvPr/>
        </p:nvPicPr>
        <p:blipFill>
          <a:blip r:embed="rId1">
            <a:alphaModFix amt="85000"/>
          </a:blip>
          <a:stretch/>
        </p:blipFill>
        <p:spPr>
          <a:xfrm>
            <a:off x="457200" y="2035080"/>
            <a:ext cx="4038480" cy="36244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1" descr=""/>
          <p:cNvPicPr/>
          <p:nvPr/>
        </p:nvPicPr>
        <p:blipFill>
          <a:blip r:embed="rId2"/>
          <a:stretch/>
        </p:blipFill>
        <p:spPr>
          <a:xfrm>
            <a:off x="4648320" y="2057400"/>
            <a:ext cx="403848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How do engineers build bridges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4" name="Picture 5" descr="goldengate_bridge_1"/>
          <p:cNvPicPr/>
          <p:nvPr/>
        </p:nvPicPr>
        <p:blipFill>
          <a:blip r:embed="rId1"/>
          <a:stretch/>
        </p:blipFill>
        <p:spPr>
          <a:xfrm>
            <a:off x="2057400" y="2176560"/>
            <a:ext cx="4648320" cy="30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Released Question from CAHSE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4038480" cy="3422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313" name="Line 6"/>
          <p:cNvSpPr/>
          <p:nvPr/>
        </p:nvSpPr>
        <p:spPr>
          <a:xfrm flipV="1">
            <a:off x="2514600" y="41907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2">
            <a:alphaModFix amt="85000"/>
          </a:blip>
          <a:stretch/>
        </p:blipFill>
        <p:spPr>
          <a:xfrm>
            <a:off x="457200" y="2035080"/>
            <a:ext cx="4038480" cy="3624480"/>
          </a:xfrm>
          <a:prstGeom prst="rect">
            <a:avLst/>
          </a:prstGeom>
          <a:ln w="381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civil_engi picture"/>
          <p:cNvPicPr/>
          <p:nvPr/>
        </p:nvPicPr>
        <p:blipFill>
          <a:blip r:embed="rId1"/>
          <a:stretch/>
        </p:blipFill>
        <p:spPr>
          <a:xfrm>
            <a:off x="1905120" y="901800"/>
            <a:ext cx="563868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ow do engineers build roads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7" name="Picture 5" descr="grade sign"/>
          <p:cNvPicPr/>
          <p:nvPr/>
        </p:nvPicPr>
        <p:blipFill>
          <a:blip r:embed="rId1"/>
          <a:stretch/>
        </p:blipFill>
        <p:spPr>
          <a:xfrm>
            <a:off x="1574640" y="1600200"/>
            <a:ext cx="520704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How can we write 7% as a fraction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9" name="Picture 5" descr="bicycle grade sign"/>
          <p:cNvPicPr/>
          <p:nvPr/>
        </p:nvPicPr>
        <p:blipFill>
          <a:blip r:embed="rId1"/>
          <a:stretch/>
        </p:blipFill>
        <p:spPr>
          <a:xfrm>
            <a:off x="2362320" y="2190600"/>
            <a:ext cx="37335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7% as a fraction?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 than any percent is a part of 10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2743200" y="2514600"/>
          <a:ext cx="2755800" cy="17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514600"/>
                    <a:ext cx="2755800" cy="17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he grade of a road is the same as slop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 is the pictu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1828800" y="3581280"/>
            <a:ext cx="6324480" cy="76212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68580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 fe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276720" y="46483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 fe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7" descr="j0212957"/>
          <p:cNvPicPr/>
          <p:nvPr/>
        </p:nvPicPr>
        <p:blipFill>
          <a:blip r:embed="rId1"/>
          <a:stretch/>
        </p:blipFill>
        <p:spPr>
          <a:xfrm rot="451800">
            <a:off x="6248160" y="3048120"/>
            <a:ext cx="1830240" cy="114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 0.00509 L -0.525 -0.07268 E">
                                      <p:cBhvr>
                                        <p:cTn id="16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lope measures the “rise” and “run” of the stairs beneath or above the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4"/>
          <p:cNvSpPr/>
          <p:nvPr/>
        </p:nvSpPr>
        <p:spPr>
          <a:xfrm flipV="1">
            <a:off x="2895480" y="2819520"/>
            <a:ext cx="2362320" cy="2286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 rot="5400000">
            <a:off x="3657600" y="3429000"/>
            <a:ext cx="914400" cy="91440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3048120" y="3733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3962520" y="28195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23:36:47Z</dcterms:created>
  <dc:creator>lnussdor</dc:creator>
  <dc:description/>
  <dc:language>en-US</dc:language>
  <cp:lastModifiedBy>RomaK</cp:lastModifiedBy>
  <dcterms:modified xsi:type="dcterms:W3CDTF">2015-09-04T09:21:15Z</dcterms:modified>
  <cp:revision>17</cp:revision>
  <dc:subject/>
  <dc:title>Slope &amp; Y-intercept</dc:title>
</cp:coreProperties>
</file>