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6CBE-7B91-4A7A-A95F-0294B6A63B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481-8717-489B-8D9E-772BAA84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591E-039E-48B7-8D81-37247C61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7CE-734D-41DB-8253-38653BA1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616-A267-488D-82A0-FB2DC43A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345E-B30B-439E-BAD2-8DB1076E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BBA-D25B-42E4-B90F-A98BC03C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D499-07FB-457A-9E04-8E8D88B5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AFA-91FA-416C-A6D5-C7B7A738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9EB-5891-4CA7-B094-BC2DFF69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D0D-C4A9-42E7-AB14-AC5857C8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B04-8609-438B-B131-3A90E1E9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213-81A7-478A-9253-A06F305B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89AA-43D7-4E1D-80BD-0AF6E195B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dvanced Math-Honor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ing Sine and Cosin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General Graphs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are collections of point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dependent variables are related to dependent variab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main is set of in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ange is set of 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Periodic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that repeat infinitely in intervals are called periodic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: Sea level as a function of ti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most common periodic graphs are the graphs of the trigonometric funct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e, cosine, tangent, cosecant, secant, and cotangen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55" name="Group 27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56" name="Rectangle 26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5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58" name="Line 5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61" name="Object 8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2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3" name="Line 9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0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12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67" name="Group 13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68" name="Freeform 14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15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16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71" name="Freeform 17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18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Group 19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74" name="Freeform 20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21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Group 22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77" name="Freeform 23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24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9" name="Text Box 28"/>
          <p:cNvSpPr/>
          <p:nvPr/>
        </p:nvSpPr>
        <p:spPr>
          <a:xfrm>
            <a:off x="533520" y="41911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scillation-one complete “cycle” of 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533520" y="47386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Period-”time” (horizontal distance) it takes the graph to complete one osci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533520" y="5348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mplitude-the furthest vertical distance the graph ventures from the vert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1"/>
          <p:cNvSpPr/>
          <p:nvPr/>
        </p:nvSpPr>
        <p:spPr>
          <a:xfrm>
            <a:off x="4419720" y="2362320"/>
            <a:ext cx="30456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724280" y="3352320"/>
            <a:ext cx="2819520" cy="305280"/>
            <a:chOff x="4724280" y="3352320"/>
            <a:chExt cx="2819520" cy="305280"/>
          </a:xfrm>
        </p:grpSpPr>
        <p:sp>
          <p:nvSpPr>
            <p:cNvPr id="84" name="Line 38"/>
            <p:cNvSpPr/>
            <p:nvPr/>
          </p:nvSpPr>
          <p:spPr>
            <a:xfrm>
              <a:off x="472428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>
              <a:off x="472428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 flipV="1">
              <a:off x="754380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3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88" name="Line 49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1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2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1757 C 0.01892 -0.01619 0.02778 -0.04996 0.04063 -0.07701 C 0.05347 -0.10407 0.07135 -0.14269 0.08698 -0.14455 C 0.1026 -0.1464 0.12118 -0.11587 0.13472 -0.08858 C 0.14826 -0.06129 0.15764 -0.01758 0.16806 0.01965 C 0.17847 0.05689 0.18524 0.10545 0.19705 0.13529 C 0.20885 0.16512 0.22431 0.19519 0.23906 0.19912 C 0.25382 0.20305 0.27083 0.18825 0.28559 0.15865 C 0.30035 0.12904 0.32031 0.04671 0.3276 0.0215 C 0.3349 -0.0037 0.33194 0.00208 0.32899 0.00786 E">
                                      <p:cBhvr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2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3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533520" y="4191120"/>
            <a:ext cx="754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e think of the sine graph as starting at an x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begins at a y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then moves up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 it moves back down to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n it moves down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it completes an oscillation by moving back up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9"/>
          <p:cNvGrpSpPr/>
          <p:nvPr/>
        </p:nvGrpSpPr>
        <p:grpSpPr>
          <a:xfrm>
            <a:off x="1143000" y="1295280"/>
            <a:ext cx="6858000" cy="2667240"/>
            <a:chOff x="1143000" y="1295280"/>
            <a:chExt cx="6858000" cy="2667240"/>
          </a:xfrm>
        </p:grpSpPr>
        <p:sp>
          <p:nvSpPr>
            <p:cNvPr id="94" name="Rectangle 5"/>
            <p:cNvSpPr/>
            <p:nvPr/>
          </p:nvSpPr>
          <p:spPr>
            <a:xfrm>
              <a:off x="1143000" y="1295280"/>
              <a:ext cx="6858000" cy="266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1363680" y="1517760"/>
              <a:ext cx="6498720" cy="2332440"/>
              <a:chOff x="1363680" y="1517760"/>
              <a:chExt cx="6498720" cy="2332440"/>
            </a:xfrm>
          </p:grpSpPr>
          <p:sp>
            <p:nvSpPr>
              <p:cNvPr id="96" name="Line 7"/>
              <p:cNvSpPr/>
              <p:nvPr/>
            </p:nvSpPr>
            <p:spPr>
              <a:xfrm>
                <a:off x="1806120" y="2628720"/>
                <a:ext cx="575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8"/>
              <p:cNvSpPr/>
              <p:nvPr/>
            </p:nvSpPr>
            <p:spPr>
              <a:xfrm>
                <a:off x="394956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9"/>
              <p:cNvSpPr/>
              <p:nvPr/>
            </p:nvSpPr>
            <p:spPr>
              <a:xfrm>
                <a:off x="4698360" y="151776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9" name="Object 10"/>
              <p:cNvGraphicFramePr/>
              <p:nvPr/>
            </p:nvGraphicFramePr>
            <p:xfrm>
              <a:off x="1363680" y="2739600"/>
              <a:ext cx="649872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0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3680" y="2739600"/>
                        <a:ext cx="649872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1" name="Line 11"/>
              <p:cNvSpPr/>
              <p:nvPr/>
            </p:nvSpPr>
            <p:spPr>
              <a:xfrm>
                <a:off x="257148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2"/>
              <p:cNvSpPr/>
              <p:nvPr/>
            </p:nvSpPr>
            <p:spPr>
              <a:xfrm>
                <a:off x="5463720" y="257796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6827760" y="257076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14"/>
              <p:cNvGrpSpPr/>
              <p:nvPr/>
            </p:nvGrpSpPr>
            <p:grpSpPr>
              <a:xfrm>
                <a:off x="1806120" y="1517760"/>
                <a:ext cx="5751000" cy="2332440"/>
                <a:chOff x="1806120" y="1517760"/>
                <a:chExt cx="5751000" cy="2332440"/>
              </a:xfrm>
            </p:grpSpPr>
            <p:grpSp>
              <p:nvGrpSpPr>
                <p:cNvPr id="105" name="Group 15"/>
                <p:cNvGrpSpPr/>
                <p:nvPr/>
              </p:nvGrpSpPr>
              <p:grpSpPr>
                <a:xfrm>
                  <a:off x="3243600" y="2655360"/>
                  <a:ext cx="1437120" cy="1194840"/>
                  <a:chOff x="3243600" y="2655360"/>
                  <a:chExt cx="1437120" cy="1194840"/>
                </a:xfrm>
              </p:grpSpPr>
              <p:sp>
                <p:nvSpPr>
                  <p:cNvPr id="106" name="Freeform 16"/>
                  <p:cNvSpPr/>
                  <p:nvPr/>
                </p:nvSpPr>
                <p:spPr>
                  <a:xfrm flipV="1">
                    <a:off x="32436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7"/>
                  <p:cNvSpPr/>
                  <p:nvPr/>
                </p:nvSpPr>
                <p:spPr>
                  <a:xfrm flipH="1" flipV="1">
                    <a:off x="39067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18"/>
                <p:cNvGrpSpPr/>
                <p:nvPr/>
              </p:nvGrpSpPr>
              <p:grpSpPr>
                <a:xfrm>
                  <a:off x="4681800" y="1517760"/>
                  <a:ext cx="1437120" cy="1194840"/>
                  <a:chOff x="4681800" y="1517760"/>
                  <a:chExt cx="1437120" cy="1194840"/>
                </a:xfrm>
              </p:grpSpPr>
              <p:sp>
                <p:nvSpPr>
                  <p:cNvPr id="109" name="Freeform 19"/>
                  <p:cNvSpPr/>
                  <p:nvPr/>
                </p:nvSpPr>
                <p:spPr>
                  <a:xfrm>
                    <a:off x="468180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20"/>
                  <p:cNvSpPr/>
                  <p:nvPr/>
                </p:nvSpPr>
                <p:spPr>
                  <a:xfrm flipH="1">
                    <a:off x="534492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21"/>
                <p:cNvGrpSpPr/>
                <p:nvPr/>
              </p:nvGrpSpPr>
              <p:grpSpPr>
                <a:xfrm>
                  <a:off x="6120000" y="2655360"/>
                  <a:ext cx="1437120" cy="1194840"/>
                  <a:chOff x="6120000" y="2655360"/>
                  <a:chExt cx="1437120" cy="1194840"/>
                </a:xfrm>
              </p:grpSpPr>
              <p:sp>
                <p:nvSpPr>
                  <p:cNvPr id="112" name="Freeform 22"/>
                  <p:cNvSpPr/>
                  <p:nvPr/>
                </p:nvSpPr>
                <p:spPr>
                  <a:xfrm flipV="1">
                    <a:off x="61200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23"/>
                  <p:cNvSpPr/>
                  <p:nvPr/>
                </p:nvSpPr>
                <p:spPr>
                  <a:xfrm flipH="1" flipV="1">
                    <a:off x="67831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4"/>
                <p:cNvGrpSpPr/>
                <p:nvPr/>
              </p:nvGrpSpPr>
              <p:grpSpPr>
                <a:xfrm>
                  <a:off x="1806120" y="1517760"/>
                  <a:ext cx="1437120" cy="1194840"/>
                  <a:chOff x="1806120" y="1517760"/>
                  <a:chExt cx="1437120" cy="1194840"/>
                </a:xfrm>
              </p:grpSpPr>
              <p:sp>
                <p:nvSpPr>
                  <p:cNvPr id="115" name="Freeform 25"/>
                  <p:cNvSpPr/>
                  <p:nvPr/>
                </p:nvSpPr>
                <p:spPr>
                  <a:xfrm>
                    <a:off x="180612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26"/>
                  <p:cNvSpPr/>
                  <p:nvPr/>
                </p:nvSpPr>
                <p:spPr>
                  <a:xfrm flipH="1">
                    <a:off x="246924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7" name="AutoShape 28"/>
            <p:cNvSpPr/>
            <p:nvPr/>
          </p:nvSpPr>
          <p:spPr>
            <a:xfrm>
              <a:off x="4419720" y="2362320"/>
              <a:ext cx="304560" cy="228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120" name="Rectangle 5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6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122" name="Line 7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9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5" name="Object 10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6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7" name="Line 11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2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3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4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131" name="Group 15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132" name="Freeform 16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17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135" name="Freeform 19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20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1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138" name="Freeform 22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23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24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141" name="Freeform 25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26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3" name="Text Box 27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period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o the horizontal length of each “piece”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amplitude of the sine graph is…(think about the values of s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osine graph is the same as the sine graph, only it has been shifted horizontall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3276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4572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2"/>
          <p:cNvSpPr/>
          <p:nvPr/>
        </p:nvSpPr>
        <p:spPr>
          <a:xfrm>
            <a:off x="1143000" y="1295280"/>
            <a:ext cx="685800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1371600" y="1442880"/>
            <a:ext cx="6247440" cy="2290320"/>
            <a:chOff x="1371600" y="1442880"/>
            <a:chExt cx="6247440" cy="2290320"/>
          </a:xfrm>
        </p:grpSpPr>
        <p:grpSp>
          <p:nvGrpSpPr>
            <p:cNvPr id="153" name="Group 5"/>
            <p:cNvGrpSpPr/>
            <p:nvPr/>
          </p:nvGrpSpPr>
          <p:grpSpPr>
            <a:xfrm>
              <a:off x="1371600" y="1442880"/>
              <a:ext cx="6247440" cy="2290320"/>
              <a:chOff x="1371600" y="1442880"/>
              <a:chExt cx="6247440" cy="2290320"/>
            </a:xfrm>
          </p:grpSpPr>
          <p:sp>
            <p:nvSpPr>
              <p:cNvPr id="154" name="Line 6"/>
              <p:cNvSpPr/>
              <p:nvPr/>
            </p:nvSpPr>
            <p:spPr>
              <a:xfrm>
                <a:off x="4547520" y="1442880"/>
                <a:ext cx="0" cy="229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7"/>
              <p:cNvSpPr/>
              <p:nvPr/>
            </p:nvSpPr>
            <p:spPr>
              <a:xfrm>
                <a:off x="1475640" y="2588040"/>
                <a:ext cx="61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6" name="Object 8"/>
                  <p:cNvSpPr txBox="1"/>
                  <p:nvPr/>
                </p:nvSpPr>
                <p:spPr>
                  <a:xfrm>
                    <a:off x="1371600" y="2692440"/>
                    <a:ext cx="6143400" cy="56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7" name="Line 9"/>
              <p:cNvSpPr/>
              <p:nvPr/>
            </p:nvSpPr>
            <p:spPr>
              <a:xfrm>
                <a:off x="5870880" y="2544840"/>
                <a:ext cx="0" cy="22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0"/>
              <p:cNvSpPr/>
              <p:nvPr/>
            </p:nvSpPr>
            <p:spPr>
              <a:xfrm>
                <a:off x="17665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>
                <a:off x="313524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2"/>
              <p:cNvSpPr/>
              <p:nvPr/>
            </p:nvSpPr>
            <p:spPr>
              <a:xfrm>
                <a:off x="74113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3"/>
            <p:cNvGrpSpPr/>
            <p:nvPr/>
          </p:nvGrpSpPr>
          <p:grpSpPr>
            <a:xfrm>
              <a:off x="1683720" y="1650960"/>
              <a:ext cx="5622480" cy="1769760"/>
              <a:chOff x="1683720" y="1650960"/>
              <a:chExt cx="5622480" cy="1769760"/>
            </a:xfrm>
          </p:grpSpPr>
          <p:sp>
            <p:nvSpPr>
              <p:cNvPr id="162" name="Freeform 14"/>
              <p:cNvSpPr/>
              <p:nvPr/>
            </p:nvSpPr>
            <p:spPr>
              <a:xfrm flipV="1">
                <a:off x="24267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5"/>
              <p:cNvSpPr/>
              <p:nvPr/>
            </p:nvSpPr>
            <p:spPr>
              <a:xfrm flipH="1" flipV="1">
                <a:off x="3061800" y="2535840"/>
                <a:ext cx="74376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6"/>
              <p:cNvSpPr/>
              <p:nvPr/>
            </p:nvSpPr>
            <p:spPr>
              <a:xfrm>
                <a:off x="380592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7"/>
              <p:cNvSpPr/>
              <p:nvPr/>
            </p:nvSpPr>
            <p:spPr>
              <a:xfrm flipH="1">
                <a:off x="444096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8"/>
              <p:cNvSpPr/>
              <p:nvPr/>
            </p:nvSpPr>
            <p:spPr>
              <a:xfrm flipV="1">
                <a:off x="51843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9"/>
              <p:cNvSpPr/>
              <p:nvPr/>
            </p:nvSpPr>
            <p:spPr>
              <a:xfrm flipH="1" flipV="1">
                <a:off x="5819760" y="253584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0"/>
              <p:cNvSpPr/>
              <p:nvPr/>
            </p:nvSpPr>
            <p:spPr>
              <a:xfrm>
                <a:off x="656316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1"/>
              <p:cNvSpPr/>
              <p:nvPr/>
            </p:nvSpPr>
            <p:spPr>
              <a:xfrm flipH="1">
                <a:off x="168372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Text Box 23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“starting point” is still an x-value of zero, but is now a y-value o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6"/>
          <p:cNvGrpSpPr/>
          <p:nvPr/>
        </p:nvGrpSpPr>
        <p:grpSpPr>
          <a:xfrm>
            <a:off x="4572000" y="3352320"/>
            <a:ext cx="2819520" cy="305280"/>
            <a:chOff x="4572000" y="3352320"/>
            <a:chExt cx="2819520" cy="305280"/>
          </a:xfrm>
        </p:grpSpPr>
        <p:sp>
          <p:nvSpPr>
            <p:cNvPr id="174" name="Line 27"/>
            <p:cNvSpPr/>
            <p:nvPr/>
          </p:nvSpPr>
          <p:spPr>
            <a:xfrm>
              <a:off x="457200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457200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 flipV="1">
              <a:off x="739152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0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178" name="Line 31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2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3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AutoShape 34"/>
          <p:cNvSpPr/>
          <p:nvPr/>
        </p:nvSpPr>
        <p:spPr>
          <a:xfrm>
            <a:off x="4267080" y="1447920"/>
            <a:ext cx="30492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8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9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2858E-006 C 0.01233 0.00324 0.02465 0.0067 0.03906 0.02312 C 0.05347 0.03954 0.07812 0.08279 0.08698 0.09829 C 0.09583 0.11378 0.08351 0.09227 0.09271 0.11586 C 0.10191 0.13945 0.12604 0.22317 0.14201 0.23936 C 0.15799 0.25555 0.17118 0.24329 0.18837 0.2123 C 0.20555 0.18131 0.22396 0.09089 0.24496 0.05388 C 0.26597 0.01688 0.30278 0.000920000000000001 0.31441 -0.00972 E">
                                      <p:cBhvr>
                                        <p:cTn id="11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ine and Cosine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ile the idea of a “starting point” is very helpful when graphing, it is merely an id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se graphs have infinite domai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e have thus far only looked at library versions.  There will be transform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3:54:27Z</dcterms:created>
  <dc:creator>John Nathan Corley</dc:creator>
  <dc:description/>
  <dc:language>en-US</dc:language>
  <cp:lastModifiedBy>LEGION</cp:lastModifiedBy>
  <dcterms:modified xsi:type="dcterms:W3CDTF">2015-09-08T11:41:22Z</dcterms:modified>
  <cp:revision>9</cp:revision>
  <dc:subject/>
  <dc:title>Advanced Math-Honors</dc:title>
</cp:coreProperties>
</file>