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1BA7F-3E0C-4E82-A5E8-5C705BD2A1D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6090E-803A-410E-B9E1-66DB1B6ED8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1-2 Simplifying Expressions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3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1-2 Simplifying Expressions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-2 Simplifying Express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Question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Assignment:  Pages 10 - 11 / 2 - 44 even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No Calculator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9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Question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Assignment:  Pages 10 - 11 / 2 - 44 even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No Calculator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ssignment:  Pages 10 - 11 / 2 - 44 ev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alcul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Expression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A group of symbols used to represent a number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The number represented by the expression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7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Expression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A group of symbols used to represent a number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The number represented by the expression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res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group of symbols used to represent a 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represented by the exp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Equation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A combination of an expression and a value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1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Equation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A combination of an expression and a value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mbination of an expression and a val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Inequality Symbol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5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Inequality Symbol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equality Symb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Inequalitie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Made by placing an inequality symbol between an expression and a value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9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Inequalitie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Made by placing an inequality symbol between an expression and a value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by placing an inequality symbol between an expression and a val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Result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Sum is the result of addition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Difference is the result of subtraction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Product is the result of multiplication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Quotient is the result of division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Result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Sum is the result of addition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Difference is the result of subtraction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Product is the result of multiplication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Quotient is the result of division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 is the result of ad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ce is the result of subtr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 is the result of multi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otient is the result of divi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Power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7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Power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Grouping Symbol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Three main grouping symbol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1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Grouping Symbol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Three main grouping symbol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ing Symb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main grouping symb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Order of Operation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1st Grouping symbol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2nd Power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3rd Multiplication &amp; Division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4th Addition &amp; Subtraction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5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Order of Operation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1st Grouping symbol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2nd Power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3rd Multiplication &amp; Division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4th Addition &amp; Subtraction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der of Ope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st Grouping symb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nd Po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rd Multiplication &amp; Div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th Addition &amp; Subtr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2A9E-98F3-459C-8252-B92EC26FF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1C26-6333-46F0-AEB3-AF8851D09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634A-FAFC-4FEF-B418-28AF113D3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F1AE-0416-4562-B793-67C125E0F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BF792-795C-4A08-8A5A-DC86C62A7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4988F-BAA3-4A5C-A82B-7891119B5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6BD92-660F-43F8-BDB7-1DCD17DA3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4532B-9FCA-4240-982E-55F65DF39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5BA00-1D81-41B4-94B0-3A35EC487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26FC7-BFFD-4558-BD81-2396DBD63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4E739-C1E3-4078-A42B-90A0916A5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5D61-9F9A-4167-9D28-51DC75CEA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BAA61-6E69-4BBA-B48D-E714D7CD2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A180E-147B-47C2-90BF-852E1528A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25513-5DB4-42A6-98E0-506F52F26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86654-36DB-4865-B82D-861A99BBF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D4B8D-73B5-434F-94E1-081A8C8BD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F3AA-5391-4C92-963B-DA341A2A3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A34D-1610-4445-97F0-BB0939F9E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2227-BA79-488E-B04C-BEFE2BDF2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B8D3-C5F7-4164-B214-A47844558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EAB6-B650-4842-98C6-82D98E352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0B49-4D31-4F98-9091-DC05C1A27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9BF8-D169-4382-BA4B-6F026832F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Picture 4" descr="minispir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Line 5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2443C-277B-419D-9EA1-4DDF048FD34C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Picture 4" descr="minispir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A9636-98E9-4F86-8498-CFAA7783BBF3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1-2 Simplifying Expressions.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a08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2640" y="7617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Question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Assignment:  Pages 10 - 11 / 2 - 44 even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No Calculator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2640" y="7617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Expression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A group of symbols used to represent a number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e number represented by the expressio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Object 4"/>
              <p:cNvSpPr txBox="1"/>
              <p:nvPr/>
            </p:nvSpPr>
            <p:spPr>
              <a:xfrm>
                <a:off x="3429000" y="2590920"/>
                <a:ext cx="145908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1" name="Rectangle 7"/>
          <p:cNvSpPr/>
          <p:nvPr/>
        </p:nvSpPr>
        <p:spPr>
          <a:xfrm>
            <a:off x="1143000" y="3124080"/>
            <a:ext cx="6095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Value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7617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Equation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A combination of an expression and a valu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Object 4"/>
              <p:cNvSpPr txBox="1"/>
              <p:nvPr/>
            </p:nvSpPr>
            <p:spPr>
              <a:xfrm>
                <a:off x="2604960" y="2590920"/>
                <a:ext cx="234504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2640" y="7617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Inequality Symbol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1143000" y="3124080"/>
            <a:ext cx="6095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Object 7"/>
              <p:cNvSpPr txBox="1"/>
              <p:nvPr/>
            </p:nvSpPr>
            <p:spPr>
              <a:xfrm>
                <a:off x="1052640" y="1676520"/>
                <a:ext cx="5895720" cy="418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les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ha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o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qual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greate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ha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o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qual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no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qual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les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han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greate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ha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2640" y="7617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Inequalitie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Made by placing an inequality symbol between an expression and a valu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Object 4"/>
              <p:cNvSpPr txBox="1"/>
              <p:nvPr/>
            </p:nvSpPr>
            <p:spPr>
              <a:xfrm>
                <a:off x="2986200" y="3124080"/>
                <a:ext cx="234468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y</m:t>
                    </m:r>
                    <m:r>
                      <m:t xml:space="preserve">≤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2640" y="7617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Result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um is the result of additio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Difference is the result of subtractio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Product is the result of multiplicatio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Quotient is the result of division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2640" y="7617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Power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Object 5"/>
              <p:cNvSpPr txBox="1"/>
              <p:nvPr/>
            </p:nvSpPr>
            <p:spPr>
              <a:xfrm>
                <a:off x="1066680" y="1676520"/>
                <a:ext cx="7315200" cy="25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eans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ime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tself</m:t>
                        </m:r>
                        <m:r>
                          <m:t xml:space="preserve"> 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times</m:t>
                        </m:r>
                      </m:e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⋅</m:t>
                        </m:r>
                        <m:r>
                          <m:t xml:space="preserve">x</m:t>
                        </m:r>
                        <m:r>
                          <m:t xml:space="preserve">⋅</m:t>
                        </m:r>
                        <m:r>
                          <m:t xml:space="preserve">x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7617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Grouping Symbol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ree main grouping symbol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Object 5"/>
              <p:cNvSpPr txBox="1"/>
              <p:nvPr/>
            </p:nvSpPr>
            <p:spPr>
              <a:xfrm>
                <a:off x="1523880" y="2438280"/>
                <a:ext cx="4496040" cy="314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</m:d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arentheses</m:t>
                        </m:r>
                      </m:e>
                      <m:e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</m:d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brackets</m:t>
                        </m:r>
                      </m:e>
                      <m:e>
                        <m:f>
                          <m:num>
                            <m:r>
                              <m:t xml:space="preserve"> </m:t>
                            </m:r>
                            <m:r>
                              <m:t xml:space="preserve">a</m:t>
                            </m:r>
                            <m:r>
                              <m:t xml:space="preserve"> </m:t>
                            </m:r>
                          </m:num>
                          <m:den>
                            <m:r>
                              <m:t xml:space="preserve">b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ivisio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bar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2640" y="7617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Order of Operation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1st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Grouping symbol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2nd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Power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3rd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Multiplication &amp; Divisio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4th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Addition &amp; Subtractio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01T14:05:50Z</dcterms:created>
  <dc:creator>Shane Alan Fods</dc:creator>
  <dc:description/>
  <dc:language>en-US</dc:language>
  <cp:lastModifiedBy>RomaK</cp:lastModifiedBy>
  <dcterms:modified xsi:type="dcterms:W3CDTF">2015-09-04T09:20:57Z</dcterms:modified>
  <cp:revision>10</cp:revision>
  <dc:subject/>
  <dc:title>1-2 Simplifying Expressions.</dc:title>
</cp:coreProperties>
</file>