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3AD7-152E-43E0-8A5F-3876FC69F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3272-B14C-4F13-945E-602E907F2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2 Simplifying Expr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ignment:  Pages 10 - 11 / 2 - 44 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alc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ymbols used to represent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represented by the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equality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is the result of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is the result of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is the result of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ient is the result of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Multiplication &amp;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Addition &amp;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677-CC37-4247-A6FF-C977889F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C98-65D2-4DDE-9E81-84A3A4B1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012-BF62-4FA9-B31C-EDB4C20B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F6E-5F32-45B6-A6F2-A98CD1A2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EBB0-6AEB-4F1B-BF42-749F3C0F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E016-7B65-4207-B3B5-CFF8D634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7713-AB91-44CE-A8E1-344BD3C9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4816-A8E2-4696-88FA-194DD695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2D70-4705-4D04-A355-E58702E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FE4F-F9AC-4D22-AC0A-789F33C1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C186-8024-438F-A57E-BD1D3725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9A5-DCF3-4B8E-9F58-9797D48B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221A-6CBC-411C-AA1A-418CB90A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5CF9-F80B-4433-B9D8-CCA77778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8699-E428-49B1-BA37-7DBE6192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D6C4-DA34-4C13-9AA0-45C867F2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9D7C-18E6-421F-ACC7-C78BC9CC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8A6-4AE0-4A5B-8350-97433A93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EE4-D9AC-4C63-A12B-A0D403E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616-F965-476E-903A-CCD7CA3D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A99-EA4A-4B6D-A82A-B80B6373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4E7-8790-465E-B244-C3CD899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448-9CE2-46E8-BC96-4E8E172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1B0-76FB-42E6-9F42-073DE1F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3110-479C-4A85-8861-9FC95FEF964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0D21-948C-4480-B187-3F281D75BD2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-2 Simplifying Expression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429000" y="2590920"/>
                <a:ext cx="1459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alu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qu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604960" y="2590920"/>
                <a:ext cx="2345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y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052640" y="1676520"/>
                <a:ext cx="5895720" cy="41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986200" y="3124080"/>
                <a:ext cx="2344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w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066680" y="1676520"/>
                <a:ext cx="731520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sel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uping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523880" y="2438280"/>
                <a:ext cx="4496040" cy="31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entheses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rackets</m:t>
                        </m:r>
                      </m:e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vi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ow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Multiplication &amp; Divi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ddition &amp;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05:50Z</dcterms:created>
  <dc:creator>Shane Alan Fods</dc:creator>
  <dc:description/>
  <dc:language>en-US</dc:language>
  <cp:lastModifiedBy>RomaK</cp:lastModifiedBy>
  <dcterms:modified xsi:type="dcterms:W3CDTF">2015-09-04T09:20:57Z</dcterms:modified>
  <cp:revision>10</cp:revision>
  <dc:subject/>
  <dc:title>1-2 Simplifying Expressions.</dc:title>
</cp:coreProperties>
</file>