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3E92-5572-4B07-AAA8-27387369A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2FB1-C977-4B7C-86DE-CBFB7D0D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2 Simplifying Expr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ignment:  Pages 10 - 11 / 2 - 44 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alc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ymbols used to represent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represented by th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quality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is the result of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is the result of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is the result of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ient is the result of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Multiplication &amp;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Addition &amp;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B8E-D436-4AF7-ADAE-624C99E2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5C7-EA45-4B44-A2E1-4407809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C57-7761-468E-814F-1588DB79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DCB-4336-4EE1-8F44-E3CF4534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8853-F0C6-4221-97D6-2B5EB1B3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49FC-A7B4-4394-9F0E-3E52B50E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E98C-1884-458B-8FB9-C3368D39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E478-2FFB-4DD6-BE08-51FCEA36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C49A-D03C-48DB-9B80-AA1C9B0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AFBF-0BBC-4CAD-B8AC-0096DA0A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ABA2-A0DF-426C-A003-3A75F68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A5A-F8A4-49CB-B02F-A5503626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4C1F-5CB3-42A5-B102-9B98BBF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29AC-0094-40B7-829B-A4C8F0D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B448-048F-480F-9257-691F8CB0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A61F-C73A-43CE-B4C2-94F66226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3B78-ABDF-4DF8-873B-A9D8726E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1BC-C2C9-4E99-96DA-1414278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DBB-98A1-418A-9B07-5B734E47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4AA-9279-46BD-8CB8-0C2B0E67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F5A-A84B-43FD-A03C-EC55402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FBC-085C-4450-8A3F-196140B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03D-EB7C-4FF9-BE02-03EC261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62C-8C8D-4730-9163-11C84698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5EC0-4EB0-4A25-BBDF-1F015ADA713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AD1-2185-4ED2-A3FB-626026336C4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-2 Simplifying Expression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429000" y="2590920"/>
                <a:ext cx="145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alu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qu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604960" y="2590920"/>
                <a:ext cx="2345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y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052640" y="1676520"/>
                <a:ext cx="5895720" cy="41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986200" y="3124080"/>
                <a:ext cx="2344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w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066680" y="1676520"/>
                <a:ext cx="731520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sel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uping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523880" y="2438280"/>
                <a:ext cx="4496040" cy="31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entheses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rackets</m:t>
                        </m:r>
                      </m:e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vi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ow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ultiplication &amp; Divi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ddition &amp;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05:50Z</dcterms:created>
  <dc:creator>Shane Alan Fods</dc:creator>
  <dc:description/>
  <dc:language>en-US</dc:language>
  <cp:lastModifiedBy>RomaK</cp:lastModifiedBy>
  <dcterms:modified xsi:type="dcterms:W3CDTF">2015-09-04T09:20:57Z</dcterms:modified>
  <cp:revision>10</cp:revision>
  <dc:subject/>
  <dc:title>1-2 Simplifying Expressions.</dc:title>
</cp:coreProperties>
</file>