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CB8A-CAE6-47B2-B423-1E447B0FB0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87FB-9970-4B7D-AAC9-0141F16B3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-2 Simplifying Expressions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-2 Simplifying Expressions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2 Simplifying Expr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ignment:  Pages 10 - 11 / 2 - 44 ev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alcu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xpress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xpress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ymbols used to represent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represented by the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n expression and a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y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y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equality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is the result of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is the result of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 is the result of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otient is the result of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st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2nd 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3rd Multiplication &amp; Divi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4th Addition &amp;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st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2nd 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3rd Multiplication &amp; Divi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4th Addition &amp;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Multiplication &amp;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Addition &amp;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8D0-33A3-4E2B-9CB5-AE995DAD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40A-251B-41D4-B416-4F510D4F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560-6AC9-4387-B97C-10C7D35E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E05-381B-42E8-B065-230D0C4C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36F9-829F-4EBE-A9DC-FC8CD3A9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E705-259D-4AAC-8B07-B5F3EB81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2AED-D612-4F3C-86DE-6D3507E3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E7B7-F707-4FA5-88A7-414FE137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7422-54F4-417D-BDCD-53AB8CB4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DB65-5719-48AA-BE7A-267B11A9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C331-3C98-4D94-8037-A36E430A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F173-A1DA-4908-B9F7-98122291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E24D-867E-43B0-B02E-9DA81AF6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2E59-1B09-4050-BC1A-4D0AABEE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FD75-E58D-48A4-AA32-8A5E074D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7466-5236-4BC6-82CA-DB194F1D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28AC-9008-493D-A351-D42A5D89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109-9C5B-462C-936F-19C9169A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D60-2F17-4DDF-97BB-75EEB810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F1E-F0A5-4B31-8C48-383238C4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2B7-BB87-43AD-9BCC-5AFC40D2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B43-4BA9-42DF-8AB0-88C6E31B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618-0182-4D6F-96F9-C72743C3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996-A09B-46BC-9AAE-48832EF7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5FE6-5ABE-42BF-B191-1735FB83A1A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E352-AC70-4EE4-A484-A96CED6BE01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1-2 Simplifying Expressions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3429000" y="2590920"/>
                <a:ext cx="14590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Rectangle 7"/>
          <p:cNvSpPr/>
          <p:nvPr/>
        </p:nvSpPr>
        <p:spPr>
          <a:xfrm>
            <a:off x="1143000" y="31240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Value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qu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2604960" y="2590920"/>
                <a:ext cx="2345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equality Symbo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143000" y="31240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1052640" y="1676520"/>
                <a:ext cx="5895720" cy="41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s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eat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s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eat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equaliti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2986200" y="3124080"/>
                <a:ext cx="2344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ow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1066680" y="1676520"/>
                <a:ext cx="7315200" cy="25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ans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tself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imes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ouping Symbo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1523880" y="2438280"/>
                <a:ext cx="4496040" cy="31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entheses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rackets</m:t>
                        </m:r>
                      </m:e>
                      <m:e>
                        <m:f>
                          <m:num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vis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a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rder of Oper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1s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Grouping symbo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2n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Powe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3r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Multiplication &amp; Divis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th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Addition &amp; Subtra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4:05:50Z</dcterms:created>
  <dc:creator>Shane Alan Fods</dc:creator>
  <dc:description/>
  <dc:language>en-US</dc:language>
  <cp:lastModifiedBy>RomaK</cp:lastModifiedBy>
  <dcterms:modified xsi:type="dcterms:W3CDTF">2015-09-04T09:20:57Z</dcterms:modified>
  <cp:revision>10</cp:revision>
  <dc:subject/>
  <dc:title>1-2 Simplifying Expressions.</dc:title>
</cp:coreProperties>
</file>