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7AAA-0B37-46B2-BD6B-382797CDD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F1F-18F3-4AD5-84CB-884D7219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CBA-1520-4993-BD43-6F5F82C7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7AF-539E-47D9-85A8-0FCE732F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A5A-E798-4AD6-B81E-A25E1625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94C-3857-4090-8CB5-3A649ACC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578-7FE4-4A4D-A5E4-41E69104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F1E-7B22-4657-8DCB-C039D86C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134-D29F-403A-92E9-4BC5F0ED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963-CB1D-4DBC-9B8A-B1E5C9D5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033-AD6B-442B-8230-D82B47A9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894-2401-4073-9688-120BA125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EE2-B910-4E8D-A16B-3CF9016C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6A89-05DE-45AE-8A11-ECC1A2F49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7"/>
          <p:cNvGraphicFramePr/>
          <p:nvPr/>
        </p:nvGraphicFramePr>
        <p:xfrm>
          <a:off x="1143000" y="4495680"/>
          <a:ext cx="6705720" cy="10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95680"/>
                    <a:ext cx="670572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76312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-152280" y="304920"/>
            <a:ext cx="952488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4038480" y="914400"/>
          <a:ext cx="95436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914400"/>
                    <a:ext cx="9543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355680" y="2286000"/>
          <a:ext cx="198756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2286000"/>
                    <a:ext cx="19875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"/>
          <p:cNvGraphicFramePr/>
          <p:nvPr/>
        </p:nvGraphicFramePr>
        <p:xfrm>
          <a:off x="355680" y="2982960"/>
          <a:ext cx="1670040" cy="7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5680" y="2982960"/>
                    <a:ext cx="16700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355680" y="3679920"/>
          <a:ext cx="226512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80" y="3679920"/>
                    <a:ext cx="22651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55680" y="4376880"/>
          <a:ext cx="183024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680" y="4376880"/>
                    <a:ext cx="183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1"/>
          <p:cNvGraphicFramePr/>
          <p:nvPr/>
        </p:nvGraphicFramePr>
        <p:xfrm>
          <a:off x="355680" y="5073480"/>
          <a:ext cx="2463840" cy="78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5680" y="507348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2"/>
          <p:cNvGraphicFramePr/>
          <p:nvPr/>
        </p:nvGraphicFramePr>
        <p:xfrm>
          <a:off x="355680" y="5770440"/>
          <a:ext cx="1827000" cy="78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5680" y="5770440"/>
                    <a:ext cx="18270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3"/>
          <p:cNvSpPr/>
          <p:nvPr/>
        </p:nvSpPr>
        <p:spPr>
          <a:xfrm>
            <a:off x="3728880" y="2438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14"/>
          <p:cNvGraphicFramePr/>
          <p:nvPr/>
        </p:nvGraphicFramePr>
        <p:xfrm>
          <a:off x="7391520" y="2286000"/>
          <a:ext cx="877680" cy="74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91520" y="2286000"/>
                    <a:ext cx="877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4699080" y="3103560"/>
          <a:ext cx="2463840" cy="78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99080" y="310356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16"/>
          <p:cNvSpPr/>
          <p:nvPr/>
        </p:nvSpPr>
        <p:spPr>
          <a:xfrm>
            <a:off x="3886200" y="420696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360" y="648720"/>
            <a:ext cx="89917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410080" y="534960"/>
          <a:ext cx="1528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4960"/>
                    <a:ext cx="1528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3610080" y="2225520"/>
          <a:ext cx="208116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0080" y="2225520"/>
                    <a:ext cx="208116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4257720" y="3110040"/>
          <a:ext cx="67932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7720" y="3110040"/>
                    <a:ext cx="6793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8"/>
          <p:cNvSpPr/>
          <p:nvPr/>
        </p:nvSpPr>
        <p:spPr>
          <a:xfrm>
            <a:off x="-228600" y="3889440"/>
            <a:ext cx="8991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9"/>
          <p:cNvGraphicFramePr/>
          <p:nvPr/>
        </p:nvGraphicFramePr>
        <p:xfrm>
          <a:off x="5245200" y="3809880"/>
          <a:ext cx="1401840" cy="82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45200" y="3809880"/>
                    <a:ext cx="14018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0"/>
          <p:cNvGraphicFramePr/>
          <p:nvPr/>
        </p:nvGraphicFramePr>
        <p:xfrm>
          <a:off x="3654360" y="4572000"/>
          <a:ext cx="186840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4360" y="4572000"/>
                    <a:ext cx="18684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1"/>
          <p:cNvGraphicFramePr/>
          <p:nvPr/>
        </p:nvGraphicFramePr>
        <p:xfrm>
          <a:off x="3597120" y="5375160"/>
          <a:ext cx="1952640" cy="73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97120" y="5375160"/>
                    <a:ext cx="19526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4800600" y="307800"/>
          <a:ext cx="13716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7800"/>
                    <a:ext cx="13716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rShape1"/>
          <p:cNvSpPr/>
          <p:nvPr/>
        </p:nvSpPr>
        <p:spPr>
          <a:xfrm rot="10800000">
            <a:off x="360000" y="296496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 x 1 x 1 = 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x 2 x 2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3 x 3 x 3 =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4 x 4 x 4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 x 5 x 5 = 1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200400" y="3124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733920" y="2362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5257800" y="342864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334120" y="38862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895480" y="762120"/>
            <a:ext cx="28958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3124080" y="3352680"/>
            <a:ext cx="2514600" cy="2514600"/>
            <a:chOff x="3124080" y="3352680"/>
            <a:chExt cx="2514600" cy="2514600"/>
          </a:xfrm>
        </p:grpSpPr>
        <p:sp>
          <p:nvSpPr>
            <p:cNvPr id="168" name="Rectangle 3"/>
            <p:cNvSpPr/>
            <p:nvPr/>
          </p:nvSpPr>
          <p:spPr>
            <a:xfrm>
              <a:off x="312408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480060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3962160" y="335268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12408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312408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3962160" y="419076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80060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480060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962160" y="502884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2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312408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 flipV="1">
            <a:off x="5867280" y="33523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114800" y="23623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60199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2743200" y="2895480"/>
            <a:ext cx="3352320" cy="3352320"/>
            <a:chOff x="2743200" y="2895480"/>
            <a:chExt cx="3352320" cy="3352320"/>
          </a:xfrm>
        </p:grpSpPr>
        <p:grpSp>
          <p:nvGrpSpPr>
            <p:cNvPr id="183" name="Group 3"/>
            <p:cNvGrpSpPr/>
            <p:nvPr/>
          </p:nvGrpSpPr>
          <p:grpSpPr>
            <a:xfrm>
              <a:off x="2743200" y="2895480"/>
              <a:ext cx="3352320" cy="1676520"/>
              <a:chOff x="2743200" y="2895480"/>
              <a:chExt cx="3352320" cy="1676520"/>
            </a:xfrm>
          </p:grpSpPr>
          <p:sp>
            <p:nvSpPr>
              <p:cNvPr id="184" name="Rectangle 4"/>
              <p:cNvSpPr/>
              <p:nvPr/>
            </p:nvSpPr>
            <p:spPr>
              <a:xfrm>
                <a:off x="274320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5"/>
              <p:cNvSpPr/>
              <p:nvPr/>
            </p:nvSpPr>
            <p:spPr>
              <a:xfrm>
                <a:off x="525744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"/>
              <p:cNvSpPr/>
              <p:nvPr/>
            </p:nvSpPr>
            <p:spPr>
              <a:xfrm>
                <a:off x="274320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358128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441936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525744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441936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358128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2"/>
            <p:cNvGrpSpPr/>
            <p:nvPr/>
          </p:nvGrpSpPr>
          <p:grpSpPr>
            <a:xfrm>
              <a:off x="2743200" y="4572000"/>
              <a:ext cx="3352320" cy="1675800"/>
              <a:chOff x="2743200" y="4572000"/>
              <a:chExt cx="3352320" cy="1675800"/>
            </a:xfrm>
          </p:grpSpPr>
          <p:sp>
            <p:nvSpPr>
              <p:cNvPr id="193" name="Rectangle 13"/>
              <p:cNvSpPr/>
              <p:nvPr/>
            </p:nvSpPr>
            <p:spPr>
              <a:xfrm>
                <a:off x="274320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25744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274320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6"/>
              <p:cNvSpPr/>
              <p:nvPr/>
            </p:nvSpPr>
            <p:spPr>
              <a:xfrm>
                <a:off x="358128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17"/>
              <p:cNvSpPr/>
              <p:nvPr/>
            </p:nvSpPr>
            <p:spPr>
              <a:xfrm>
                <a:off x="441936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8"/>
              <p:cNvSpPr/>
              <p:nvPr/>
            </p:nvSpPr>
            <p:spPr>
              <a:xfrm>
                <a:off x="525744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19"/>
              <p:cNvSpPr/>
              <p:nvPr/>
            </p:nvSpPr>
            <p:spPr>
              <a:xfrm>
                <a:off x="441936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20"/>
              <p:cNvSpPr/>
              <p:nvPr/>
            </p:nvSpPr>
            <p:spPr>
              <a:xfrm>
                <a:off x="358128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Rectangle 21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2743200" y="2666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3"/>
          <p:cNvSpPr/>
          <p:nvPr/>
        </p:nvSpPr>
        <p:spPr>
          <a:xfrm flipV="1">
            <a:off x="6324480" y="2895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191120" y="19810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32448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2767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7913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57913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9528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11480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2767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7913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32767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1480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49528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57913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9528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411480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24382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49528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411480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2767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24382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24382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24382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4382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57913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4114800" y="1295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6858000" y="4114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2438280" y="20574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0"/>
          <p:cNvSpPr/>
          <p:nvPr/>
        </p:nvSpPr>
        <p:spPr>
          <a:xfrm flipV="1">
            <a:off x="6858000" y="2361960"/>
            <a:ext cx="0" cy="41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3048120" y="22860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200400" y="3428640"/>
            <a:ext cx="1676520" cy="1676520"/>
            <a:chOff x="3200400" y="3428640"/>
            <a:chExt cx="1676520" cy="1676520"/>
          </a:xfrm>
        </p:grpSpPr>
        <p:sp>
          <p:nvSpPr>
            <p:cNvPr id="237" name="Rectangle 3"/>
            <p:cNvSpPr/>
            <p:nvPr/>
          </p:nvSpPr>
          <p:spPr>
            <a:xfrm rot="16200000">
              <a:off x="4038480" y="426672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"/>
            <p:cNvSpPr/>
            <p:nvPr/>
          </p:nvSpPr>
          <p:spPr>
            <a:xfrm rot="16200000">
              <a:off x="3200400" y="426708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5"/>
            <p:cNvSpPr/>
            <p:nvPr/>
          </p:nvSpPr>
          <p:spPr>
            <a:xfrm rot="16200000">
              <a:off x="3200040" y="342864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 rot="16200000">
              <a:off x="4038480" y="3428640"/>
              <a:ext cx="83844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Freeform 7"/>
          <p:cNvSpPr/>
          <p:nvPr/>
        </p:nvSpPr>
        <p:spPr>
          <a:xfrm>
            <a:off x="2743200" y="1143000"/>
            <a:ext cx="4419720" cy="39625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172200" y="5335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2666880" y="1828800"/>
            <a:ext cx="381024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2895480"/>
            <a:ext cx="78483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715000" y="17524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20040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038480" y="1752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87692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7150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7150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57150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8"/>
          <p:cNvSpPr/>
          <p:nvPr/>
        </p:nvSpPr>
        <p:spPr>
          <a:xfrm>
            <a:off x="2743200" y="1828800"/>
            <a:ext cx="373392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57200" y="7621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2438280" y="1600200"/>
            <a:ext cx="4191120" cy="4191120"/>
            <a:chOff x="2438280" y="1600200"/>
            <a:chExt cx="4191120" cy="4191120"/>
          </a:xfrm>
        </p:grpSpPr>
        <p:sp>
          <p:nvSpPr>
            <p:cNvPr id="276" name="Rectangle 3"/>
            <p:cNvSpPr/>
            <p:nvPr/>
          </p:nvSpPr>
          <p:spPr>
            <a:xfrm rot="5400000">
              <a:off x="4952880" y="24382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rot="5400000">
              <a:off x="57913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rot="5400000">
              <a:off x="57913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rot="5400000">
              <a:off x="57913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rot="5400000">
              <a:off x="579096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rot="5400000">
              <a:off x="4952880" y="49528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rot="5400000">
              <a:off x="49528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rot="5400000">
              <a:off x="49528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rot="5400000">
              <a:off x="32767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rot="5400000">
              <a:off x="411480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rot="5400000">
              <a:off x="411480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rot="5400000">
              <a:off x="4114800" y="327672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rot="5400000">
              <a:off x="411444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rot="5400000">
              <a:off x="32767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rot="5400000">
              <a:off x="3276360" y="41148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rot="5400000">
              <a:off x="32767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5400000">
              <a:off x="5790960" y="16002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5400000">
              <a:off x="24382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5400000">
              <a:off x="24382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5400000">
              <a:off x="2438280" y="24382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5400000">
              <a:off x="24382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5400000">
              <a:off x="327636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rot="5400000">
              <a:off x="411444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5400000">
              <a:off x="49528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5400000">
              <a:off x="2438280" y="49528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Freeform 28"/>
          <p:cNvSpPr/>
          <p:nvPr/>
        </p:nvSpPr>
        <p:spPr>
          <a:xfrm>
            <a:off x="1905120" y="1676520"/>
            <a:ext cx="4647960" cy="411480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33520" y="5335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248520" y="3049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335268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419112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304812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9"/>
          <p:cNvSpPr/>
          <p:nvPr/>
        </p:nvSpPr>
        <p:spPr>
          <a:xfrm>
            <a:off x="388620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200400" y="7621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3048120" y="3657600"/>
            <a:ext cx="2286000" cy="1447920"/>
            <a:chOff x="3048120" y="3657600"/>
            <a:chExt cx="2286000" cy="1447920"/>
          </a:xfrm>
        </p:grpSpPr>
        <p:sp>
          <p:nvSpPr>
            <p:cNvPr id="314" name="AutoShape 3"/>
            <p:cNvSpPr/>
            <p:nvPr/>
          </p:nvSpPr>
          <p:spPr>
            <a:xfrm>
              <a:off x="335268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4"/>
            <p:cNvSpPr/>
            <p:nvPr/>
          </p:nvSpPr>
          <p:spPr>
            <a:xfrm>
              <a:off x="419112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5"/>
            <p:cNvSpPr/>
            <p:nvPr/>
          </p:nvSpPr>
          <p:spPr>
            <a:xfrm>
              <a:off x="304812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6"/>
            <p:cNvSpPr/>
            <p:nvPr/>
          </p:nvSpPr>
          <p:spPr>
            <a:xfrm>
              <a:off x="388620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3048120" y="2819520"/>
            <a:ext cx="2286000" cy="1447200"/>
            <a:chOff x="3048120" y="2819520"/>
            <a:chExt cx="2286000" cy="1447200"/>
          </a:xfrm>
        </p:grpSpPr>
        <p:sp>
          <p:nvSpPr>
            <p:cNvPr id="319" name="AutoShape 8"/>
            <p:cNvSpPr/>
            <p:nvPr/>
          </p:nvSpPr>
          <p:spPr>
            <a:xfrm>
              <a:off x="335268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419112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10"/>
            <p:cNvSpPr/>
            <p:nvPr/>
          </p:nvSpPr>
          <p:spPr>
            <a:xfrm>
              <a:off x="304812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388620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Line 12"/>
          <p:cNvSpPr/>
          <p:nvPr/>
        </p:nvSpPr>
        <p:spPr>
          <a:xfrm>
            <a:off x="3048120" y="5410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2857680" y="33904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 flipV="1">
            <a:off x="2882520" y="2347560"/>
            <a:ext cx="897120" cy="100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236232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2743200" y="2133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657600" y="5486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819520" y="5335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502920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472428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74320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358128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441972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2743200" y="2819520"/>
            <a:ext cx="3429000" cy="1752480"/>
            <a:chOff x="2743200" y="2819520"/>
            <a:chExt cx="3429000" cy="1752480"/>
          </a:xfrm>
        </p:grpSpPr>
        <p:sp>
          <p:nvSpPr>
            <p:cNvPr id="340" name="AutoShape 12"/>
            <p:cNvSpPr/>
            <p:nvPr/>
          </p:nvSpPr>
          <p:spPr>
            <a:xfrm>
              <a:off x="335268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13"/>
            <p:cNvSpPr/>
            <p:nvPr/>
          </p:nvSpPr>
          <p:spPr>
            <a:xfrm>
              <a:off x="419112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14"/>
            <p:cNvSpPr/>
            <p:nvPr/>
          </p:nvSpPr>
          <p:spPr>
            <a:xfrm>
              <a:off x="502920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15"/>
            <p:cNvSpPr/>
            <p:nvPr/>
          </p:nvSpPr>
          <p:spPr>
            <a:xfrm>
              <a:off x="304812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16"/>
            <p:cNvSpPr/>
            <p:nvPr/>
          </p:nvSpPr>
          <p:spPr>
            <a:xfrm>
              <a:off x="388620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17"/>
            <p:cNvSpPr/>
            <p:nvPr/>
          </p:nvSpPr>
          <p:spPr>
            <a:xfrm>
              <a:off x="472428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18"/>
            <p:cNvSpPr/>
            <p:nvPr/>
          </p:nvSpPr>
          <p:spPr>
            <a:xfrm>
              <a:off x="274320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19"/>
            <p:cNvSpPr/>
            <p:nvPr/>
          </p:nvSpPr>
          <p:spPr>
            <a:xfrm>
              <a:off x="358128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20"/>
            <p:cNvSpPr/>
            <p:nvPr/>
          </p:nvSpPr>
          <p:spPr>
            <a:xfrm>
              <a:off x="441972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2743200" y="1981080"/>
            <a:ext cx="3429000" cy="1752480"/>
            <a:chOff x="2743200" y="1981080"/>
            <a:chExt cx="3429000" cy="1752480"/>
          </a:xfrm>
        </p:grpSpPr>
        <p:sp>
          <p:nvSpPr>
            <p:cNvPr id="350" name="AutoShape 22"/>
            <p:cNvSpPr/>
            <p:nvPr/>
          </p:nvSpPr>
          <p:spPr>
            <a:xfrm>
              <a:off x="335268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utoShape 23"/>
            <p:cNvSpPr/>
            <p:nvPr/>
          </p:nvSpPr>
          <p:spPr>
            <a:xfrm>
              <a:off x="419112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502920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>
              <a:off x="304812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26"/>
            <p:cNvSpPr/>
            <p:nvPr/>
          </p:nvSpPr>
          <p:spPr>
            <a:xfrm>
              <a:off x="388620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27"/>
            <p:cNvSpPr/>
            <p:nvPr/>
          </p:nvSpPr>
          <p:spPr>
            <a:xfrm>
              <a:off x="472428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28"/>
            <p:cNvSpPr/>
            <p:nvPr/>
          </p:nvSpPr>
          <p:spPr>
            <a:xfrm>
              <a:off x="274320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9"/>
            <p:cNvSpPr/>
            <p:nvPr/>
          </p:nvSpPr>
          <p:spPr>
            <a:xfrm>
              <a:off x="358128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441972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Rectangle 31"/>
          <p:cNvSpPr/>
          <p:nvPr/>
        </p:nvSpPr>
        <p:spPr>
          <a:xfrm>
            <a:off x="3048120" y="228600"/>
            <a:ext cx="37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8"/>
          <p:cNvGraphicFramePr/>
          <p:nvPr/>
        </p:nvGraphicFramePr>
        <p:xfrm>
          <a:off x="5562720" y="2133720"/>
          <a:ext cx="753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33720"/>
                    <a:ext cx="753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1"/>
          <p:cNvGraphicFramePr/>
          <p:nvPr/>
        </p:nvGraphicFramePr>
        <p:xfrm>
          <a:off x="5486400" y="3124080"/>
          <a:ext cx="7556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124080"/>
                    <a:ext cx="755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2"/>
          <p:cNvGraphicFramePr/>
          <p:nvPr/>
        </p:nvGraphicFramePr>
        <p:xfrm>
          <a:off x="5486400" y="4114800"/>
          <a:ext cx="6872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114800"/>
                    <a:ext cx="68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3"/>
          <p:cNvGraphicFramePr/>
          <p:nvPr/>
        </p:nvGraphicFramePr>
        <p:xfrm>
          <a:off x="5486400" y="5105520"/>
          <a:ext cx="7542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5105520"/>
                    <a:ext cx="754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7"/>
          <p:cNvGraphicFramePr/>
          <p:nvPr/>
        </p:nvGraphicFramePr>
        <p:xfrm>
          <a:off x="6629400" y="533520"/>
          <a:ext cx="960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533520"/>
                    <a:ext cx="960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7"/>
          <p:cNvGraphicFramePr/>
          <p:nvPr/>
        </p:nvGraphicFramePr>
        <p:xfrm>
          <a:off x="2209680" y="1600200"/>
          <a:ext cx="14479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14479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12"/>
          <p:cNvGraphicFramePr/>
          <p:nvPr/>
        </p:nvGraphicFramePr>
        <p:xfrm>
          <a:off x="2209680" y="2514600"/>
          <a:ext cx="106704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10670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Text Box 10"/>
          <p:cNvSpPr/>
          <p:nvPr/>
        </p:nvSpPr>
        <p:spPr>
          <a:xfrm>
            <a:off x="380880" y="19051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1523880" y="1828800"/>
            <a:ext cx="129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14"/>
          <p:cNvGraphicFramePr/>
          <p:nvPr/>
        </p:nvGraphicFramePr>
        <p:xfrm>
          <a:off x="2133720" y="3276720"/>
          <a:ext cx="1904760" cy="86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276720"/>
                    <a:ext cx="19047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xy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7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8862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RONOM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given by              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in AU (astronomical units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2209680" y="1371600"/>
          <a:ext cx="14288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14288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304920" y="9907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l sign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4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y then x is a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square root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3580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0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6019920" y="1104840"/>
          <a:ext cx="10652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104840"/>
                    <a:ext cx="1065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1447920" y="1752480"/>
          <a:ext cx="66024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52480"/>
                    <a:ext cx="660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6"/>
          <p:cNvGraphicFramePr/>
          <p:nvPr/>
        </p:nvGraphicFramePr>
        <p:xfrm>
          <a:off x="6324480" y="3581280"/>
          <a:ext cx="106524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581280"/>
                    <a:ext cx="10652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7"/>
          <p:cNvGraphicFramePr/>
          <p:nvPr/>
        </p:nvGraphicFramePr>
        <p:xfrm>
          <a:off x="6299280" y="5105520"/>
          <a:ext cx="159372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99280" y="5105520"/>
                    <a:ext cx="15937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1, 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6781680" y="812880"/>
          <a:ext cx="14623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812880"/>
                    <a:ext cx="14623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6210360" y="2336760"/>
          <a:ext cx="12016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0360" y="2336760"/>
                    <a:ext cx="12016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6"/>
          <p:cNvGraphicFramePr/>
          <p:nvPr/>
        </p:nvGraphicFramePr>
        <p:xfrm>
          <a:off x="6184800" y="3594240"/>
          <a:ext cx="1054080" cy="102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84800" y="3594240"/>
                    <a:ext cx="1054080" cy="102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7"/>
          <p:cNvGraphicFramePr/>
          <p:nvPr/>
        </p:nvGraphicFramePr>
        <p:xfrm>
          <a:off x="3817800" y="4495680"/>
          <a:ext cx="1211400" cy="13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7800" y="4495680"/>
                    <a:ext cx="12114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6.82, -6.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3479760" y="2705040"/>
          <a:ext cx="159372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9760" y="2705040"/>
                    <a:ext cx="1593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• 1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• 2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• 3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• 4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• 5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 • 6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9, 64, 81, 100, 121, 144,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5591160" y="685800"/>
          <a:ext cx="14191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1160" y="685800"/>
                    <a:ext cx="1419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9"/>
          <p:cNvGraphicFramePr/>
          <p:nvPr/>
        </p:nvGraphicFramePr>
        <p:xfrm>
          <a:off x="2917800" y="2438280"/>
          <a:ext cx="340668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7800" y="2438280"/>
                    <a:ext cx="34066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0"/>
          <p:cNvGraphicFramePr/>
          <p:nvPr/>
        </p:nvGraphicFramePr>
        <p:xfrm>
          <a:off x="2706840" y="3292560"/>
          <a:ext cx="383220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6840" y="3292560"/>
                    <a:ext cx="38322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1"/>
          <p:cNvGraphicFramePr/>
          <p:nvPr/>
        </p:nvGraphicFramePr>
        <p:xfrm>
          <a:off x="3094200" y="4146480"/>
          <a:ext cx="293364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4200" y="4146480"/>
                    <a:ext cx="29336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520" y="762120"/>
            <a:ext cx="48006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5445000" y="685800"/>
          <a:ext cx="12607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5000" y="685800"/>
                    <a:ext cx="1260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9"/>
          <p:cNvGraphicFramePr/>
          <p:nvPr/>
        </p:nvGraphicFramePr>
        <p:xfrm>
          <a:off x="3720960" y="2438280"/>
          <a:ext cx="179892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0960" y="2438280"/>
                    <a:ext cx="179892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"/>
          <p:cNvGraphicFramePr/>
          <p:nvPr/>
        </p:nvGraphicFramePr>
        <p:xfrm>
          <a:off x="3510000" y="3292560"/>
          <a:ext cx="222408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0000" y="3292560"/>
                    <a:ext cx="22240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1"/>
          <p:cNvGraphicFramePr/>
          <p:nvPr/>
        </p:nvGraphicFramePr>
        <p:xfrm>
          <a:off x="3897360" y="4146480"/>
          <a:ext cx="132552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7360" y="4146480"/>
                    <a:ext cx="13255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1459080" y="1981080"/>
          <a:ext cx="121896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981080"/>
                    <a:ext cx="12189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4800600" y="230040"/>
          <a:ext cx="1371600" cy="98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30040"/>
                    <a:ext cx="13716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1459080" y="2666880"/>
          <a:ext cx="112068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9080" y="2666880"/>
                    <a:ext cx="11206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1"/>
          <p:cNvGraphicFramePr/>
          <p:nvPr/>
        </p:nvGraphicFramePr>
        <p:xfrm>
          <a:off x="1459080" y="3513240"/>
          <a:ext cx="121896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9080" y="3513240"/>
                    <a:ext cx="12189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2"/>
          <p:cNvGraphicFramePr/>
          <p:nvPr/>
        </p:nvGraphicFramePr>
        <p:xfrm>
          <a:off x="1459080" y="4299120"/>
          <a:ext cx="1512720" cy="83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59080" y="4299120"/>
                    <a:ext cx="15127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CorShape1"/>
          <p:cNvSpPr/>
          <p:nvPr/>
        </p:nvSpPr>
        <p:spPr>
          <a:xfrm rot="10800000">
            <a:off x="360000" y="376848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00:09:35Z</dcterms:created>
  <dc:creator>Skip Tyler</dc:creator>
  <dc:description/>
  <dc:language>en-US</dc:language>
  <cp:lastModifiedBy>RomaK</cp:lastModifiedBy>
  <dcterms:modified xsi:type="dcterms:W3CDTF">2015-09-04T09:20:48Z</dcterms:modified>
  <cp:revision>31</cp:revision>
  <dc:subject/>
  <dc:title>Simplify Radicals</dc:title>
</cp:coreProperties>
</file>