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EA2-9BF0-44AE-AD7B-D61C9B7BA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=xy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=2(xy+xz+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e down expressions for the surface area &amp; volume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B=kxkykz=k3(xy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B=2(kxky+kxkz+kyk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=k2(2(xy+xz+yz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=2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N=53x20=2500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1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=224π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G=1.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 = 224π/14π =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H= 4x1.5 = 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=1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Q=405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=162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3 = 405/15 =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k=3 and k2=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P= 162 / 9 = 18c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839A-3FAD-4CB0-8238-986CF989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80A-442F-4750-9EE5-B0129187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0DD-73C1-47DC-B48D-8B92FF6B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7C75-5501-4C62-837A-6FA78C2C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96C-0EF2-4218-9C89-58EFC1BD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0C8-1E90-49E4-847D-100BC284D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75F6-9D2E-4F76-939A-9B288DBA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F283-DDA5-42D2-BB5B-C2655BC1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372-B54B-48DE-8BFE-6AF692D0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3AA-9664-408C-B83B-B482B74D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4209-315E-4937-A826-A72E6C240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F4E-5D15-41E1-9C62-B55F0579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6D25-A6BC-45BC-BC0B-4E44EE12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imilar shap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359000" y="770040"/>
            <a:ext cx="2406600" cy="108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5773680" y="950760"/>
            <a:ext cx="2335320" cy="1287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1311120" y="4356000"/>
            <a:ext cx="1516320" cy="1346400"/>
          </a:xfrm>
          <a:prstGeom prst="hexagon">
            <a:avLst>
              <a:gd name="adj" fmla="val 28155"/>
              <a:gd name="vf" fmla="val 11547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sphere.jpg (500×500)"/>
          <p:cNvPicPr/>
          <p:nvPr/>
        </p:nvPicPr>
        <p:blipFill>
          <a:blip r:embed="rId1"/>
          <a:stretch/>
        </p:blipFill>
        <p:spPr>
          <a:xfrm>
            <a:off x="5740560" y="347832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6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494532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boid A is enlarged with scale factor k to obtain B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d expressions for the surface area &amp; volume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1022400" y="2106720"/>
            <a:ext cx="1981080" cy="1447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4327560" y="2062080"/>
            <a:ext cx="3181320" cy="23241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673280" y="34671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41520" y="2631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2800440" y="31640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630440" y="2657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403960" y="311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865080" y="4533840"/>
            <a:ext cx="1432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xy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847800" y="5278320"/>
            <a:ext cx="3068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(xy+xz+y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360360" y="468360"/>
            <a:ext cx="35402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down expressions for 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face area &amp; volume of 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4687920" y="4751280"/>
            <a:ext cx="3517920" cy="510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xkykz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xy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692600" y="5383080"/>
            <a:ext cx="4043520" cy="1066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2(kxky+kxkz+kyk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2(xy+xz+yz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ale, area &amp; volum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39720" y="1455840"/>
          <a:ext cx="61722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A is enlarged by scale factor k to give B, the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L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S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fa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GB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V</a:t>
                      </a:r>
                      <a:r>
                        <a:rPr b="0" lang="en-GB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phere M is enlarged with scale factor 5 to obtain N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d the volume of 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sphere.jpg (500×500)"/>
          <p:cNvPicPr/>
          <p:nvPr/>
        </p:nvPicPr>
        <p:blipFill>
          <a:blip r:embed="rId1"/>
          <a:stretch/>
        </p:blipFill>
        <p:spPr>
          <a:xfrm>
            <a:off x="1684440" y="2479680"/>
            <a:ext cx="1425600" cy="14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sphere.jpg (500×500)"/>
          <p:cNvPicPr/>
          <p:nvPr/>
        </p:nvPicPr>
        <p:blipFill>
          <a:blip r:embed="rId2"/>
          <a:stretch/>
        </p:blipFill>
        <p:spPr>
          <a:xfrm>
            <a:off x="3738600" y="1608120"/>
            <a:ext cx="3801960" cy="3801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214720" y="2622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892840" y="23414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782640" y="4884840"/>
            <a:ext cx="210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210200" y="5729400"/>
            <a:ext cx="3404880" cy="579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20=2500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ylinders G and H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radius of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16200000">
            <a:off x="1082520" y="2260440"/>
            <a:ext cx="1270080" cy="17686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/>
          <p:cNvSpPr/>
          <p:nvPr/>
        </p:nvSpPr>
        <p:spPr>
          <a:xfrm rot="16200000">
            <a:off x="4628160" y="2040120"/>
            <a:ext cx="3181320" cy="4430880"/>
          </a:xfrm>
          <a:prstGeom prst="ca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23880" y="163368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5348160" y="1859040"/>
            <a:ext cx="2586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224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53828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010200" y="374976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97000" y="3211560"/>
            <a:ext cx="258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3"/>
          <p:cNvSpPr/>
          <p:nvPr/>
        </p:nvSpPr>
        <p:spPr>
          <a:xfrm flipV="1">
            <a:off x="673200" y="3174840"/>
            <a:ext cx="0" cy="603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14360" y="4022640"/>
            <a:ext cx="258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1060560" y="5054760"/>
            <a:ext cx="3054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24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4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r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4x1.5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risms P and Q are similar.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d the surface area of 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457200" y="3056040"/>
            <a:ext cx="1189080" cy="701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293920" y="4051440"/>
            <a:ext cx="3565440" cy="21031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27120" y="1719360"/>
            <a:ext cx="1973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473880" y="2089080"/>
            <a:ext cx="2670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405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492960" y="5481720"/>
            <a:ext cx="208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162cm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308240" y="2825640"/>
            <a:ext cx="25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5564160" y="3687840"/>
            <a:ext cx="25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90520" y="4164120"/>
            <a:ext cx="3270240" cy="1409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05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5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o k=3 and k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S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6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18cm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39:09Z</dcterms:created>
  <dc:creator>dan</dc:creator>
  <dc:description/>
  <dc:language>en-US</dc:language>
  <cp:lastModifiedBy>RomaK</cp:lastModifiedBy>
  <dcterms:modified xsi:type="dcterms:W3CDTF">2015-09-04T09:20:38Z</dcterms:modified>
  <cp:revision>20</cp:revision>
  <dc:subject/>
  <dc:title>Similar shapes</dc:title>
</cp:coreProperties>
</file>