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AEAB-6DF2-47BA-BEB4-1776D07B5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ilar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oid A is enlarged with scale factor k to obtain B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expressions for the surface area &amp; volume of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=xy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=2(xy+xz+y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wn expressions for the surface area &amp; volume of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B=kxkykz=k3(xy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B=2(kxky+kxkz+kyk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k2(2(xy+xz+yz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boid A is enlarged with scale factor k to obtain B.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nd expressions for the surface area &amp; volume of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=xy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=2(xy+xz+y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rite down expressions for the surface area &amp; volume of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B=kxkykz=k3(xy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B=2(kxky+kxkz+kyk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k2(2(xy+xz+yz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le, area &amp; volume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ale, area &amp; volume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here M is enlarged with scale factor 5 to obtain N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volume of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=20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N=53x20=2500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here M is enlarged with scale factor 5 to obtain N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volume of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=20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N=53x20=2500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linders G and H are simila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radius of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=14π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=224π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G=1.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2 = 224π/14π =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k=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H= 4x1.5 = 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linders G and H are simila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radius of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=14π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=224π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G=1.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2 = 224π/14π =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k=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H= 4x1.5 = 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sms P and Q are simila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surface area of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=15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Q=405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=162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3 = 405/15 = 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k=3 and k2=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P= 162 / 9 = 18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sms P and Q are simila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surface area of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=15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Q=405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=162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3 = 405/15 = 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k=3 and k2=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P= 162 / 9 = 18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505E-F7B8-43EB-9E64-42FE5F4CC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A806-726A-43E0-8036-6AB7960D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E5ED-9202-459D-B5B8-CAD4483DB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5E26-BAE9-4874-9B9E-C32A13488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DA8A-FACE-453D-8057-3DAB616D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5AC2-0102-42CB-9669-35958ECC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603A-71BE-4997-9146-E0FA523E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EF5C-F9C7-4101-A0B6-498BA656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D99D-905C-4611-9198-EF70EB59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4EB9-B9C3-48A8-B1A3-3178C518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D7F0-2AA3-4305-AA7F-9E73D129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7520-8BE0-45A8-AC22-D13F408D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DBAC-7685-4C08-909C-035911C75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Similar shap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1359000" y="770040"/>
            <a:ext cx="2406600" cy="108252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5773680" y="950760"/>
            <a:ext cx="2335320" cy="12877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1311120" y="4356000"/>
            <a:ext cx="1516320" cy="1346400"/>
          </a:xfrm>
          <a:prstGeom prst="hexagon">
            <a:avLst>
              <a:gd name="adj" fmla="val 28155"/>
              <a:gd name="vf" fmla="val 11547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sphere.jpg (500×500)"/>
          <p:cNvPicPr/>
          <p:nvPr/>
        </p:nvPicPr>
        <p:blipFill>
          <a:blip r:embed="rId1"/>
          <a:stretch/>
        </p:blipFill>
        <p:spPr>
          <a:xfrm>
            <a:off x="5740560" y="347832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63520" y="0"/>
            <a:ext cx="4945320" cy="22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boid A is enlarged with scale factor k to obtain B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expressions for the surface area &amp; volume of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1022400" y="2106720"/>
            <a:ext cx="1981080" cy="1447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0"/>
          <p:cNvSpPr/>
          <p:nvPr/>
        </p:nvSpPr>
        <p:spPr>
          <a:xfrm>
            <a:off x="4327560" y="2062080"/>
            <a:ext cx="3181320" cy="23241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1673280" y="34671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641520" y="26319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2800440" y="31640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1630440" y="2657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5403960" y="31114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865080" y="4533840"/>
            <a:ext cx="1432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xy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847800" y="5278320"/>
            <a:ext cx="3068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2(xy+xz+y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360360" y="468360"/>
            <a:ext cx="35402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down expressions for th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rface area &amp; volume of 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4687920" y="4751280"/>
            <a:ext cx="3517920" cy="510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kxkykz=k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xy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4692600" y="5383080"/>
            <a:ext cx="4043520" cy="1066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2(kxky+kxkz+kyk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k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(xy+xz+yz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cale, area &amp; volume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39720" y="1455840"/>
          <a:ext cx="61722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113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A is enlarged by scale factor k to give B, then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e fa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L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 fa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S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me fa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V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phere M is enlarged with scale factor 5 to obtain N.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nd the volume of 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sphere.jpg (500×500)"/>
          <p:cNvPicPr/>
          <p:nvPr/>
        </p:nvPicPr>
        <p:blipFill>
          <a:blip r:embed="rId1"/>
          <a:stretch/>
        </p:blipFill>
        <p:spPr>
          <a:xfrm>
            <a:off x="1684440" y="2479680"/>
            <a:ext cx="1425600" cy="1425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sphere.jpg (500×500)"/>
          <p:cNvPicPr/>
          <p:nvPr/>
        </p:nvPicPr>
        <p:blipFill>
          <a:blip r:embed="rId2"/>
          <a:stretch/>
        </p:blipFill>
        <p:spPr>
          <a:xfrm>
            <a:off x="3738600" y="1608120"/>
            <a:ext cx="3801960" cy="38019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8"/>
          <p:cNvSpPr/>
          <p:nvPr/>
        </p:nvSpPr>
        <p:spPr>
          <a:xfrm>
            <a:off x="2214720" y="26226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5892840" y="23414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782640" y="4884840"/>
            <a:ext cx="210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20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4210200" y="5729400"/>
            <a:ext cx="3404880" cy="579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5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20=2500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ylinders G and H are similar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ind the radius of 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/>
          <p:cNvSpPr/>
          <p:nvPr/>
        </p:nvSpPr>
        <p:spPr>
          <a:xfrm rot="16200000">
            <a:off x="1082520" y="2260440"/>
            <a:ext cx="1270080" cy="176868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5"/>
          <p:cNvSpPr/>
          <p:nvPr/>
        </p:nvSpPr>
        <p:spPr>
          <a:xfrm rot="16200000">
            <a:off x="4628160" y="2040120"/>
            <a:ext cx="3181320" cy="443088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23880" y="1633680"/>
            <a:ext cx="258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14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5348160" y="1859040"/>
            <a:ext cx="2586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224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1538280" y="2825640"/>
            <a:ext cx="25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6010200" y="3749760"/>
            <a:ext cx="25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297000" y="3211560"/>
            <a:ext cx="258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3"/>
          <p:cNvSpPr/>
          <p:nvPr/>
        </p:nvSpPr>
        <p:spPr>
          <a:xfrm flipV="1">
            <a:off x="673200" y="3174840"/>
            <a:ext cx="0" cy="603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414360" y="4022640"/>
            <a:ext cx="258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1.5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1060560" y="5054760"/>
            <a:ext cx="3054240" cy="1409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224</a:t>
            </a:r>
            <a:r>
              <a:rPr b="0" lang="el-G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4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o k=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d r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 4x1.5 =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6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risms P and Q are similar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ind the surface area of 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457200" y="3056040"/>
            <a:ext cx="1189080" cy="70164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2293920" y="4051440"/>
            <a:ext cx="3565440" cy="21031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627120" y="1719360"/>
            <a:ext cx="1973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15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6473880" y="2089080"/>
            <a:ext cx="267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405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6492960" y="5481720"/>
            <a:ext cx="208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162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1308240" y="2825640"/>
            <a:ext cx="25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5564160" y="3687840"/>
            <a:ext cx="25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290520" y="4164120"/>
            <a:ext cx="3270240" cy="1409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05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5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 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o k=3 and k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d 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6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/ 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18cm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4:39:09Z</dcterms:created>
  <dc:creator>dan</dc:creator>
  <dc:description/>
  <dc:language>en-US</dc:language>
  <cp:lastModifiedBy>RomaK</cp:lastModifiedBy>
  <dcterms:modified xsi:type="dcterms:W3CDTF">2015-09-04T09:20:38Z</dcterms:modified>
  <cp:revision>20</cp:revision>
  <dc:subject/>
  <dc:title>Similar shapes</dc:title>
</cp:coreProperties>
</file>