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955BF-DEDD-45D9-B5EF-94B808218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milar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oid A is enlarged with scale factor k to obtain B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expressions for the surface area &amp; volume of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=xy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=2(xy+xz+y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down expressions for the surface area &amp; volume of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B=kxkykz=k3(xy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B=2(kxky+kxkz+kyk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k2(2(xy+xz+yz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boid A is enlarged with scale factor k to obtain B.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nd expressions for the surface area &amp; volume of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=xy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=2(xy+xz+y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rite down expressions for the surface area &amp; volume of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B=kxkykz=k3(xy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B=2(kxky+kxkz+kyk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k2(2(xy+xz+yz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le, area &amp; volume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ale, area &amp; volume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here M is enlarged with scale factor 5 to obtain N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volume of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M=20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N=53x20=2500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here M is enlarged with scale factor 5 to obtain N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volume of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M=20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N=53x20=2500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linders G and H are similar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radius of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=14πc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=224πc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G=1.5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2 = 224π/14π =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k=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rH= 4x1.5 = 6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linders G and H are similar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radius of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=14πc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=224πc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G=1.5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2 = 224π/14π =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k=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rH= 4x1.5 = 6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sms P and Q are similar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surface area of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P=15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Q=405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=162c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3 = 405/15 = 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k=3 and k2=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P= 162 / 9 = 18c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sms P and Q are similar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surface area of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P=15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Q=405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=162c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3 = 405/15 = 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k=3 and k2=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P= 162 / 9 = 18c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D48D-5039-4457-A670-F146A14D4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CD02-5535-476F-A01A-F122C08E7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4FF6-0C35-4229-9F74-DB66E371C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0460-32C1-478D-AC11-EF4F62FA6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78B6-EDA0-4E76-B7AC-190A4A489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6C3A-BC84-4094-936F-69F4C9EA6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B4FB-C431-4FB1-9BF6-40B1BD937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20F8-4106-4BB7-B5F2-ABE9CC18E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47AC-56FA-4C71-8449-72E6C019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59DA-F4F6-446F-8C47-4C45991F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2392-AD70-43EE-B5A9-6B55E470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6C0E-42D7-4267-9607-9398689C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05647-838B-448D-8AB2-E207AA177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Similar shap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1359000" y="770040"/>
            <a:ext cx="2406600" cy="108252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5"/>
          <p:cNvSpPr/>
          <p:nvPr/>
        </p:nvSpPr>
        <p:spPr>
          <a:xfrm>
            <a:off x="5773680" y="950760"/>
            <a:ext cx="2335320" cy="12877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6"/>
          <p:cNvSpPr/>
          <p:nvPr/>
        </p:nvSpPr>
        <p:spPr>
          <a:xfrm>
            <a:off x="1311120" y="4356000"/>
            <a:ext cx="1516320" cy="1346400"/>
          </a:xfrm>
          <a:prstGeom prst="hexagon">
            <a:avLst>
              <a:gd name="adj" fmla="val 28155"/>
              <a:gd name="vf" fmla="val 11547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sphere.jpg (500×500)"/>
          <p:cNvPicPr/>
          <p:nvPr/>
        </p:nvPicPr>
        <p:blipFill>
          <a:blip r:embed="rId1"/>
          <a:stretch/>
        </p:blipFill>
        <p:spPr>
          <a:xfrm>
            <a:off x="5740560" y="3478320"/>
            <a:ext cx="2376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56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63520" y="0"/>
            <a:ext cx="4945320" cy="22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boid A is enlarged with scale factor k to obtain B.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d expressions for the surface area &amp; volume of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7"/>
          <p:cNvSpPr/>
          <p:nvPr/>
        </p:nvSpPr>
        <p:spPr>
          <a:xfrm>
            <a:off x="1022400" y="2106720"/>
            <a:ext cx="1981080" cy="1447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0"/>
          <p:cNvSpPr/>
          <p:nvPr/>
        </p:nvSpPr>
        <p:spPr>
          <a:xfrm>
            <a:off x="4327560" y="2062080"/>
            <a:ext cx="3181320" cy="23241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1673280" y="34671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641520" y="26319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2800440" y="31640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1630440" y="26575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5403960" y="31114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7"/>
          <p:cNvSpPr/>
          <p:nvPr/>
        </p:nvSpPr>
        <p:spPr>
          <a:xfrm>
            <a:off x="865080" y="4533840"/>
            <a:ext cx="1432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xy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8"/>
          <p:cNvSpPr/>
          <p:nvPr/>
        </p:nvSpPr>
        <p:spPr>
          <a:xfrm>
            <a:off x="847800" y="5278320"/>
            <a:ext cx="3068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2(xy+xz+y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9"/>
          <p:cNvSpPr/>
          <p:nvPr/>
        </p:nvSpPr>
        <p:spPr>
          <a:xfrm>
            <a:off x="360360" y="468360"/>
            <a:ext cx="35402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down expressions for th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rface area &amp; volume of 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0"/>
          <p:cNvSpPr/>
          <p:nvPr/>
        </p:nvSpPr>
        <p:spPr>
          <a:xfrm>
            <a:off x="4687920" y="4751280"/>
            <a:ext cx="3517920" cy="510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kxkykz=k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xy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1"/>
          <p:cNvSpPr/>
          <p:nvPr/>
        </p:nvSpPr>
        <p:spPr>
          <a:xfrm>
            <a:off x="4692600" y="5383080"/>
            <a:ext cx="4043520" cy="1066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2(kxky+kxkz+kyk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k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(xy+xz+yz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cale, area &amp; volume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39720" y="1455840"/>
          <a:ext cx="6172200" cy="4525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</a:tblGrid>
              <a:tr h="113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A is enlarged by scale factor k to give B, then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le fac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L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 fac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S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ume fac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V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phere M is enlarged with scale factor 5 to obtain N. 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ind the volume of 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sphere.jpg (500×500)"/>
          <p:cNvPicPr/>
          <p:nvPr/>
        </p:nvPicPr>
        <p:blipFill>
          <a:blip r:embed="rId1"/>
          <a:stretch/>
        </p:blipFill>
        <p:spPr>
          <a:xfrm>
            <a:off x="1684440" y="2479680"/>
            <a:ext cx="1425600" cy="1425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sphere.jpg (500×500)"/>
          <p:cNvPicPr/>
          <p:nvPr/>
        </p:nvPicPr>
        <p:blipFill>
          <a:blip r:embed="rId2"/>
          <a:stretch/>
        </p:blipFill>
        <p:spPr>
          <a:xfrm>
            <a:off x="3738600" y="1608120"/>
            <a:ext cx="3801960" cy="38019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8"/>
          <p:cNvSpPr/>
          <p:nvPr/>
        </p:nvSpPr>
        <p:spPr>
          <a:xfrm>
            <a:off x="2214720" y="26226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5892840" y="234144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782640" y="4884840"/>
            <a:ext cx="210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20c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4210200" y="5729400"/>
            <a:ext cx="3404880" cy="579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5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20=2500c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ylinders G and H are similar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ind the radius of 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4"/>
          <p:cNvSpPr/>
          <p:nvPr/>
        </p:nvSpPr>
        <p:spPr>
          <a:xfrm rot="16200000">
            <a:off x="1082520" y="2260440"/>
            <a:ext cx="1270080" cy="1768680"/>
          </a:xfrm>
          <a:prstGeom prst="ca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5"/>
          <p:cNvSpPr/>
          <p:nvPr/>
        </p:nvSpPr>
        <p:spPr>
          <a:xfrm rot="16200000">
            <a:off x="4628160" y="2040120"/>
            <a:ext cx="3181320" cy="4430880"/>
          </a:xfrm>
          <a:prstGeom prst="ca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623880" y="1633680"/>
            <a:ext cx="2585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14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5348160" y="1859040"/>
            <a:ext cx="2586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224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1538280" y="2825640"/>
            <a:ext cx="25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6010200" y="3749760"/>
            <a:ext cx="258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297000" y="3211560"/>
            <a:ext cx="258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3"/>
          <p:cNvSpPr/>
          <p:nvPr/>
        </p:nvSpPr>
        <p:spPr>
          <a:xfrm flipV="1">
            <a:off x="673200" y="3174840"/>
            <a:ext cx="0" cy="603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414360" y="4022640"/>
            <a:ext cx="2585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1.5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1060560" y="5054760"/>
            <a:ext cx="3054240" cy="1409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224</a:t>
            </a:r>
            <a:r>
              <a:rPr b="0" lang="el-GR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4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= 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o k=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nd r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= 4x1.5 =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6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risms P and Q are similar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ind the surface area of 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457200" y="3056040"/>
            <a:ext cx="1189080" cy="70164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2293920" y="4051440"/>
            <a:ext cx="3565440" cy="210312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627120" y="1719360"/>
            <a:ext cx="1973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15c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6473880" y="2089080"/>
            <a:ext cx="267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405c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6492960" y="5481720"/>
            <a:ext cx="208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162c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3"/>
          <p:cNvSpPr/>
          <p:nvPr/>
        </p:nvSpPr>
        <p:spPr>
          <a:xfrm>
            <a:off x="1308240" y="2825640"/>
            <a:ext cx="25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5564160" y="3687840"/>
            <a:ext cx="258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290520" y="4164120"/>
            <a:ext cx="3270240" cy="1409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05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5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= 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o k=3 and k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=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nd S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6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/ 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9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18cm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14:39:09Z</dcterms:created>
  <dc:creator>dan</dc:creator>
  <dc:description/>
  <dc:language>en-US</dc:language>
  <cp:lastModifiedBy>RomaK</cp:lastModifiedBy>
  <dcterms:modified xsi:type="dcterms:W3CDTF">2015-09-04T09:20:38Z</dcterms:modified>
  <cp:revision>20</cp:revision>
  <dc:subject/>
  <dc:title>Similar shapes</dc:title>
</cp:coreProperties>
</file>