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B1CA-BF04-4F56-88DB-32A98E02B8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EL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219-E2AF-4780-BBFF-90116987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FFA-1798-44F0-B0D7-5A198728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8AE-6A81-40A3-8ACC-3789395B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97D-F578-4704-8BC5-377FDBD0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27BD7-2956-45F1-BEA5-3983C4E5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C9976-7671-45FE-8594-0854FBB0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80DD7-74AA-4C4E-967B-264BAB7A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FE7B2-FE20-4DA8-B5D2-33E6FA0D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8C5D0-A6EA-4FDB-8DB0-085718F9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51AB4-2EA5-45D9-887D-23A7E216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30275-B654-40FC-BA33-B18AF055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D58-80E2-4A0A-9247-0B1D0A82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ABE37-79CD-4E10-B0CE-D7E7F3B8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4ED12-7BEB-4CA9-B696-6D06283D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9C694-133F-4CC5-AADD-A43C1EEE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92A39-F61E-49B8-B561-BDBFFABA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0085F-4D6B-40F9-B4B7-A63BFD3C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24113-9E19-4275-961A-9DB283F3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2D842-5D85-423A-8829-D56B9F1D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22B9C-DFC3-4383-9B47-8C4CAA74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240C4-5E24-4A00-AB90-8A9C5079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0822A-1D05-4083-8671-4D350F41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9BD-43A3-4F60-9A7E-38E8135B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FE63-B1A8-4932-9909-29049778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21CD1-EA57-4D09-BEDB-917530E9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841D5-EF8C-4C5E-A01C-2DBB508D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CE0DD-CF0B-4082-A6A9-9A10DE97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2318B-0715-4FBD-A7A8-169EB4A2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503D1-2218-4B93-A0AE-44334593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0B26E-34D2-4C91-8E42-670EFE6E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22C-52CD-41FF-B7FD-D1BB9120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585-9B2F-4F67-9BBC-C09A1B63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BB4-3746-4ABB-8F4F-53EA3371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AA35-374E-484D-82CC-9E816C61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C11-8E65-4A0A-8EF1-58C838B4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D40-0E32-4275-93AE-0B305282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5805-93EA-41D2-80E1-449583B7AE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4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1D60-A102-4374-9FFC-991F90CFE2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9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D5FA-7733-458A-9EC8-672D3A19F70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The Syst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  <a:ea typeface="Arial"/>
              </a:rPr>
              <a:t>ème International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Bell MT"/>
              </a:rPr>
              <a:t>SI Un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6372360" y="573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GEL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250920" y="476280"/>
          <a:ext cx="8713800" cy="5616720"/>
        </p:xfrm>
        <a:graphic>
          <a:graphicData uri="http://schemas.openxmlformats.org/drawingml/2006/table">
            <a:tbl>
              <a:tblPr/>
              <a:tblGrid>
                <a:gridCol w="3557520"/>
                <a:gridCol w="1452600"/>
                <a:gridCol w="2324160"/>
                <a:gridCol w="137952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Quanti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Text Box 232"/>
          <p:cNvSpPr/>
          <p:nvPr/>
        </p:nvSpPr>
        <p:spPr>
          <a:xfrm>
            <a:off x="324000" y="2276640"/>
            <a:ext cx="17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33"/>
          <p:cNvSpPr/>
          <p:nvPr/>
        </p:nvSpPr>
        <p:spPr>
          <a:xfrm>
            <a:off x="324000" y="2781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4"/>
          <p:cNvSpPr/>
          <p:nvPr/>
        </p:nvSpPr>
        <p:spPr>
          <a:xfrm>
            <a:off x="324000" y="328464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35"/>
          <p:cNvSpPr/>
          <p:nvPr/>
        </p:nvSpPr>
        <p:spPr>
          <a:xfrm>
            <a:off x="324000" y="378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36"/>
          <p:cNvSpPr/>
          <p:nvPr/>
        </p:nvSpPr>
        <p:spPr>
          <a:xfrm>
            <a:off x="324000" y="4292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8"/>
          <p:cNvSpPr/>
          <p:nvPr/>
        </p:nvSpPr>
        <p:spPr>
          <a:xfrm>
            <a:off x="250920" y="4797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39"/>
          <p:cNvSpPr/>
          <p:nvPr/>
        </p:nvSpPr>
        <p:spPr>
          <a:xfrm>
            <a:off x="324000" y="551664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42"/>
          <p:cNvSpPr/>
          <p:nvPr/>
        </p:nvSpPr>
        <p:spPr>
          <a:xfrm>
            <a:off x="4500720" y="22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43"/>
          <p:cNvSpPr/>
          <p:nvPr/>
        </p:nvSpPr>
        <p:spPr>
          <a:xfrm>
            <a:off x="4427640" y="2781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Bradley Hand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44"/>
          <p:cNvSpPr/>
          <p:nvPr/>
        </p:nvSpPr>
        <p:spPr>
          <a:xfrm>
            <a:off x="4356000" y="328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5"/>
          <p:cNvSpPr/>
          <p:nvPr/>
        </p:nvSpPr>
        <p:spPr>
          <a:xfrm>
            <a:off x="4067280" y="378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 ,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46"/>
          <p:cNvSpPr/>
          <p:nvPr/>
        </p:nvSpPr>
        <p:spPr>
          <a:xfrm>
            <a:off x="4140360" y="429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Bell MT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7"/>
          <p:cNvSpPr/>
          <p:nvPr/>
        </p:nvSpPr>
        <p:spPr>
          <a:xfrm>
            <a:off x="4427640" y="47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49"/>
          <p:cNvSpPr/>
          <p:nvPr/>
        </p:nvSpPr>
        <p:spPr>
          <a:xfrm>
            <a:off x="3780000" y="5445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52"/>
          <p:cNvSpPr/>
          <p:nvPr/>
        </p:nvSpPr>
        <p:spPr>
          <a:xfrm>
            <a:off x="5364000" y="227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53"/>
          <p:cNvSpPr/>
          <p:nvPr/>
        </p:nvSpPr>
        <p:spPr>
          <a:xfrm>
            <a:off x="5364000" y="2781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55"/>
          <p:cNvSpPr/>
          <p:nvPr/>
        </p:nvSpPr>
        <p:spPr>
          <a:xfrm>
            <a:off x="5364000" y="32846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56"/>
          <p:cNvSpPr/>
          <p:nvPr/>
        </p:nvSpPr>
        <p:spPr>
          <a:xfrm>
            <a:off x="5364000" y="378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57"/>
          <p:cNvSpPr/>
          <p:nvPr/>
        </p:nvSpPr>
        <p:spPr>
          <a:xfrm>
            <a:off x="5364000" y="429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58"/>
          <p:cNvSpPr/>
          <p:nvPr/>
        </p:nvSpPr>
        <p:spPr>
          <a:xfrm>
            <a:off x="5364000" y="4797360"/>
            <a:ext cx="11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59"/>
          <p:cNvSpPr/>
          <p:nvPr/>
        </p:nvSpPr>
        <p:spPr>
          <a:xfrm>
            <a:off x="5364000" y="544500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60"/>
          <p:cNvSpPr/>
          <p:nvPr/>
        </p:nvSpPr>
        <p:spPr>
          <a:xfrm>
            <a:off x="7885080" y="227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61"/>
          <p:cNvSpPr/>
          <p:nvPr/>
        </p:nvSpPr>
        <p:spPr>
          <a:xfrm>
            <a:off x="788508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62"/>
          <p:cNvSpPr/>
          <p:nvPr/>
        </p:nvSpPr>
        <p:spPr>
          <a:xfrm>
            <a:off x="7885080" y="32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63"/>
          <p:cNvSpPr/>
          <p:nvPr/>
        </p:nvSpPr>
        <p:spPr>
          <a:xfrm>
            <a:off x="7885080" y="3789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64"/>
          <p:cNvSpPr/>
          <p:nvPr/>
        </p:nvSpPr>
        <p:spPr>
          <a:xfrm>
            <a:off x="7991640" y="429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67"/>
          <p:cNvSpPr/>
          <p:nvPr/>
        </p:nvSpPr>
        <p:spPr>
          <a:xfrm>
            <a:off x="7812000" y="486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68"/>
          <p:cNvSpPr/>
          <p:nvPr/>
        </p:nvSpPr>
        <p:spPr>
          <a:xfrm>
            <a:off x="7956720" y="54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179280" y="260280"/>
          <a:ext cx="8642520" cy="6096240"/>
        </p:xfrm>
        <a:graphic>
          <a:graphicData uri="http://schemas.openxmlformats.org/drawingml/2006/table">
            <a:tbl>
              <a:tblPr/>
              <a:tblGrid>
                <a:gridCol w="2232000"/>
                <a:gridCol w="2784600"/>
                <a:gridCol w="1465200"/>
                <a:gridCol w="21607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ysical Quant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fined as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ecial N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Text Box 68"/>
          <p:cNvSpPr/>
          <p:nvPr/>
        </p:nvSpPr>
        <p:spPr>
          <a:xfrm>
            <a:off x="179280" y="2205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9"/>
          <p:cNvSpPr/>
          <p:nvPr/>
        </p:nvSpPr>
        <p:spPr>
          <a:xfrm>
            <a:off x="179280" y="2708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17"/>
          <p:cNvSpPr/>
          <p:nvPr/>
        </p:nvSpPr>
        <p:spPr>
          <a:xfrm>
            <a:off x="179280" y="3141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18"/>
          <p:cNvSpPr/>
          <p:nvPr/>
        </p:nvSpPr>
        <p:spPr>
          <a:xfrm>
            <a:off x="179280" y="357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0"/>
          <p:cNvSpPr/>
          <p:nvPr/>
        </p:nvSpPr>
        <p:spPr>
          <a:xfrm>
            <a:off x="179280" y="407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1"/>
          <p:cNvSpPr/>
          <p:nvPr/>
        </p:nvSpPr>
        <p:spPr>
          <a:xfrm>
            <a:off x="250920" y="4508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22"/>
          <p:cNvSpPr/>
          <p:nvPr/>
        </p:nvSpPr>
        <p:spPr>
          <a:xfrm>
            <a:off x="179280" y="5013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3"/>
          <p:cNvSpPr/>
          <p:nvPr/>
        </p:nvSpPr>
        <p:spPr>
          <a:xfrm>
            <a:off x="179280" y="544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5"/>
          <p:cNvSpPr/>
          <p:nvPr/>
        </p:nvSpPr>
        <p:spPr>
          <a:xfrm>
            <a:off x="250920" y="587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m  g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m = kg  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kg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104292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"/>
          <p:cNvSpPr/>
          <p:nvPr/>
        </p:nvSpPr>
        <p:spPr>
          <a:xfrm flipH="1">
            <a:off x="1692360" y="2060640"/>
            <a:ext cx="7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6"/>
          <p:cNvSpPr/>
          <p:nvPr/>
        </p:nvSpPr>
        <p:spPr>
          <a:xfrm>
            <a:off x="2268360" y="2133720"/>
            <a:ext cx="21600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7"/>
          <p:cNvSpPr/>
          <p:nvPr/>
        </p:nvSpPr>
        <p:spPr>
          <a:xfrm>
            <a:off x="2700360" y="206064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75564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1476360" y="2637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1979640" y="263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2987640" y="26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3" descr="91-einb2"/>
          <p:cNvPicPr/>
          <p:nvPr/>
        </p:nvPicPr>
        <p:blipFill>
          <a:blip r:embed="rId1"/>
          <a:stretch/>
        </p:blipFill>
        <p:spPr>
          <a:xfrm>
            <a:off x="6804000" y="1395360"/>
            <a:ext cx="1800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6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7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/>
                                        <p:tgtEl>
                                          <p:spTgt spid="6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6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u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+2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>
            <a:off x="971640" y="206064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>
            <a:off x="1763640" y="206064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>
            <a:off x="2484360" y="2060640"/>
            <a:ext cx="1079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>
            <a:off x="2771640" y="2060640"/>
            <a:ext cx="1368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826920" y="270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2124000" y="2708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3276720" y="2708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4067280" y="270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6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F = 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"/>
          <p:cNvSpPr/>
          <p:nvPr/>
        </p:nvSpPr>
        <p:spPr>
          <a:xfrm>
            <a:off x="97164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755640" y="27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"/>
          <p:cNvSpPr/>
          <p:nvPr/>
        </p:nvSpPr>
        <p:spPr>
          <a:xfrm flipH="1">
            <a:off x="1763280" y="220500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1476360" y="2781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2195640" y="206064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2124000" y="278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2050920" y="249228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298764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4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6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6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s missing?   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F =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r>
              <a:rPr b="0" lang="en-GB" sz="3600" spc="-1" strike="noStrike" u="sng" baseline="30000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1979640" y="242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3564000" y="2421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Arial"/>
              </a:rPr>
              <a:t>k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½ m v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 = u + a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851280" y="1844640"/>
            <a:ext cx="439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 = kg 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 m = kg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924360" y="3987720"/>
            <a:ext cx="4680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Not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missing, so equation should r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 = u +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) x = ut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a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) T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/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) v = f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) I = 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) W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C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missing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) F = mv -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8:53:17Z</dcterms:created>
  <dc:creator>gelms</dc:creator>
  <dc:description/>
  <dc:language>en-US</dc:language>
  <cp:lastModifiedBy>RomaK</cp:lastModifiedBy>
  <dcterms:modified xsi:type="dcterms:W3CDTF">2015-09-04T09:20:25Z</dcterms:modified>
  <cp:revision>20</cp:revision>
  <dc:subject/>
  <dc:title>SI Units</dc:title>
</cp:coreProperties>
</file>