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BBC0-25AA-4417-8C43-16C2451DAB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difference: coefficient of n is the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level difference: compare with squar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    = 1, 4, 9, 16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level difference: compare with cub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    = 1, 8, 27, 64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of these helpful: look for powers of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    = 1, 2, 4, 8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lternate: use (-1)  and (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when k is od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 when k is 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difference: coefficient of n is the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level difference: compare with squar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    = 1, 4, 9, 16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level difference: compare with cub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    = 1, 8, 27, 64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of these helpful: look for powers of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    = 1, 2, 4, 8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lternate: use (-1)  and (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when k is od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 when k is 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next three terms in the sequence 5, 8, 11, 14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next three terms in the sequence 5, 8, 11, 14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th term of a sequence is given by  x 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first four terms of the sequ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erm in the sequence 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 sequence as a recurrence 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th term of a sequence is given by  x 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first four terms of the sequ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erm in the sequence 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 sequence as a recurrence 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nth term of the sequence +1, -4, +9, -16, +25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nth term of the sequence +1, -4, +9, -16, +25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 defined by a recurrence relation of the for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       = aM  +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that M  = 10, M  = 20, M  = 24, find the value of a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of b and hence find M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 defined by a recurrence relation of the for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       = aM  +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that M  = 10, M  = 20, M  = 24, find the value of a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of b and hence find M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 a set of terms, in a definite order, where the terms are obtained by some r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ite sequence ends after a certain number of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finite sequence is one that continues indefini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 a set of terms, in a definite order, where the terms are obtained by some r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ite sequence ends after a certain number of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finite sequence is one that continues indefini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3, 5, 7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is a sequence of odd numb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  term =   2 x 1 – 1  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  term =   2 x 2 – 1  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  term =   2 x 3 – 1  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  term =   2 x n – 1   = 2n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3, 5, 7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is a sequence of odd numb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  term =   2 x 1 – 1  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  term =   2 x 2 – 1  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  term =   2 x 3 – 1  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  term =   2 x n – 1   = 2n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ULA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ULA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currence relation defines the first term(s) in the sequence and the relation between successive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currence relation defines the first term(s) in the sequence and the relation between successive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3n 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, 8, 11, 14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n 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, 8, 11, 14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look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ooking for the r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ng a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look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ooking for the r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ng a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C94E-A388-4910-8F6A-8819DA64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9EAA-8FFD-44E3-9D37-EE886E5C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2A99-F557-4C2F-A3B4-E2BAF6085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C247-0722-4D30-BFF4-CBE19FF2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908B-BA67-494F-918E-B481AE18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22E2-892D-40A0-9BA5-E83CACE9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6762-A9D8-49A4-A377-54770BE4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C3D2-617A-450F-8FB0-98C247E6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4EC6-59AE-4976-84EA-D956A8C7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5DAF-E7E2-4621-B14C-ED7BA671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7A91-B399-4795-B0AC-72DF9AF4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9656-8941-488C-AB75-8087E647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8CF2-31BC-42D5-BEB1-896B4341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4AE2-D1D5-491C-8ED4-125414A0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78D8-3A64-4FAC-86AF-573324C2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73C2-956F-4767-BFB6-AA16BA9C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F0BA-A5A2-4483-A1D9-21EB67163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D60B8-9F0B-4DD2-92DB-EF7BAA33C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B9644-E673-4352-890C-958079F9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BDF32-4639-4353-8223-BA79951B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23056-0CE1-4AAA-BE06-F217E1CA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C10E7-302D-4B17-8146-C147D064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76E2-A123-4593-BA7F-497F978F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6735D-C087-4E01-8ADD-9F80EF82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2F0D9-EDFE-44A5-B37D-7D5E854D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96648-F462-454D-A6FA-D2EE7EA6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44803-0CB7-4889-AB8E-28C9BA3D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F1F08-FE8A-4938-AC94-83B9C539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C46B1-9C9A-4712-93CE-76CD667FD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87F9F-7D61-4AD7-AEF0-51BBA4CFA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60B85-318A-40B6-B575-99D577978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560F0-24EE-4290-98A0-B13D518D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44773-F8B9-4DE7-844A-4C22707A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B418-F38F-44FD-ACF9-6D3385A0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B7EC9-7513-4764-A9F6-B973EE51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929CD-03C3-4B78-A433-7D4776B2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A53F1-5106-48BF-949C-5EF424AB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7428C-B535-4428-9C7C-3EEC3705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A3C26-BFC0-4BF1-BE2B-0B93128D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A7A8F-C54E-4477-9589-F67122B0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1D167-7FF3-4FD2-A1A4-D05E3CCD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BD70C-4AE1-4454-B69E-B99A2551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9FA16-D73D-4EAC-87B0-45F3C5D8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9627-8953-417B-A565-D9E885AC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7D4A-A54F-4784-8487-B19994F8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9EB1-9D22-4F1C-B453-1B92F6CD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0E15-BB5F-41F8-A78F-EF64F05E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E474-0D4A-4449-970F-A6D7F667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0998-AAF0-4813-AA58-C8B5543B28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9852-AF29-49E5-B52C-14EFF46C2D6C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2AF8-99AF-4741-B7EA-D9AA4FA650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1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85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858C-3734-4ED3-8E4D-FF5FF2DFE339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5"/>
          <p:cNvSpPr txBox="1"/>
          <p:nvPr/>
        </p:nvSpPr>
        <p:spPr>
          <a:xfrm rot="3130800">
            <a:off x="3768120" y="3369240"/>
            <a:ext cx="3878280" cy="143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6600ff"/>
                    </a:gs>
                  </a:gsLst>
                  <a:lin ang="20688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EQUENCE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6600ff"/>
                  </a:gs>
                </a:gsLst>
                <a:lin ang="20688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08000" y="620280"/>
            <a:ext cx="8640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Constant difference: coefficient of </a:t>
            </a:r>
            <a:r>
              <a:rPr b="0" i="1" lang="en-GB" sz="2400" spc="-1" strike="noStrike">
                <a:solidFill>
                  <a:srgbClr val="9933ff"/>
                </a:solidFill>
                <a:latin typeface="Comic Sans MS"/>
              </a:rPr>
              <a:t>n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 is the differ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2</a:t>
            </a:r>
            <a:r>
              <a:rPr b="0" lang="en-GB" sz="2400" spc="-1" strike="noStrike" baseline="30000">
                <a:solidFill>
                  <a:srgbClr val="9933ff"/>
                </a:solidFill>
                <a:latin typeface="Comic Sans MS"/>
              </a:rPr>
              <a:t>nd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 level difference: compare with square nu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(</a:t>
            </a:r>
            <a:r>
              <a:rPr b="0" i="1" lang="en-GB" sz="2000" spc="-1" strike="noStrike">
                <a:solidFill>
                  <a:srgbClr val="9933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    = 1, 4, 9, 16, …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3</a:t>
            </a:r>
            <a:r>
              <a:rPr b="0" lang="en-GB" sz="2400" spc="-1" strike="noStrike" baseline="30000">
                <a:solidFill>
                  <a:srgbClr val="9933ff"/>
                </a:solidFill>
                <a:latin typeface="Comic Sans MS"/>
              </a:rPr>
              <a:t>rd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 level difference: compare with cube nu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(</a:t>
            </a:r>
            <a:r>
              <a:rPr b="0" i="1" lang="en-GB" sz="2000" spc="-1" strike="noStrike">
                <a:solidFill>
                  <a:srgbClr val="9933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    = 1, 8, 27, 64, …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None of these helpful: look for powers of nu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(2     = 1, 2, 4, 8, …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Signs alternate: use (-1)  and (-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-1 when k is odd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+1 when k is ev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3184560" y="4456080"/>
            <a:ext cx="160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5150880" y="349416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3926880" y="35002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685800" y="148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33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685800" y="2332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33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711360" y="31240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ff"/>
                </a:solidFill>
                <a:latin typeface="Arial"/>
              </a:rPr>
              <a:t>n </a:t>
            </a:r>
            <a:r>
              <a:rPr b="1" lang="en-GB" sz="1400" spc="-1" strike="noStrike">
                <a:solidFill>
                  <a:srgbClr val="9933ff"/>
                </a:solidFill>
                <a:latin typeface="Arial"/>
              </a:rPr>
              <a:t>-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3"/>
          <p:cNvSpPr/>
          <p:nvPr/>
        </p:nvSpPr>
        <p:spPr>
          <a:xfrm flipH="1">
            <a:off x="3203280" y="4149720"/>
            <a:ext cx="647640" cy="43164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4"/>
          <p:cNvSpPr/>
          <p:nvPr/>
        </p:nvSpPr>
        <p:spPr>
          <a:xfrm>
            <a:off x="5148360" y="4149720"/>
            <a:ext cx="1152360" cy="43164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" dur="50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" dur="500"/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7913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nd the next three terms in the sequence 5, 8, 11, 14,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79135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Kristen ITC"/>
              </a:rPr>
              <a:t>The nth term of a sequence is given by  x  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Find the first four terms of the sequenc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b)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Which term in the sequence is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c)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Express the sequence as a recurrence relation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6075360" y="1268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Kristen ITC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6014160" y="134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6078240" y="1773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6222600" y="1684440"/>
            <a:ext cx="29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Kristen ITC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5573160" y="1611360"/>
            <a:ext cx="29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Kristen ITC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5352840" y="2781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5122080" y="3141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1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5150880" y="2852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7913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nd the nth term of the sequence +1, -4, +9, -16, +25,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79138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sequence is defined by a recurrence relation of the form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=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a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+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iven that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10,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= 20,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= 24, find the value of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and th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alue of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and hence find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450720" y="1125360"/>
            <a:ext cx="5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 +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1698480" y="148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3781080" y="148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2701800" y="148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3420720" y="1844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769644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sequenc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a set of terms, in a definite order, where the terms are obtained by some ru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250920" y="2205000"/>
            <a:ext cx="769608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inite sequenc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ends after a certain number of te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250920" y="3646440"/>
            <a:ext cx="769608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infinite sequenc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one that continues indefinit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2808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987640" y="404640"/>
            <a:ext cx="539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, 3, 5, 7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This is a sequence of odd numb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620640" y="1628640"/>
            <a:ext cx="76964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1s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term =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 x 1 – 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68360" y="2133720"/>
            <a:ext cx="7696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2n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term =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 x 2 – 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476280" y="2637000"/>
            <a:ext cx="7696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3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term =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 x 3 – 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539640" y="4941720"/>
            <a:ext cx="76964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nt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term =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 x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= 2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900000" y="2924280"/>
            <a:ext cx="769644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1"/>
          <p:cNvSpPr/>
          <p:nvPr/>
        </p:nvSpPr>
        <p:spPr>
          <a:xfrm>
            <a:off x="5364000" y="1916280"/>
            <a:ext cx="71640" cy="504720"/>
          </a:xfrm>
          <a:custGeom>
            <a:avLst/>
            <a:gdLst>
              <a:gd name="textAreaLeft" fmla="*/ 0 w 71640"/>
              <a:gd name="textAreaRight" fmla="*/ 25920 w 71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2"/>
          <p:cNvSpPr/>
          <p:nvPr/>
        </p:nvSpPr>
        <p:spPr>
          <a:xfrm>
            <a:off x="5364000" y="2492280"/>
            <a:ext cx="71640" cy="505080"/>
          </a:xfrm>
          <a:custGeom>
            <a:avLst/>
            <a:gdLst>
              <a:gd name="textAreaLeft" fmla="*/ 0 w 71640"/>
              <a:gd name="textAreaRight" fmla="*/ 25920 w 7164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5508720" y="19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5508720" y="25574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8"/>
          <p:cNvSpPr/>
          <p:nvPr/>
        </p:nvSpPr>
        <p:spPr>
          <a:xfrm flipH="1">
            <a:off x="5219280" y="2997360"/>
            <a:ext cx="576360" cy="19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8900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33ff"/>
                </a:solidFill>
                <a:latin typeface="Comic Sans MS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30984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1st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684360" y="170028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2nd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684360" y="220500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3rd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684360" y="463716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th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1622520" y="2708280"/>
            <a:ext cx="3309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3635280" y="148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3637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363744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3635280" y="486900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8900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33ff"/>
                </a:solidFill>
                <a:latin typeface="Comic Sans MS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30984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1st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684360" y="170028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2nd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684360" y="220500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3rd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684360" y="463716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th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1622520" y="2708280"/>
            <a:ext cx="3309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3635280" y="148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3637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363744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3635280" y="486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993080" cy="482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6600ff"/>
                </a:solidFill>
                <a:latin typeface="Comic Sans MS"/>
              </a:rPr>
              <a:t>FINDING</a:t>
            </a:r>
            <a:br>
              <a:rPr sz="6000"/>
            </a:br>
            <a:r>
              <a:rPr b="1" lang="en-GB" sz="6000" spc="-1" strike="noStrike">
                <a:solidFill>
                  <a:srgbClr val="6600ff"/>
                </a:solidFill>
                <a:latin typeface="Comic Sans MS"/>
              </a:rPr>
              <a:t>THE FORMULA FOR</a:t>
            </a:r>
            <a:br>
              <a:rPr sz="6000"/>
            </a:br>
            <a:r>
              <a:rPr b="1" lang="en-GB" sz="6000" spc="-1" strike="noStrike">
                <a:solidFill>
                  <a:srgbClr val="6600ff"/>
                </a:solidFill>
                <a:latin typeface="Comic Sans MS"/>
              </a:rPr>
              <a:t>THE TERMS OF</a:t>
            </a:r>
            <a:br>
              <a:rPr sz="6000"/>
            </a:br>
            <a:r>
              <a:rPr b="1" lang="en-GB" sz="6000" spc="-1" strike="noStrike">
                <a:solidFill>
                  <a:srgbClr val="6600ff"/>
                </a:solidFill>
                <a:latin typeface="Comic Sans MS"/>
              </a:rPr>
              <a:t>A SEQUENC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78920" y="1557000"/>
            <a:ext cx="769644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recurrence relati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defines the first term(s) in the sequence and the relation between successive ter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0256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684360" y="1700280"/>
            <a:ext cx="80643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u  +3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684360" y="2205000"/>
            <a:ext cx="7632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u  +3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684360" y="4637160"/>
            <a:ext cx="81356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u  +3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3</a:t>
            </a:r>
            <a:r>
              <a:rPr b="1" i="1" lang="en-GB" sz="32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1693800" y="2708280"/>
            <a:ext cx="3309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898560" y="148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900360" y="199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90216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900000" y="486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3"/>
          <p:cNvSpPr/>
          <p:nvPr/>
        </p:nvSpPr>
        <p:spPr>
          <a:xfrm>
            <a:off x="395280" y="189000"/>
            <a:ext cx="2808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4"/>
          <p:cNvSpPr/>
          <p:nvPr/>
        </p:nvSpPr>
        <p:spPr>
          <a:xfrm>
            <a:off x="3059280" y="260280"/>
            <a:ext cx="5398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, 8, 11, 14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5"/>
          <p:cNvSpPr/>
          <p:nvPr/>
        </p:nvSpPr>
        <p:spPr>
          <a:xfrm>
            <a:off x="2916360" y="2708280"/>
            <a:ext cx="1008000" cy="20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2193840" y="1989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217512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2124000" y="4933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539640" y="1916280"/>
            <a:ext cx="791856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200"/>
                </a:solidFill>
                <a:latin typeface="Comic Sans MS"/>
              </a:rPr>
              <a:t>What to look for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200"/>
                </a:solidFill>
                <a:latin typeface="Comic Sans MS"/>
              </a:rPr>
              <a:t>when looking for the rul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200"/>
                </a:solidFill>
                <a:latin typeface="Comic Sans MS"/>
              </a:rPr>
              <a:t>defining a sequenc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9:42:18Z</dcterms:created>
  <dc:creator>zafer</dc:creator>
  <dc:description>Sequences - Finding a rule</dc:description>
  <cp:keywords>Sequences - Finding a rule</cp:keywords>
  <dc:language>en-US</dc:language>
  <cp:lastModifiedBy>RomaK</cp:lastModifiedBy>
  <dcterms:modified xsi:type="dcterms:W3CDTF">2015-09-04T09:20:13Z</dcterms:modified>
  <cp:revision>8</cp:revision>
  <dc:subject>Sequences - Finding a rule</dc:subject>
  <dc:title>Sequences - Finding a rule</dc:title>
</cp:coreProperties>
</file>