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4E7F-8A07-46EA-A4F8-844C1D15C9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6CD-84A2-4551-A1D7-70962F9D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5F6-AFE4-4A99-B3D7-6B48512A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D28-01B2-4C58-98E1-7B37BA16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A0E-D27F-4111-9F5F-9E450B90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9BD6-87B5-43CC-AB80-DC35EA09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0224-C830-4AC1-ADFB-3207C9FD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91B0-D258-45D0-A35C-2776C0AE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8D60-4A09-485E-9638-AA88A967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3D89-E329-40F2-AA7B-C11FC82B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8CE0-0D04-4BD6-AC9E-FAD45559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0B26-253E-4A2B-83FD-84498CE5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462-EDE4-42D6-9F5E-EF367B67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55F3-1F41-4C7F-959E-E343F6EA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0B68-DE75-43ED-932B-FFED21AD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4B84-0DC4-4DD7-8E74-DDBAAC33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30CF-8613-4185-92B9-38829EBE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51A7-DB46-4F3F-AE1D-42E28D1D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672EC-CCEF-4901-B0BB-6B251863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59E6-AF7C-4D87-9D43-4DEBA32E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C5685-8AD6-449B-B4BD-1266A518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0FF00-5085-41A3-9F1F-9B23BFDA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A2A5B-8185-4E3A-BCFF-8A7CE62C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FD7-3D99-497E-872C-2E89CC28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C4D7A-1D92-4C5D-897A-CFEFDBEC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B791B-99A9-4C01-8033-56D89F13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0A4A2-D84F-4B96-840D-09C3BFA4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9E526-1EC7-4E86-BB11-919C326D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25C4C-91D3-4FFB-8EFA-7932016E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0901-BC46-4410-8D7C-B84BBBAE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38AF2-9D75-4B1D-A1D5-523F893B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35E7F-BF98-478B-805A-4524EE69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7541B-CD68-40F3-80C2-D94CD4A6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F4D4C-7701-4089-9033-2197B864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109-70FA-4B34-B4F0-086AFDDC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D524D-D186-408F-B759-CA5BF863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6066-FC42-490B-85BB-89816C3C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4477-A73B-4632-BDF7-28F9032C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CB3AC-3742-47D4-A2BF-C7357614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E2F5F-FBD7-48A6-9FBE-14724CE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DA1F-B23B-4D81-9F8D-120477EA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8383E-6601-47F5-BE7C-FF626695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448B-BC85-401A-85C3-BBC10F15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9CF5-92B8-472A-8C51-D8C7E661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C31-6251-46D3-B962-E9F34788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88A-BBB1-4317-985E-E47B38CD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698-5A99-4DA2-A02F-43C4C398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143-E5E5-4419-8CE9-C1733FD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47F-BC98-4FB7-AE55-7B9D7B2D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E959-9959-4244-B814-5DD5703831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166D-D791-4A0C-91C9-A2B6941BEF22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66AF-6989-4E14-B65C-E2377C0BC2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354D-9DEA-4AF0-A291-B5D340434A27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 rot="3130800">
            <a:off x="3768120" y="3369240"/>
            <a:ext cx="387828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00ff"/>
                    </a:gs>
                  </a:gsLst>
                  <a:lin ang="206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QUENC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6600ff"/>
                  </a:gs>
                </a:gsLst>
                <a:lin ang="206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Constant difference: coefficient of </a:t>
            </a:r>
            <a:r>
              <a:rPr b="0" i="1" lang="en-GB" sz="24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is the dif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n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squar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4, 9, 16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r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cub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8, 27, 64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None of these helpful: look for powers of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(2     = 1, 2, 4, 8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Signs alternate: use (-1)  and (-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-1 when k is odd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+1 when k is ev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184560" y="445608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150880" y="34941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926880" y="3500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85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85800" y="2332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711360" y="31240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ff"/>
                </a:solidFill>
                <a:latin typeface="Arial"/>
              </a:rPr>
              <a:t>n </a:t>
            </a: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 flipH="1">
            <a:off x="3203280" y="4149720"/>
            <a:ext cx="64764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5148360" y="4149720"/>
            <a:ext cx="115236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ext three terms in the sequence 5, 8, 11, 14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The nth term of a sequence is given by  x  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Find the first four terms of the seque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b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Which term in the sequence is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c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Express the sequence as a recurrence relatio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075360" y="126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014160" y="134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078240" y="17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222600" y="168444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573160" y="161136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53528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5122080" y="314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5150880" y="2852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th term of the sequence +1, -4, +9, -16, +25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913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quence is defined by a recurrence relation of the for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=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n that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1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4, find the 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t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hence find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0720" y="112536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6984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37810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701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3420720" y="1844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7696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 set of terms, in a definite order, where the terms are obtained by some ru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0920" y="220500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nds after a certain number of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50920" y="364644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one that continues indefin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280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987640" y="404640"/>
            <a:ext cx="539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5, 7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his is a sequence of odd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20640" y="162864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1s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1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68360" y="213372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2n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2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76280" y="263700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3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3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539640" y="494172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2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900000" y="2924280"/>
            <a:ext cx="7696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5364000" y="1916280"/>
            <a:ext cx="71640" cy="50472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5364000" y="2492280"/>
            <a:ext cx="71640" cy="50508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50872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5508720" y="2557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5219280" y="2997360"/>
            <a:ext cx="576360" cy="19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3635280" y="4869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63528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FINDING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FORMULA FOR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TERMS OF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A SEQUENC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769644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currence rela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efines the first term(s) in the sequence and the relation between successive te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0256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84360" y="1700280"/>
            <a:ext cx="8064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684360" y="2205000"/>
            <a:ext cx="7632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84360" y="4637160"/>
            <a:ext cx="8135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3</a:t>
            </a: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69380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89856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90036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902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0000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395280" y="189000"/>
            <a:ext cx="28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3059280" y="260280"/>
            <a:ext cx="5398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, 8, 11, 14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2916360" y="2708280"/>
            <a:ext cx="1008000" cy="20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93840" y="198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17512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124000" y="4933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79185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at to look f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en looking for the ru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defining a sequen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9:42:18Z</dcterms:created>
  <dc:creator>zafer</dc:creator>
  <dc:description>Sequences - Finding a rule</dc:description>
  <cp:keywords>Sequences - Finding a rule</cp:keywords>
  <dc:language>en-US</dc:language>
  <cp:lastModifiedBy>RomaK</cp:lastModifiedBy>
  <dcterms:modified xsi:type="dcterms:W3CDTF">2015-09-04T09:20:13Z</dcterms:modified>
  <cp:revision>8</cp:revision>
  <dc:subject>Sequences - Finding a rule</dc:subject>
  <dc:title>Sequences - Finding a rule</dc:title>
</cp:coreProperties>
</file>