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EBA2-B0FA-4139-A28E-000BAF1CFB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difference: coefficient of n is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level difference: compare with squar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4, 9, 16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evel difference: compare with cub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    = 1, 8, 27, 64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se helpful: look for power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    = 1, 2, 4, 8, 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lternate: use (-1)  and (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when k is o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 when k is 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ext three terms in the sequence 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th term of a sequence is given by  x 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first four terms of the sequ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term in the sequence 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 sequence as a recurrence 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nth term of the sequence +1, -4, +9, -16, +25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defined by a recurrence relation of the for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      = aM 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that M  = 10, M  = 20, M  = 24, find the value of a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of b and hence find M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 is a set of terms, in a definite order, where the terms are obtained by some r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nite sequence ends after a certain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inite sequence is one that continues indefini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3, 5, 7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a sequence of odd numb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term =   2 x 1 – 1  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  term =   2 x 2 – 1  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  term =   2 x 3 – 1  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  term =   2 x n – 1   = 2n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h te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ULA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currence relation defines the first term(s) in the sequence and the relation between successive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u  +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n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8, 11, 14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loo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oking for the r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ng a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E8E3-A34B-4F35-AB4A-26449BC0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5B8-A913-44F7-A8AF-1BDA9A9F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976-A574-442F-9A97-2904EBFA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18E-701E-42C5-B460-6BD417C4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8B2E-4386-44C2-A508-4B0254E1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647F-FD0E-435D-AA06-C4034D0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44C2-C658-4FA6-B959-F79AB600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6D37-24E3-4CB1-A1DC-5580B8D4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5FB6-A036-485E-86CF-FF5D821D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C4D1-CB5E-4A34-AFCA-BE1376C8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F81E-EFE8-4427-B3B5-C9492C12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38FA-A8A7-446E-AEA7-B80FA191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9EC9-4D5B-41A7-969F-2240A88D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8B40-B967-4823-8DD1-5514E930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4233-9DD3-49DF-ABB8-CCBBB6E5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3794-AA37-4216-9F5E-1C995648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5DE9-D558-4C08-8012-AF2F3809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BAFAD-2D38-49C0-B58C-43E8018F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AD0C-1E27-4559-B55A-32FDC218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41950-4CF3-4577-BB6D-02E2FB5B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37A4E-4A5E-4CDA-B048-8F61F59C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DC735-4FC2-4374-8C24-7F13B3B4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8B9-8F1E-45BC-83FD-3E63771A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AE26F-53E6-4AC1-B13D-520B27B7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9B809-7726-433A-A1FD-91B17EFF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0C9EB-5964-4781-BCD4-638E644D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D5041-20EA-4F52-B719-153951F0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F56FA-D376-469D-A6A5-AAEC6F1F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403A-7E43-486A-B298-9EEDD7FF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D7DF-066A-4BF0-BEA8-8ECF284A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584C-EEC7-4ACE-B266-D6E8EAF9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66E18-8D1F-4AF3-A577-B2FB729D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E95F2-0968-4583-888F-A62647C7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9A0C-503B-4646-9822-0924FD6D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8091-86A5-4FE1-BBEF-8D4167B0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EE3AC-7F9A-4692-8B88-CCC90F1F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5C47-F1DB-4FDE-9014-067724F9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64EC5-F406-4644-AEA6-BAFC9E56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12C8A-ECAB-46B8-AC8D-4A44A4B9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6EF2-FB1F-400A-8C1F-0C0959E1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68E2-01FA-439C-B260-23469F10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D6BC-3457-425C-B3B4-E5899839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8EE7-087A-401E-AEFC-0F88B63A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0D9-7EAE-4DE3-8427-AC9988B7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0771-8B88-4F5B-A8B5-79717DB9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966-613D-4A79-9676-A3F5A6B6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A1D-186C-4EA3-9510-DC61902F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A06C-FA15-4C6D-A667-8DADBF2E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B82A-C00E-4211-901A-2B5DC4BABD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7F0A-6D44-4F48-B0A9-19C60048C9B4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A5FF-FB92-4716-B57B-FBA0D7B72E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FBD0-0DC4-45F3-8036-160F799A1A28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5"/>
          <p:cNvSpPr txBox="1"/>
          <p:nvPr/>
        </p:nvSpPr>
        <p:spPr>
          <a:xfrm rot="3130800">
            <a:off x="3768120" y="3369240"/>
            <a:ext cx="3878280" cy="143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6600ff"/>
                    </a:gs>
                  </a:gsLst>
                  <a:lin ang="20688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EQUENCES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6600ff"/>
                  </a:gs>
                </a:gsLst>
                <a:lin ang="20688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Constant difference: coefficient of </a:t>
            </a:r>
            <a:r>
              <a:rPr b="0" i="1" lang="en-GB" sz="24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is the dif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n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squar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4, 9, 16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9933ff"/>
                </a:solidFill>
                <a:latin typeface="Comic Sans MS"/>
              </a:rPr>
              <a:t>rd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 level difference: compare with cube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99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9933ff"/>
                </a:solidFill>
                <a:latin typeface="Comic Sans MS"/>
              </a:rPr>
              <a:t>    = 1, 8, 27, 64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None of these helpful: look for powers of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(2     = 1, 2, 4, 8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Signs alternate: use (-1)  and (-1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-1 when k is odd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+1 when k is ev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184560" y="4456080"/>
            <a:ext cx="160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5150880" y="349416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3926880" y="35002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33ff"/>
                </a:solidFill>
                <a:latin typeface="Comic Sans MS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85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685800" y="2332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711360" y="31240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9933ff"/>
                </a:solidFill>
                <a:latin typeface="Arial"/>
              </a:rPr>
              <a:t>n </a:t>
            </a:r>
            <a:r>
              <a:rPr b="1" lang="en-GB" sz="1400" spc="-1" strike="noStrike">
                <a:solidFill>
                  <a:srgbClr val="9933ff"/>
                </a:solidFill>
                <a:latin typeface="Arial"/>
              </a:rPr>
              <a:t>-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3"/>
          <p:cNvSpPr/>
          <p:nvPr/>
        </p:nvSpPr>
        <p:spPr>
          <a:xfrm flipH="1">
            <a:off x="3203280" y="4149720"/>
            <a:ext cx="64764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148360" y="4149720"/>
            <a:ext cx="1152360" cy="4316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5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3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ext three terms in the sequence 5, 8, 11, 14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Kristen ITC"/>
              </a:rPr>
              <a:t>The nth term of a sequence is given by  x  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Find the first four terms of the sequen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b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Which term in the sequence is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c)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i="1" lang="en-GB" sz="2000" spc="-1" strike="noStrike">
                <a:solidFill>
                  <a:srgbClr val="000000"/>
                </a:solidFill>
                <a:latin typeface="Kristen ITC"/>
              </a:rPr>
              <a:t>Express the sequence as a recurrence relation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075360" y="1268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6014160" y="134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078240" y="1773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6222600" y="168444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573160" y="1611360"/>
            <a:ext cx="2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Kristen ITC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5352840" y="278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5122080" y="31417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Kristen ITC"/>
              </a:rPr>
              <a:t>10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150880" y="28526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913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ind the nth term of the sequence +1, -4, +9, -16, +25,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7913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AMPLE: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sequence is defined by a recurrence relation of the for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      =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+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iven that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1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0,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= 24, find the 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th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lue of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and hence find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450720" y="112536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6984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378108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701800" y="1484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3420720" y="1844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769644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a set of terms, in a definite order, where the terms are obtained by some ru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250920" y="220500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nds after a certain number of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250920" y="3646440"/>
            <a:ext cx="769608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nfinite sequenc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one that continues indefinit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280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987640" y="404640"/>
            <a:ext cx="539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, 3, 5, 7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his is a sequence of odd numb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620640" y="162864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1s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1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68360" y="213372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2n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2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476280" y="263700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3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3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539640" y="4941720"/>
            <a:ext cx="76964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th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term =  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 x </a:t>
            </a: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= 2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900000" y="2924280"/>
            <a:ext cx="769644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1"/>
          <p:cNvSpPr/>
          <p:nvPr/>
        </p:nvSpPr>
        <p:spPr>
          <a:xfrm>
            <a:off x="5364000" y="1916280"/>
            <a:ext cx="71640" cy="50472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5364000" y="2492280"/>
            <a:ext cx="71640" cy="505080"/>
          </a:xfrm>
          <a:custGeom>
            <a:avLst/>
            <a:gdLst>
              <a:gd name="textAreaLeft" fmla="*/ 0 w 71640"/>
              <a:gd name="textAreaRight" fmla="*/ 25920 w 7164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508720" y="1989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5508720" y="25574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+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>
            <a:off x="5219280" y="2997360"/>
            <a:ext cx="576360" cy="19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3635280" y="48690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33ff"/>
                </a:solidFill>
                <a:latin typeface="Comic Sans MS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330984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1st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4360" y="170028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2n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4360" y="220500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3rd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684360" y="4637160"/>
            <a:ext cx="33098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th term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62252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63528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3637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63744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63528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FINDING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FORMULA FOR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THE TERMS OF</a:t>
            </a:r>
            <a:br>
              <a:rPr sz="6000"/>
            </a:br>
            <a:r>
              <a:rPr b="1" lang="en-GB" sz="6000" spc="-1" strike="noStrike">
                <a:solidFill>
                  <a:srgbClr val="6600ff"/>
                </a:solidFill>
                <a:latin typeface="Comic Sans MS"/>
              </a:rPr>
              <a:t>A SEQUENC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769644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currence rela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efines the first term(s) in the sequence and the relation between successive te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0256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684360" y="1700280"/>
            <a:ext cx="80643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684360" y="2205000"/>
            <a:ext cx="76327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84360" y="4637160"/>
            <a:ext cx="813564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u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u  +3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= 3</a:t>
            </a:r>
            <a:r>
              <a:rPr b="1" i="1" lang="en-GB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1693800" y="2708280"/>
            <a:ext cx="330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898560" y="148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900360" y="19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9021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90000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395280" y="189000"/>
            <a:ext cx="28083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3059280" y="260280"/>
            <a:ext cx="5398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, 8, 11, 14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5"/>
          <p:cNvSpPr/>
          <p:nvPr/>
        </p:nvSpPr>
        <p:spPr>
          <a:xfrm>
            <a:off x="2916360" y="2708280"/>
            <a:ext cx="1008000" cy="20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93840" y="1989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17512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2124000" y="4933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79185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at to look fo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when looking for the ru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200"/>
                </a:solidFill>
                <a:latin typeface="Comic Sans MS"/>
              </a:rPr>
              <a:t>defining a sequenc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9:42:18Z</dcterms:created>
  <dc:creator>zafer</dc:creator>
  <dc:description>Sequences - Finding a rule</dc:description>
  <cp:keywords>Sequences - Finding a rule</cp:keywords>
  <dc:language>en-US</dc:language>
  <cp:lastModifiedBy>RomaK</cp:lastModifiedBy>
  <dcterms:modified xsi:type="dcterms:W3CDTF">2015-09-04T09:20:13Z</dcterms:modified>
  <cp:revision>8</cp:revision>
  <dc:subject>Sequences - Finding a rule</dc:subject>
  <dc:title>Sequences - Finding a rule</dc:title>
</cp:coreProperties>
</file>