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D5A0-9A83-4EFE-90B3-E13CA26DB8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7A97-1BFB-4ECD-9A15-CF0ABDAF89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E83D-6CE5-4F4D-8F91-A0BDF5F384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93DB-9727-4918-927B-5A63F03CE6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11DF-5C18-4466-BBD3-2DDB1F1963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CCD4-448B-4B78-B28A-EF370C8B2D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1876-9F2F-420A-9DDD-014A5CE176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9330-1265-4830-8040-8B9AF04E25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59D9-400A-4285-806B-2B8E6D1E31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3174-3DA5-43FE-AA45-766BD0E406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8CB4-E18F-4BAE-BDF0-A5A4A3A041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FF86-B1A9-42D4-B77C-8047A00933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0A135-28D8-40B3-ABAE-DC4D6610B1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750D-E84D-4639-9EB1-EB6106BED3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0822-F7F7-46BC-B3B9-C659B4BDC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309E-F726-4925-8623-B43DEF5471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65D2-0645-4C69-B782-5A33AC3E2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89D3-9E4A-4828-8465-8A75B0107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9B76-7BD8-40A5-9CAA-6BFFFCC0B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5BDF-6940-464D-AD5A-E2916A4E95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3E03-C4DD-456B-A8BE-FF97F1FB3D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DD87-28DB-4E58-825B-45A75A73FB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C0BC-5EE8-4FAD-BB4E-E174C07791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714B-3093-4A85-9493-F9B34F5BE6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3CFC-BFF3-4A27-8297-EDC52658F5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CD0A-45B7-4862-8837-BC0B254AD9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1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1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1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1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1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330E-D73F-4E92-AFAF-3324F3DFD9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58F9-9A3C-4215-BD91-C7F90310E9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CF83-4EF6-485E-85B0-9352DCCD04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938D-F035-4FD5-AA1A-752582419C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BFA2-B8CB-4B16-ACD5-B59037D73B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71EF-F5E1-4F50-8196-0D0F1940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9D73-CFDC-48B7-B201-6B9CC7F9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0810-B46C-4D03-A6CE-15B19328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AE6-3892-44EC-BA74-9BDDE69B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3F4D-074E-4453-9E75-DB835229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830D-44AD-463B-8661-33A1DB58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052-991C-455F-A08C-471C0FB4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2CC-9D6A-4796-B125-0B8DDD70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87F-D054-4AA5-86F3-F61D6E7D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3EEF-4869-48C2-BE13-505FEC5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FDF4-5610-4130-8DD4-8862783A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570-49C8-47D0-B9CF-1CA90BC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53FB-A681-4AFD-B381-F27F27D070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reenetpages.co.uk/hp/j.p.c/cards/sea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soton.ac.uk/~imw/jpg-Studland/5ST-Little-Sea-shore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arwick.ac.uk/staff/S.L.Hurley/images/landscapes/parrot%20fish,%20GBR%202001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helios.bto.ed.ac.uk/bto/desbiome/_vti_bin/shtml.exe/saguaro.htm/map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edia.nasaexplores.com/lessons/02-054/images/flower1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692360" y="692280"/>
            <a:ext cx="604836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Ecological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009900"/>
                    </a:gs>
                  </a:gsLst>
                  <a:lin ang="5400000"/>
                </a:gradFill>
                <a:latin typeface="Arial Black"/>
              </a:rPr>
              <a:t>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49" name="Picture 3" descr="lion-cartoon-05"/>
          <p:cNvPicPr/>
          <p:nvPr/>
        </p:nvPicPr>
        <p:blipFill>
          <a:blip r:embed="rId1"/>
          <a:stretch/>
        </p:blipFill>
        <p:spPr>
          <a:xfrm>
            <a:off x="539640" y="371628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4"/>
          <p:cNvSpPr/>
          <p:nvPr/>
        </p:nvSpPr>
        <p:spPr>
          <a:xfrm>
            <a:off x="1763640" y="3357720"/>
            <a:ext cx="3456000" cy="1512720"/>
          </a:xfrm>
          <a:prstGeom prst="cloudCallout">
            <a:avLst>
              <a:gd name="adj1" fmla="val -43754"/>
              <a:gd name="adj2" fmla="val 5766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411280" y="3789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eats   who!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at'n'mouse"/>
          <p:cNvPicPr/>
          <p:nvPr/>
        </p:nvPicPr>
        <p:blipFill>
          <a:blip r:embed="rId2"/>
          <a:stretch/>
        </p:blipFill>
        <p:spPr>
          <a:xfrm>
            <a:off x="4788000" y="4365720"/>
            <a:ext cx="388764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7"/>
          <p:cNvSpPr/>
          <p:nvPr/>
        </p:nvSpPr>
        <p:spPr>
          <a:xfrm>
            <a:off x="7812000" y="4076640"/>
            <a:ext cx="1332000" cy="10080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p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708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Different organisms live in different habitat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an you name some organisms for each of the habita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32000" y="6045120"/>
            <a:ext cx="6400800" cy="1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2124000" y="333360"/>
            <a:ext cx="4896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nd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nd.jpg (19174 bytes)"/>
          <p:cNvPicPr/>
          <p:nvPr/>
        </p:nvPicPr>
        <p:blipFill>
          <a:blip r:embed="rId1"/>
          <a:stretch/>
        </p:blipFill>
        <p:spPr>
          <a:xfrm>
            <a:off x="1258920" y="1197000"/>
            <a:ext cx="6049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ood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wood.jpg (42388 bytes)"/>
          <p:cNvPicPr/>
          <p:nvPr/>
        </p:nvPicPr>
        <p:blipFill>
          <a:blip r:embed="rId1"/>
          <a:stretch/>
        </p:blipFill>
        <p:spPr>
          <a:xfrm>
            <a:off x="125892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e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se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97000"/>
            <a:ext cx="4427640" cy="2928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5ST-Little-Sea-sho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1844640"/>
            <a:ext cx="403236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word environment is used to describe what a habitat is 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dap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aptations are features which organisms have that help them survive in their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parrot%2520fish,%2520GBR%252020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3402000"/>
            <a:ext cx="5545080" cy="345600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>
            <a:off x="2340000" y="2997360"/>
            <a:ext cx="1584360" cy="934920"/>
          </a:xfrm>
          <a:prstGeom prst="wedgeRectCallout">
            <a:avLst>
              <a:gd name="adj1" fmla="val -45689"/>
              <a:gd name="adj2" fmla="val 761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would call my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a desert landscape"/>
          <p:cNvPicPr/>
          <p:nvPr/>
        </p:nvPicPr>
        <p:blipFill>
          <a:blip r:embed="rId1"/>
          <a:stretch/>
        </p:blipFill>
        <p:spPr>
          <a:xfrm>
            <a:off x="-1549440" y="260280"/>
            <a:ext cx="12241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611280" y="692280"/>
            <a:ext cx="79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So what lives here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1476360" y="1916280"/>
            <a:ext cx="4248000" cy="2520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lace was a bit too……………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amels habitat is 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A Camel in Wadi Rumm"/>
          <p:cNvPicPr/>
          <p:nvPr/>
        </p:nvPicPr>
        <p:blipFill>
          <a:blip r:embed="rId1"/>
          <a:stretch/>
        </p:blipFill>
        <p:spPr>
          <a:xfrm>
            <a:off x="684360" y="1628640"/>
            <a:ext cx="7488000" cy="472284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7"/>
          <p:cNvSpPr/>
          <p:nvPr/>
        </p:nvSpPr>
        <p:spPr>
          <a:xfrm>
            <a:off x="4284720" y="1125360"/>
            <a:ext cx="2305080" cy="1944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t, Dry but at least you don’t get bothered by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189000"/>
            <a:ext cx="81471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Adaptations: They are desert animals and have numerous adaptations for life in an arid habita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hump stores fat, which they are able to draw upon for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have webbed feet (to prevent sinking in the sand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close their nostrils and they have a double row of eyelashes to keep out the san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y can endure long periods without drinking - up to 17 day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When they do drink, they can take up to 136 litres (30 gallons) at a time. By producing dry faeces and little urine, they can conserve wat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ir body temperature can rise 6-8 degree Celsius before swea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saguaro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63800" y="2243160"/>
            <a:ext cx="5416560" cy="413856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6"/>
          <p:cNvSpPr/>
          <p:nvPr/>
        </p:nvSpPr>
        <p:spPr>
          <a:xfrm flipH="1">
            <a:off x="684360" y="836640"/>
            <a:ext cx="4032000" cy="1440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part from the camels this place is great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7"/>
          <p:cNvSpPr/>
          <p:nvPr/>
        </p:nvSpPr>
        <p:spPr>
          <a:xfrm>
            <a:off x="5003640" y="476280"/>
            <a:ext cx="3672000" cy="1873080"/>
          </a:xfrm>
          <a:prstGeom prst="cloudCallout">
            <a:avLst>
              <a:gd name="adj1" fmla="val -48138"/>
              <a:gd name="adj2" fmla="val 63050"/>
            </a:avLst>
          </a:prstGeom>
          <a:solidFill>
            <a:srgbClr val="a8fc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at if I don’t ha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y leave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2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3"/>
          <p:cNvSpPr/>
          <p:nvPr/>
        </p:nvSpPr>
        <p:spPr>
          <a:xfrm>
            <a:off x="0" y="-7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24000" y="0"/>
          <a:ext cx="8280360" cy="7004160"/>
        </p:xfrm>
        <a:graphic>
          <a:graphicData uri="http://schemas.openxmlformats.org/drawingml/2006/table">
            <a:tbl>
              <a:tblPr/>
              <a:tblGrid>
                <a:gridCol w="1295280"/>
                <a:gridCol w="954000"/>
                <a:gridCol w="4917960"/>
                <a:gridCol w="1113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n 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ahoma"/>
                        </a:rPr>
                        <a:t>YOU NEED TO KNOW…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how an animal is suited to where it lives, i.e. fish have fins &amp; gil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e basic difference between vertebrates &amp; invertebra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plants &amp; animals can be put into different groups – classifie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derstand how to use a key to identify an organis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e able to draw simple food chains and identify producer &amp; consumer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food webs and explain how the organisms rely on each ot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Know that environmental factors affect where organisms can liv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redict how environmental predators can affect population size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raw pyramids of numbers to represent population in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scribe how energy flows through a food chai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89"/>
          <p:cNvSpPr/>
          <p:nvPr/>
        </p:nvSpPr>
        <p:spPr>
          <a:xfrm>
            <a:off x="0" y="501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artic-ic_tv_29sep05_150"/>
          <p:cNvPicPr/>
          <p:nvPr/>
        </p:nvPicPr>
        <p:blipFill>
          <a:blip r:embed="rId1"/>
          <a:stretch/>
        </p:blipFill>
        <p:spPr>
          <a:xfrm>
            <a:off x="1116000" y="1052640"/>
            <a:ext cx="7201080" cy="4968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o lives here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Polar bear relaxing"/>
          <p:cNvPicPr/>
          <p:nvPr/>
        </p:nvPicPr>
        <p:blipFill>
          <a:blip r:embed="rId1"/>
          <a:stretch/>
        </p:blipFill>
        <p:spPr>
          <a:xfrm>
            <a:off x="826920" y="54936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6012000" y="836640"/>
            <a:ext cx="2808000" cy="187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I 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 flipH="1">
            <a:off x="323280" y="189000"/>
            <a:ext cx="3600360" cy="2879640"/>
          </a:xfrm>
          <a:prstGeom prst="cloudCallout">
            <a:avLst>
              <a:gd name="adj1" fmla="val -32500"/>
              <a:gd name="adj2" fmla="val -1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’s the right temperature and no-one but no-one messes with 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2" name="Picture 5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6"/>
          <p:cNvSpPr/>
          <p:nvPr/>
        </p:nvSpPr>
        <p:spPr>
          <a:xfrm>
            <a:off x="4859280" y="1052640"/>
            <a:ext cx="3456000" cy="1512720"/>
          </a:xfrm>
          <a:prstGeom prst="cloudCallout">
            <a:avLst>
              <a:gd name="adj1" fmla="val -112518"/>
              <a:gd name="adj2" fmla="val 133842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ho eats who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16_grass_macro_resized"/>
          <p:cNvPicPr/>
          <p:nvPr/>
        </p:nvPicPr>
        <p:blipFill>
          <a:blip r:embed="rId1"/>
          <a:stretch/>
        </p:blipFill>
        <p:spPr>
          <a:xfrm>
            <a:off x="1619280" y="1484280"/>
            <a:ext cx="6265800" cy="472752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6"/>
          <p:cNvSpPr/>
          <p:nvPr/>
        </p:nvSpPr>
        <p:spPr>
          <a:xfrm>
            <a:off x="3132000" y="189000"/>
            <a:ext cx="4176720" cy="12952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 who eats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sheep"/>
          <p:cNvPicPr/>
          <p:nvPr/>
        </p:nvPicPr>
        <p:blipFill>
          <a:blip r:embed="rId1"/>
          <a:stretch/>
        </p:blipFill>
        <p:spPr>
          <a:xfrm>
            <a:off x="1042920" y="1374840"/>
            <a:ext cx="6408720" cy="42210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6588000" y="476280"/>
            <a:ext cx="2160720" cy="934920"/>
          </a:xfrm>
          <a:prstGeom prst="wedgeRectCallout">
            <a:avLst>
              <a:gd name="adj1" fmla="val -43754"/>
              <a:gd name="adj2" fmla="val 1717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7"/>
          <p:cNvSpPr/>
          <p:nvPr/>
        </p:nvSpPr>
        <p:spPr>
          <a:xfrm>
            <a:off x="2340000" y="620640"/>
            <a:ext cx="1798560" cy="1368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t who eats u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main_photo_4"/>
          <p:cNvPicPr/>
          <p:nvPr/>
        </p:nvPicPr>
        <p:blipFill>
          <a:blip r:embed="rId1"/>
          <a:stretch/>
        </p:blipFill>
        <p:spPr>
          <a:xfrm>
            <a:off x="1042920" y="669960"/>
            <a:ext cx="5113440" cy="4630680"/>
          </a:xfrm>
          <a:prstGeom prst="rect">
            <a:avLst/>
          </a:prstGeom>
          <a:ln w="0">
            <a:noFill/>
          </a:ln>
        </p:spPr>
      </p:pic>
      <p:sp>
        <p:nvSpPr>
          <p:cNvPr id="120" name="AutoShape 6"/>
          <p:cNvSpPr/>
          <p:nvPr/>
        </p:nvSpPr>
        <p:spPr>
          <a:xfrm>
            <a:off x="5435640" y="765000"/>
            <a:ext cx="2592360" cy="1224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e do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2"/>
          <p:cNvSpPr txBox="1"/>
          <p:nvPr/>
        </p:nvSpPr>
        <p:spPr>
          <a:xfrm>
            <a:off x="611280" y="476280"/>
            <a:ext cx="518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79d19"/>
                  </a:solidFill>
                  <a:miter/>
                </a:ln>
                <a:solidFill>
                  <a:srgbClr val="f79d1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nd last .......</a:t>
            </a:r>
            <a:endParaRPr b="0" lang="en-US" sz="1800" spc="1" strike="noStrike">
              <a:ln w="9360">
                <a:solidFill>
                  <a:srgbClr val="f79d19"/>
                </a:solidFill>
                <a:miter/>
              </a:ln>
              <a:solidFill>
                <a:srgbClr val="f79d1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Picture 3" descr="lion-cartoon-05"/>
          <p:cNvPicPr/>
          <p:nvPr/>
        </p:nvPicPr>
        <p:blipFill>
          <a:blip r:embed="rId1"/>
          <a:stretch/>
        </p:blipFill>
        <p:spPr>
          <a:xfrm>
            <a:off x="1042920" y="3213000"/>
            <a:ext cx="2665440" cy="270828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4"/>
          <p:cNvSpPr/>
          <p:nvPr/>
        </p:nvSpPr>
        <p:spPr>
          <a:xfrm>
            <a:off x="4859280" y="1052640"/>
            <a:ext cx="3816360" cy="3168360"/>
          </a:xfrm>
          <a:prstGeom prst="cloudCallout">
            <a:avLst>
              <a:gd name="adj1" fmla="val -106615"/>
              <a:gd name="adj2" fmla="val 37777"/>
            </a:avLst>
          </a:prstGeom>
          <a:solidFill>
            <a:srgbClr val="f79d1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re is nothing like a Sunday joint of huma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have learn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have also learn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008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 I will lea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The important physical factors in the environment of animals and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plants and animals differ due to their environment (Adap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Comic Sans MS"/>
              </a:rPr>
              <a:t>How to identify producers primary consumers and pred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ow to sort ‘classify’ animals int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te your Understa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826920" y="1916280"/>
            <a:ext cx="792360" cy="934920"/>
          </a:xfrm>
          <a:custGeom>
            <a:avLst/>
            <a:gdLst>
              <a:gd name="textAreaLeft" fmla="*/ 326520 w 792360"/>
              <a:gd name="textAreaRight" fmla="*/ 465840 w 792360"/>
              <a:gd name="textAreaTop" fmla="*/ 385200 h 934920"/>
              <a:gd name="textAreaBottom" fmla="*/ 54972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835280" y="2060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am a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684360" y="3213000"/>
            <a:ext cx="718920" cy="719280"/>
          </a:xfrm>
          <a:prstGeom prst="smileyFace">
            <a:avLst>
              <a:gd name="adj" fmla="val 9282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08000" y="321300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/>
          <p:cNvSpPr/>
          <p:nvPr/>
        </p:nvSpPr>
        <p:spPr>
          <a:xfrm>
            <a:off x="684360" y="4365720"/>
            <a:ext cx="1655640" cy="86364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042920" y="4653000"/>
            <a:ext cx="100800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/>
          <p:cNvSpPr/>
          <p:nvPr/>
        </p:nvSpPr>
        <p:spPr>
          <a:xfrm>
            <a:off x="1116000" y="4653000"/>
            <a:ext cx="287280" cy="2887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2843280" y="4508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I have got some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5516640"/>
            <a:ext cx="1657440" cy="1008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2"/>
          <p:cNvSpPr/>
          <p:nvPr/>
        </p:nvSpPr>
        <p:spPr>
          <a:xfrm>
            <a:off x="2700360" y="56610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lp – can you go through 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f79d19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oday’s lesson I will also lear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About the different </a:t>
            </a:r>
            <a:r>
              <a:rPr b="0" lang="en-GB" sz="3200" spc="-1" strike="noStrike" u="sng">
                <a:solidFill>
                  <a:srgbClr val="660066"/>
                </a:solidFill>
                <a:uFillTx/>
                <a:latin typeface="Comic Sans MS"/>
              </a:rPr>
              <a:t>habitats</a:t>
            </a:r>
            <a:r>
              <a:rPr b="0" lang="en-GB" sz="3200" spc="-1" strike="noStrike">
                <a:solidFill>
                  <a:srgbClr val="660066"/>
                </a:solidFill>
                <a:latin typeface="Comic Sans MS"/>
              </a:rPr>
              <a:t> organisms live 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How to describe the </a:t>
            </a:r>
            <a:r>
              <a:rPr b="0" lang="en-GB" sz="3200" spc="-1" strike="noStrike" u="sng">
                <a:solidFill>
                  <a:srgbClr val="66ff33"/>
                </a:solidFill>
                <a:uFillTx/>
                <a:latin typeface="Comic Sans MS"/>
              </a:rPr>
              <a:t>environment</a:t>
            </a:r>
            <a:r>
              <a:rPr b="0" lang="en-GB" sz="3200" spc="-1" strike="noStrike">
                <a:solidFill>
                  <a:srgbClr val="66ff33"/>
                </a:solidFill>
                <a:latin typeface="Comic Sans MS"/>
              </a:rPr>
              <a:t> of different habit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bout the special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Comic Sans MS"/>
              </a:rPr>
              <a:t>adaptations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that organisms have to help them live in their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Key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odu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onsu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1547640" y="1341360"/>
            <a:ext cx="6409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0000"/>
                    </a:gs>
                  </a:gsLst>
                  <a:lin ang="0"/>
                </a:gradFill>
                <a:latin typeface="Comic Sans MS"/>
              </a:rPr>
              <a:t>But Firs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0000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6"/>
          <p:cNvSpPr txBox="1"/>
          <p:nvPr/>
        </p:nvSpPr>
        <p:spPr>
          <a:xfrm>
            <a:off x="2124000" y="333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66ff33">
                    <a:alpha val="50000"/>
                  </a:srgbClr>
                </a:solidFill>
                <a:latin typeface="Arial Black"/>
              </a:rPr>
              <a:t>an animal have??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66ff33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66" name="Picture 8" descr="lion-cartoon-05"/>
          <p:cNvPicPr/>
          <p:nvPr/>
        </p:nvPicPr>
        <p:blipFill>
          <a:blip r:embed="rId1"/>
          <a:stretch/>
        </p:blipFill>
        <p:spPr>
          <a:xfrm>
            <a:off x="755640" y="3429000"/>
            <a:ext cx="2238480" cy="22748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1979640" y="2637000"/>
            <a:ext cx="2160720" cy="1225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w Meat sounds g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rabbit22"/>
          <p:cNvPicPr/>
          <p:nvPr/>
        </p:nvPicPr>
        <p:blipFill>
          <a:blip r:embed="rId2"/>
          <a:stretch/>
        </p:blipFill>
        <p:spPr>
          <a:xfrm>
            <a:off x="5003640" y="3141720"/>
            <a:ext cx="2076480" cy="3068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12"/>
          <p:cNvSpPr/>
          <p:nvPr/>
        </p:nvSpPr>
        <p:spPr>
          <a:xfrm>
            <a:off x="6659640" y="2133720"/>
            <a:ext cx="2232000" cy="2016000"/>
          </a:xfrm>
          <a:prstGeom prst="cloudCallout">
            <a:avLst>
              <a:gd name="adj1" fmla="val -57254"/>
              <a:gd name="adj2" fmla="val 5708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Just give me a carr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95280" y="33336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What needs does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>
                    <a:alpha val="50000"/>
                  </a:srgbClr>
                </a:solidFill>
                <a:latin typeface="Arial Black"/>
              </a:rPr>
              <a:t>a plant have???</a:t>
            </a:r>
            <a:endParaRPr b="0" lang="en-US" sz="1800" spc="1" strike="noStrike">
              <a:ln w="0">
                <a:noFill/>
              </a:ln>
              <a:solidFill>
                <a:srgbClr val="660066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pic>
        <p:nvPicPr>
          <p:cNvPr id="71" name="Picture 10" descr="flower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205000"/>
            <a:ext cx="27334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bit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a habit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place where an organism lives is called a habit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7667640" y="4724280"/>
            <a:ext cx="93672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3T09:43:07Z</dcterms:created>
  <dc:creator>GR</dc:creator>
  <dc:description/>
  <dc:language>en-US</dc:language>
  <cp:lastModifiedBy>RomaK</cp:lastModifiedBy>
  <dcterms:modified xsi:type="dcterms:W3CDTF">2015-08-06T10:56:26Z</dcterms:modified>
  <cp:revision>8</cp:revision>
  <dc:subject/>
  <dc:title>Slide 1</dc:title>
</cp:coreProperties>
</file>