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26F1-C8DD-4B83-873D-933B92286D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t’s your tur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worksheet, reflect every shape in the corresponding mirro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racing paper to help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shapes should fit together to form a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in pencil in case you make any mistak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’s your tur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orksheet, reflect every shape in the corresponding mirror l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racing paper to help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shapes should fit together to form a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in pencil in case you make any mist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AACB-83E4-4F6B-9F7D-4777ADBF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778C-C8D8-4592-9E9E-8254974C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2A1C-ED54-4E84-B4FB-4CC53984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C306-F2B3-4041-9BED-A40DCEC1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BA36-8954-45C4-8725-3491A9DB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F301-5410-4506-A080-18CD235B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F2FC-E863-4BAF-9055-D0406234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C6A5-B5E7-47FB-A5EC-72E15EB6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9BBA-5B53-46A5-86A2-5615BF0D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2E2F-A352-4E95-8D1C-1812651C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B6EB-B2A0-4EE9-AA61-5BAF0EE8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86AF-0FCC-4B86-89B0-ECEF20B2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87A2-702B-415C-85DB-C82E8ED07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54000" y="1127160"/>
            <a:ext cx="9067320" cy="4345560"/>
            <a:chOff x="54000" y="1127160"/>
            <a:chExt cx="9067320" cy="4345560"/>
          </a:xfrm>
        </p:grpSpPr>
        <p:sp>
          <p:nvSpPr>
            <p:cNvPr id="49" name="WordArt 5"/>
            <p:cNvSpPr txBox="1"/>
            <p:nvPr/>
          </p:nvSpPr>
          <p:spPr>
            <a:xfrm>
              <a:off x="54000" y="1127160"/>
              <a:ext cx="9067320" cy="203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5e9eff"/>
                      </a:gs>
                      <a:gs pos="100000">
                        <a:srgbClr val="ffebfa"/>
                      </a:gs>
                    </a:gsLst>
                    <a:lin ang="5400000"/>
                  </a:gradFill>
                  <a:latin typeface="Arial Black"/>
                </a:rPr>
                <a:t>Reflec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0" name="WordArt 6"/>
            <p:cNvSpPr txBox="1"/>
            <p:nvPr/>
          </p:nvSpPr>
          <p:spPr>
            <a:xfrm>
              <a:off x="-9013320" y="1247760"/>
              <a:ext cx="9067320" cy="211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5e9eff"/>
                      </a:gs>
                      <a:gs pos="100000">
                        <a:srgbClr val="ffebfa"/>
                      </a:gs>
                    </a:gsLst>
                    <a:lin ang="5400000"/>
                  </a:gradFill>
                  <a:latin typeface="Arial Black"/>
                </a:rPr>
                <a:t>Reflec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2"/>
          <p:cNvGrpSpPr/>
          <p:nvPr/>
        </p:nvGrpSpPr>
        <p:grpSpPr>
          <a:xfrm>
            <a:off x="3492360" y="765000"/>
            <a:ext cx="5400720" cy="5400720"/>
            <a:chOff x="3492360" y="765000"/>
            <a:chExt cx="5400720" cy="5400720"/>
          </a:xfrm>
        </p:grpSpPr>
        <p:pic>
          <p:nvPicPr>
            <p:cNvPr id="53" name="Picture 10" descr="t reflect copy"/>
            <p:cNvPicPr/>
            <p:nvPr/>
          </p:nvPicPr>
          <p:blipFill>
            <a:blip r:embed="rId1"/>
            <a:stretch/>
          </p:blipFill>
          <p:spPr>
            <a:xfrm>
              <a:off x="3492360" y="765000"/>
              <a:ext cx="540072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11"/>
            <p:cNvSpPr/>
            <p:nvPr/>
          </p:nvSpPr>
          <p:spPr>
            <a:xfrm>
              <a:off x="7812000" y="4365720"/>
              <a:ext cx="720720" cy="1439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"/>
          <p:cNvSpPr/>
          <p:nvPr/>
        </p:nvSpPr>
        <p:spPr>
          <a:xfrm>
            <a:off x="4643280" y="227664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4643280" y="3068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t reflect copy"/>
          <p:cNvPicPr/>
          <p:nvPr/>
        </p:nvPicPr>
        <p:blipFill>
          <a:blip r:embed="rId1"/>
          <a:stretch/>
        </p:blipFill>
        <p:spPr>
          <a:xfrm>
            <a:off x="3492360" y="765000"/>
            <a:ext cx="5400720" cy="5400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7812000" y="4365720"/>
            <a:ext cx="720720" cy="1439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4211640" y="220500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>
            <a:off x="6372360" y="220500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4211640" y="292428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>
            <a:off x="6383160" y="295272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4206960" y="3657600"/>
            <a:ext cx="2182680" cy="709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6745320" y="436716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6745320" y="578808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6"/>
          <p:cNvSpPr/>
          <p:nvPr/>
        </p:nvSpPr>
        <p:spPr>
          <a:xfrm>
            <a:off x="5680080" y="437832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7"/>
          <p:cNvSpPr/>
          <p:nvPr/>
        </p:nvSpPr>
        <p:spPr>
          <a:xfrm>
            <a:off x="5668920" y="578808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4937040" y="4367160"/>
            <a:ext cx="731880" cy="1420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e reflect copy"/>
          <p:cNvPicPr/>
          <p:nvPr/>
        </p:nvPicPr>
        <p:blipFill>
          <a:blip r:embed="rId1"/>
          <a:stretch/>
        </p:blipFill>
        <p:spPr>
          <a:xfrm>
            <a:off x="2887560" y="2076480"/>
            <a:ext cx="6120000" cy="4319640"/>
          </a:xfrm>
          <a:prstGeom prst="rect">
            <a:avLst/>
          </a:prstGeom>
          <a:ln w="0">
            <a:noFill/>
          </a:ln>
        </p:spPr>
      </p:pic>
      <p:sp>
        <p:nvSpPr>
          <p:cNvPr id="72" name="Line 8"/>
          <p:cNvSpPr/>
          <p:nvPr/>
        </p:nvSpPr>
        <p:spPr>
          <a:xfrm>
            <a:off x="2894040" y="2065320"/>
            <a:ext cx="0" cy="43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e reflect copy"/>
          <p:cNvPicPr/>
          <p:nvPr/>
        </p:nvPicPr>
        <p:blipFill>
          <a:blip r:embed="rId1"/>
          <a:stretch/>
        </p:blipFill>
        <p:spPr>
          <a:xfrm>
            <a:off x="2887560" y="2076480"/>
            <a:ext cx="6120000" cy="4319640"/>
          </a:xfrm>
          <a:prstGeom prst="rect">
            <a:avLst/>
          </a:prstGeom>
          <a:ln w="0">
            <a:noFill/>
          </a:ln>
        </p:spPr>
      </p:pic>
      <p:sp>
        <p:nvSpPr>
          <p:cNvPr id="75" name="Line 4"/>
          <p:cNvSpPr/>
          <p:nvPr/>
        </p:nvSpPr>
        <p:spPr>
          <a:xfrm>
            <a:off x="2894040" y="2065320"/>
            <a:ext cx="0" cy="43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9"/>
          <p:cNvGrpSpPr/>
          <p:nvPr/>
        </p:nvGrpSpPr>
        <p:grpSpPr>
          <a:xfrm>
            <a:off x="5411880" y="4238640"/>
            <a:ext cx="1441440" cy="1797120"/>
            <a:chOff x="5411880" y="4238640"/>
            <a:chExt cx="1441440" cy="1797120"/>
          </a:xfrm>
        </p:grpSpPr>
        <p:sp>
          <p:nvSpPr>
            <p:cNvPr id="77" name="Rectangle 5"/>
            <p:cNvSpPr/>
            <p:nvPr/>
          </p:nvSpPr>
          <p:spPr>
            <a:xfrm>
              <a:off x="5411880" y="4238640"/>
              <a:ext cx="353880" cy="1797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6"/>
            <p:cNvSpPr/>
            <p:nvPr/>
          </p:nvSpPr>
          <p:spPr>
            <a:xfrm>
              <a:off x="5765760" y="5668920"/>
              <a:ext cx="1087560" cy="36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7"/>
          <p:cNvSpPr/>
          <p:nvPr/>
        </p:nvSpPr>
        <p:spPr>
          <a:xfrm>
            <a:off x="5776920" y="4970520"/>
            <a:ext cx="709560" cy="3333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5765760" y="4238640"/>
            <a:ext cx="1076400" cy="365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5087880" y="4238640"/>
            <a:ext cx="31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4711680" y="4227480"/>
            <a:ext cx="31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2"/>
          <p:cNvSpPr/>
          <p:nvPr/>
        </p:nvSpPr>
        <p:spPr>
          <a:xfrm>
            <a:off x="3259080" y="6022800"/>
            <a:ext cx="176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3"/>
          <p:cNvSpPr/>
          <p:nvPr/>
        </p:nvSpPr>
        <p:spPr>
          <a:xfrm>
            <a:off x="5067360" y="6022800"/>
            <a:ext cx="1765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4"/>
          <p:cNvSpPr/>
          <p:nvPr/>
        </p:nvSpPr>
        <p:spPr>
          <a:xfrm>
            <a:off x="5754600" y="281772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5754600" y="357192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7218360" y="4981680"/>
            <a:ext cx="698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7"/>
          <p:cNvSpPr/>
          <p:nvPr/>
        </p:nvSpPr>
        <p:spPr>
          <a:xfrm>
            <a:off x="6465960" y="4981680"/>
            <a:ext cx="698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u reflect copy"/>
          <p:cNvPicPr/>
          <p:nvPr/>
        </p:nvPicPr>
        <p:blipFill>
          <a:blip r:embed="rId1"/>
          <a:stretch/>
        </p:blipFill>
        <p:spPr>
          <a:xfrm>
            <a:off x="3119400" y="1557360"/>
            <a:ext cx="54007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u reflect copy"/>
          <p:cNvPicPr/>
          <p:nvPr/>
        </p:nvPicPr>
        <p:blipFill>
          <a:blip r:embed="rId1"/>
          <a:stretch/>
        </p:blipFill>
        <p:spPr>
          <a:xfrm>
            <a:off x="3244680" y="2143080"/>
            <a:ext cx="5400720" cy="4322880"/>
          </a:xfrm>
          <a:prstGeom prst="rect">
            <a:avLst/>
          </a:prstGeom>
          <a:ln w="0">
            <a:noFill/>
          </a:ln>
        </p:spPr>
      </p:pic>
      <p:sp>
        <p:nvSpPr>
          <p:cNvPr id="93" name="Line 4"/>
          <p:cNvSpPr/>
          <p:nvPr/>
        </p:nvSpPr>
        <p:spPr>
          <a:xfrm>
            <a:off x="7486560" y="2270160"/>
            <a:ext cx="270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7132680" y="2270160"/>
            <a:ext cx="270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6702480" y="2270160"/>
            <a:ext cx="396720" cy="1828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 flipV="1">
            <a:off x="3519360" y="3389400"/>
            <a:ext cx="1000080" cy="10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 flipV="1">
            <a:off x="4606920" y="2303640"/>
            <a:ext cx="1000080" cy="10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 flipV="1">
            <a:off x="5338800" y="4852800"/>
            <a:ext cx="635040" cy="634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V="1">
            <a:off x="6048360" y="4122720"/>
            <a:ext cx="635040" cy="635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 flipV="1">
            <a:off x="4894200" y="4292640"/>
            <a:ext cx="527040" cy="52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5"/>
          <p:cNvGrpSpPr/>
          <p:nvPr/>
        </p:nvGrpSpPr>
        <p:grpSpPr>
          <a:xfrm>
            <a:off x="5637240" y="2259000"/>
            <a:ext cx="1076400" cy="1839960"/>
            <a:chOff x="5637240" y="2259000"/>
            <a:chExt cx="1076400" cy="1839960"/>
          </a:xfrm>
        </p:grpSpPr>
        <p:sp>
          <p:nvSpPr>
            <p:cNvPr id="102" name="Rectangle 13"/>
            <p:cNvSpPr/>
            <p:nvPr/>
          </p:nvSpPr>
          <p:spPr>
            <a:xfrm>
              <a:off x="5637240" y="2259000"/>
              <a:ext cx="365040" cy="1839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4"/>
            <p:cNvSpPr/>
            <p:nvPr/>
          </p:nvSpPr>
          <p:spPr>
            <a:xfrm>
              <a:off x="5896080" y="3722760"/>
              <a:ext cx="817560" cy="376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2"/>
          <p:cNvSpPr/>
          <p:nvPr/>
        </p:nvSpPr>
        <p:spPr>
          <a:xfrm flipV="1">
            <a:off x="5475240" y="3711600"/>
            <a:ext cx="527040" cy="52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w it’s your tur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your worksheet, reflect every shape in the corresponding mirror l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racing paper to hel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shapes should fit together to form a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aw in pencil in case you make any mist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transformations - reflections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108" name="Line 5"/>
          <p:cNvSpPr/>
          <p:nvPr/>
        </p:nvSpPr>
        <p:spPr>
          <a:xfrm>
            <a:off x="1754280" y="171360"/>
            <a:ext cx="0" cy="161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1754280" y="1849320"/>
            <a:ext cx="0" cy="161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1376280" y="147312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1376280" y="181764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10"/>
          <p:cNvSpPr/>
          <p:nvPr/>
        </p:nvSpPr>
        <p:spPr>
          <a:xfrm>
            <a:off x="1376280" y="2119320"/>
            <a:ext cx="324000" cy="1322280"/>
          </a:xfrm>
          <a:custGeom>
            <a:avLst/>
            <a:gdLst/>
            <a:ahLst/>
            <a:rect l="l" t="t" r="r" b="b"/>
            <a:pathLst>
              <a:path w="204" h="833">
                <a:moveTo>
                  <a:pt x="7" y="0"/>
                </a:moveTo>
                <a:cubicBezTo>
                  <a:pt x="73" y="0"/>
                  <a:pt x="138" y="0"/>
                  <a:pt x="204" y="0"/>
                </a:cubicBezTo>
                <a:cubicBezTo>
                  <a:pt x="204" y="278"/>
                  <a:pt x="204" y="555"/>
                  <a:pt x="204" y="833"/>
                </a:cubicBezTo>
                <a:lnTo>
                  <a:pt x="0" y="210"/>
                </a:lnTo>
                <a:lnTo>
                  <a:pt x="7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168120" y="13032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1:59:20Z</dcterms:created>
  <dc:creator/>
  <dc:description/>
  <dc:language>en-US</dc:language>
  <cp:lastModifiedBy>RomaK</cp:lastModifiedBy>
  <dcterms:modified xsi:type="dcterms:W3CDTF">2015-09-04T09:19:58Z</dcterms:modified>
  <cp:revision>8</cp:revision>
  <dc:subject/>
  <dc:title>Geometry reflections</dc:title>
</cp:coreProperties>
</file>