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explode.wav" ContentType="audio/x-wav"/>
  <Override PartName="/ppt/media/image10.wmf" ContentType="image/x-wmf"/>
  <Override PartName="/ppt/media/image1.wmf" ContentType="image/x-wmf"/>
  <Override PartName="/ppt/media/image5.wmf" ContentType="image/x-wmf"/>
  <Override PartName="/ppt/media/breeze.wav" ContentType="audio/x-wav"/>
  <Override PartName="/ppt/media/pu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C4F4-B6AB-48CD-A350-417B54FCA9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A00-E3A8-4B94-B56C-86FD68AE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482-3D7B-490B-A43C-D16107A8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273-DC1B-4988-81C8-D5B3094D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F31-FBCF-4024-A967-1E0126B4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6417-3324-4A8C-AF5F-D9FEC7F7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1FA9-811A-458C-A7FA-473514BE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36D8-56DC-49E3-A9D2-77B853E0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6BFE-EBB8-42D8-9036-735EC924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0872-7418-4919-9C86-A0CA39AD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6497-0797-4322-A568-2CCC899D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F8F8-6546-47A0-B0A4-EAC8997F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E05-9455-4564-B402-5EE6C33A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5B48-7716-4E44-97E6-34A39A7A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219F-3E07-4215-9679-6C96A4FB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4968-78C0-4F5B-BBEC-58968AB8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4D59-F3B7-497F-8723-437D894F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89F9-AF3E-4BA0-ABB4-F08E81C9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B1F-5881-474C-9932-FF7E7382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861-E3CA-424D-9ACE-5535B4EB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527-71C7-4AAC-AEC1-EE469528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C82-4CBA-4D27-8CF5-B4817151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0F8-8787-4769-817A-DFEA329A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4DD-62CF-4665-A6FE-CDA5FB58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2B4-9DC0-4630-80BA-9C8D1367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5891-B0BE-464D-8B14-D08D10A04A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C302-AD06-4BD4-A736-C79F4DB136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breeze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audio" Target="../media/push.wav"/><Relationship Id="rId17" Type="http://schemas.openxmlformats.org/officeDocument/2006/relationships/audio" Target="../media/push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171000">
            <a:off x="1142640" y="457200"/>
            <a:ext cx="701028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tionaliz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2362320" y="3886200"/>
                <a:ext cx="9586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1294920" y="3657600"/>
            <a:ext cx="3048120" cy="2286000"/>
            <a:chOff x="1294920" y="3657600"/>
            <a:chExt cx="3048120" cy="2286000"/>
          </a:xfrm>
        </p:grpSpPr>
        <p:sp>
          <p:nvSpPr>
            <p:cNvPr id="161" name="Oval 4"/>
            <p:cNvSpPr/>
            <p:nvPr/>
          </p:nvSpPr>
          <p:spPr>
            <a:xfrm>
              <a:off x="1600200" y="3657600"/>
              <a:ext cx="2438280" cy="2286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1294920" y="3657600"/>
              <a:ext cx="304812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670720" y="3835440"/>
                <a:ext cx="95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13"/>
          <p:cNvGrpSpPr/>
          <p:nvPr/>
        </p:nvGrpSpPr>
        <p:grpSpPr>
          <a:xfrm>
            <a:off x="4267080" y="4614840"/>
            <a:ext cx="838440" cy="304920"/>
            <a:chOff x="4267080" y="4614840"/>
            <a:chExt cx="838440" cy="304920"/>
          </a:xfrm>
        </p:grpSpPr>
        <p:sp>
          <p:nvSpPr>
            <p:cNvPr id="165" name="Rectangle 10"/>
            <p:cNvSpPr/>
            <p:nvPr/>
          </p:nvSpPr>
          <p:spPr>
            <a:xfrm>
              <a:off x="4267080" y="46148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4267080" y="48434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306520" y="419112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038480" y="4165560"/>
                <a:ext cx="23623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6697800" y="419112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4" name="Group 8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15" name="Text Box 9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0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3060720" y="435276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800600" y="429588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0" y="76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0" y="2438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call this process          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1676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191120" y="571500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58800" y="1455840"/>
                <a:ext cx="15462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394000" y="1379520"/>
                <a:ext cx="245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6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4998960" y="1379520"/>
                <a:ext cx="19353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905120"/>
                <a:ext cx="1314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Line 11"/>
          <p:cNvSpPr/>
          <p:nvPr/>
        </p:nvSpPr>
        <p:spPr>
          <a:xfrm>
            <a:off x="5486400" y="251460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5029200" y="1523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619520" y="1165320"/>
                <a:ext cx="409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2874960" y="3809880"/>
                <a:ext cx="1917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57200" y="1371600"/>
                <a:ext cx="1830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14600" y="1380960"/>
                <a:ext cx="30369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 Box 4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5060880" y="3801960"/>
                <a:ext cx="959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3255840" y="4952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874960" y="3962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3941640" y="5334120"/>
                <a:ext cx="35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5715000" y="1379520"/>
                <a:ext cx="19000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2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 rot="20435400">
            <a:off x="304920" y="3946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251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2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Group 5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255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8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0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200400" y="152280"/>
          <a:ext cx="1523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523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Object 16"/>
          <p:cNvGraphicFramePr/>
          <p:nvPr/>
        </p:nvGraphicFramePr>
        <p:xfrm>
          <a:off x="457200" y="1917720"/>
          <a:ext cx="16002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7720"/>
                    <a:ext cx="16002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5"/>
          <p:cNvGraphicFramePr/>
          <p:nvPr/>
        </p:nvGraphicFramePr>
        <p:xfrm>
          <a:off x="2209680" y="1828800"/>
          <a:ext cx="15242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828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17"/>
          <p:cNvSpPr/>
          <p:nvPr/>
        </p:nvSpPr>
        <p:spPr>
          <a:xfrm>
            <a:off x="4349880" y="2739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981080" y="251424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Object 19"/>
          <p:cNvGraphicFramePr/>
          <p:nvPr/>
        </p:nvGraphicFramePr>
        <p:xfrm>
          <a:off x="304920" y="3478320"/>
          <a:ext cx="213336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478320"/>
                    <a:ext cx="21333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380880" y="5048280"/>
          <a:ext cx="175284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48280"/>
                    <a:ext cx="17528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Object 23"/>
          <p:cNvGraphicFramePr/>
          <p:nvPr/>
        </p:nvGraphicFramePr>
        <p:xfrm>
          <a:off x="2743200" y="499104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99104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5"/>
          <p:cNvSpPr/>
          <p:nvPr/>
        </p:nvSpPr>
        <p:spPr>
          <a:xfrm>
            <a:off x="2209680" y="5523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re is an agreement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6"/>
          <p:cNvSpPr/>
          <p:nvPr/>
        </p:nvSpPr>
        <p:spPr>
          <a:xfrm>
            <a:off x="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mathematic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18590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at we don’t leave a radical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6320" y="266688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the denominator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6320" y="35053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410080" y="2743200"/>
            <a:ext cx="3530880" cy="3048120"/>
          </a:xfrm>
          <a:custGeom>
            <a:avLst/>
            <a:gdLst/>
            <a:ahLst/>
            <a:rect l="l" t="t" r="r" b="b"/>
            <a:pathLst>
              <a:path w="2224" h="1920">
                <a:moveTo>
                  <a:pt x="1536" y="0"/>
                </a:moveTo>
                <a:cubicBezTo>
                  <a:pt x="1880" y="416"/>
                  <a:pt x="2224" y="832"/>
                  <a:pt x="1968" y="1152"/>
                </a:cubicBezTo>
                <a:cubicBezTo>
                  <a:pt x="1712" y="1472"/>
                  <a:pt x="856" y="1696"/>
                  <a:pt x="0" y="19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5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76320" y="19051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same number.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6"/>
          <p:cNvSpPr/>
          <p:nvPr/>
        </p:nvSpPr>
        <p:spPr>
          <a:xfrm>
            <a:off x="7632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323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246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114800" y="178452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Text Box 10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371600" y="235440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556000" y="2398680"/>
                <a:ext cx="1939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4660920" y="2100240"/>
                <a:ext cx="2349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7238880" y="2492280"/>
                <a:ext cx="3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600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4106880" y="990720"/>
                <a:ext cx="94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 Box 10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4114800"/>
            <a:ext cx="9144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’d better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0" y="3276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3886200" y="685800"/>
                <a:ext cx="17575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5791320" y="1231920"/>
                <a:ext cx="99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08" name="Text Box 2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3:45:22Z</dcterms:created>
  <dc:creator>Bob Greer</dc:creator>
  <dc:description/>
  <dc:language>en-US</dc:language>
  <cp:lastModifiedBy>RomaK</cp:lastModifiedBy>
  <dcterms:modified xsi:type="dcterms:W3CDTF">2015-09-04T09:19:52Z</dcterms:modified>
  <cp:revision>8</cp:revision>
  <dc:subject/>
  <dc:title>PowerPoint Presentation</dc:title>
</cp:coreProperties>
</file>