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B4C-F2FB-4F5A-86C1-EEB204B6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th Root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aluating a-m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nth root of number a is a number whose nth power is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whose nth power i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index n is even, then the radicand a must be non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 of x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n Is E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 1/n When n Is 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777-9086-451F-98CF-26FD0A6D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9FC-0B68-4E5D-B962-04BBD930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9AD-83AB-4916-98E4-7B1FDB02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8D1-60DD-4C07-94FE-1F75AABA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9C3-62F6-46F1-ADF3-192EEBC2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53F-E04D-485B-A46D-674BBF7E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E02E-10A3-4676-BCB6-98CDBA4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1D60-45F0-4772-9CD4-D6B71D3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9E19-9580-4847-B91F-8C89868E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78C-5BEE-4144-94D2-33A4B67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193-9B39-4EBF-8FE3-E7D3C433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DE7-5115-458C-88CD-CE2E3B53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4F73-215C-43E2-986A-ADD33D5CA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1B47-5061-4806-8D5A-50D3EA350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Do We Use Rational Expon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w: Perform the indicated operation and simpl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143000" y="4876920"/>
            <a:ext cx="3429000" cy="453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523880" y="3200400"/>
            <a:ext cx="2514600" cy="79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F5AA-2F53-4CD7-A6FF-971841B61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84040" y="344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 of Ze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0" y="2666880"/>
            <a:ext cx="8945640" cy="103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838080" y="4191120"/>
                <a:ext cx="16002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54B7-F89D-48F2-9004-8B7367F24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2851200"/>
            <a:ext cx="9144000" cy="204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77C-AB22-4C4C-B6C0-B9793CC8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in Either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523880" y="2286000"/>
                <a:ext cx="5562720" cy="340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8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0EDC-5A6E-47D8-846B-6A9BD752D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8404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0" y="2714760"/>
            <a:ext cx="8945640" cy="23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41BE-2453-48A4-A442-293CF2F5E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</a:rPr>
              <a:t>m/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762120" y="2133720"/>
                <a:ext cx="6705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8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CBE3-706B-4BA3-8DB6-6AD2687AE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0"/>
            <a:ext cx="83772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for 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9005760" y="66596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7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0" y="2044800"/>
            <a:ext cx="9144000" cy="4127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E7F7-C105-4E95-AFD3-E0C2917C2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1600200" y="2057400"/>
                <a:ext cx="4648320" cy="36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891C-6304-4F1D-B3A4-9414FD179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371600" y="888840"/>
                <a:ext cx="6781680" cy="590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14BE-7A42-4436-A789-BE0A3CA2B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if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828800" y="1525680"/>
                <a:ext cx="5410080" cy="508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sup>
                            </m:sSup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9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8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09A6-8809-4C35-B302-DE26F81C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ying Radicals – Different Ind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304920" y="1905120"/>
                <a:ext cx="82296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8B25-10FD-4A90-8649-D608DBB1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91440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ro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numbe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umber whos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 pow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x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even, then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c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ust be nonnega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a real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143000" y="2514600"/>
                <a:ext cx="10666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7" name="Object 7"/>
          <p:cNvGraphicFramePr/>
          <p:nvPr/>
        </p:nvGraphicFramePr>
        <p:xfrm>
          <a:off x="762120" y="4800600"/>
          <a:ext cx="321768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00600"/>
                    <a:ext cx="32176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19AD-9158-4779-B23B-7E6614F5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ying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28600" y="1905120"/>
                <a:ext cx="8915400" cy="40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C5EC-B6F9-40EF-B7B9-9406AD49D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28600" y="1905120"/>
                <a:ext cx="8610480" cy="38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A1A-FB65-4F0E-BF59-32BFE3472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28600" y="1905120"/>
                <a:ext cx="8686800" cy="39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Місце для номера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692F-A7DD-4EEF-AB83-9BF478520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Ind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0" y="2048040"/>
                <a:ext cx="9144000" cy="37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/>
                      <m:e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⋅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8</m:t>
                            </m:r>
                          </m:e>
                        </m:ra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B171-EA20-4CB8-94AB-4EBDDB248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371600" y="1828800"/>
                <a:ext cx="3048120" cy="26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E94-DDBA-4CC3-925D-344B62F0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minate the Root, Then th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981080" y="990720"/>
                <a:ext cx="2178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8</m:t>
                            </m:r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69E3-193A-4AE4-9156-B389426CC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143000" y="1576440"/>
                <a:ext cx="3581280" cy="29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66C-9E02-4C1F-B03A-BF3C4497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905120" y="1371600"/>
                <a:ext cx="3186000" cy="548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EC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D717-6A8C-42AA-BB66-F6362E032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ve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371600" y="1676520"/>
                <a:ext cx="3048120" cy="24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0A61-D22A-41C0-A6CF-7E2DCD791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738440" y="1738440"/>
                <a:ext cx="3671640" cy="353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7B4-FCDC-4617-803E-D1484507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54160" y="77616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 Helvetica Bold"/>
              </a:rPr>
              <a:t>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BI Helvetica BoldOblique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BI Helvetica BoldOblique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-257040" y="65674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 Helvetica Bold"/>
              </a:rPr>
              <a:t>Page 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43200"/>
            <a:ext cx="9144000" cy="105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666880" y="4343400"/>
                <a:ext cx="1752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омера слайда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9078-2C35-44C1-BA72-2306D517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the root, then th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959120" y="1676520"/>
                <a:ext cx="3584520" cy="46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3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</m:num>
                                      <m:den>
                                        <m:r>
                                          <m:t xml:space="preserve">3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u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BC91-548E-4E8A-BE8A-D7B57934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-257040" y="380880"/>
            <a:ext cx="985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tegy for Solving Equations with Exponents and 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29A-0590-4B23-BA8D-66E7611A8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4040" y="775800"/>
            <a:ext cx="83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c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700360"/>
            <a:ext cx="9144000" cy="1849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88E4-4384-445F-88F0-E7C8B5E7D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tional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23A8-DB5D-4E78-8868-6B4E56476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511200" y="533520"/>
            <a:ext cx="83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2743200"/>
            <a:ext cx="8915400" cy="133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877-DC95-49B2-87A9-D17944622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219320" y="1782720"/>
                <a:ext cx="6933960" cy="466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4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25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6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Місце для номера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81D7-9545-434C-9ACF-BB172F7EC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82760" y="344520"/>
            <a:ext cx="8377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198360" y="2743200"/>
            <a:ext cx="8945640" cy="160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Місце для номера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9E2A-B4D4-4B55-8B8E-FEE262D45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onent 1/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O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600200" y="1832040"/>
                <a:ext cx="4800600" cy="43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ad>
                          <m:deg>
                            <m:r>
                              <m:t xml:space="preserve">5</m:t>
                            </m:r>
                          </m:deg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8:09:43Z</dcterms:created>
  <dc:creator>David W. Casey</dc:creator>
  <dc:description/>
  <dc:language>en-US</dc:language>
  <cp:lastModifiedBy>RomaK</cp:lastModifiedBy>
  <dcterms:modified xsi:type="dcterms:W3CDTF">2015-09-04T09:19:45Z</dcterms:modified>
  <cp:revision>118</cp:revision>
  <dc:subject/>
  <dc:title>Intermediate Algebra Chapter 7</dc:title>
</cp:coreProperties>
</file>