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8.jpeg" ContentType="image/jpeg"/>
  <Override PartName="/ppt/media/image10.jpeg" ContentType="image/jpeg"/>
  <Override PartName="/ppt/media/image9.jpeg" ContentType="image/jpeg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hammer.wav" ContentType="audio/x-wav"/>
  <Override PartName="/ppt/media/click.wav" ContentType="audio/x-wav"/>
  <Override PartName="/ppt/media/arrow.wav" ContentType="audio/x-wav"/>
  <Override PartName="/ppt/media/image4.jpeg" ContentType="image/jpeg"/>
  <Override PartName="/ppt/media/type.wav" ContentType="audio/x-wav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21DB-6CFF-46E0-A915-AF0B9C5109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751D-0788-4725-AEF4-C20F62BA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F5A3-57D8-4642-88A2-2ACD8AB9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46C-EB8F-4463-A6FA-B93DBA16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E52-2669-488D-A915-1E49A858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9947-A168-4B97-9E1C-FCD55F4E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74C7-A89A-42A7-9E0B-5F8E58F1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13B2-A5E1-4D2C-897C-3986632A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601C-A659-4B18-87DB-124A6BB1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A115-0B5C-43C7-A03C-91DC51C7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5E4F-0FAF-4419-9416-6088465A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8F29-7BF2-4C30-B3FB-F4F7865B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1FD-80EF-4CD3-BD73-7953E484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003D-69F0-43CB-851E-9B5EF93B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7D5C-AC29-4D17-AE3D-0FC25FA8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4411-77FB-45BF-8876-882741E2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159A-5B4E-4C22-8A13-8120B61B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78EB-6B72-4692-992D-5F9C30F1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B8B2-86F6-441B-A4A0-84611257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F53-73C0-4806-AC87-F777205E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0069-5099-44E8-80C3-5BA469D7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90CA-BE12-4CDE-AF4F-D54FBC82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E1D-0163-4B1A-B60E-567F5BE1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6454-62F7-472D-A2AA-3509B6F8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9238-121C-41C7-9B33-3C064BA3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9819-8357-48EA-AD7F-D2710A1D078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6299-45DE-4DCA-A3D5-A97DA623C74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ba-na.com/images/bathroom_acessories/77dwg_sm.gif&amp;imgrefurl=http://www.pba-na.com/bathroom/77.shtml&amp;h=250&amp;w=190&amp;sz=4&amp;tbnid=OgACVEX_L_9RVM:&amp;tbnh=106&amp;tbnw=80&amp;hl=en&amp;start=4&amp;prev=/images%3Fq%3Dbathroom%2Bsymbol%2Bmen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aiga.org/Resources/SymbolSigns/gif_large/13_toiletsq_women_inv.gif&amp;imgrefurl=http://www.aiga.org/content.cfm%3FContentAlias%3Dsymbolsigns&amp;h=613&amp;w=613&amp;sz=8&amp;tbnid=QagpGr2_zz4ZMM:&amp;tbnh=134&amp;tbnw=134&amp;hl=en&amp;start=4&amp;prev=/images%3Fq%3Dsymbol%2Bwomen%26svnum%3D10%26hl%3Den%26lr%3D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hammer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lantern.com/clipart/clips/bdayparty/partyhat1.gif&amp;imgrefurl=http://www.madlantern.com/clipart/Party.htm&amp;h=150&amp;w=142&amp;sz=8&amp;tbnid=YVI1nlna4yntPM:&amp;tbnh=90&amp;tbnw=85&amp;hl=en&amp;start=2&amp;prev=/images%3Fq%3Dparty%2Bhat%26svnum%3D10%26hl%3Den%26lr%3D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2" Type="http://schemas.openxmlformats.org/officeDocument/2006/relationships/image" Target="../media/image5.jpeg"/><Relationship Id="rId13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4" Type="http://schemas.openxmlformats.org/officeDocument/2006/relationships/image" Target="../media/image6.jpeg"/><Relationship Id="rId15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6" Type="http://schemas.openxmlformats.org/officeDocument/2006/relationships/image" Target="../media/image6.jpeg"/><Relationship Id="rId17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0" Type="http://schemas.openxmlformats.org/officeDocument/2006/relationships/image" Target="../media/image6.jpeg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8" Type="http://schemas.openxmlformats.org/officeDocument/2006/relationships/image" Target="../media/image8.jpeg"/><Relationship Id="rId1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0" Type="http://schemas.openxmlformats.org/officeDocument/2006/relationships/image" Target="../media/image8.jpeg"/><Relationship Id="rId2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2" Type="http://schemas.openxmlformats.org/officeDocument/2006/relationships/image" Target="../media/image7.jpeg"/><Relationship Id="rId2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4" Type="http://schemas.openxmlformats.org/officeDocument/2006/relationships/image" Target="../media/image7.jpeg"/><Relationship Id="rId2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6" Type="http://schemas.openxmlformats.org/officeDocument/2006/relationships/image" Target="../media/image8.jpe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O NOW (not later)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mpare the number of boys to girls in the clas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Equivalent Ratios can be formed by multiplying the ratio by any number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the ratio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 : 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also be written 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: 6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: 9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: 12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62120" y="426708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atio 2 : 3 can be expressed a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x to 3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ultiply the original ratio by any  numbe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6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d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mpound Ratios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A ratio that compares more than 2 quantities is called a </a:t>
            </a: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compound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rat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A cake recipe says the ratio of cups of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milk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sugar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and batter are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This means that there is </a:t>
            </a:r>
            <a:r>
              <a:rPr b="0" lang="en-US" sz="2400" spc="-1" strike="noStrike">
                <a:solidFill>
                  <a:srgbClr val="5e2908"/>
                </a:solidFill>
                <a:latin typeface="Arial"/>
              </a:rPr>
              <a:t>one cup of milk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for every </a:t>
            </a:r>
            <a:r>
              <a:rPr b="0" lang="en-US" sz="2400" spc="-1" strike="noStrike">
                <a:solidFill>
                  <a:srgbClr val="f11717"/>
                </a:solidFill>
                <a:latin typeface="Arial"/>
              </a:rPr>
              <a:t>two cups of sugar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 cups of b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baking"/>
          <p:cNvPicPr/>
          <p:nvPr/>
        </p:nvPicPr>
        <p:blipFill>
          <a:blip r:embed="rId1"/>
          <a:stretch/>
        </p:blipFill>
        <p:spPr>
          <a:xfrm>
            <a:off x="3733920" y="4983120"/>
            <a:ext cx="129528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3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8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A bag contains 18 yellow, blue, and red marbles. The ratio of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yellow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blue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red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marbles is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4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2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3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marbles"/>
          <p:cNvPicPr/>
          <p:nvPr/>
        </p:nvPicPr>
        <p:blipFill>
          <a:blip r:embed="rId1"/>
          <a:stretch/>
        </p:blipFill>
        <p:spPr>
          <a:xfrm>
            <a:off x="3886200" y="1295280"/>
            <a:ext cx="990720" cy="58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34290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2 can be simplified to 2 :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7391520" y="28195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62120" y="2362320"/>
            <a:ext cx="6933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Yellow : Blue : Red  is  4 : 2 :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any multiple of this is an equivalent ratio, this can also be written as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4x : 2x: 3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Let 4x = yellow, 2x = blue , 3x = 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4x + 2x+ 3x = 18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9x = 1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=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the question asks for yellow marbles,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there are 4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 or 4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) = 8 yellow mar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3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8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7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7053E-007 L -0.0033 -0.21212 E">
                                      <p:cBhvr>
                                        <p:cTn id="729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8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8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8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8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9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9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Practice problem # 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(1) You have </a:t>
            </a:r>
            <a:r>
              <a:rPr b="1" lang="en-US" sz="3000" spc="-1" strike="noStrike">
                <a:solidFill>
                  <a:srgbClr val="990099"/>
                </a:solidFill>
                <a:latin typeface="Comic Sans MS"/>
              </a:rPr>
              <a:t>100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different shirts.  The ratio of blue to black shirts is  20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                           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3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a) Write the ratio of blue to black shirts 3 different w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b) Write the ratio in simplest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c) Explain what this ratio tells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d) How many black shirts do you ha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5410080" y="2209680"/>
            <a:ext cx="6858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olution  - # 1                         </a:t>
            </a:r>
            <a:r>
              <a:rPr b="1" lang="en-US" sz="42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You have </a:t>
            </a:r>
            <a:r>
              <a:rPr b="1" lang="en-US" sz="1800" spc="-1" strike="noStrike">
                <a:solidFill>
                  <a:srgbClr val="cc9900"/>
                </a:solidFill>
                <a:latin typeface="Comic Sans MS"/>
              </a:rPr>
              <a:t>100</a:t>
            </a: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different shirts.  The ratio of blue to black shirts is 20 /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a) Write the ratio of blue to black shirts 3 different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0 to 30 ,   20 : 30,    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b) Write the ratio in simplest form.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c) Explain what this ratio tells us.  </a:t>
            </a:r>
            <a:r>
              <a:rPr b="0" lang="en-US" sz="1800" spc="-1" strike="noStrike">
                <a:solidFill>
                  <a:srgbClr val="f11717"/>
                </a:solidFill>
                <a:latin typeface="Comic Sans MS"/>
              </a:rPr>
              <a:t>For every two blue shirts, there are 3 black shi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d) How many black shirts do you ha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2x + 3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5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here are 2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black shirts  so 2 (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)  = 40 black shi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4800600" y="2057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4343400" y="2895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0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3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6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roobie"/>
              </a:rPr>
              <a:t>Practice Word Probl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11717"/>
                </a:solidFill>
                <a:latin typeface="SimHei"/>
              </a:rPr>
              <a:t>You go to a party where the ratio of boys to girls is 28 to 56.  Express the ratio of boys to girls in simplest form.</a:t>
            </a:r>
            <a:r>
              <a:rPr b="0" lang="en-US" sz="3600" spc="-1" strike="noStrike">
                <a:solidFill>
                  <a:srgbClr val="000000"/>
                </a:solidFill>
                <a:latin typeface="SimHe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SimHei"/>
              </a:rPr>
              <a:t>Explain what this ratio tells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90720" y="3048120"/>
            <a:ext cx="74674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8 / 56 = 1 / 2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The ratio of boys to girls is 1 to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2) For every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y there ar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girls at the par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13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15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7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2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Croobie"/>
              </a:rPr>
              <a:t>Practice Word Problems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6933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xplain what this ratio tell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38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40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Challenge Ques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we compare boys </a:t>
            </a: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rls we g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77dwg_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57200"/>
            <a:ext cx="762120" cy="100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13_toiletsq_women_in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457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What do we call a comparison between two or more quantitie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14400" y="18288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    </a:t>
            </a: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RAT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410080" y="1676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We just found the RATIO of boys to girl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4120" y="3429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Is the ratio of </a:t>
            </a:r>
            <a:r>
              <a:rPr b="1" lang="en-US" sz="2400" spc="-1" strike="noStrike">
                <a:solidFill>
                  <a:srgbClr val="996600"/>
                </a:solidFill>
                <a:latin typeface="Comic Sans MS"/>
              </a:rPr>
              <a:t>girls to boys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 the same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06668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No, when writing a ratio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DER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ma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10" descr="animation-teacher"/>
          <p:cNvPicPr/>
          <p:nvPr/>
        </p:nvPicPr>
        <p:blipFill>
          <a:blip r:embed="rId1"/>
          <a:stretch/>
        </p:blipFill>
        <p:spPr>
          <a:xfrm>
            <a:off x="762120" y="2057400"/>
            <a:ext cx="2057400" cy="19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omic Sans MS"/>
              </a:rPr>
              <a:t>AIM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What is a rati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Monotype Corsiva"/>
              </a:rPr>
              <a:t>It’s Friday night and your friends are having a party……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The ratio of girls to guys is 2 to 12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2120" y="25146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ould you want to attend the part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7" descr="partyha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886200"/>
            <a:ext cx="1727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w many basketballs to footballs are there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For every 4 basketballs there are 6 footba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The </a:t>
            </a:r>
            <a:r>
              <a:rPr b="1" i="1" lang="en-US" sz="3600" spc="-1" strike="noStrike">
                <a:solidFill>
                  <a:srgbClr val="990099"/>
                </a:solidFill>
                <a:latin typeface="Comic Sans MS"/>
              </a:rPr>
              <a:t>ratio</a:t>
            </a: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 is 4 to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foo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990720"/>
            <a:ext cx="1114200" cy="66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footb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footba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6002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footbal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100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footbal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816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footba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096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basketball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76720" y="8380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basketbal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419720" y="10666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basketball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352680" y="18288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basketball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91320" y="1905120"/>
            <a:ext cx="68580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0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6"/>
          <p:cNvSpPr/>
          <p:nvPr/>
        </p:nvSpPr>
        <p:spPr>
          <a:xfrm>
            <a:off x="5943600" y="2895480"/>
            <a:ext cx="3200400" cy="2819520"/>
          </a:xfrm>
          <a:prstGeom prst="rect">
            <a:avLst/>
          </a:prstGeom>
          <a:solidFill>
            <a:srgbClr val="339966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99"/>
                </a:solidFill>
                <a:latin typeface="Comic Sans MS"/>
              </a:rPr>
              <a:t>What are some other ways we can write the ratio of basketball to football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2133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i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85800" y="4724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905120" y="3124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905120" y="373392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828800" y="44956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vi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the second quantity (a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57200" y="2057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 ratio can be written in 3 way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1447920" y="29718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14" descr="baske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752480"/>
            <a:ext cx="1114200" cy="1038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5"/>
          <p:cNvSpPr/>
          <p:nvPr/>
        </p:nvSpPr>
        <p:spPr>
          <a:xfrm>
            <a:off x="6095880" y="320040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Careful!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Order matters in a rati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4 to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Is NOT the same 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6 to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34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5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36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37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mic Sans MS"/>
              </a:rPr>
              <a:t>Write the ratio of sandwiches to coke bottles 3 different ways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8640" y="10666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5562720" y="137160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914400" y="37339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990720" y="373392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685800" y="4800600"/>
            <a:ext cx="7238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other words, ratios can be simplified to form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equival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atio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32" descr="sandwhich_lunch">
            <a:hlinkClick r:id="rId1"/>
          </p:cNvPr>
          <p:cNvPicPr/>
          <p:nvPr/>
        </p:nvPicPr>
        <p:blipFill>
          <a:blip r:embed="rId2"/>
          <a:stretch/>
        </p:blipFill>
        <p:spPr>
          <a:xfrm rot="5663400">
            <a:off x="2562480" y="13989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3" descr="sandwhich_lunch">
            <a:hlinkClick r:id="rId3"/>
          </p:cNvPr>
          <p:cNvPicPr/>
          <p:nvPr/>
        </p:nvPicPr>
        <p:blipFill>
          <a:blip r:embed="rId4"/>
          <a:stretch/>
        </p:blipFill>
        <p:spPr>
          <a:xfrm rot="5663400">
            <a:off x="962640" y="1323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4" descr="sandwhich_lunch">
            <a:hlinkClick r:id="rId5"/>
          </p:cNvPr>
          <p:cNvPicPr/>
          <p:nvPr/>
        </p:nvPicPr>
        <p:blipFill>
          <a:blip r:embed="rId6"/>
          <a:stretch/>
        </p:blipFill>
        <p:spPr>
          <a:xfrm rot="5663400">
            <a:off x="416304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sandwhich_lunch">
            <a:hlinkClick r:id="rId7"/>
          </p:cNvPr>
          <p:cNvPicPr/>
          <p:nvPr/>
        </p:nvPicPr>
        <p:blipFill>
          <a:blip r:embed="rId8"/>
          <a:stretch/>
        </p:blipFill>
        <p:spPr>
          <a:xfrm rot="5663400">
            <a:off x="583956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cok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1" descr="cok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828800" y="137160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2" descr="cok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924680" y="15238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3" descr="cok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42900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4" descr="cok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5800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5" descr="coke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39152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6" descr="sandwhich_lunch">
            <a:hlinkClick r:id="rId21"/>
          </p:cNvPr>
          <p:cNvPicPr/>
          <p:nvPr/>
        </p:nvPicPr>
        <p:blipFill>
          <a:blip r:embed="rId22"/>
          <a:stretch/>
        </p:blipFill>
        <p:spPr>
          <a:xfrm rot="5663400">
            <a:off x="1114920" y="23133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7" descr="sandwhich_lunch">
            <a:hlinkClick r:id="rId23"/>
          </p:cNvPr>
          <p:cNvPicPr/>
          <p:nvPr/>
        </p:nvPicPr>
        <p:blipFill>
          <a:blip r:embed="rId24"/>
          <a:stretch/>
        </p:blipFill>
        <p:spPr>
          <a:xfrm rot="5663400">
            <a:off x="2410560" y="2466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9" descr="cok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495680" y="24382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0" descr="coke"/>
          <p:cNvPicPr/>
          <p:nvPr/>
        </p:nvPicPr>
        <p:blipFill>
          <a:blip r:embed="rId27"/>
          <a:stretch/>
        </p:blipFill>
        <p:spPr>
          <a:xfrm>
            <a:off x="3809880" y="2666880"/>
            <a:ext cx="648000" cy="9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quivalent Rati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33520" y="34290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38080" y="342900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– Simplify the fraction (Find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atest common factor (GCF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both numbers and divide the numerator and denominator by the GCF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514600" y="1676520"/>
            <a:ext cx="2362320" cy="0"/>
          </a:xfrm>
          <a:prstGeom prst="line">
            <a:avLst/>
          </a:prstGeom>
          <a:ln w="604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257800" y="152388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4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1       = 1 to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     8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5943600" y="190512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51814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67816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181480" y="2590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CF =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7696080" y="1447920"/>
            <a:ext cx="914400" cy="457200"/>
          </a:xfrm>
          <a:prstGeom prst="rect">
            <a:avLst/>
          </a:prstGeom>
          <a:noFill/>
          <a:ln w="442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0:33:06Z</dcterms:created>
  <dc:creator>buffena</dc:creator>
  <dc:description/>
  <dc:language>en-US</dc:language>
  <cp:lastModifiedBy>RomaK</cp:lastModifiedBy>
  <dcterms:modified xsi:type="dcterms:W3CDTF">2015-09-04T09:19:27Z</dcterms:modified>
  <cp:revision>36</cp:revision>
  <dc:subject/>
  <dc:title>DO NOW (not later):</dc:title>
</cp:coreProperties>
</file>