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jpeg" ContentType="image/jpeg"/>
  <Override PartName="/ppt/media/image10.jpeg" ContentType="image/jpeg"/>
  <Override PartName="/ppt/media/image9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hammer.wav" ContentType="audio/x-wav"/>
  <Override PartName="/ppt/media/click.wav" ContentType="audio/x-wav"/>
  <Override PartName="/ppt/media/arrow.wav" ContentType="audio/x-wav"/>
  <Override PartName="/ppt/media/image4.jpeg" ContentType="image/jpeg"/>
  <Override PartName="/ppt/media/type.wav" ContentType="audio/x-wav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A48A-A7A2-4C4E-B322-37A39FC57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(not late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number of boys to girls in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 can be formed by multiplying the ratio by an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ratio 2 : 3 can also be written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 (multiply original ratio by by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: 9 (multiply original ratio by by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: 12 (multiply original ratio by by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2 : 3 can be expressed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to 3x (multiply the original ratio by any  number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Rati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tio that compares more than 2 quantities is called a compound rat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ke recipe says the ratio of cups of milk, sugar, and batter are 1:2: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there is one cup of milk for every two cups of sugar and four cups of b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g contains 18 yellow, blue, and red marbles. The ratio of yellow to blue to red marbles is 4 : 2 : 3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2 can be simplified to 2 :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 : Blue : Red  is  4 : 2 :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ny multiple of this is an equivalent ratio, this can also be written as 4x : 2x: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4x = yellow, 2x = blue , 3x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+ 2x+ 3x = 1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 =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question asks for yellow marble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x or 4 (2) = 8 yellow mar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 #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You have 100 different shirts.  The ratio of blue to black shirts is  20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 - # 1                        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00 different shirts.  The ratio of blue to black shirts is 20 /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e the ratio of blue to black shirt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o 30 ,   20 : 30,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Write the ratio in simplest form.  2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xplain what this ratio tells us.  For every two blue shirts, there are 3 black shi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How many black shirts do you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 + 3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x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x black shirts  so 2 (20)  = 40 black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go to a party where the ratio of boys to girls is 28 to 56.  Express the ratio of boys to girls in simplest for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s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/ 56 = 1 /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boys to girls is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or every 1 boy there are 2 girls at the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d Proble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this ratio tell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mpare boys to girls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call a comparison between two or more quant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just found the RATIO of boys to gir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ratio of girls to boys the sam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hen writing a ratio, ORDER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Friday night and your friends are having a party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girls to guys is 2 to 1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want to attend the par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basketballs to footballs are t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very 4 basketballs there are 6 footb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is 4 to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ther ways we can write the ratio of basketball to footba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to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: Second 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quantity divided by the second quantity (as a frac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ratio can be written in 3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matters in a rati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the sam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ratio of sandwiches to coke bottles 3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ratios can be simplified to form equivalent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– Simplify the fraction (Find the greatest common factor (GCF) of both numbers and divide the numerator and denominator by the GC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4 / 4     = 1       = 1 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        8 / 4      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199-1BE7-4CD9-B0A3-8D32739F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0F5-7ED4-44BA-997B-1B2B1FF0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2F0-6593-41F3-B510-B5B9396E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D70-8543-4D03-BF0D-35A36722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4A5-D540-48ED-8581-DEBF0CB0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8BDF-1082-4C0E-BF3A-95B97FC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A11-D956-4B66-9448-F7392216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4324-4E7E-46DA-B567-7E836D28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D3D6-5185-48AC-91E9-E2186BBD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06BA-B94D-4659-A7F3-2847436C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1972-C67A-4D55-8421-D96849E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498-7401-44E4-B3BD-9D398F9B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041F-9B70-49BE-92E9-051BD32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DFE8-6DB3-47C7-A554-8348394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92A3-08A4-4C4C-986B-5E54CA97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C2DE-4C06-4345-A956-BDC2C349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335D-43E8-46F1-8911-85B5B6AA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E95-BEBE-4874-A659-ADCC9AD7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755-89ED-45F3-A666-BD9340F7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B6D-5905-4875-8436-97AEAF6F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1A9-609A-4143-AB4E-9CF5D90A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14D-AA53-4550-8AA1-93BF164B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E1E-838D-469A-90B4-D565F314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7E7-4AC0-49C8-9D77-54124A1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A467-8297-4257-ADC2-9862D35787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C017-6726-48B0-8787-48E2D6C85E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a-na.com/images/bathroom_acessories/77dwg_sm.gif&amp;imgrefurl=http://www.pba-na.com/bathroom/77.shtml&amp;h=250&amp;w=190&amp;sz=4&amp;tbnid=OgACVEX_L_9RVM:&amp;tbnh=106&amp;tbnw=80&amp;hl=en&amp;start=4&amp;prev=/images%3Fq%3Dbathroom%2Bsymbol%2Bmen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aiga.org/Resources/SymbolSigns/gif_large/13_toiletsq_women_inv.gif&amp;imgrefurl=http://www.aiga.org/content.cfm%3FContentAlias%3Dsymbolsigns&amp;h=613&amp;w=613&amp;sz=8&amp;tbnid=QagpGr2_zz4ZMM:&amp;tbnh=134&amp;tbnw=134&amp;hl=en&amp;start=4&amp;prev=/images%3Fq%3Dsymbol%2Bwomen%26svnum%3D10%26hl%3Den%26lr%3D" TargetMode="External"/><Relationship Id="rId4" Type="http://schemas.openxmlformats.org/officeDocument/2006/relationships/image" Target="../media/image2.jpeg"/><Relationship Id="rId5" Type="http://schemas.openxmlformats.org/officeDocument/2006/relationships/audio" Target="../media/hammer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dlantern.com/clipart/clips/bdayparty/partyhat1.gif&amp;imgrefurl=http://www.madlantern.com/clipart/Party.htm&amp;h=150&amp;w=142&amp;sz=8&amp;tbnid=YVI1nlna4yntPM:&amp;tbnh=90&amp;tbnw=85&amp;hl=en&amp;start=2&amp;prev=/images%3Fq%3Dparty%2Bhat%26svnum%3D10%26hl%3Den%26lr%3D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/imgres?imgurl=http://www.grace-collection.com/images/football.JPG&amp;imgrefurl=http://www.grace-collection.com/sports-patterns.html&amp;h=216&amp;w=360&amp;sz=48&amp;tbnid=8OKOrfNjNUe7aM:&amp;tbnh=70&amp;tbnw=117&amp;hl=en&amp;start=4&amp;prev=/images%3Fq%3Dfootball%26svnum%3D10%26hl%3Den%26lr%3D%26sa%3DN" TargetMode="External"/><Relationship Id="rId12" Type="http://schemas.openxmlformats.org/officeDocument/2006/relationships/image" Target="../media/image5.jpeg"/><Relationship Id="rId13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4" Type="http://schemas.openxmlformats.org/officeDocument/2006/relationships/image" Target="../media/image6.jpeg"/><Relationship Id="rId15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6" Type="http://schemas.openxmlformats.org/officeDocument/2006/relationships/image" Target="../media/image6.jpeg"/><Relationship Id="rId17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0" Type="http://schemas.openxmlformats.org/officeDocument/2006/relationships/image" Target="../media/image6.jpeg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race-collection.com/images/basketball.JPG&amp;imgrefurl=http://www.grace-collection.com/sports-patterns.html&amp;h=337&amp;w=360&amp;sz=62&amp;tbnid=ujXFXrLqxBwKnM:&amp;tbnh=109&amp;tbnw=117&amp;hl=en&amp;start=1&amp;prev=/images%3Fq%3Dbasketball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18" Type="http://schemas.openxmlformats.org/officeDocument/2006/relationships/image" Target="../media/image8.jpeg"/><Relationship Id="rId19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0" Type="http://schemas.openxmlformats.org/officeDocument/2006/relationships/image" Target="../media/image8.jpeg"/><Relationship Id="rId21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2" Type="http://schemas.openxmlformats.org/officeDocument/2006/relationships/image" Target="../media/image7.jpeg"/><Relationship Id="rId23" Type="http://schemas.openxmlformats.org/officeDocument/2006/relationships/hyperlink" Target="http://images.google.com/imgres?imgurl=http://www.harborhaven.com/Admin/sandwhich_lunch.jpg&amp;imgrefurl=http://www.harborhaven.com/Admin/body_admin.html&amp;h=196&amp;w=155&amp;sz=8&amp;tbnid=_OHaBsGL63gPFM:&amp;tbnh=98&amp;tbnw=77&amp;hl=en&amp;start=11&amp;prev=/images%3Fq%3Dsandwhich%26svnum%3D10%26hl%3Den%26lr%3D%26sa%3DN" TargetMode="External"/><Relationship Id="rId24" Type="http://schemas.openxmlformats.org/officeDocument/2006/relationships/image" Target="../media/image7.jpeg"/><Relationship Id="rId25" Type="http://schemas.openxmlformats.org/officeDocument/2006/relationships/hyperlink" Target="http://images.google.com/imgres?imgurl=http://images.scripting.com/archiveScriptingCom/2005/05/23/coke.jpg&amp;imgrefurl=http://archive.scripting.com/dir/davesWorld/weblogarchive/2005/may&amp;h=215&amp;w=146&amp;sz=6&amp;tbnid=Ngnsx4-UHE5KFM:&amp;tbnh=101&amp;tbnw=68&amp;hl=en&amp;start=7&amp;prev=/images%3Fq%3Dcoke%26svnum%3D10%26hl%3Den%26lr%3D" TargetMode="External"/><Relationship Id="rId26" Type="http://schemas.openxmlformats.org/officeDocument/2006/relationships/image" Target="../media/image8.jpeg"/><Relationship Id="rId27" Type="http://schemas.openxmlformats.org/officeDocument/2006/relationships/image" Target="../media/image8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O NOW (not later)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mpare the number of boys to girls in the cla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Comic Sans MS"/>
              </a:rPr>
              <a:t>Equivalent Ratios can be formed by multiplying the ratio by any number.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the ratio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 : 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also be written 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: 6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: 9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: 12 (multiply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origi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atio by by 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26708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tio 2 : 3 can be expressed 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x to 3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ultiply the original ratio by any  numbe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6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d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mpound Ratio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A ratio that compares more than 2 quantities is called a </a:t>
            </a: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compound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rat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A cake recipe says the ratio of cups of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milk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sugar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, and batter are </a:t>
            </a:r>
            <a:r>
              <a:rPr b="0" lang="en-US" sz="2600" spc="-1" strike="noStrike">
                <a:solidFill>
                  <a:srgbClr val="5e2908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f11717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This means that there is </a:t>
            </a:r>
            <a:r>
              <a:rPr b="0" lang="en-US" sz="2400" spc="-1" strike="noStrike">
                <a:solidFill>
                  <a:srgbClr val="5e2908"/>
                </a:solidFill>
                <a:latin typeface="Arial"/>
              </a:rPr>
              <a:t>one cup of milk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for every </a:t>
            </a:r>
            <a:r>
              <a:rPr b="0" lang="en-US" sz="2400" spc="-1" strike="noStrike">
                <a:solidFill>
                  <a:srgbClr val="f11717"/>
                </a:solidFill>
                <a:latin typeface="Arial"/>
              </a:rPr>
              <a:t>two cups of sugar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 cups of b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baking"/>
          <p:cNvPicPr/>
          <p:nvPr/>
        </p:nvPicPr>
        <p:blipFill>
          <a:blip r:embed="rId1"/>
          <a:stretch/>
        </p:blipFill>
        <p:spPr>
          <a:xfrm>
            <a:off x="3733920" y="4983120"/>
            <a:ext cx="129528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A bag contains 18 yellow, blue, and red marbles. The ratio of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yellow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blue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red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marbles is </a:t>
            </a:r>
            <a:r>
              <a:rPr b="1" lang="en-US" sz="2800" spc="-1" strike="noStrike">
                <a:solidFill>
                  <a:srgbClr val="afbf39"/>
                </a:solidFill>
                <a:latin typeface="Franklin Gothic Medium"/>
              </a:rPr>
              <a:t>4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09195d"/>
                </a:solidFill>
                <a:latin typeface="Franklin Gothic Medium"/>
              </a:rPr>
              <a:t>2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 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Medium"/>
              </a:rPr>
              <a:t>3</a:t>
            </a:r>
            <a:r>
              <a:rPr b="1" lang="en-US" sz="2800" spc="-1" strike="noStrike">
                <a:solidFill>
                  <a:srgbClr val="006633"/>
                </a:solidFill>
                <a:latin typeface="Franklin Gothic Medium"/>
              </a:rPr>
              <a:t>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ratio of yellow to blue marbles in simplest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ratio of yellow to red marbl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yellow marbles are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marbles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58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34290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2 can be simplified to 2 :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7391520" y="2819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: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62120" y="2362320"/>
            <a:ext cx="6933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Yellow : Blue : Red  is  4 : 2 :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any multiple of this is an equivalent ratio, this can also be written as </a:t>
            </a: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4x : 2x: 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mic Sans MS"/>
              </a:rPr>
              <a:t>Let 4x = yellow, 2x = blue , 3x = 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4x + 2x+ 3x = 18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9x = 1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=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Since the question asks for yellow marbles,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there are 4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 or 4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) = 8 yellow mar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8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7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7053E-007 L -0.0033 -0.21212 E">
                                      <p:cBhvr>
                                        <p:cTn id="741" dur="2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Practice problem # 1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(1) You have </a:t>
            </a: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100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different shirts.  The ratio of blue to black shirts is  20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                           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3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a) Write the ratio of blue to black shirts 3 different w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b) Write the ratio in simplest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   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c) Explain what this ratio tells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   </a:t>
            </a:r>
            <a:r>
              <a:rPr b="0" lang="en-US" sz="3000" spc="-1" strike="noStrike">
                <a:solidFill>
                  <a:srgbClr val="990099"/>
                </a:solidFill>
                <a:latin typeface="Comic Sans MS"/>
              </a:rPr>
              <a:t>d) How many black shirts do you ha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5410080" y="2209680"/>
            <a:ext cx="68580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olution  - # 1                         </a:t>
            </a:r>
            <a:r>
              <a:rPr b="1" lang="en-US" sz="4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You have </a:t>
            </a:r>
            <a:r>
              <a:rPr b="1" lang="en-US" sz="1800" spc="-1" strike="noStrike">
                <a:solidFill>
                  <a:srgbClr val="cc9900"/>
                </a:solidFill>
                <a:latin typeface="Comic Sans MS"/>
              </a:rPr>
              <a:t>100</a:t>
            </a: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different shirts.  The ratio of blue to black shirts is 20 /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a) Write the ratio of blue to black shirts 3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0 to 30 ,   20 : 30,    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b) Write the ratio in simplest form.</a:t>
            </a:r>
            <a:r>
              <a:rPr b="0" lang="en-US" sz="2600" spc="-1" strike="noStrike">
                <a:solidFill>
                  <a:srgbClr val="cc99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2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c) Explain what this ratio tells us.  </a:t>
            </a:r>
            <a:r>
              <a:rPr b="0" lang="en-US" sz="1800" spc="-1" strike="noStrike">
                <a:solidFill>
                  <a:srgbClr val="f11717"/>
                </a:solidFill>
                <a:latin typeface="Comic Sans MS"/>
              </a:rPr>
              <a:t>For every two blue shirts, there are 3 black shi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d) How many black shirts do you ha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Comic Sans MS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2x + 3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5x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here are 2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black shirts  so 2 (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)  = 40 black shi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480060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43434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5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8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1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5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roobie"/>
              </a:rPr>
              <a:t>Practice Word Probl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0663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11717"/>
                </a:solidFill>
                <a:latin typeface="SimHei"/>
              </a:rPr>
              <a:t>You go to a party where the ratio of boys to girls is 28 to 56.  Express the ratio of boys to girls in simplest form.</a:t>
            </a:r>
            <a:r>
              <a:rPr b="0" lang="en-US" sz="3600" spc="-1" strike="noStrike">
                <a:solidFill>
                  <a:srgbClr val="000000"/>
                </a:solidFill>
                <a:latin typeface="SimHe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SimHe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SimHei"/>
              </a:rPr>
              <a:t>Explain what this ratio tells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90720" y="3048120"/>
            <a:ext cx="74674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65000"/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8 / 56 = 1 / 2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The ratio of boys to girls is 1 to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2) For every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y there ar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irls at the par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18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Croobie"/>
              </a:rPr>
              <a:t>Practice Word Problems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Mindy has 72 candy bars.  If the ratio of Mars to Snickers is 8:4,  Find the number of each type of can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Explain what this ratio tell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943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Challenge Ques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imeter of a rectangle is 500 feet.  The ratio of the base and height is 3:2.  What is the measure of the h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boy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number of girls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we compare boys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rls we g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 boys to _____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77dwg_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57200"/>
            <a:ext cx="762120" cy="100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3_toiletsq_women_in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What do we call a comparison between two or more quantitie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14400" y="1828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RAT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0080" y="1676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We just found the RATIO of boys to gir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4120" y="3429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Is the ratio of </a:t>
            </a: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irls to boys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 the s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5257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No, when writing a ratio,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DER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ma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animation-teacher"/>
          <p:cNvPicPr/>
          <p:nvPr/>
        </p:nvPicPr>
        <p:blipFill>
          <a:blip r:embed="rId1"/>
          <a:stretch/>
        </p:blipFill>
        <p:spPr>
          <a:xfrm>
            <a:off x="762120" y="2057400"/>
            <a:ext cx="205740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AIM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	</a:t>
            </a:r>
            <a:r>
              <a:rPr b="0" i="1" lang="en-US" sz="7200" spc="-1" strike="noStrike">
                <a:solidFill>
                  <a:srgbClr val="ff0000"/>
                </a:solidFill>
                <a:latin typeface="Impact"/>
              </a:rPr>
              <a:t>What is a rati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Monotype Corsiva"/>
              </a:rPr>
              <a:t>It’s Friday night and your friends are having a party……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The ratio of girls to guys is 2 to 1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25146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ould you want to attend the part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partyha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1727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ow many basketballs to footballs are there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For every 4 basketballs there are 6 footbal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i="1" lang="en-US" sz="3600" spc="-1" strike="noStrike">
                <a:solidFill>
                  <a:srgbClr val="990099"/>
                </a:solidFill>
                <a:latin typeface="Comic Sans MS"/>
              </a:rPr>
              <a:t>ratio</a:t>
            </a: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 is 4 to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foo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990720"/>
            <a:ext cx="1114200" cy="66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footb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footbal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6002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footbal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4100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footbal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781680" y="11430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football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209680" y="1828800"/>
            <a:ext cx="1114560" cy="66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basketbal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76720" y="8380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basketbal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419720" y="106668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9" descr="basketball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352680" y="1828800"/>
            <a:ext cx="685800" cy="638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basketball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91320" y="1905120"/>
            <a:ext cx="68580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5943600" y="2895480"/>
            <a:ext cx="3200400" cy="2819520"/>
          </a:xfrm>
          <a:prstGeom prst="rect">
            <a:avLst/>
          </a:prstGeom>
          <a:solidFill>
            <a:srgbClr val="33996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99"/>
                </a:solidFill>
                <a:latin typeface="Comic Sans MS"/>
              </a:rPr>
              <a:t>What are some other ways we can write the ratio of basketball to football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2133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to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858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905120" y="37339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 quant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8800" y="44956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quantit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vi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the second quantity (a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7200" y="2057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 ratio can be written in 3 way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144792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4" descr="basket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6095880" y="320040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areful!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Order matters in a rati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4 to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Is NOT the same 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6 to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4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mic Sans MS"/>
              </a:rPr>
              <a:t>Write the ratio of sandwiches to coke bottles 3 different ways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:8 , 6 to 8, and 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5562720" y="137160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914400" y="37339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990720" y="3733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nce a fraction can be simplified, We can simplify the ratio 6/8 to 3/4.  The ratio of sandwiches to coke bottles can also be expressed as 3 : 4 or 3 to 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685800" y="480060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ther words, ratios can be simplified to form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equival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atio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32" descr="sandwhich_lunch">
            <a:hlinkClick r:id="rId1"/>
          </p:cNvPr>
          <p:cNvPicPr/>
          <p:nvPr/>
        </p:nvPicPr>
        <p:blipFill>
          <a:blip r:embed="rId2"/>
          <a:stretch/>
        </p:blipFill>
        <p:spPr>
          <a:xfrm rot="5663400">
            <a:off x="2562480" y="13989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3" descr="sandwhich_lunch">
            <a:hlinkClick r:id="rId3"/>
          </p:cNvPr>
          <p:cNvPicPr/>
          <p:nvPr/>
        </p:nvPicPr>
        <p:blipFill>
          <a:blip r:embed="rId4"/>
          <a:stretch/>
        </p:blipFill>
        <p:spPr>
          <a:xfrm rot="5663400">
            <a:off x="962640" y="1323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4" descr="sandwhich_lunch">
            <a:hlinkClick r:id="rId5"/>
          </p:cNvPr>
          <p:cNvPicPr/>
          <p:nvPr/>
        </p:nvPicPr>
        <p:blipFill>
          <a:blip r:embed="rId6"/>
          <a:stretch/>
        </p:blipFill>
        <p:spPr>
          <a:xfrm rot="5663400">
            <a:off x="416304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sandwhich_lunch">
            <a:hlinkClick r:id="rId7"/>
          </p:cNvPr>
          <p:cNvPicPr/>
          <p:nvPr/>
        </p:nvPicPr>
        <p:blipFill>
          <a:blip r:embed="rId8"/>
          <a:stretch/>
        </p:blipFill>
        <p:spPr>
          <a:xfrm rot="5663400">
            <a:off x="5839560" y="15516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cok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0552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1" descr="cok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137160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2" descr="cok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924680" y="15238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3" descr="cok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429000" y="1676520"/>
            <a:ext cx="647640" cy="96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4" descr="cok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5" descr="cok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391520" y="1523880"/>
            <a:ext cx="647640" cy="962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sandwhich_lunch">
            <a:hlinkClick r:id="rId21"/>
          </p:cNvPr>
          <p:cNvPicPr/>
          <p:nvPr/>
        </p:nvPicPr>
        <p:blipFill>
          <a:blip r:embed="rId22"/>
          <a:stretch/>
        </p:blipFill>
        <p:spPr>
          <a:xfrm rot="5663400">
            <a:off x="1114920" y="2313360"/>
            <a:ext cx="912960" cy="1162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7" descr="sandwhich_lunch">
            <a:hlinkClick r:id="rId23"/>
          </p:cNvPr>
          <p:cNvPicPr/>
          <p:nvPr/>
        </p:nvPicPr>
        <p:blipFill>
          <a:blip r:embed="rId24"/>
          <a:stretch/>
        </p:blipFill>
        <p:spPr>
          <a:xfrm rot="5663400">
            <a:off x="2410560" y="2466000"/>
            <a:ext cx="912600" cy="1162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cok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495680" y="2438280"/>
            <a:ext cx="648000" cy="962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0" descr="coke"/>
          <p:cNvPicPr/>
          <p:nvPr/>
        </p:nvPicPr>
        <p:blipFill>
          <a:blip r:embed="rId27"/>
          <a:stretch/>
        </p:blipFill>
        <p:spPr>
          <a:xfrm>
            <a:off x="3809880" y="2666880"/>
            <a:ext cx="648000" cy="9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Comic Sans MS"/>
              </a:rPr>
              <a:t>Equivalent Rati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ify the following rat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to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 to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33520" y="3429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38080" y="3429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Write the ratio as a fra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Simplify the fraction (Fin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atest common factor (GC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both numbers and divide the numerator and denominator by the GCF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 – Write the equivalent ratio in the same form as the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514600" y="1676520"/>
            <a:ext cx="2362320" cy="0"/>
          </a:xfrm>
          <a:prstGeom prst="line">
            <a:avLst/>
          </a:prstGeom>
          <a:ln w="604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257800" y="152388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65000"/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 4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1       = 1 to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 8 /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943600" y="190512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51814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781680" y="1905120"/>
            <a:ext cx="609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181480" y="2590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CF =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696080" y="1447920"/>
            <a:ext cx="914400" cy="457200"/>
          </a:xfrm>
          <a:prstGeom prst="rect">
            <a:avLst/>
          </a:prstGeom>
          <a:noFill/>
          <a:ln w="442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3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0:33:06Z</dcterms:created>
  <dc:creator>buffena</dc:creator>
  <dc:description/>
  <dc:language>en-US</dc:language>
  <cp:lastModifiedBy>RomaK</cp:lastModifiedBy>
  <dcterms:modified xsi:type="dcterms:W3CDTF">2015-09-04T09:19:27Z</dcterms:modified>
  <cp:revision>36</cp:revision>
  <dc:subject/>
  <dc:title>DO NOW (not later):</dc:title>
</cp:coreProperties>
</file>