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whoosh.wav" ContentType="audio/x-wav"/>
  <Override PartName="/ppt/media/image8.jpeg" ContentType="image/jpeg"/>
  <Override PartName="/ppt/media/image10.jpeg" ContentType="image/jpeg"/>
  <Override PartName="/ppt/media/image9.jpeg" ContentType="image/jpeg"/>
  <Override PartName="/ppt/media/chimes.wav" ContentType="audio/x-wav"/>
  <Override PartName="/ppt/media/image6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hammer.wav" ContentType="audio/x-wav"/>
  <Override PartName="/ppt/media/click.wav" ContentType="audio/x-wav"/>
  <Override PartName="/ppt/media/arrow.wav" ContentType="audio/x-wav"/>
  <Override PartName="/ppt/media/image4.jpeg" ContentType="image/jpeg"/>
  <Override PartName="/ppt/media/type.wav" ContentType="audio/x-wav"/>
  <Override PartName="/ppt/media/image5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5375D-CE92-495A-A7B4-3F21F2E80BD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NOW (not later)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re the number of boys to girls in the clas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NOW (not later)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re the number of boys to girls in the cla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uivalent Ratios can be formed by multiplying the ratio by any number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xample, the ratio 2 : 3 can also be written as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: 6 (multiply original ratio by by 2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: 9 (multiply original ratio by by 3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: 12 (multiply original ratio by by 4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atio 2 : 3 can be expressed as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x to 3x (multiply the original ratio by any  number x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uivalent Ratios can be formed by multiplying the ratio by any numb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xample, the ratio 2 : 3 can also be written a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: 6 (multiply original ratio by by 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: 9 (multiply original ratio by by 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: 12 (multiply original ratio by by 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atio 2 : 3 can be expressed a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x to 3x (multiply the original ratio by any  number 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und Ratio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ratio that compares more than 2 quantities is called a compound ratio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ake recipe says the ratio of cups of milk, sugar, and batter are 1:2:4.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means that there is one cup of milk for every two cups of sugar and four cups of batter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und Ratio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ratio that compares more than 2 quantities is called a compound rati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ake recipe says the ratio of cups of milk, sugar, and batter are 1:2:4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means that there is one cup of milk for every two cups of sugar and four cups of bat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ag contains 18 yellow, blue, and red marbles. The ratio of yellow to blue to red marbles is 4 : 2 : 3.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the ratio of yellow to blue marbles in simplest form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ratio of yellow to red marbles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any yellow marbles are there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: 2 can be simplified to 2 : 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: 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llow : Blue : Red  is  4 : 2 : 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ce any multiple of this is an equivalent ratio, this can also be written as 4x : 2x: 3x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4x = yellow, 2x = blue , 3x = re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x + 2x+ 3x = 18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x = 18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= 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ce the question asks for yellow marbles,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4x or 4 (2) = 8 yellow marble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ag contains 18 yellow, blue, and red marbles. The ratio of yellow to blue to red marbles is 4 : 2 : 3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the ratio of yellow to blue marbles in simplest for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ratio of yellow to red marbl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any yellow marbles are ther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: 2 can be simplified to 2 :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: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llow : Blue : Red  is  4 : 2 :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ce any multiple of this is an equivalent ratio, this can also be written as 4x : 2x: 3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4x = yellow, 2x = blue , 3x = 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x + 2x+ 3x = 18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x =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=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ce the question asks for yellow marbles,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4x or 4 (2) = 8 yellow marb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actice problem # 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You have 100 different shirts.  The ratio of blue to black shirts is  20  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Write the ratio of blue to black shirts 3 different way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 Write the ratio in simplest form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) Explain what this ratio tells u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) How many black shirts do you have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actice problem #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You have 100 different shirts.  The ratio of blue to black shirts is  20 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Write the ratio of blue to black shirts 3 different 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 Write the ratio in simplest for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) Explain what this ratio tells 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) How many black shirts do you hav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ion  - # 1                         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have 100 different shirts.  The ratio of blue to black shirts is 20 / 30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Write the ratio of blue to black shirts 3 different way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 to 30 ,   20 : 30,    2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 Write the ratio in simplest form.  2     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) Explain what this ratio tells us.  For every two blue shirts, there are 3 black shirt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) How many black shirts do you have?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x + 3x = 10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x = 10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 = 2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2x black shirts  so 2 (20)  = 40 black shirt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ion  - # 1                         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have 100 different shirts.  The ratio of blue to black shirts is 20 / 3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Write the ratio of blue to black shirts 3 different 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 to 30 ,   20 : 30,   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 Write the ratio in simplest form.  2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) Explain what this ratio tells us.  For every two blue shirts, there are 3 black shir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) How many black shirts do you have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x + 3x =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x =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 =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2x black shirts  so 2 (20)  = 40 black shir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actice Word Problem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go to a party where the ratio of boys to girls is 28 to 56.  Express the ratio of boys to girls in simplest form.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what this ratio tells u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8 / 56 = 1 / 2 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atio of boys to girls is 1 to 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For every 1 boy there are 2 girls at the party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actice Word Probl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go to a party where the ratio of boys to girls is 28 to 56.  Express the ratio of boys to girls in simplest form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what this ratio tells 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8 / 56 = 1 / 2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atio of boys to girls is 1 to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For every 1 boy there are 2 girls at the par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actice Word Problems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ndy has 72 candy bars.  If the ratio of Mars to Snickers is 8:4,  Find the number of each type of candy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what this ratio tell u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actice Word Problem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ndy has 72 candy bars.  If the ratio of Mars to Snickers is 8:4,  Find the number of each type of cand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what this ratio tell 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llenge Ques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erimeter of a rectangle is 500 feet.  The ratio of the base and height is 3:2.  What is the measure of the height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llenge Ques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erimeter of a rectangle is 500 feet.  The ratio of the base and height is 3:2.  What is the measure of the heigh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mber of boys =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mber of girls =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we compare boys to girls we get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 boys to _____ girl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mber of boys 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mber of girls 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we compare boys to girls we ge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 boys to _____ gir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we call a comparison between two or more quantities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IO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just found the RATIO of boys to girls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ratio of girls to boys the same 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, when writing a ratio, ORDER matter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we call a comparison between two or more quantiti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just found the RATIO of boys to girl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ratio of girls to boys the same 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, when writing a ratio, ORDER matt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M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a ratio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a rati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’s Friday night and your friends are having a party……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atio of girls to guys is 2 to 12.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uld you want to attend the party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’s Friday night and your friends are having a party……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atio of girls to guys is 2 to 12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uld you want to attend the part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any basketballs to footballs are there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very 4 basketballs there are 6 football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atio is 4 to 6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any basketballs to footballs are ther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very 4 basketballs there are 6 footba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atio is 4 to 6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re some other ways we can write the ratio of basketball to footballs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to 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: 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quantity to Second quantit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quantity : Second quantit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quantity divided by the second quantity (as a fraction)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 ratio can be written in 3 ways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eful!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der matters in a ratio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to 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NOT the same a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to 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re some other ways we can write the ratio of basketball to football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to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: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quantity to Second quant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quantity : Second quant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quantity divided by the second quantity (as a fraction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 ratio can be written in 3 way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eful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der matters in a ratio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to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NOT the same 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to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the ratio of sandwiches to coke bottles 3 different way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:8 , 6 to 8, and   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ce a fraction can be simplified, We can simplify the ratio 6/8 to 3/4.  The ratio of sandwiches to coke bottles can also be expressed as 3 : 4 or 3 to 4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other words, ratios can be simplified to form equivalent ratio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the ratio of sandwiches to coke bottles 3 different 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:8 , 6 to 8, and  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ce a fraction can be simplified, We can simplify the ratio 6/8 to 3/4.  The ratio of sandwiches to coke bottles can also be expressed as 3 : 4 or 3 to 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other words, ratios can be simplified to form equivalent ratio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uivalent Ratio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plify the following ratios: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to 8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to 8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to 1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1 – Write the ratio as a frac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2 – Simplify the fraction (Find the greatest common factor (GCF) of both numbers and divide the numerator and denominator by the GCF)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3 – Write the equivalent ratio in the same form as the ques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  4 / 4     = 1       = 1 to 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        8 / 4        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CF = 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uivalent Rati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plify the following ratio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to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to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to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1 – Write the ratio as a fr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2 – Simplify the fraction (Find the greatest common factor (GCF) of both numbers and divide the numerator and denominator by the GCF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3 – Write the equivalent ratio in the same form as the ques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  4 / 4     = 1       = 1 to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        8 / 4       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CF =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569FF-F8AA-4256-A2AB-A3B1D5649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10265-4E30-443E-BC62-7A697221A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975F0-28B3-4D29-BA23-355EF4FD2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3502E-8EF4-4ED2-8134-4E9EF8C19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7E7C1-7DC9-4BD1-ABD9-7DF3B7414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033C4-1EE8-489E-86AC-B92B249C4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98A73-1810-48BB-A002-A11E5FCE4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022B6-44D9-4893-826F-204452226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3E382-E43E-4CC7-A1F1-AE1244CA9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E7519-C0CE-491A-BA5A-BAA92E311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FEC04-3CBE-40F8-A58C-A45DF4DA6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68387-5B15-4B1A-8684-3A0AB6056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2CD55-39F5-4CE5-9D21-A1991C2A6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C9365-AC58-4A07-B1D8-9D9DC5F44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73EA0-BEB8-463B-8B15-44C9BE3B6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00761-F380-4745-8919-61C039103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D3368-63CB-41CF-97DE-F44C8D364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ADD4E-1A85-418D-A387-5AD7B0A5E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886B0-FFA1-4570-A978-69C1665B9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D5B3B-DAE1-4442-8CAA-EEBAC43F6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0D0B7-E12C-434D-8923-FBB7C48BF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FAF40-8F36-4721-B407-9149BCAD5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4C294-1FAD-4460-A932-2AD1E5512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EA0E6-E45C-4342-A669-B189E8826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19EB9-7C6A-4DE1-B704-CB53761E055E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C5C64-22E9-49DF-AEE0-6D081CA11D01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pba-na.com/images/bathroom_acessories/77dwg_sm.gif&amp;imgrefurl=http://www.pba-na.com/bathroom/77.shtml&amp;h=250&amp;w=190&amp;sz=4&amp;tbnid=OgACVEX_L_9RVM:&amp;tbnh=106&amp;tbnw=80&amp;hl=en&amp;start=4&amp;prev=/images%3Fq%3Dbathroom%2Bsymbol%2Bmen%26svnum%3D10%26hl%3Den%26lr%3D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images.google.com/imgres?imgurl=http://www.aiga.org/Resources/SymbolSigns/gif_large/13_toiletsq_women_inv.gif&amp;imgrefurl=http://www.aiga.org/content.cfm%3FContentAlias%3Dsymbolsigns&amp;h=613&amp;w=613&amp;sz=8&amp;tbnid=QagpGr2_zz4ZMM:&amp;tbnh=134&amp;tbnw=134&amp;hl=en&amp;start=4&amp;prev=/images%3Fq%3Dsymbol%2Bwomen%26svnum%3D10%26hl%3Den%26lr%3D" TargetMode="External"/><Relationship Id="rId4" Type="http://schemas.openxmlformats.org/officeDocument/2006/relationships/image" Target="../media/image2.jpeg"/><Relationship Id="rId5" Type="http://schemas.openxmlformats.org/officeDocument/2006/relationships/audio" Target="../media/hammer.wav"/><Relationship Id="rId6" Type="http://schemas.openxmlformats.org/officeDocument/2006/relationships/audio" Target="../media/arrow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madlantern.com/clipart/clips/bdayparty/partyhat1.gif&amp;imgrefurl=http://www.madlantern.com/clipart/Party.htm&amp;h=150&amp;w=142&amp;sz=8&amp;tbnid=YVI1nlna4yntPM:&amp;tbnh=90&amp;tbnw=85&amp;hl=en&amp;start=2&amp;prev=/images%3Fq%3Dparty%2Bhat%26svnum%3D10%26hl%3Den%26lr%3D" TargetMode="External"/><Relationship Id="rId2" Type="http://schemas.openxmlformats.org/officeDocument/2006/relationships/image" Target="../media/image4.jpeg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grace-collection.com/images/football.JPG&amp;imgrefurl=http://www.grace-collection.com/sports-patterns.html&amp;h=216&amp;w=360&amp;sz=48&amp;tbnid=8OKOrfNjNUe7aM:&amp;tbnh=70&amp;tbnw=117&amp;hl=en&amp;start=4&amp;prev=/images%3Fq%3Dfootball%26svnum%3D10%26hl%3Den%26lr%3D%26sa%3DN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images.google.com/imgres?imgurl=http://www.grace-collection.com/images/football.JPG&amp;imgrefurl=http://www.grace-collection.com/sports-patterns.html&amp;h=216&amp;w=360&amp;sz=48&amp;tbnid=8OKOrfNjNUe7aM:&amp;tbnh=70&amp;tbnw=117&amp;hl=en&amp;start=4&amp;prev=/images%3Fq%3Dfootball%26svnum%3D10%26hl%3Den%26lr%3D%26sa%3DN" TargetMode="External"/><Relationship Id="rId4" Type="http://schemas.openxmlformats.org/officeDocument/2006/relationships/image" Target="../media/image5.jpeg"/><Relationship Id="rId5" Type="http://schemas.openxmlformats.org/officeDocument/2006/relationships/hyperlink" Target="http://images.google.com/imgres?imgurl=http://www.grace-collection.com/images/football.JPG&amp;imgrefurl=http://www.grace-collection.com/sports-patterns.html&amp;h=216&amp;w=360&amp;sz=48&amp;tbnid=8OKOrfNjNUe7aM:&amp;tbnh=70&amp;tbnw=117&amp;hl=en&amp;start=4&amp;prev=/images%3Fq%3Dfootball%26svnum%3D10%26hl%3Den%26lr%3D%26sa%3DN" TargetMode="External"/><Relationship Id="rId6" Type="http://schemas.openxmlformats.org/officeDocument/2006/relationships/image" Target="../media/image5.jpeg"/><Relationship Id="rId7" Type="http://schemas.openxmlformats.org/officeDocument/2006/relationships/hyperlink" Target="http://images.google.com/imgres?imgurl=http://www.grace-collection.com/images/football.JPG&amp;imgrefurl=http://www.grace-collection.com/sports-patterns.html&amp;h=216&amp;w=360&amp;sz=48&amp;tbnid=8OKOrfNjNUe7aM:&amp;tbnh=70&amp;tbnw=117&amp;hl=en&amp;start=4&amp;prev=/images%3Fq%3Dfootball%26svnum%3D10%26hl%3Den%26lr%3D%26sa%3DN" TargetMode="External"/><Relationship Id="rId8" Type="http://schemas.openxmlformats.org/officeDocument/2006/relationships/image" Target="../media/image5.jpeg"/><Relationship Id="rId9" Type="http://schemas.openxmlformats.org/officeDocument/2006/relationships/hyperlink" Target="http://images.google.com/imgres?imgurl=http://www.grace-collection.com/images/football.JPG&amp;imgrefurl=http://www.grace-collection.com/sports-patterns.html&amp;h=216&amp;w=360&amp;sz=48&amp;tbnid=8OKOrfNjNUe7aM:&amp;tbnh=70&amp;tbnw=117&amp;hl=en&amp;start=4&amp;prev=/images%3Fq%3Dfootball%26svnum%3D10%26hl%3Den%26lr%3D%26sa%3DN" TargetMode="External"/><Relationship Id="rId10" Type="http://schemas.openxmlformats.org/officeDocument/2006/relationships/image" Target="../media/image5.jpeg"/><Relationship Id="rId11" Type="http://schemas.openxmlformats.org/officeDocument/2006/relationships/hyperlink" Target="http://images.google.com/imgres?imgurl=http://www.grace-collection.com/images/football.JPG&amp;imgrefurl=http://www.grace-collection.com/sports-patterns.html&amp;h=216&amp;w=360&amp;sz=48&amp;tbnid=8OKOrfNjNUe7aM:&amp;tbnh=70&amp;tbnw=117&amp;hl=en&amp;start=4&amp;prev=/images%3Fq%3Dfootball%26svnum%3D10%26hl%3Den%26lr%3D%26sa%3DN" TargetMode="External"/><Relationship Id="rId12" Type="http://schemas.openxmlformats.org/officeDocument/2006/relationships/image" Target="../media/image5.jpeg"/><Relationship Id="rId13" Type="http://schemas.openxmlformats.org/officeDocument/2006/relationships/hyperlink" Target="http://images.google.com/imgres?imgurl=http://www.grace-collection.com/images/basketball.JPG&amp;imgrefurl=http://www.grace-collection.com/sports-patterns.html&amp;h=337&amp;w=360&amp;sz=62&amp;tbnid=ujXFXrLqxBwKnM:&amp;tbnh=109&amp;tbnw=117&amp;hl=en&amp;start=1&amp;prev=/images%3Fq%3Dbasketball%26svnum%3D10%26hl%3Den%26lr%3D" TargetMode="External"/><Relationship Id="rId14" Type="http://schemas.openxmlformats.org/officeDocument/2006/relationships/image" Target="../media/image6.jpeg"/><Relationship Id="rId15" Type="http://schemas.openxmlformats.org/officeDocument/2006/relationships/hyperlink" Target="http://images.google.com/imgres?imgurl=http://www.grace-collection.com/images/basketball.JPG&amp;imgrefurl=http://www.grace-collection.com/sports-patterns.html&amp;h=337&amp;w=360&amp;sz=62&amp;tbnid=ujXFXrLqxBwKnM:&amp;tbnh=109&amp;tbnw=117&amp;hl=en&amp;start=1&amp;prev=/images%3Fq%3Dbasketball%26svnum%3D10%26hl%3Den%26lr%3D" TargetMode="External"/><Relationship Id="rId16" Type="http://schemas.openxmlformats.org/officeDocument/2006/relationships/image" Target="../media/image6.jpeg"/><Relationship Id="rId17" Type="http://schemas.openxmlformats.org/officeDocument/2006/relationships/hyperlink" Target="http://images.google.com/imgres?imgurl=http://www.grace-collection.com/images/basketball.JPG&amp;imgrefurl=http://www.grace-collection.com/sports-patterns.html&amp;h=337&amp;w=360&amp;sz=62&amp;tbnid=ujXFXrLqxBwKnM:&amp;tbnh=109&amp;tbnw=117&amp;hl=en&amp;start=1&amp;prev=/images%3Fq%3Dbasketball%26svnum%3D10%26hl%3Den%26lr%3D" TargetMode="External"/><Relationship Id="rId18" Type="http://schemas.openxmlformats.org/officeDocument/2006/relationships/image" Target="../media/image6.jpeg"/><Relationship Id="rId19" Type="http://schemas.openxmlformats.org/officeDocument/2006/relationships/hyperlink" Target="http://images.google.com/imgres?imgurl=http://www.grace-collection.com/images/basketball.JPG&amp;imgrefurl=http://www.grace-collection.com/sports-patterns.html&amp;h=337&amp;w=360&amp;sz=62&amp;tbnid=ujXFXrLqxBwKnM:&amp;tbnh=109&amp;tbnw=117&amp;hl=en&amp;start=1&amp;prev=/images%3Fq%3Dbasketball%26svnum%3D10%26hl%3Den%26lr%3D" TargetMode="External"/><Relationship Id="rId20" Type="http://schemas.openxmlformats.org/officeDocument/2006/relationships/image" Target="../media/image6.jpeg"/><Relationship Id="rId21" Type="http://schemas.openxmlformats.org/officeDocument/2006/relationships/audio" Target="../media/click.wav"/><Relationship Id="rId22" Type="http://schemas.openxmlformats.org/officeDocument/2006/relationships/audio" Target="../media/click.wav"/><Relationship Id="rId23" Type="http://schemas.openxmlformats.org/officeDocument/2006/relationships/audio" Target="../media/click.wav"/><Relationship Id="rId24" Type="http://schemas.openxmlformats.org/officeDocument/2006/relationships/audio" Target="../media/click.wav"/><Relationship Id="rId25" Type="http://schemas.openxmlformats.org/officeDocument/2006/relationships/slideLayout" Target="../slideLayouts/slideLayout1.xml"/><Relationship Id="rId2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grace-collection.com/images/basketball.JPG&amp;imgrefurl=http://www.grace-collection.com/sports-patterns.html&amp;h=337&amp;w=360&amp;sz=62&amp;tbnid=ujXFXrLqxBwKnM:&amp;tbnh=109&amp;tbnw=117&amp;hl=en&amp;start=1&amp;prev=/images%3Fq%3Dbasketball%26svnum%3D10%26hl%3Den%26lr%3D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harborhaven.com/Admin/sandwhich_lunch.jpg&amp;imgrefurl=http://www.harborhaven.com/Admin/body_admin.html&amp;h=196&amp;w=155&amp;sz=8&amp;tbnid=_OHaBsGL63gPFM:&amp;tbnh=98&amp;tbnw=77&amp;hl=en&amp;start=11&amp;prev=/images%3Fq%3Dsandwhich%26svnum%3D10%26hl%3Den%26lr%3D%26sa%3DN" TargetMode="External"/><Relationship Id="rId2" Type="http://schemas.openxmlformats.org/officeDocument/2006/relationships/image" Target="../media/image7.jpeg"/><Relationship Id="rId3" Type="http://schemas.openxmlformats.org/officeDocument/2006/relationships/hyperlink" Target="http://images.google.com/imgres?imgurl=http://www.harborhaven.com/Admin/sandwhich_lunch.jpg&amp;imgrefurl=http://www.harborhaven.com/Admin/body_admin.html&amp;h=196&amp;w=155&amp;sz=8&amp;tbnid=_OHaBsGL63gPFM:&amp;tbnh=98&amp;tbnw=77&amp;hl=en&amp;start=11&amp;prev=/images%3Fq%3Dsandwhich%26svnum%3D10%26hl%3Den%26lr%3D%26sa%3DN" TargetMode="External"/><Relationship Id="rId4" Type="http://schemas.openxmlformats.org/officeDocument/2006/relationships/image" Target="../media/image7.jpeg"/><Relationship Id="rId5" Type="http://schemas.openxmlformats.org/officeDocument/2006/relationships/hyperlink" Target="http://images.google.com/imgres?imgurl=http://www.harborhaven.com/Admin/sandwhich_lunch.jpg&amp;imgrefurl=http://www.harborhaven.com/Admin/body_admin.html&amp;h=196&amp;w=155&amp;sz=8&amp;tbnid=_OHaBsGL63gPFM:&amp;tbnh=98&amp;tbnw=77&amp;hl=en&amp;start=11&amp;prev=/images%3Fq%3Dsandwhich%26svnum%3D10%26hl%3Den%26lr%3D%26sa%3DN" TargetMode="External"/><Relationship Id="rId6" Type="http://schemas.openxmlformats.org/officeDocument/2006/relationships/image" Target="../media/image7.jpeg"/><Relationship Id="rId7" Type="http://schemas.openxmlformats.org/officeDocument/2006/relationships/hyperlink" Target="http://images.google.com/imgres?imgurl=http://www.harborhaven.com/Admin/sandwhich_lunch.jpg&amp;imgrefurl=http://www.harborhaven.com/Admin/body_admin.html&amp;h=196&amp;w=155&amp;sz=8&amp;tbnid=_OHaBsGL63gPFM:&amp;tbnh=98&amp;tbnw=77&amp;hl=en&amp;start=11&amp;prev=/images%3Fq%3Dsandwhich%26svnum%3D10%26hl%3Den%26lr%3D%26sa%3DN" TargetMode="External"/><Relationship Id="rId8" Type="http://schemas.openxmlformats.org/officeDocument/2006/relationships/image" Target="../media/image7.jpeg"/><Relationship Id="rId9" Type="http://schemas.openxmlformats.org/officeDocument/2006/relationships/hyperlink" Target="http://images.google.com/imgres?imgurl=http://images.scripting.com/archiveScriptingCom/2005/05/23/coke.jpg&amp;imgrefurl=http://archive.scripting.com/dir/davesWorld/weblogarchive/2005/may&amp;h=215&amp;w=146&amp;sz=6&amp;tbnid=Ngnsx4-UHE5KFM:&amp;tbnh=101&amp;tbnw=68&amp;hl=en&amp;start=7&amp;prev=/images%3Fq%3Dcoke%26svnum%3D10%26hl%3Den%26lr%3D" TargetMode="External"/><Relationship Id="rId10" Type="http://schemas.openxmlformats.org/officeDocument/2006/relationships/image" Target="../media/image8.jpeg"/><Relationship Id="rId11" Type="http://schemas.openxmlformats.org/officeDocument/2006/relationships/hyperlink" Target="http://images.google.com/imgres?imgurl=http://images.scripting.com/archiveScriptingCom/2005/05/23/coke.jpg&amp;imgrefurl=http://archive.scripting.com/dir/davesWorld/weblogarchive/2005/may&amp;h=215&amp;w=146&amp;sz=6&amp;tbnid=Ngnsx4-UHE5KFM:&amp;tbnh=101&amp;tbnw=68&amp;hl=en&amp;start=7&amp;prev=/images%3Fq%3Dcoke%26svnum%3D10%26hl%3Den%26lr%3D" TargetMode="External"/><Relationship Id="rId12" Type="http://schemas.openxmlformats.org/officeDocument/2006/relationships/image" Target="../media/image8.jpeg"/><Relationship Id="rId13" Type="http://schemas.openxmlformats.org/officeDocument/2006/relationships/hyperlink" Target="http://images.google.com/imgres?imgurl=http://images.scripting.com/archiveScriptingCom/2005/05/23/coke.jpg&amp;imgrefurl=http://archive.scripting.com/dir/davesWorld/weblogarchive/2005/may&amp;h=215&amp;w=146&amp;sz=6&amp;tbnid=Ngnsx4-UHE5KFM:&amp;tbnh=101&amp;tbnw=68&amp;hl=en&amp;start=7&amp;prev=/images%3Fq%3Dcoke%26svnum%3D10%26hl%3Den%26lr%3D" TargetMode="External"/><Relationship Id="rId14" Type="http://schemas.openxmlformats.org/officeDocument/2006/relationships/image" Target="../media/image8.jpeg"/><Relationship Id="rId15" Type="http://schemas.openxmlformats.org/officeDocument/2006/relationships/hyperlink" Target="http://images.google.com/imgres?imgurl=http://images.scripting.com/archiveScriptingCom/2005/05/23/coke.jpg&amp;imgrefurl=http://archive.scripting.com/dir/davesWorld/weblogarchive/2005/may&amp;h=215&amp;w=146&amp;sz=6&amp;tbnid=Ngnsx4-UHE5KFM:&amp;tbnh=101&amp;tbnw=68&amp;hl=en&amp;start=7&amp;prev=/images%3Fq%3Dcoke%26svnum%3D10%26hl%3Den%26lr%3D" TargetMode="External"/><Relationship Id="rId16" Type="http://schemas.openxmlformats.org/officeDocument/2006/relationships/image" Target="../media/image8.jpeg"/><Relationship Id="rId17" Type="http://schemas.openxmlformats.org/officeDocument/2006/relationships/hyperlink" Target="http://images.google.com/imgres?imgurl=http://images.scripting.com/archiveScriptingCom/2005/05/23/coke.jpg&amp;imgrefurl=http://archive.scripting.com/dir/davesWorld/weblogarchive/2005/may&amp;h=215&amp;w=146&amp;sz=6&amp;tbnid=Ngnsx4-UHE5KFM:&amp;tbnh=101&amp;tbnw=68&amp;hl=en&amp;start=7&amp;prev=/images%3Fq%3Dcoke%26svnum%3D10%26hl%3Den%26lr%3D" TargetMode="External"/><Relationship Id="rId18" Type="http://schemas.openxmlformats.org/officeDocument/2006/relationships/image" Target="../media/image8.jpeg"/><Relationship Id="rId19" Type="http://schemas.openxmlformats.org/officeDocument/2006/relationships/hyperlink" Target="http://images.google.com/imgres?imgurl=http://images.scripting.com/archiveScriptingCom/2005/05/23/coke.jpg&amp;imgrefurl=http://archive.scripting.com/dir/davesWorld/weblogarchive/2005/may&amp;h=215&amp;w=146&amp;sz=6&amp;tbnid=Ngnsx4-UHE5KFM:&amp;tbnh=101&amp;tbnw=68&amp;hl=en&amp;start=7&amp;prev=/images%3Fq%3Dcoke%26svnum%3D10%26hl%3Den%26lr%3D" TargetMode="External"/><Relationship Id="rId20" Type="http://schemas.openxmlformats.org/officeDocument/2006/relationships/image" Target="../media/image8.jpeg"/><Relationship Id="rId21" Type="http://schemas.openxmlformats.org/officeDocument/2006/relationships/hyperlink" Target="http://images.google.com/imgres?imgurl=http://www.harborhaven.com/Admin/sandwhich_lunch.jpg&amp;imgrefurl=http://www.harborhaven.com/Admin/body_admin.html&amp;h=196&amp;w=155&amp;sz=8&amp;tbnid=_OHaBsGL63gPFM:&amp;tbnh=98&amp;tbnw=77&amp;hl=en&amp;start=11&amp;prev=/images%3Fq%3Dsandwhich%26svnum%3D10%26hl%3Den%26lr%3D%26sa%3DN" TargetMode="External"/><Relationship Id="rId22" Type="http://schemas.openxmlformats.org/officeDocument/2006/relationships/image" Target="../media/image7.jpeg"/><Relationship Id="rId23" Type="http://schemas.openxmlformats.org/officeDocument/2006/relationships/hyperlink" Target="http://images.google.com/imgres?imgurl=http://www.harborhaven.com/Admin/sandwhich_lunch.jpg&amp;imgrefurl=http://www.harborhaven.com/Admin/body_admin.html&amp;h=196&amp;w=155&amp;sz=8&amp;tbnid=_OHaBsGL63gPFM:&amp;tbnh=98&amp;tbnw=77&amp;hl=en&amp;start=11&amp;prev=/images%3Fq%3Dsandwhich%26svnum%3D10%26hl%3Den%26lr%3D%26sa%3DN" TargetMode="External"/><Relationship Id="rId24" Type="http://schemas.openxmlformats.org/officeDocument/2006/relationships/image" Target="../media/image7.jpeg"/><Relationship Id="rId25" Type="http://schemas.openxmlformats.org/officeDocument/2006/relationships/hyperlink" Target="http://images.google.com/imgres?imgurl=http://images.scripting.com/archiveScriptingCom/2005/05/23/coke.jpg&amp;imgrefurl=http://archive.scripting.com/dir/davesWorld/weblogarchive/2005/may&amp;h=215&amp;w=146&amp;sz=6&amp;tbnid=Ngnsx4-UHE5KFM:&amp;tbnh=101&amp;tbnw=68&amp;hl=en&amp;start=7&amp;prev=/images%3Fq%3Dcoke%26svnum%3D10%26hl%3Den%26lr%3D" TargetMode="External"/><Relationship Id="rId26" Type="http://schemas.openxmlformats.org/officeDocument/2006/relationships/image" Target="../media/image8.jpeg"/><Relationship Id="rId27" Type="http://schemas.openxmlformats.org/officeDocument/2006/relationships/image" Target="../media/image8.jpeg"/><Relationship Id="rId28" Type="http://schemas.openxmlformats.org/officeDocument/2006/relationships/slideLayout" Target="../slideLayouts/slideLayout1.xml"/><Relationship Id="rId2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	</a:t>
            </a: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DO NOW (not later):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Compare the number of boys to girls in the class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93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0" dur="2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b812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33"/>
                </a:solidFill>
                <a:latin typeface="Comic Sans MS"/>
              </a:rPr>
              <a:t>Equivalent Ratios can be formed by multiplying the ratio by any number.</a:t>
            </a:r>
            <a:endParaRPr b="0" lang="en-US" sz="3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769608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r example, the ratio 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2 : 3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can also be written a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4 : 6 (multiply 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original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ratio by by 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6 : 9 (multiply 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original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ratio by by 3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8 : 12 (multiply 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original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ratio by by 4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4"/>
          <p:cNvSpPr/>
          <p:nvPr/>
        </p:nvSpPr>
        <p:spPr>
          <a:xfrm>
            <a:off x="762120" y="4267080"/>
            <a:ext cx="7696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ratio 2 : 3 can be expressed as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2x to 3x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(multiply the original ratio by any  number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552" dur="indefinite" restart="never" nodeType="tmRoot">
          <p:childTnLst>
            <p:seq>
              <p:cTn id="553" dur="indefinite" nodeType="mainSeq">
                <p:childTnLst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7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8" dur="2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2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2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5" dur="2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6" dur="2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2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2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2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4" dur="20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20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20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1" dur="20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2" dur="20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20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20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5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3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5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0" dur="5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nodeType="clickEffect" fill="hold">
                      <p:stCondLst>
                        <p:cond delay="indefinite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5" dur="8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6" dur="8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7" dur="8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0" dur="8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1" dur="8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2" dur="8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nodeType="clickEffect" fill="hold">
                      <p:stCondLst>
                        <p:cond delay="indefinite"/>
                      </p:stCondLst>
                      <p:childTnLst>
                        <p:par>
                          <p:cTn id="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62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627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628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629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630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31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animMotion origin="layout" path="M 0 0 L 0 -0.07213 E">
                                      <p:cBhvr>
                                        <p:cTn id="63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633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634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635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636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cdec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Compound Ratios</a:t>
            </a: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	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33"/>
                </a:solidFill>
                <a:latin typeface="Arial"/>
              </a:rPr>
              <a:t>A ratio that compares more than 2 quantities is called a </a:t>
            </a:r>
            <a:r>
              <a:rPr b="0" lang="en-US" sz="3000" spc="-1" strike="noStrike">
                <a:solidFill>
                  <a:srgbClr val="ff3399"/>
                </a:solidFill>
                <a:latin typeface="Arial"/>
              </a:rPr>
              <a:t>compound</a:t>
            </a:r>
            <a:r>
              <a:rPr b="0" lang="en-US" sz="3000" spc="-1" strike="noStrike">
                <a:solidFill>
                  <a:srgbClr val="006633"/>
                </a:solidFill>
                <a:latin typeface="Arial"/>
              </a:rPr>
              <a:t> ratio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33"/>
                </a:solidFill>
                <a:latin typeface="Arial"/>
              </a:rPr>
              <a:t>Example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6633"/>
                </a:solidFill>
                <a:latin typeface="Arial"/>
              </a:rPr>
              <a:t>A cake recipe says the ratio of cups of </a:t>
            </a:r>
            <a:r>
              <a:rPr b="0" lang="en-US" sz="2600" spc="-1" strike="noStrike">
                <a:solidFill>
                  <a:srgbClr val="5e2908"/>
                </a:solidFill>
                <a:latin typeface="Arial"/>
              </a:rPr>
              <a:t>milk</a:t>
            </a:r>
            <a:r>
              <a:rPr b="0" lang="en-US" sz="2600" spc="-1" strike="noStrike">
                <a:solidFill>
                  <a:srgbClr val="006633"/>
                </a:solidFill>
                <a:latin typeface="Arial"/>
              </a:rPr>
              <a:t>, </a:t>
            </a:r>
            <a:r>
              <a:rPr b="0" lang="en-US" sz="2600" spc="-1" strike="noStrike">
                <a:solidFill>
                  <a:srgbClr val="f11717"/>
                </a:solidFill>
                <a:latin typeface="Arial"/>
              </a:rPr>
              <a:t>sugar</a:t>
            </a:r>
            <a:r>
              <a:rPr b="0" lang="en-US" sz="2600" spc="-1" strike="noStrike">
                <a:solidFill>
                  <a:srgbClr val="006633"/>
                </a:solidFill>
                <a:latin typeface="Arial"/>
              </a:rPr>
              <a:t>, and batter are </a:t>
            </a:r>
            <a:r>
              <a:rPr b="0" lang="en-US" sz="2600" spc="-1" strike="noStrike">
                <a:solidFill>
                  <a:srgbClr val="5e2908"/>
                </a:solidFill>
                <a:latin typeface="Arial"/>
              </a:rPr>
              <a:t>1</a:t>
            </a:r>
            <a:r>
              <a:rPr b="0" lang="en-US" sz="2600" spc="-1" strike="noStrike">
                <a:solidFill>
                  <a:srgbClr val="006633"/>
                </a:solidFill>
                <a:latin typeface="Arial"/>
              </a:rPr>
              <a:t>:</a:t>
            </a:r>
            <a:r>
              <a:rPr b="0" lang="en-US" sz="2600" spc="-1" strike="noStrike">
                <a:solidFill>
                  <a:srgbClr val="f11717"/>
                </a:solidFill>
                <a:latin typeface="Arial"/>
              </a:rPr>
              <a:t>2</a:t>
            </a:r>
            <a:r>
              <a:rPr b="0" lang="en-US" sz="2600" spc="-1" strike="noStrike">
                <a:solidFill>
                  <a:srgbClr val="006633"/>
                </a:solidFill>
                <a:latin typeface="Arial"/>
              </a:rPr>
              <a:t>:</a:t>
            </a:r>
            <a:r>
              <a:rPr b="0" lang="en-US" sz="2600" spc="-1" strike="noStrike">
                <a:solidFill>
                  <a:srgbClr val="0000cc"/>
                </a:solidFill>
                <a:latin typeface="Arial"/>
              </a:rPr>
              <a:t>4</a:t>
            </a:r>
            <a:r>
              <a:rPr b="0" lang="en-US" sz="2600" spc="-1" strike="noStrike">
                <a:solidFill>
                  <a:srgbClr val="006633"/>
                </a:solidFill>
                <a:latin typeface="Arial"/>
              </a:rPr>
              <a:t>.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33"/>
                </a:solidFill>
                <a:latin typeface="Arial"/>
              </a:rPr>
              <a:t>This means that there is </a:t>
            </a:r>
            <a:r>
              <a:rPr b="0" lang="en-US" sz="2400" spc="-1" strike="noStrike">
                <a:solidFill>
                  <a:srgbClr val="5e2908"/>
                </a:solidFill>
                <a:latin typeface="Arial"/>
              </a:rPr>
              <a:t>one cup of milk</a:t>
            </a:r>
            <a:r>
              <a:rPr b="0" lang="en-US" sz="2400" spc="-1" strike="noStrike">
                <a:solidFill>
                  <a:srgbClr val="006633"/>
                </a:solidFill>
                <a:latin typeface="Arial"/>
              </a:rPr>
              <a:t> for every </a:t>
            </a:r>
            <a:r>
              <a:rPr b="0" lang="en-US" sz="2400" spc="-1" strike="noStrike">
                <a:solidFill>
                  <a:srgbClr val="f11717"/>
                </a:solidFill>
                <a:latin typeface="Arial"/>
              </a:rPr>
              <a:t>two cups of sugar</a:t>
            </a:r>
            <a:r>
              <a:rPr b="0" lang="en-US" sz="2400" spc="-1" strike="noStrike">
                <a:solidFill>
                  <a:srgbClr val="006633"/>
                </a:solidFill>
                <a:latin typeface="Arial"/>
              </a:rPr>
              <a:t> and 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 cups of bat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5" descr="baking"/>
          <p:cNvPicPr/>
          <p:nvPr/>
        </p:nvPicPr>
        <p:blipFill>
          <a:blip r:embed="rId1"/>
          <a:stretch/>
        </p:blipFill>
        <p:spPr>
          <a:xfrm>
            <a:off x="3733920" y="4983120"/>
            <a:ext cx="1295280" cy="106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7" dur="indefinite" restart="never" nodeType="tmRoot">
          <p:childTnLst>
            <p:seq>
              <p:cTn id="638" dur="indefinite" nodeType="mainSeq">
                <p:childTnLst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4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nodeType="clickEffect" fill="hold">
                      <p:stCondLst>
                        <p:cond delay="indefinite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51" dur="20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54" dur="20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nodeType="clickEffect" fill="hold">
                      <p:stCondLst>
                        <p:cond delay="indefinite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59" dur="20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33"/>
                </a:solidFill>
                <a:latin typeface="Franklin Gothic Medium"/>
              </a:rPr>
              <a:t>A bag contains 18 yellow, blue, and red marbles. The ratio of </a:t>
            </a:r>
            <a:r>
              <a:rPr b="1" lang="en-US" sz="2800" spc="-1" strike="noStrike">
                <a:solidFill>
                  <a:srgbClr val="afbf39"/>
                </a:solidFill>
                <a:latin typeface="Franklin Gothic Medium"/>
              </a:rPr>
              <a:t>yellow</a:t>
            </a:r>
            <a:r>
              <a:rPr b="1" lang="en-US" sz="2800" spc="-1" strike="noStrike">
                <a:solidFill>
                  <a:srgbClr val="006633"/>
                </a:solidFill>
                <a:latin typeface="Franklin Gothic Medium"/>
              </a:rPr>
              <a:t> to </a:t>
            </a:r>
            <a:r>
              <a:rPr b="1" lang="en-US" sz="2800" spc="-1" strike="noStrike">
                <a:solidFill>
                  <a:srgbClr val="09195d"/>
                </a:solidFill>
                <a:latin typeface="Franklin Gothic Medium"/>
              </a:rPr>
              <a:t>blue</a:t>
            </a:r>
            <a:r>
              <a:rPr b="1" lang="en-US" sz="2800" spc="-1" strike="noStrike">
                <a:solidFill>
                  <a:srgbClr val="006633"/>
                </a:solidFill>
                <a:latin typeface="Franklin Gothic Medium"/>
              </a:rPr>
              <a:t> to </a:t>
            </a:r>
            <a:r>
              <a:rPr b="1" lang="en-US" sz="2800" spc="-1" strike="noStrike">
                <a:solidFill>
                  <a:srgbClr val="ff0000"/>
                </a:solidFill>
                <a:latin typeface="Franklin Gothic Medium"/>
              </a:rPr>
              <a:t>red</a:t>
            </a:r>
            <a:r>
              <a:rPr b="1" lang="en-US" sz="2800" spc="-1" strike="noStrike">
                <a:solidFill>
                  <a:srgbClr val="006633"/>
                </a:solidFill>
                <a:latin typeface="Franklin Gothic Medium"/>
              </a:rPr>
              <a:t> marbles is </a:t>
            </a:r>
            <a:r>
              <a:rPr b="1" lang="en-US" sz="2800" spc="-1" strike="noStrike">
                <a:solidFill>
                  <a:srgbClr val="afbf39"/>
                </a:solidFill>
                <a:latin typeface="Franklin Gothic Medium"/>
              </a:rPr>
              <a:t>4</a:t>
            </a:r>
            <a:r>
              <a:rPr b="1" lang="en-US" sz="2800" spc="-1" strike="noStrike">
                <a:solidFill>
                  <a:srgbClr val="006633"/>
                </a:solidFill>
                <a:latin typeface="Franklin Gothic Medium"/>
              </a:rPr>
              <a:t> : </a:t>
            </a:r>
            <a:r>
              <a:rPr b="1" lang="en-US" sz="2800" spc="-1" strike="noStrike">
                <a:solidFill>
                  <a:srgbClr val="09195d"/>
                </a:solidFill>
                <a:latin typeface="Franklin Gothic Medium"/>
              </a:rPr>
              <a:t>2</a:t>
            </a:r>
            <a:r>
              <a:rPr b="1" lang="en-US" sz="2800" spc="-1" strike="noStrike">
                <a:solidFill>
                  <a:srgbClr val="006633"/>
                </a:solidFill>
                <a:latin typeface="Franklin Gothic Medium"/>
              </a:rPr>
              <a:t> : </a:t>
            </a:r>
            <a:r>
              <a:rPr b="1" lang="en-US" sz="2800" spc="-1" strike="noStrike">
                <a:solidFill>
                  <a:srgbClr val="ff0000"/>
                </a:solidFill>
                <a:latin typeface="Franklin Gothic Medium"/>
              </a:rPr>
              <a:t>3</a:t>
            </a:r>
            <a:r>
              <a:rPr b="1" lang="en-US" sz="2800" spc="-1" strike="noStrike">
                <a:solidFill>
                  <a:srgbClr val="006633"/>
                </a:solidFill>
                <a:latin typeface="Franklin Gothic Medium"/>
              </a:rPr>
              <a:t>.</a:t>
            </a: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 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7543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-49536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rite the ratio of yellow to blue marbles in simplest form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at is the ratio of yellow to red marbles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ow many yellow marbles are there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5" descr="marbles"/>
          <p:cNvPicPr/>
          <p:nvPr/>
        </p:nvPicPr>
        <p:blipFill>
          <a:blip r:embed="rId1"/>
          <a:stretch/>
        </p:blipFill>
        <p:spPr>
          <a:xfrm>
            <a:off x="3886200" y="1295280"/>
            <a:ext cx="990720" cy="586080"/>
          </a:xfrm>
          <a:prstGeom prst="rect">
            <a:avLst/>
          </a:prstGeom>
          <a:ln w="0">
            <a:noFill/>
          </a:ln>
        </p:spPr>
      </p:pic>
      <p:sp>
        <p:nvSpPr>
          <p:cNvPr id="173" name="Text Box 6"/>
          <p:cNvSpPr/>
          <p:nvPr/>
        </p:nvSpPr>
        <p:spPr>
          <a:xfrm>
            <a:off x="3429000" y="243828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4 : 2 can be simplified to 2 : 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Text Box 7"/>
          <p:cNvSpPr/>
          <p:nvPr/>
        </p:nvSpPr>
        <p:spPr>
          <a:xfrm>
            <a:off x="7391520" y="2819520"/>
            <a:ext cx="14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4 : 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Text Box 8"/>
          <p:cNvSpPr/>
          <p:nvPr/>
        </p:nvSpPr>
        <p:spPr>
          <a:xfrm>
            <a:off x="762120" y="2362320"/>
            <a:ext cx="6933960" cy="39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Comic Sans MS"/>
              </a:rPr>
              <a:t>Yellow : Blue : Red  is  4 : 2 : 3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Comic Sans MS"/>
              </a:rPr>
              <a:t>Since any multiple of this is an equivalent ratio, this can also be written as </a:t>
            </a:r>
            <a:r>
              <a:rPr b="1" lang="en-US" sz="2000" spc="-1" strike="noStrike">
                <a:solidFill>
                  <a:srgbClr val="0000cc"/>
                </a:solidFill>
                <a:latin typeface="Comic Sans MS"/>
              </a:rPr>
              <a:t>4x : 2x: 3x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Comic Sans MS"/>
              </a:rPr>
              <a:t>Let 4x = yellow, 2x = blue , 3x = re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Comic Sans MS"/>
              </a:rPr>
              <a:t>4x + 2x+ 3x = 18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Comic Sans MS"/>
              </a:rPr>
              <a:t>9x = 18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X= 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Comic Sans MS"/>
              </a:rPr>
              <a:t>Since the question asks for yellow marbles,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Comic Sans MS"/>
              </a:rPr>
              <a:t>there are 4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1" lang="en-US" sz="2000" spc="-1" strike="noStrike">
                <a:solidFill>
                  <a:srgbClr val="ff3399"/>
                </a:solidFill>
                <a:latin typeface="Comic Sans MS"/>
              </a:rPr>
              <a:t> or 4 (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2000" spc="-1" strike="noStrike">
                <a:solidFill>
                  <a:srgbClr val="ff3399"/>
                </a:solidFill>
                <a:latin typeface="Comic Sans MS"/>
              </a:rPr>
              <a:t>) = 8 yellow marble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0" dur="indefinite" restart="never" nodeType="tmRoot">
          <p:childTnLst>
            <p:seq>
              <p:cTn id="661" dur="indefinite" nodeType="mainSeq">
                <p:childTnLst>
                  <p:par>
                    <p:cTn id="662" nodeType="clickEffect" fill="hold">
                      <p:stCondLst>
                        <p:cond delay="indefinite"/>
                      </p:stCondLst>
                      <p:childTnLst>
                        <p:par>
                          <p:cTn id="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6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nodeType="clickEffect" fill="hold">
                      <p:stCondLst>
                        <p:cond delay="indefinite"/>
                      </p:stCondLst>
                      <p:childTnLst>
                        <p:par>
                          <p:cTn id="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74" dur="2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9" dur="8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0" dur="8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1" dur="8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nodeType="clickEffect" fill="hold">
                      <p:stCondLst>
                        <p:cond delay="indefinite"/>
                      </p:stCondLst>
                      <p:childTnLst>
                        <p:par>
                          <p:cTn id="6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6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0" dur="5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nodeType="clickEffect" fill="hold">
                      <p:stCondLst>
                        <p:cond delay="indefinite"/>
                      </p:stCondLst>
                      <p:childTnLst>
                        <p:par>
                          <p:cTn id="6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0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0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0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0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0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nodeType="clickEffect" fill="hold">
                      <p:stCondLst>
                        <p:cond delay="indefinite"/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8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4" dur="8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8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8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nodeType="clickEffect" fill="hold">
                      <p:stCondLst>
                        <p:cond delay="indefinite"/>
                      </p:stCondLst>
                      <p:childTnLst>
                        <p:par>
                          <p:cTn id="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22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3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26" dur="5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7" dur="5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nodeType="clickEffect" fill="hold">
                      <p:stCondLst>
                        <p:cond delay="indefinite"/>
                      </p:stCondLst>
                      <p:childTnLst>
                        <p:par>
                          <p:cTn id="7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blinds(horizontal)" transition="out">
                                      <p:cBhvr additive="repl">
                                        <p:cTn id="73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4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3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nodeType="clickEffect" fill="hold">
                      <p:stCondLst>
                        <p:cond delay="indefinite"/>
                      </p:stCondLst>
                      <p:childTnLst>
                        <p:par>
                          <p:cTn id="7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3.77053E-007 L -0.0033 -0.21212 E">
                                      <p:cBhvr>
                                        <p:cTn id="740" dur="2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nodeType="clickEffect" fill="hold">
                      <p:stCondLst>
                        <p:cond delay="indefinite"/>
                      </p:stCondLst>
                      <p:childTnLst>
                        <p:par>
                          <p:cTn id="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5" nodeType="with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3" nodeType="with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9" nodeType="with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1" dur="1000" fill="hold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1000" fill="hold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1000" fill="hold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1000" fill="hold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5" nodeType="with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7" dur="1000" fill="hold"/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1000" fill="hold"/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nodeType="clickEffect" fill="hold">
                      <p:stCondLst>
                        <p:cond delay="indefinite"/>
                      </p:stCondLst>
                      <p:childTnLst>
                        <p:par>
                          <p:cTn id="7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79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795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796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797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798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99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80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801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02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03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804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05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80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807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08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09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810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11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81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813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14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15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816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17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81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819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20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21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822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23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82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825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26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27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828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29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83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831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32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33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834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35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83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837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38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39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840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0000"/>
                </a:solidFill>
                <a:latin typeface="Garamond"/>
              </a:rPr>
              <a:t>Practice problem # 1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80880" y="12189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0099"/>
                </a:solidFill>
                <a:latin typeface="Comic Sans MS"/>
              </a:rPr>
              <a:t>(1) You have </a:t>
            </a:r>
            <a:r>
              <a:rPr b="1" lang="en-US" sz="3000" spc="-1" strike="noStrike">
                <a:solidFill>
                  <a:srgbClr val="990099"/>
                </a:solidFill>
                <a:latin typeface="Comic Sans MS"/>
              </a:rPr>
              <a:t>100</a:t>
            </a:r>
            <a:r>
              <a:rPr b="0" lang="en-US" sz="3000" spc="-1" strike="noStrike">
                <a:solidFill>
                  <a:srgbClr val="990099"/>
                </a:solidFill>
                <a:latin typeface="Comic Sans MS"/>
              </a:rPr>
              <a:t> different shirts.  The ratio of blue to black shirts is  20  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0099"/>
                </a:solidFill>
                <a:latin typeface="Comic Sans MS"/>
              </a:rPr>
              <a:t>                                             </a:t>
            </a:r>
            <a:r>
              <a:rPr b="0" lang="en-US" sz="3000" spc="-1" strike="noStrike">
                <a:solidFill>
                  <a:srgbClr val="990099"/>
                </a:solidFill>
                <a:latin typeface="Comic Sans MS"/>
              </a:rPr>
              <a:t>30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0099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990099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990099"/>
                </a:solidFill>
                <a:latin typeface="Comic Sans MS"/>
              </a:rPr>
              <a:t>a) Write the ratio of blue to black shirts 3 different way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0099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990099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990099"/>
                </a:solidFill>
                <a:latin typeface="Comic Sans MS"/>
              </a:rPr>
              <a:t>b) Write the ratio in simplest form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0099"/>
                </a:solidFill>
                <a:latin typeface="Comic Sans MS"/>
              </a:rPr>
              <a:t>         </a:t>
            </a:r>
            <a:r>
              <a:rPr b="0" lang="en-US" sz="3000" spc="-1" strike="noStrike">
                <a:solidFill>
                  <a:srgbClr val="990099"/>
                </a:solidFill>
                <a:latin typeface="Comic Sans MS"/>
              </a:rPr>
              <a:t>c) Explain what this ratio tells u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0099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990099"/>
                </a:solidFill>
                <a:latin typeface="Comic Sans MS"/>
              </a:rPr>
              <a:t>   </a:t>
            </a:r>
            <a:r>
              <a:rPr b="0" lang="en-US" sz="3000" spc="-1" strike="noStrike">
                <a:solidFill>
                  <a:srgbClr val="990099"/>
                </a:solidFill>
                <a:latin typeface="Comic Sans MS"/>
              </a:rPr>
              <a:t>d) How many black shirts do you have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4"/>
          <p:cNvSpPr/>
          <p:nvPr/>
        </p:nvSpPr>
        <p:spPr>
          <a:xfrm>
            <a:off x="5410080" y="2209680"/>
            <a:ext cx="685800" cy="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1" dur="indefinite" restart="never" nodeType="tmRoot">
          <p:childTnLst>
            <p:seq>
              <p:cTn id="842" dur="indefinite" nodeType="mainSeq">
                <p:childTnLst>
                  <p:par>
                    <p:cTn id="843" nodeType="clickEffect" fill="hold">
                      <p:stCondLst>
                        <p:cond delay="indefinite"/>
                      </p:stCondLst>
                      <p:childTnLst>
                        <p:par>
                          <p:cTn id="8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4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0000"/>
                </a:solidFill>
                <a:latin typeface="Garamond"/>
              </a:rPr>
              <a:t>Solution  - # 1                         </a:t>
            </a:r>
            <a:r>
              <a:rPr b="1" lang="en-US" sz="4200" spc="-1" strike="noStrike">
                <a:solidFill>
                  <a:srgbClr val="ff0000"/>
                </a:solidFill>
                <a:latin typeface="Wingdings"/>
                <a:ea typeface="Wingdings"/>
              </a:rPr>
              <a:t>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9900"/>
                </a:solidFill>
                <a:latin typeface="Comic Sans MS"/>
              </a:rPr>
              <a:t>You have </a:t>
            </a:r>
            <a:r>
              <a:rPr b="1" lang="en-US" sz="1800" spc="-1" strike="noStrike">
                <a:solidFill>
                  <a:srgbClr val="cc9900"/>
                </a:solidFill>
                <a:latin typeface="Comic Sans MS"/>
              </a:rPr>
              <a:t>100</a:t>
            </a:r>
            <a:r>
              <a:rPr b="0" lang="en-US" sz="1800" spc="-1" strike="noStrike">
                <a:solidFill>
                  <a:srgbClr val="cc9900"/>
                </a:solidFill>
                <a:latin typeface="Comic Sans MS"/>
              </a:rPr>
              <a:t> different shirts.  The ratio of blue to black shirts is 20 / 3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9900"/>
                </a:solidFill>
                <a:latin typeface="Comic Sans MS"/>
              </a:rPr>
              <a:t>a) Write the ratio of blue to black shirts 3 different way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9900"/>
                </a:solidFill>
                <a:latin typeface="Comic Sans MS"/>
              </a:rPr>
              <a:t>	</a:t>
            </a:r>
            <a:r>
              <a:rPr b="0" lang="en-US" sz="2600" spc="-1" strike="noStrike">
                <a:solidFill>
                  <a:srgbClr val="cc9900"/>
                </a:solidFill>
                <a:latin typeface="Comic Sans MS"/>
              </a:rPr>
              <a:t>	</a:t>
            </a:r>
            <a:r>
              <a:rPr b="0" lang="en-US" sz="2600" spc="-1" strike="noStrike">
                <a:solidFill>
                  <a:srgbClr val="ff0000"/>
                </a:solidFill>
                <a:latin typeface="Comic Sans MS"/>
              </a:rPr>
              <a:t>20 to 30 ,   20 : 30,    2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26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26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26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2600" spc="-1" strike="noStrike">
                <a:solidFill>
                  <a:srgbClr val="ff0000"/>
                </a:solidFill>
                <a:latin typeface="Comic Sans MS"/>
              </a:rPr>
              <a:t>                </a:t>
            </a:r>
            <a:r>
              <a:rPr b="0" lang="en-US" sz="2600" spc="-1" strike="noStrike">
                <a:solidFill>
                  <a:srgbClr val="ff0000"/>
                </a:solidFill>
                <a:latin typeface="Comic Sans MS"/>
              </a:rPr>
              <a:t>3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9900"/>
                </a:solidFill>
                <a:latin typeface="Comic Sans MS"/>
              </a:rPr>
              <a:t>b) Write the ratio in simplest form.</a:t>
            </a:r>
            <a:r>
              <a:rPr b="0" lang="en-US" sz="2600" spc="-1" strike="noStrike">
                <a:solidFill>
                  <a:srgbClr val="cc9900"/>
                </a:solidFill>
                <a:latin typeface="Comic Sans MS"/>
              </a:rPr>
              <a:t>  </a:t>
            </a:r>
            <a:r>
              <a:rPr b="0" lang="en-US" sz="2600" spc="-1" strike="noStrike">
                <a:solidFill>
                  <a:srgbClr val="ff0000"/>
                </a:solidFill>
                <a:latin typeface="Comic Sans MS"/>
              </a:rPr>
              <a:t>2    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mic Sans MS"/>
              </a:rPr>
              <a:t>         </a:t>
            </a:r>
            <a:r>
              <a:rPr b="0" lang="en-US" sz="26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26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26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26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2600" spc="-1" strike="noStrike">
                <a:solidFill>
                  <a:srgbClr val="ff0000"/>
                </a:solidFill>
                <a:latin typeface="Comic Sans MS"/>
              </a:rPr>
              <a:t>    </a:t>
            </a:r>
            <a:r>
              <a:rPr b="0" lang="en-US" sz="2600" spc="-1" strike="noStrike">
                <a:solidFill>
                  <a:srgbClr val="ff0000"/>
                </a:solidFill>
                <a:latin typeface="Comic Sans MS"/>
              </a:rPr>
              <a:t>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9900"/>
                </a:solidFill>
                <a:latin typeface="Comic Sans MS"/>
              </a:rPr>
              <a:t>c) Explain what this ratio tells us.  </a:t>
            </a:r>
            <a:r>
              <a:rPr b="0" lang="en-US" sz="1800" spc="-1" strike="noStrike">
                <a:solidFill>
                  <a:srgbClr val="f11717"/>
                </a:solidFill>
                <a:latin typeface="Comic Sans MS"/>
              </a:rPr>
              <a:t>For every two blue shirts, there are 3 black shir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9900"/>
                </a:solidFill>
                <a:latin typeface="Comic Sans MS"/>
              </a:rPr>
              <a:t>d) How many black shirts do you have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9900"/>
                </a:solidFill>
                <a:latin typeface="Comic Sans MS"/>
              </a:rPr>
              <a:t>             </a:t>
            </a: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2x + 3x = 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              </a:t>
            </a: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5x = 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                </a:t>
            </a:r>
            <a:r>
              <a:rPr b="1" lang="en-US" sz="1800" spc="-1" strike="noStrike">
                <a:solidFill>
                  <a:srgbClr val="990099"/>
                </a:solidFill>
                <a:latin typeface="Comic Sans MS"/>
              </a:rPr>
              <a:t>x = 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              </a:t>
            </a: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There are 2</a:t>
            </a:r>
            <a:r>
              <a:rPr b="1" lang="en-US" sz="1800" spc="-1" strike="noStrike">
                <a:solidFill>
                  <a:srgbClr val="990099"/>
                </a:solidFill>
                <a:latin typeface="Comic Sans MS"/>
              </a:rPr>
              <a:t>x</a:t>
            </a: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 black shirts  so 2 (</a:t>
            </a:r>
            <a:r>
              <a:rPr b="1" lang="en-US" sz="1800" spc="-1" strike="noStrike">
                <a:solidFill>
                  <a:srgbClr val="990099"/>
                </a:solidFill>
                <a:latin typeface="Comic Sans MS"/>
              </a:rPr>
              <a:t>20</a:t>
            </a: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)  = 40 black shi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4"/>
          <p:cNvSpPr/>
          <p:nvPr/>
        </p:nvSpPr>
        <p:spPr>
          <a:xfrm>
            <a:off x="4800600" y="2057400"/>
            <a:ext cx="6094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Line 5"/>
          <p:cNvSpPr/>
          <p:nvPr/>
        </p:nvSpPr>
        <p:spPr>
          <a:xfrm>
            <a:off x="4343400" y="2895480"/>
            <a:ext cx="6094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2" dur="indefinite" restart="never" nodeType="tmRoot">
          <p:childTnLst>
            <p:seq>
              <p:cTn id="853" dur="indefinite" nodeType="mainSeq">
                <p:childTnLst>
                  <p:par>
                    <p:cTn id="854" nodeType="clickEffect" fill="hold">
                      <p:stCondLst>
                        <p:cond delay="indefinite"/>
                      </p:stCondLst>
                      <p:childTnLst>
                        <p:par>
                          <p:cTn id="8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5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nodeType="clickEffect" fill="hold">
                      <p:stCondLst>
                        <p:cond delay="indefinite"/>
                      </p:stCondLst>
                      <p:childTnLst>
                        <p:par>
                          <p:cTn id="8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7" dur="200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8" dur="20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20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20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3" dur="2000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4" dur="20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20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20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nodeType="clickEffect" fill="hold">
                      <p:stCondLst>
                        <p:cond delay="indefinite"/>
                      </p:stCondLst>
                      <p:childTnLst>
                        <p:par>
                          <p:cTn id="8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81" dur="2000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84" dur="2000"/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87" dur="2000"/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90" dur="2000"/>
                                        <p:tgtEl>
                                          <p:spTgt spid="1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nodeType="clickEffect" fill="hold">
                      <p:stCondLst>
                        <p:cond delay="indefinite"/>
                      </p:stCondLst>
                      <p:childTnLst>
                        <p:par>
                          <p:cTn id="8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5" dur="2000"/>
                                        <p:tgtEl>
                                          <p:spTgt spid="1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8" dur="500" fill="hold"/>
                                        <p:tgtEl>
                                          <p:spTgt spid="1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9" dur="500" fill="hold"/>
                                        <p:tgtEl>
                                          <p:spTgt spid="1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0" dur="500"/>
                                        <p:tgtEl>
                                          <p:spTgt spid="1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3" dur="500" fill="hold"/>
                                        <p:tgtEl>
                                          <p:spTgt spid="1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500" fill="hold"/>
                                        <p:tgtEl>
                                          <p:spTgt spid="1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500" fill="hold"/>
                                        <p:tgtEl>
                                          <p:spTgt spid="1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6" dur="500" fill="hold"/>
                                        <p:tgtEl>
                                          <p:spTgt spid="1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9" dur="1000" fill="hold"/>
                                        <p:tgtEl>
                                          <p:spTgt spid="18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1000" fill="hold"/>
                                        <p:tgtEl>
                                          <p:spTgt spid="18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1" dur="1000"/>
                                        <p:tgtEl>
                                          <p:spTgt spid="18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Croobie"/>
              </a:rPr>
              <a:t>Practice Word Problem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447920" y="1066320"/>
            <a:ext cx="67816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531360" indent="-531360">
              <a:lnSpc>
                <a:spcPct val="100000"/>
              </a:lnSpc>
              <a:spcBef>
                <a:spcPts val="901"/>
              </a:spcBef>
              <a:buClr>
                <a:srgbClr val="cc9900"/>
              </a:buClr>
              <a:buSzPct val="65000"/>
              <a:buFont typeface="SimHe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11717"/>
                </a:solidFill>
                <a:latin typeface="SimHei"/>
              </a:rPr>
              <a:t>You go to a party where the ratio of boys to girls is 28 to 56.  Express the ratio of boys to girls in simplest form.</a:t>
            </a:r>
            <a:r>
              <a:rPr b="0" lang="en-US" sz="3600" spc="-1" strike="noStrike">
                <a:solidFill>
                  <a:srgbClr val="000000"/>
                </a:solidFill>
                <a:latin typeface="SimHei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1360" indent="-531360">
              <a:lnSpc>
                <a:spcPct val="100000"/>
              </a:lnSpc>
              <a:spcBef>
                <a:spcPts val="901"/>
              </a:spcBef>
              <a:buClr>
                <a:srgbClr val="cc9900"/>
              </a:buClr>
              <a:buSzPct val="65000"/>
              <a:buFont typeface="SimHe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SimHei"/>
              </a:rPr>
              <a:t>Explain what this ratio tells u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4"/>
          <p:cNvSpPr/>
          <p:nvPr/>
        </p:nvSpPr>
        <p:spPr>
          <a:xfrm>
            <a:off x="990720" y="3048120"/>
            <a:ext cx="746748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SzPct val="65000"/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28 / 56 = 1 / 2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Comic Sans MS"/>
              </a:rPr>
              <a:t>The ratio of boys to girls is 1 to 2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(2) For every </a:t>
            </a:r>
            <a:r>
              <a:rPr b="1" lang="en-US" sz="3200" spc="-1" strike="noStrike">
                <a:solidFill>
                  <a:srgbClr val="0000cc"/>
                </a:solidFill>
                <a:latin typeface="Comic Sans MS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boy there are </a:t>
            </a:r>
            <a:r>
              <a:rPr b="1" lang="en-US" sz="3200" spc="-1" strike="noStrike">
                <a:solidFill>
                  <a:srgbClr val="0000cc"/>
                </a:solidFill>
                <a:latin typeface="Comic Sans MS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girls at the party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2" dur="indefinite" restart="never" nodeType="tmRoot">
          <p:childTnLst>
            <p:seq>
              <p:cTn id="913" dur="indefinite" nodeType="mainSeq">
                <p:childTnLst>
                  <p:par>
                    <p:cTn id="914" nodeType="clickEffect" fill="hold">
                      <p:stCondLst>
                        <p:cond delay="indefinite"/>
                      </p:stCondLst>
                      <p:childTnLst>
                        <p:par>
                          <p:cTn id="9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0.5">
                                      <p:cBhvr additive="repl">
                                        <p:cTn id="917" dur="20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18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0.5">
                                      <p:cBhvr additive="repl">
                                        <p:cTn id="919" dur="20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nodeType="clickEffect" fill="hold">
                      <p:stCondLst>
                        <p:cond delay="indefinite"/>
                      </p:stCondLst>
                      <p:childTnLst>
                        <p:par>
                          <p:cTn id="9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24" dur="8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25" dur="8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6" dur="8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29" dur="8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30" dur="8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1" dur="8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34" dur="80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35" dur="80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6" dur="80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33"/>
                </a:solidFill>
                <a:latin typeface="Croobie"/>
              </a:rPr>
              <a:t>Practice Word Problems 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990360" y="1599840"/>
            <a:ext cx="693396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901"/>
              </a:spcBef>
              <a:buClr>
                <a:srgbClr val="cc9900"/>
              </a:buClr>
              <a:buSzPct val="6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Arial"/>
              </a:rPr>
              <a:t>Mindy has 72 candy bars.  If the ratio of Mars to Snickers is 8:4,  Find the number of each type of cand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901"/>
              </a:spcBef>
              <a:buClr>
                <a:srgbClr val="cc9900"/>
              </a:buClr>
              <a:buSzPct val="6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Arial"/>
              </a:rPr>
              <a:t>Explain what this ratio tell u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7" dur="indefinite" restart="never" nodeType="tmRoot">
          <p:childTnLst>
            <p:seq>
              <p:cTn id="938" dur="indefinite" nodeType="mainSeq">
                <p:childTnLst>
                  <p:par>
                    <p:cTn id="939" nodeType="clickEffect" fill="hold">
                      <p:stCondLst>
                        <p:cond delay="indefinite"/>
                      </p:stCondLst>
                      <p:childTnLst>
                        <p:par>
                          <p:cTn id="9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0.5">
                                      <p:cBhvr additive="repl">
                                        <p:cTn id="942" dur="20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43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0.5">
                                      <p:cBhvr additive="repl">
                                        <p:cTn id="944" dur="20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0000"/>
                </a:solidFill>
                <a:latin typeface="Garamond"/>
              </a:rPr>
              <a:t>Challenge Questio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perimeter of a rectangle is 500 feet.  The ratio of the base and height is 3:2.  What is the measure of the heigh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number of boys =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number of girls =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we compare boys </a:t>
            </a:r>
            <a:r>
              <a:rPr b="0" lang="en-US" sz="3000" spc="-1" strike="noStrike">
                <a:solidFill>
                  <a:srgbClr val="996600"/>
                </a:solidFill>
                <a:latin typeface="Arial"/>
              </a:rPr>
              <a:t>to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girls we g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 boys to _____ girl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5" descr="77dwg_sm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38080" y="457200"/>
            <a:ext cx="762120" cy="10098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9" descr="13_toiletsq_women_inv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543800" y="457200"/>
            <a:ext cx="1066680" cy="1066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What do we call a comparison between two or more quantities?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914400" y="1828800"/>
            <a:ext cx="4952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Comic Sans MS"/>
              </a:rPr>
              <a:t>    </a:t>
            </a:r>
            <a:r>
              <a:rPr b="1" lang="en-US" sz="4400" spc="-1" strike="noStrike">
                <a:solidFill>
                  <a:srgbClr val="996600"/>
                </a:solidFill>
                <a:latin typeface="Comic Sans MS"/>
              </a:rPr>
              <a:t>RATI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Text Box 6"/>
          <p:cNvSpPr/>
          <p:nvPr/>
        </p:nvSpPr>
        <p:spPr>
          <a:xfrm>
            <a:off x="5410080" y="1676520"/>
            <a:ext cx="304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Comic Sans MS"/>
              </a:rPr>
              <a:t>We just found the RATIO of boys to girls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5334120" y="3429000"/>
            <a:ext cx="2361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00"/>
                </a:solidFill>
                <a:latin typeface="Comic Sans MS"/>
              </a:rPr>
              <a:t>Is the ratio of </a:t>
            </a:r>
            <a:r>
              <a:rPr b="1" lang="en-US" sz="2400" spc="-1" strike="noStrike">
                <a:solidFill>
                  <a:srgbClr val="996600"/>
                </a:solidFill>
                <a:latin typeface="Comic Sans MS"/>
              </a:rPr>
              <a:t>girls to boys</a:t>
            </a:r>
            <a:r>
              <a:rPr b="0" lang="en-US" sz="2400" spc="-1" strike="noStrike">
                <a:solidFill>
                  <a:srgbClr val="996600"/>
                </a:solidFill>
                <a:latin typeface="Comic Sans MS"/>
              </a:rPr>
              <a:t> the same 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066680" y="525780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mic Sans MS"/>
              </a:rPr>
              <a:t>No, when writing a ratio, 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ORDER</a:t>
            </a:r>
            <a:r>
              <a:rPr b="1" lang="en-US" sz="2400" spc="-1" strike="noStrike">
                <a:solidFill>
                  <a:srgbClr val="0000cc"/>
                </a:solidFill>
                <a:latin typeface="Comic Sans MS"/>
              </a:rPr>
              <a:t> matter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3" name="Picture 10" descr="animation-teacher"/>
          <p:cNvPicPr/>
          <p:nvPr/>
        </p:nvPicPr>
        <p:blipFill>
          <a:blip r:embed="rId1"/>
          <a:stretch/>
        </p:blipFill>
        <p:spPr>
          <a:xfrm>
            <a:off x="762120" y="2057400"/>
            <a:ext cx="2057400" cy="1947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9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7" dur="2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9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0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Comic Sans MS"/>
              </a:rPr>
              <a:t>AIM: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200" spc="-1" strike="noStrike">
                <a:solidFill>
                  <a:srgbClr val="ff0000"/>
                </a:solidFill>
                <a:latin typeface="Impact"/>
              </a:rPr>
              <a:t>	</a:t>
            </a:r>
            <a:r>
              <a:rPr b="0" i="1" lang="en-US" sz="7200" spc="-1" strike="noStrike">
                <a:solidFill>
                  <a:srgbClr val="ff0000"/>
                </a:solidFill>
                <a:latin typeface="Impact"/>
              </a:rPr>
              <a:t>	</a:t>
            </a:r>
            <a:r>
              <a:rPr b="0" i="1" lang="en-US" sz="7200" spc="-1" strike="noStrike">
                <a:solidFill>
                  <a:srgbClr val="ff0000"/>
                </a:solidFill>
                <a:latin typeface="Impact"/>
              </a:rPr>
              <a:t>What is a ratio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Monotype Corsiva"/>
              </a:rPr>
              <a:t>It’s Friday night and your friends are having a party……</a:t>
            </a: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78487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cc"/>
                </a:solidFill>
                <a:latin typeface="Arial"/>
              </a:rPr>
              <a:t>The ratio of girls to guys is 2 to 12.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762120" y="2514600"/>
            <a:ext cx="7238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Comic Sans MS"/>
              </a:rPr>
              <a:t>Would you want to attend the party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9" name="Picture 7" descr="partyhat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352680" y="3886200"/>
            <a:ext cx="172728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How many basketballs to footballs are there?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2819520"/>
            <a:ext cx="64771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99"/>
                </a:solidFill>
                <a:latin typeface="Comic Sans MS"/>
              </a:rPr>
              <a:t>For every 4 basketballs there are 6 football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99"/>
                </a:solidFill>
                <a:latin typeface="Comic Sans MS"/>
              </a:rPr>
              <a:t>The </a:t>
            </a:r>
            <a:r>
              <a:rPr b="1" i="1" lang="en-US" sz="3600" spc="-1" strike="noStrike">
                <a:solidFill>
                  <a:srgbClr val="990099"/>
                </a:solidFill>
                <a:latin typeface="Comic Sans MS"/>
              </a:rPr>
              <a:t>ratio</a:t>
            </a:r>
            <a:r>
              <a:rPr b="0" lang="en-US" sz="3600" spc="-1" strike="noStrike">
                <a:solidFill>
                  <a:srgbClr val="990099"/>
                </a:solidFill>
                <a:latin typeface="Comic Sans MS"/>
              </a:rPr>
              <a:t> is 4 to 6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5" descr="football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905120" y="990720"/>
            <a:ext cx="1114200" cy="6667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7" descr="football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267080" y="1828800"/>
            <a:ext cx="1114560" cy="6667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9" descr="football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85800" y="1600200"/>
            <a:ext cx="1114560" cy="6667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1" descr="football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5410080" y="1143000"/>
            <a:ext cx="1114560" cy="6667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3" descr="football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6781680" y="1143000"/>
            <a:ext cx="1114560" cy="6667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5" descr="football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2209680" y="1828800"/>
            <a:ext cx="1114560" cy="6667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7" descr="basketball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3276720" y="838080"/>
            <a:ext cx="685800" cy="6382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8" descr="basketball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4419720" y="1066680"/>
            <a:ext cx="685800" cy="6382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9" descr="basketball">
            <a:hlinkClick r:id="rId17"/>
          </p:cNvPr>
          <p:cNvPicPr/>
          <p:nvPr/>
        </p:nvPicPr>
        <p:blipFill>
          <a:blip r:embed="rId18"/>
          <a:stretch/>
        </p:blipFill>
        <p:spPr>
          <a:xfrm>
            <a:off x="3352680" y="1828800"/>
            <a:ext cx="685800" cy="6382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20" descr="basketball">
            <a:hlinkClick r:id="rId19"/>
          </p:cNvPr>
          <p:cNvPicPr/>
          <p:nvPr/>
        </p:nvPicPr>
        <p:blipFill>
          <a:blip r:embed="rId20"/>
          <a:stretch/>
        </p:blipFill>
        <p:spPr>
          <a:xfrm>
            <a:off x="5791320" y="1905120"/>
            <a:ext cx="685800" cy="63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9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9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99" dur="2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0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01" dur="2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16"/>
          <p:cNvSpPr/>
          <p:nvPr/>
        </p:nvSpPr>
        <p:spPr>
          <a:xfrm>
            <a:off x="5943600" y="2895480"/>
            <a:ext cx="3200400" cy="2819520"/>
          </a:xfrm>
          <a:prstGeom prst="rect">
            <a:avLst/>
          </a:prstGeom>
          <a:solidFill>
            <a:srgbClr val="339966">
              <a:alpha val="3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990099"/>
                </a:solidFill>
                <a:latin typeface="Comic Sans MS"/>
              </a:rPr>
              <a:t>What are some other ways we can write the ratio of basketball to footballs?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2666880"/>
            <a:ext cx="213336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4 to 6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4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6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4 </a:t>
            </a:r>
            <a:r>
              <a:rPr b="0" i="1" lang="en-US" sz="19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4"/>
          <p:cNvSpPr/>
          <p:nvPr/>
        </p:nvSpPr>
        <p:spPr>
          <a:xfrm>
            <a:off x="685800" y="4724280"/>
            <a:ext cx="5335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Text Box 5"/>
          <p:cNvSpPr/>
          <p:nvPr/>
        </p:nvSpPr>
        <p:spPr>
          <a:xfrm>
            <a:off x="1905120" y="3124080"/>
            <a:ext cx="518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st quantity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econd quantity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Text Box 6"/>
          <p:cNvSpPr/>
          <p:nvPr/>
        </p:nvSpPr>
        <p:spPr>
          <a:xfrm>
            <a:off x="1905120" y="3733920"/>
            <a:ext cx="518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st quantity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econd quantity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Text Box 7"/>
          <p:cNvSpPr/>
          <p:nvPr/>
        </p:nvSpPr>
        <p:spPr>
          <a:xfrm>
            <a:off x="1828800" y="4495680"/>
            <a:ext cx="426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st quantity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divid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y the second quantity (as a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frac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Text Box 8"/>
          <p:cNvSpPr/>
          <p:nvPr/>
        </p:nvSpPr>
        <p:spPr>
          <a:xfrm>
            <a:off x="457200" y="2057400"/>
            <a:ext cx="502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Every ratio can be written in 3 ways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Line 9"/>
          <p:cNvSpPr/>
          <p:nvPr/>
        </p:nvSpPr>
        <p:spPr>
          <a:xfrm>
            <a:off x="1447920" y="2971800"/>
            <a:ext cx="0" cy="289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1" name="Picture 14" descr="basketball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248520" y="1752480"/>
            <a:ext cx="1114200" cy="103824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15"/>
          <p:cNvSpPr/>
          <p:nvPr/>
        </p:nvSpPr>
        <p:spPr>
          <a:xfrm>
            <a:off x="6095880" y="3200400"/>
            <a:ext cx="32004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Comic Sans MS"/>
              </a:rPr>
              <a:t>Careful!!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Comic Sans MS"/>
              </a:rPr>
              <a:t>Order matters in a ratio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Comic Sans MS"/>
              </a:rPr>
              <a:t>4 to 6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Comic Sans MS"/>
              </a:rPr>
              <a:t>Is NOT the same a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Comic Sans MS"/>
              </a:rPr>
              <a:t>6 to 4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1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6" dur="8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8" dur="8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3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3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1" dur="8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2" dur="8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3" dur="8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345" nodeType="afterEffect" fill="hold" presetClass="emph" presetID="3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346" dur="1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347" dur="1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348" dur="1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4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5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5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5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5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6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6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3" dur="80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4" dur="80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5" dur="80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8" dur="80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9" dur="80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0" dur="80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nodeType="afterEffect" fill="hold">
                            <p:stCondLst>
                              <p:cond delay="80"/>
                            </p:stCondLst>
                            <p:childTnLst>
                              <p:par>
                                <p:cTn id="38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4" dur="8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5" dur="8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6" dur="8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33"/>
                </a:solidFill>
                <a:latin typeface="Comic Sans MS"/>
              </a:rPr>
              <a:t>Write the ratio of sandwiches to coke bottles 3 different ways.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428640" y="1066680"/>
            <a:ext cx="43434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6:8 , 6 to 8, and   6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24"/>
          <p:cNvSpPr/>
          <p:nvPr/>
        </p:nvSpPr>
        <p:spPr>
          <a:xfrm>
            <a:off x="5562720" y="1371600"/>
            <a:ext cx="60948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Text Box 25"/>
          <p:cNvSpPr/>
          <p:nvPr/>
        </p:nvSpPr>
        <p:spPr>
          <a:xfrm>
            <a:off x="914400" y="3733920"/>
            <a:ext cx="693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Text Box 26"/>
          <p:cNvSpPr/>
          <p:nvPr/>
        </p:nvSpPr>
        <p:spPr>
          <a:xfrm>
            <a:off x="990720" y="3733920"/>
            <a:ext cx="6705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ince a fraction can be simplified, We can simplify the ratio 6/8 to 3/4.  The ratio of sandwiches to coke bottles can also be expressed as 3 : 4 or 3 to 4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Text Box 28"/>
          <p:cNvSpPr/>
          <p:nvPr/>
        </p:nvSpPr>
        <p:spPr>
          <a:xfrm>
            <a:off x="685800" y="4800600"/>
            <a:ext cx="72388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other words, ratios can be simplified to form </a:t>
            </a: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equivalent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ratios.</a:t>
            </a:r>
            <a:endParaRPr b="0" lang="en-US" sz="25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9" name="Picture 32" descr="sandwhich_lunch">
            <a:hlinkClick r:id="rId1"/>
          </p:cNvPr>
          <p:cNvPicPr/>
          <p:nvPr/>
        </p:nvPicPr>
        <p:blipFill>
          <a:blip r:embed="rId2"/>
          <a:stretch/>
        </p:blipFill>
        <p:spPr>
          <a:xfrm rot="5663400">
            <a:off x="2562480" y="1398960"/>
            <a:ext cx="912960" cy="11620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33" descr="sandwhich_lunch">
            <a:hlinkClick r:id="rId3"/>
          </p:cNvPr>
          <p:cNvPicPr/>
          <p:nvPr/>
        </p:nvPicPr>
        <p:blipFill>
          <a:blip r:embed="rId4"/>
          <a:stretch/>
        </p:blipFill>
        <p:spPr>
          <a:xfrm rot="5663400">
            <a:off x="962640" y="1323000"/>
            <a:ext cx="912600" cy="116208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34" descr="sandwhich_lunch">
            <a:hlinkClick r:id="rId5"/>
          </p:cNvPr>
          <p:cNvPicPr/>
          <p:nvPr/>
        </p:nvPicPr>
        <p:blipFill>
          <a:blip r:embed="rId6"/>
          <a:stretch/>
        </p:blipFill>
        <p:spPr>
          <a:xfrm rot="5663400">
            <a:off x="4163040" y="1551600"/>
            <a:ext cx="912600" cy="11620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35" descr="sandwhich_lunch">
            <a:hlinkClick r:id="rId7"/>
          </p:cNvPr>
          <p:cNvPicPr/>
          <p:nvPr/>
        </p:nvPicPr>
        <p:blipFill>
          <a:blip r:embed="rId8"/>
          <a:stretch/>
        </p:blipFill>
        <p:spPr>
          <a:xfrm rot="5663400">
            <a:off x="5839560" y="1551600"/>
            <a:ext cx="912600" cy="11620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39" descr="coke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5105520" y="1676520"/>
            <a:ext cx="647640" cy="9619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41" descr="coke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1828800" y="1371600"/>
            <a:ext cx="647640" cy="9619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42" descr="coke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7924680" y="1523880"/>
            <a:ext cx="648000" cy="9622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43" descr="coke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3429000" y="1676520"/>
            <a:ext cx="647640" cy="9619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44" descr="coke">
            <a:hlinkClick r:id="rId17"/>
          </p:cNvPr>
          <p:cNvPicPr/>
          <p:nvPr/>
        </p:nvPicPr>
        <p:blipFill>
          <a:blip r:embed="rId18"/>
          <a:stretch/>
        </p:blipFill>
        <p:spPr>
          <a:xfrm>
            <a:off x="6858000" y="1523880"/>
            <a:ext cx="647640" cy="9622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45" descr="coke">
            <a:hlinkClick r:id="rId19"/>
          </p:cNvPr>
          <p:cNvPicPr/>
          <p:nvPr/>
        </p:nvPicPr>
        <p:blipFill>
          <a:blip r:embed="rId20"/>
          <a:stretch/>
        </p:blipFill>
        <p:spPr>
          <a:xfrm>
            <a:off x="7391520" y="1523880"/>
            <a:ext cx="647640" cy="96228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46" descr="sandwhich_lunch">
            <a:hlinkClick r:id="rId21"/>
          </p:cNvPr>
          <p:cNvPicPr/>
          <p:nvPr/>
        </p:nvPicPr>
        <p:blipFill>
          <a:blip r:embed="rId22"/>
          <a:stretch/>
        </p:blipFill>
        <p:spPr>
          <a:xfrm rot="5663400">
            <a:off x="1114920" y="2313360"/>
            <a:ext cx="912960" cy="11620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47" descr="sandwhich_lunch">
            <a:hlinkClick r:id="rId23"/>
          </p:cNvPr>
          <p:cNvPicPr/>
          <p:nvPr/>
        </p:nvPicPr>
        <p:blipFill>
          <a:blip r:embed="rId24"/>
          <a:stretch/>
        </p:blipFill>
        <p:spPr>
          <a:xfrm rot="5663400">
            <a:off x="2410560" y="2466000"/>
            <a:ext cx="912600" cy="11620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49" descr="coke">
            <a:hlinkClick r:id="rId25"/>
          </p:cNvPr>
          <p:cNvPicPr/>
          <p:nvPr/>
        </p:nvPicPr>
        <p:blipFill>
          <a:blip r:embed="rId26"/>
          <a:stretch/>
        </p:blipFill>
        <p:spPr>
          <a:xfrm>
            <a:off x="4495680" y="2438280"/>
            <a:ext cx="648000" cy="9622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50" descr="coke"/>
          <p:cNvPicPr/>
          <p:nvPr/>
        </p:nvPicPr>
        <p:blipFill>
          <a:blip r:embed="rId27"/>
          <a:stretch/>
        </p:blipFill>
        <p:spPr>
          <a:xfrm>
            <a:off x="3809880" y="2666880"/>
            <a:ext cx="648000" cy="962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0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7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3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3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15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5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Comic Sans MS"/>
              </a:rPr>
              <a:t>Equivalent Ratio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701028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mplify the following ratios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4 to 8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0 to 8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8 to 1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4"/>
          <p:cNvSpPr/>
          <p:nvPr/>
        </p:nvSpPr>
        <p:spPr>
          <a:xfrm>
            <a:off x="533520" y="3429000"/>
            <a:ext cx="7238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Text Box 5"/>
          <p:cNvSpPr/>
          <p:nvPr/>
        </p:nvSpPr>
        <p:spPr>
          <a:xfrm>
            <a:off x="838080" y="3429000"/>
            <a:ext cx="78487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p 1 – Write the ratio as a fractio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p 2 – Simplify the fraction (Find the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greatest common factor (GCF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f both numbers and divide the numerator and denominator by the GCF)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p 3 – Write the equivalent ratio in the same form as the questio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Line 6"/>
          <p:cNvSpPr/>
          <p:nvPr/>
        </p:nvSpPr>
        <p:spPr>
          <a:xfrm>
            <a:off x="2514600" y="1676520"/>
            <a:ext cx="2362320" cy="0"/>
          </a:xfrm>
          <a:prstGeom prst="line">
            <a:avLst/>
          </a:prstGeom>
          <a:ln w="60480">
            <a:solidFill>
              <a:srgbClr val="cc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Text Box 7"/>
          <p:cNvSpPr/>
          <p:nvPr/>
        </p:nvSpPr>
        <p:spPr>
          <a:xfrm>
            <a:off x="5257800" y="1523880"/>
            <a:ext cx="3276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65000"/>
              <a:buFont typeface="Arial"/>
              <a:buAutoNum type="arabicPlain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  4 /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= 1       = 1 to 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         8 /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Line 8"/>
          <p:cNvSpPr/>
          <p:nvPr/>
        </p:nvSpPr>
        <p:spPr>
          <a:xfrm>
            <a:off x="5943600" y="1905120"/>
            <a:ext cx="60948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Line 9"/>
          <p:cNvSpPr/>
          <p:nvPr/>
        </p:nvSpPr>
        <p:spPr>
          <a:xfrm>
            <a:off x="5181480" y="1905120"/>
            <a:ext cx="60984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Line 10"/>
          <p:cNvSpPr/>
          <p:nvPr/>
        </p:nvSpPr>
        <p:spPr>
          <a:xfrm>
            <a:off x="6781680" y="1905120"/>
            <a:ext cx="60984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Text Box 11"/>
          <p:cNvSpPr/>
          <p:nvPr/>
        </p:nvSpPr>
        <p:spPr>
          <a:xfrm>
            <a:off x="5181480" y="2590920"/>
            <a:ext cx="312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GCF = 4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Rectangle 14"/>
          <p:cNvSpPr/>
          <p:nvPr/>
        </p:nvSpPr>
        <p:spPr>
          <a:xfrm>
            <a:off x="7696080" y="1447920"/>
            <a:ext cx="914400" cy="457200"/>
          </a:xfrm>
          <a:prstGeom prst="rect">
            <a:avLst/>
          </a:prstGeom>
          <a:noFill/>
          <a:ln w="4428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8" dur="8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9" dur="8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0" dur="8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3" dur="8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4" dur="8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5" dur="8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8" dur="8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9" dur="8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0" dur="8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3" dur="8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4" dur="8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5" dur="8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7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7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7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9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9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9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9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0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0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1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1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1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9" dur="20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0" dur="20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1" dur="20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3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3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500"/>
                                  </p:iterate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0" dur="30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1" dur="30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2" dur="30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5T20:33:06Z</dcterms:created>
  <dc:creator>buffena</dc:creator>
  <dc:description/>
  <dc:language>en-US</dc:language>
  <cp:lastModifiedBy>RomaK</cp:lastModifiedBy>
  <dcterms:modified xsi:type="dcterms:W3CDTF">2015-09-04T09:19:27Z</dcterms:modified>
  <cp:revision>36</cp:revision>
  <dc:subject/>
  <dc:title>DO NOW (not later):</dc:title>
</cp:coreProperties>
</file>