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8.jpeg" ContentType="image/jpeg"/>
  <Override PartName="/ppt/media/image10.jpeg" ContentType="image/jpeg"/>
  <Override PartName="/ppt/media/image9.jpeg" ContentType="image/jpeg"/>
  <Override PartName="/ppt/media/chimes.wav" ContentType="audio/x-wav"/>
  <Override PartName="/ppt/media/image6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hammer.wav" ContentType="audio/x-wav"/>
  <Override PartName="/ppt/media/click.wav" ContentType="audio/x-wav"/>
  <Override PartName="/ppt/media/arrow.wav" ContentType="audio/x-wav"/>
  <Override PartName="/ppt/media/image4.jpeg" ContentType="image/jpeg"/>
  <Override PartName="/ppt/media/type.wav" ContentType="audio/x-wav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E5B1-0E01-454D-9588-1AADFC7D07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 (not later)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he number of boys to girls in the clas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 (not later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he number of boys to girls in the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t Ratios can be formed by multiplying the ratio by any numb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he ratio 2 : 3 can also be written a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6 (multiply original ratio by by 2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: 9 (multiply original ratio by by 3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: 12 (multiply original ratio by by 4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2 : 3 can be expressed a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to 3x (multiply the original ratio by any  number 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t Ratios can be formed by multiplying the ratio by any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he ratio 2 : 3 can also be written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6 (multiply original ratio by by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: 9 (multiply original ratio by by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: 12 (multiply original ratio by by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2 : 3 can be expressed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to 3x (multiply the original ratio by any  number 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Ratio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atio that compares more than 2 quantities is called a compound ratio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ke recipe says the ratio of cups of milk, sugar, and batter are 1:2:4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at there is one cup of milk for every two cups of sugar and four cups of batt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Ratio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atio that compares more than 2 quantities is called a compound rat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ke recipe says the ratio of cups of milk, sugar, and batter are 1:2:4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at there is one cup of milk for every two cups of sugar and four cups of ba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g contains 18 yellow, blue, and red marbles. The ratio of yellow to blue to red marbles is 4 : 2 : 3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ratio of yellow to blue marbles in simplest for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atio of yellow to red marble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yellow marbles are the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2 can be simplified to 2 : 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 : Blue : Red  is  4 : 2 : 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ny multiple of this is an equivalent ratio, this can also be written as 4x : 2x: 3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4x = yellow, 2x = blue , 3x = 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 + 2x+ 3x = 18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 = 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=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question asks for yellow marbles,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x or 4 (2) = 8 yellow marb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g contains 18 yellow, blue, and red marbles. The ratio of yellow to blue to red marbles is 4 : 2 : 3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ratio of yellow to blue marbles in simplest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atio of yellow to red marb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yellow marbles are t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2 can be simplified to 2 :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 : Blue : Red  is  4 : 2 :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ny multiple of this is an equivalent ratio, this can also be written as 4x : 2x: 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4x = yellow, 2x = blue , 3x =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 + 2x+ 3x = 18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 =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question asks for yellow marbles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x or 4 (2) = 8 yellow mar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problem # 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You have 100 different shirts.  The ratio of blue to black shirts is  20  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Write the ratio of blue to black shirts 3 different way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Write the ratio in simplest for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hat this ratio tells 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How many black shirts do you ha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problem #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You have 100 different shirts.  The ratio of blue to black shirts is  20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Write the ratio of blue to black shirts 3 different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Write the ratio in simplest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hat this ratio tells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How many black shirts do you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 - # 1                         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00 different shirts.  The ratio of blue to black shirts is 20 / 30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Write the ratio of blue to black shirts 3 different way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to 30 ,   20 : 30,    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Write the ratio in simplest form.  2    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hat this ratio tells us.  For every two blue shirts, there are 3 black shirt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How many black shirts do you have?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+ 3x = 10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x = 10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x black shirts  so 2 (20)  = 40 black shir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 - # 1                        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00 different shirts.  The ratio of blue to black shirts is 20 / 3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Write the ratio of blue to black shirts 3 different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to 30 ,   20 : 30,   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Write the ratio in simplest form.  2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hat this ratio tells us.  For every two blue shirts, there are 3 black shi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How many black shirts do you hav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+ 3x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x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x black shirts  so 2 (20)  = 40 black shi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Word Problem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go to a party where the ratio of boys to girls is 28 to 56.  Express the ratio of boys to girls in simplest form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this ratio tells 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 / 56 = 1 / 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boys to girls is 1 to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For every 1 boy there are 2 girls at the part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Word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go to a party where the ratio of boys to girls is 28 to 56.  Express the ratio of boys to girls in simplest for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this ratio tells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 / 56 = 1 / 2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boys to girls is 1 to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For every 1 boy there are 2 girls at the par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Word Problem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dy has 72 candy bars.  If the ratio of Mars to Snickers is 8:4,  Find the number of each type of can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this ratio tell 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Word Proble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dy has 72 candy bars.  If the ratio of Mars to Snickers is 8:4,  Find the number of each type of can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this ratio tell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 Ques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meter of a rectangle is 500 feet.  The ratio of the base and height is 3:2.  What is the measure of the heigh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meter of a rectangle is 500 feet.  The ratio of the base and height is 3:2.  What is the measure of the h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boys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girls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compare boys to girls we ge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 boys to _____ gir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boys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girls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compare boys to girls we g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 boys to _____ gir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call a comparison between two or more quantitie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just found the RATIO of boys to girl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ratio of girls to boys the same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when writing a ratio, ORDER matt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call a comparison between two or more quantit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just found the RATIO of boys to gir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ratio of girls to boys the same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when writing a ratio, ORDER mat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ratio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rati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Friday night and your friends are having a party……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girls to guys is 2 to 12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you want to attend the part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Friday night and your friends are having a party…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girls to guys is 2 to 12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you want to attend the par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basketballs to footballs are the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very 4 basketballs there are 6 footbal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4 to 6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basketballs to footballs are t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very 4 basketballs there are 6 footb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4 to 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ome other ways we can write the ratio of basketball to football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to Second quant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: Second quant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divided by the second quantity (as a fraction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ratio can be written in 3 way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!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matters in a ratio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NOT the same 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to 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ome other ways we can write the ratio of basketball to footba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to Second quant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: Second quant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divided by the second quantity (as a frac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ratio can be written in 3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matters in a rati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NOT the same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to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ratio of sandwiches to coke bottles 3 different way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:8 , 6 to 8, and  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 fraction can be simplified, We can simplify the ratio 6/8 to 3/4.  The ratio of sandwiches to coke bottles can also be expressed as 3 : 4 or 3 to 4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ratios can be simplified to form equivalent ratio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ratio of sandwiches to coke bottles 3 different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:8 , 6 to 8, and  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 fraction can be simplified, We can simplify the ratio 6/8 to 3/4.  The ratio of sandwiches to coke bottles can also be expressed as 3 : 4 or 3 to 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ratios can be simplified to form equivalent rati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t Rati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the following ratio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to 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to 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 – Write the ratio as a fr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 – Simplify the fraction (Find the greatest common factor (GCF) of both numbers and divide the numerator and denominator by the GCF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 – Write the equivalent ratio in the same form as the ques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4 / 4     = 1       = 1 to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        8 / 4       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 = 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t Rat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the following ratio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to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to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 – Write the ratio as a 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 – Simplify the fraction (Find the greatest common factor (GCF) of both numbers and divide the numerator and denominator by the GCF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 – Write the equivalent ratio in the same form as the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4 / 4     = 1       = 1 to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        8 / 4       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 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D25C-EC7C-4453-9081-377DEC32C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30E1-C46C-426A-B5D0-59D56637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8C70-00F1-4A5D-9708-F421D3DAD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71EC-9D72-4FFC-B201-DCF5B2331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CB014-9DF9-49BF-9470-7C853DE79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525A-D994-48C2-8ADE-1B236F8E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8CCC-7601-4258-82EF-5510B794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1B31-6785-4811-B099-E926DA64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BF9B-4718-4475-B67D-9F4C8914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58B4-150D-4299-B922-49ED0458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8024-0EA1-4767-A39A-210F5DC2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5921-C5B4-4F74-93D8-14DB6B8B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8DF7-9D5B-4E7D-AB9A-74E6AD97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8677-A53A-461A-B148-7FE2F371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7FD9F-ACE4-4C3E-B088-3F641A52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9A1C-B043-497D-843C-49D447C24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5302-3887-4791-AD88-2157DA5D1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1F55-9AAD-43AB-9269-926C7BA2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51F1-4074-4BD0-B9E4-66993C71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5B07-330C-4503-B719-C26DACB8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5D7F-6769-4CA4-A3E7-EC2F8E97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1561-20C7-44A3-8DC8-610AC6BB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AEA4-CD4A-4183-AC54-2CC2A5A6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7537-F7EA-499E-94CE-C46065C0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8AF1-1B19-4B6F-9100-9F8D87007D5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BB41-A964-4948-8296-940D5FC3E23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ba-na.com/images/bathroom_acessories/77dwg_sm.gif&amp;imgrefurl=http://www.pba-na.com/bathroom/77.shtml&amp;h=250&amp;w=190&amp;sz=4&amp;tbnid=OgACVEX_L_9RVM:&amp;tbnh=106&amp;tbnw=80&amp;hl=en&amp;start=4&amp;prev=/images%3Fq%3Dbathroom%2Bsymbol%2Bmen%26svnum%3D10%26hl%3Den%26lr%3D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aiga.org/Resources/SymbolSigns/gif_large/13_toiletsq_women_inv.gif&amp;imgrefurl=http://www.aiga.org/content.cfm%3FContentAlias%3Dsymbolsigns&amp;h=613&amp;w=613&amp;sz=8&amp;tbnid=QagpGr2_zz4ZMM:&amp;tbnh=134&amp;tbnw=134&amp;hl=en&amp;start=4&amp;prev=/images%3Fq%3Dsymbol%2Bwomen%26svnum%3D10%26hl%3Den%26lr%3D" TargetMode="External"/><Relationship Id="rId4" Type="http://schemas.openxmlformats.org/officeDocument/2006/relationships/image" Target="../media/image2.jpeg"/><Relationship Id="rId5" Type="http://schemas.openxmlformats.org/officeDocument/2006/relationships/audio" Target="../media/hammer.wav"/><Relationship Id="rId6" Type="http://schemas.openxmlformats.org/officeDocument/2006/relationships/audio" Target="../media/arrow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dlantern.com/clipart/clips/bdayparty/partyhat1.gif&amp;imgrefurl=http://www.madlantern.com/clipart/Party.htm&amp;h=150&amp;w=142&amp;sz=8&amp;tbnid=YVI1nlna4yntPM:&amp;tbnh=90&amp;tbnw=85&amp;hl=en&amp;start=2&amp;prev=/images%3Fq%3Dparty%2Bhat%26svnum%3D10%26hl%3Den%26lr%3D" TargetMode="External"/><Relationship Id="rId2" Type="http://schemas.openxmlformats.org/officeDocument/2006/relationships/image" Target="../media/image4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12" Type="http://schemas.openxmlformats.org/officeDocument/2006/relationships/image" Target="../media/image5.jpeg"/><Relationship Id="rId13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14" Type="http://schemas.openxmlformats.org/officeDocument/2006/relationships/image" Target="../media/image6.jpeg"/><Relationship Id="rId15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16" Type="http://schemas.openxmlformats.org/officeDocument/2006/relationships/image" Target="../media/image6.jpeg"/><Relationship Id="rId17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18" Type="http://schemas.openxmlformats.org/officeDocument/2006/relationships/image" Target="../media/image6.jpeg"/><Relationship Id="rId19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20" Type="http://schemas.openxmlformats.org/officeDocument/2006/relationships/image" Target="../media/image6.jpeg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click.wav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0" Type="http://schemas.openxmlformats.org/officeDocument/2006/relationships/image" Target="../media/image8.jpeg"/><Relationship Id="rId11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2" Type="http://schemas.openxmlformats.org/officeDocument/2006/relationships/image" Target="../media/image8.jpeg"/><Relationship Id="rId13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4" Type="http://schemas.openxmlformats.org/officeDocument/2006/relationships/image" Target="../media/image8.jpeg"/><Relationship Id="rId15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6" Type="http://schemas.openxmlformats.org/officeDocument/2006/relationships/image" Target="../media/image8.jpeg"/><Relationship Id="rId17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8" Type="http://schemas.openxmlformats.org/officeDocument/2006/relationships/image" Target="../media/image8.jpeg"/><Relationship Id="rId19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20" Type="http://schemas.openxmlformats.org/officeDocument/2006/relationships/image" Target="../media/image8.jpeg"/><Relationship Id="rId21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22" Type="http://schemas.openxmlformats.org/officeDocument/2006/relationships/image" Target="../media/image7.jpeg"/><Relationship Id="rId23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24" Type="http://schemas.openxmlformats.org/officeDocument/2006/relationships/image" Target="../media/image7.jpeg"/><Relationship Id="rId25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26" Type="http://schemas.openxmlformats.org/officeDocument/2006/relationships/image" Target="../media/image8.jpeg"/><Relationship Id="rId27" Type="http://schemas.openxmlformats.org/officeDocument/2006/relationships/image" Target="../media/image8.jpe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DO NOW (not later)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Compare the number of boys to girls in the clas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b812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Comic Sans MS"/>
              </a:rPr>
              <a:t>Equivalent Ratios can be formed by multiplying the ratio by any number.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example, the ratio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2 : 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also be written a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: 6 (multiply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origin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atio by by 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 : 9 (multiply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origin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atio by by 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 : 12 (multiply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origin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atio by by 4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762120" y="4267080"/>
            <a:ext cx="769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ratio 2 : 3 can be expressed a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x to 3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multiply the original ratio by any  number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1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5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2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2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2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2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Motion origin="layout" path="M 0 0 L 0 -0.07213 E">
                                      <p:cBhvr>
                                        <p:cTn id="6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2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2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2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3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cde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ompound Ratios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A ratio that compares more than 2 quantities is called a </a:t>
            </a:r>
            <a:r>
              <a:rPr b="0" lang="en-US" sz="3000" spc="-1" strike="noStrike">
                <a:solidFill>
                  <a:srgbClr val="ff3399"/>
                </a:solidFill>
                <a:latin typeface="Arial"/>
              </a:rPr>
              <a:t>compound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 rati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A cake recipe says the ratio of cups of </a:t>
            </a:r>
            <a:r>
              <a:rPr b="0" lang="en-US" sz="2600" spc="-1" strike="noStrike">
                <a:solidFill>
                  <a:srgbClr val="5e2908"/>
                </a:solidFill>
                <a:latin typeface="Arial"/>
              </a:rPr>
              <a:t>milk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f11717"/>
                </a:solidFill>
                <a:latin typeface="Arial"/>
              </a:rPr>
              <a:t>sugar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, and batter are </a:t>
            </a:r>
            <a:r>
              <a:rPr b="0" lang="en-US" sz="2600" spc="-1" strike="noStrike">
                <a:solidFill>
                  <a:srgbClr val="5e2908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0" lang="en-US" sz="2600" spc="-1" strike="noStrike">
                <a:solidFill>
                  <a:srgbClr val="f11717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0" lang="en-US" sz="2600" spc="-1" strike="noStrike">
                <a:solidFill>
                  <a:srgbClr val="0000cc"/>
                </a:solidFill>
                <a:latin typeface="Arial"/>
              </a:rPr>
              <a:t>4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This means that there is </a:t>
            </a:r>
            <a:r>
              <a:rPr b="0" lang="en-US" sz="2400" spc="-1" strike="noStrike">
                <a:solidFill>
                  <a:srgbClr val="5e2908"/>
                </a:solidFill>
                <a:latin typeface="Arial"/>
              </a:rPr>
              <a:t>one cup of milk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 for every </a:t>
            </a:r>
            <a:r>
              <a:rPr b="0" lang="en-US" sz="2400" spc="-1" strike="noStrike">
                <a:solidFill>
                  <a:srgbClr val="f11717"/>
                </a:solidFill>
                <a:latin typeface="Arial"/>
              </a:rPr>
              <a:t>two cups of sugar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 cups of ba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baking"/>
          <p:cNvPicPr/>
          <p:nvPr/>
        </p:nvPicPr>
        <p:blipFill>
          <a:blip r:embed="rId1"/>
          <a:stretch/>
        </p:blipFill>
        <p:spPr>
          <a:xfrm>
            <a:off x="3733920" y="4983120"/>
            <a:ext cx="1295280" cy="10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5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8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3" dur="2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A bag contains 18 yellow, blue, and red marbles. The ratio of </a:t>
            </a:r>
            <a:r>
              <a:rPr b="1" lang="en-US" sz="2800" spc="-1" strike="noStrike">
                <a:solidFill>
                  <a:srgbClr val="afbf39"/>
                </a:solidFill>
                <a:latin typeface="Franklin Gothic Medium"/>
              </a:rPr>
              <a:t>yellow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to </a:t>
            </a:r>
            <a:r>
              <a:rPr b="1" lang="en-US" sz="2800" spc="-1" strike="noStrike">
                <a:solidFill>
                  <a:srgbClr val="09195d"/>
                </a:solidFill>
                <a:latin typeface="Franklin Gothic Medium"/>
              </a:rPr>
              <a:t>blue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to </a:t>
            </a:r>
            <a:r>
              <a:rPr b="1" lang="en-US" sz="2800" spc="-1" strike="noStrike">
                <a:solidFill>
                  <a:srgbClr val="ff0000"/>
                </a:solidFill>
                <a:latin typeface="Franklin Gothic Medium"/>
              </a:rPr>
              <a:t>red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marbles is </a:t>
            </a:r>
            <a:r>
              <a:rPr b="1" lang="en-US" sz="2800" spc="-1" strike="noStrike">
                <a:solidFill>
                  <a:srgbClr val="afbf39"/>
                </a:solidFill>
                <a:latin typeface="Franklin Gothic Medium"/>
              </a:rPr>
              <a:t>4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: </a:t>
            </a:r>
            <a:r>
              <a:rPr b="1" lang="en-US" sz="2800" spc="-1" strike="noStrike">
                <a:solidFill>
                  <a:srgbClr val="09195d"/>
                </a:solidFill>
                <a:latin typeface="Franklin Gothic Medium"/>
              </a:rPr>
              <a:t>2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: </a:t>
            </a:r>
            <a:r>
              <a:rPr b="1" lang="en-US" sz="2800" spc="-1" strike="noStrike">
                <a:solidFill>
                  <a:srgbClr val="ff0000"/>
                </a:solidFill>
                <a:latin typeface="Franklin Gothic Medium"/>
              </a:rPr>
              <a:t>3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.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rite the ratio of yellow to blue marbles in simplest for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s the ratio of yellow to red marbl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many yellow marbles are ther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marbles"/>
          <p:cNvPicPr/>
          <p:nvPr/>
        </p:nvPicPr>
        <p:blipFill>
          <a:blip r:embed="rId1"/>
          <a:stretch/>
        </p:blipFill>
        <p:spPr>
          <a:xfrm>
            <a:off x="3886200" y="1295280"/>
            <a:ext cx="990720" cy="5860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6"/>
          <p:cNvSpPr/>
          <p:nvPr/>
        </p:nvSpPr>
        <p:spPr>
          <a:xfrm>
            <a:off x="3429000" y="2438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 : 2 can be simplified to 2 :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7391520" y="281952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 :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762120" y="2362320"/>
            <a:ext cx="69339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Yellow : Blue : Red  is  4 : 2 : 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Since any multiple of this is an equivalent ratio, this can also be written as </a:t>
            </a: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4x : 2x: 3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Let 4x = yellow, 2x = blue , 3x = r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4x + 2x+ 3x = 18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9x = 1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X=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Since the question asks for yellow marbles,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there are 4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 or 4 (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) = 8 yellow marbl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8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3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4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5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8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8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8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8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0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7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77053E-007 L -0.0033 -0.21212 E">
                                      <p:cBhvr>
                                        <p:cTn id="734" dur="2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8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9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9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9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3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9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9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9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9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0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0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0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1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1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1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1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1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1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2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3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2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2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3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3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3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3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Garamond"/>
              </a:rPr>
              <a:t>Practice problem # 1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(1) You have </a:t>
            </a:r>
            <a:r>
              <a:rPr b="1" lang="en-US" sz="3000" spc="-1" strike="noStrike">
                <a:solidFill>
                  <a:srgbClr val="990099"/>
                </a:solidFill>
                <a:latin typeface="Comic Sans MS"/>
              </a:rPr>
              <a:t>100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 different shirts.  The ratio of blue to black shirts is  20 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                                             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30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a) Write the ratio of blue to black shirts 3 different way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b) Write the ratio in simplest for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         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c) Explain what this ratio tells 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   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d) How many black shirts do you hav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4"/>
          <p:cNvSpPr/>
          <p:nvPr/>
        </p:nvSpPr>
        <p:spPr>
          <a:xfrm>
            <a:off x="5410080" y="2209680"/>
            <a:ext cx="68580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Garamond"/>
              </a:rPr>
              <a:t>Solution  - # 1                         </a:t>
            </a:r>
            <a:r>
              <a:rPr b="1" lang="en-US" sz="42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You have </a:t>
            </a:r>
            <a:r>
              <a:rPr b="1" lang="en-US" sz="1800" spc="-1" strike="noStrike">
                <a:solidFill>
                  <a:srgbClr val="cc9900"/>
                </a:solidFill>
                <a:latin typeface="Comic Sans MS"/>
              </a:rPr>
              <a:t>100</a:t>
            </a: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 different shirts.  The ratio of blue to black shirts is 20 / 3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a) Write the ratio of blue to black shirts 3 different w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99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cc99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20 to 30 ,   20 : 30,    2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               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b) Write the ratio in simplest form.</a:t>
            </a:r>
            <a:r>
              <a:rPr b="0" lang="en-US" sz="2600" spc="-1" strike="noStrike">
                <a:solidFill>
                  <a:srgbClr val="cc9900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2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c) Explain what this ratio tells us.  </a:t>
            </a:r>
            <a:r>
              <a:rPr b="0" lang="en-US" sz="1800" spc="-1" strike="noStrike">
                <a:solidFill>
                  <a:srgbClr val="f11717"/>
                </a:solidFill>
                <a:latin typeface="Comic Sans MS"/>
              </a:rPr>
              <a:t>For every two blue shirts, there are 3 black shi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d) How many black shirts do you hav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           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2x + 3x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           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5x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               </a:t>
            </a:r>
            <a:r>
              <a:rPr b="1" lang="en-US" sz="1800" spc="-1" strike="noStrike">
                <a:solidFill>
                  <a:srgbClr val="990099"/>
                </a:solidFill>
                <a:latin typeface="Comic Sans MS"/>
              </a:rPr>
              <a:t>x =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           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There are 2</a:t>
            </a:r>
            <a:r>
              <a:rPr b="1" lang="en-US" sz="1800" spc="-1" strike="noStrike">
                <a:solidFill>
                  <a:srgbClr val="990099"/>
                </a:solidFill>
                <a:latin typeface="Comic Sans MS"/>
              </a:rPr>
              <a:t>x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black shirts  so 2 (</a:t>
            </a:r>
            <a:r>
              <a:rPr b="1" lang="en-US" sz="1800" spc="-1" strike="noStrike">
                <a:solidFill>
                  <a:srgbClr val="990099"/>
                </a:solidFill>
                <a:latin typeface="Comic Sans MS"/>
              </a:rPr>
              <a:t>20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)  = 40 black shi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4800600" y="205740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5"/>
          <p:cNvSpPr/>
          <p:nvPr/>
        </p:nvSpPr>
        <p:spPr>
          <a:xfrm>
            <a:off x="4343400" y="28954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8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5" dur="2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8" dur="2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1" dur="20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4" dur="20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4" dur="5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Croobie"/>
              </a:rPr>
              <a:t>Practice Word Problem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31360" indent="-53136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SimHe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11717"/>
                </a:solidFill>
                <a:latin typeface="SimHei"/>
              </a:rPr>
              <a:t>You go to a party where the ratio of boys to girls is 28 to 56.  Express the ratio of boys to girls in simplest form.</a:t>
            </a:r>
            <a:r>
              <a:rPr b="0" lang="en-US" sz="3600" spc="-1" strike="noStrike">
                <a:solidFill>
                  <a:srgbClr val="000000"/>
                </a:solidFill>
                <a:latin typeface="SimHe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SimHe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SimHei"/>
              </a:rPr>
              <a:t>Explain what this ratio tells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990720" y="3048120"/>
            <a:ext cx="74674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6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8 / 56 = 1 / 2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The ratio of boys to girls is 1 to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2) For every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oy there are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girls at the part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911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913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8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9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0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3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4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5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0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Croobie"/>
              </a:rPr>
              <a:t>Practice Word Problems 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6933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901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Mindy has 72 candy bars.  If the ratio of Mars to Snickers is 8:4,  Find the number of each type of cand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Explain what this ratio tell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936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938" dur="2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Garamond"/>
              </a:rPr>
              <a:t>Challenge Ques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erimeter of a rectangle is 500 feet.  The ratio of the base and height is 3:2.  What is the measure of the he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umber of boys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umber of girls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we compare boys </a:t>
            </a:r>
            <a:r>
              <a:rPr b="0" lang="en-US" sz="3000" spc="-1" strike="noStrike">
                <a:solidFill>
                  <a:srgbClr val="996600"/>
                </a:solidFill>
                <a:latin typeface="Arial"/>
              </a:rPr>
              <a:t>t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irls we g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 boys to _____ gir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77dwg_s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457200"/>
            <a:ext cx="762120" cy="100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13_toiletsq_women_inv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43800" y="45720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What do we call a comparison between two or more quantities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914400" y="182880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    </a:t>
            </a: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RATI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5410080" y="16765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We just found the RATIO of boys to girl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334120" y="34290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Is the ratio of </a:t>
            </a:r>
            <a:r>
              <a:rPr b="1" lang="en-US" sz="2400" spc="-1" strike="noStrike">
                <a:solidFill>
                  <a:srgbClr val="996600"/>
                </a:solidFill>
                <a:latin typeface="Comic Sans MS"/>
              </a:rPr>
              <a:t>girls to boys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 the same 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066680" y="52578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No, when writing a ratio,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RDER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 matt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Picture 10" descr="animation-teacher"/>
          <p:cNvPicPr/>
          <p:nvPr/>
        </p:nvPicPr>
        <p:blipFill>
          <a:blip r:embed="rId1"/>
          <a:stretch/>
        </p:blipFill>
        <p:spPr>
          <a:xfrm>
            <a:off x="762120" y="2057400"/>
            <a:ext cx="2057400" cy="194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9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Comic Sans MS"/>
              </a:rPr>
              <a:t>AIM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0000"/>
                </a:solidFill>
                <a:latin typeface="Impact"/>
              </a:rPr>
              <a:t>	</a:t>
            </a:r>
            <a:r>
              <a:rPr b="0" i="1" lang="en-US" sz="7200" spc="-1" strike="noStrike">
                <a:solidFill>
                  <a:srgbClr val="ff0000"/>
                </a:solidFill>
                <a:latin typeface="Impact"/>
              </a:rPr>
              <a:t>	</a:t>
            </a:r>
            <a:r>
              <a:rPr b="0" i="1" lang="en-US" sz="7200" spc="-1" strike="noStrike">
                <a:solidFill>
                  <a:srgbClr val="ff0000"/>
                </a:solidFill>
                <a:latin typeface="Impact"/>
              </a:rPr>
              <a:t>What is a ratio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Monotype Corsiva"/>
              </a:rPr>
              <a:t>It’s Friday night and your friends are having a party……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The ratio of girls to guys is 2 to 12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62120" y="251460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Would you want to attend the party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9" name="Picture 7" descr="partyhat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3886200"/>
            <a:ext cx="1727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How many basketballs to footballs are there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2819520"/>
            <a:ext cx="6477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Comic Sans MS"/>
              </a:rPr>
              <a:t>For every 4 basketballs there are 6 footbal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Comic Sans MS"/>
              </a:rPr>
              <a:t>The </a:t>
            </a:r>
            <a:r>
              <a:rPr b="1" i="1" lang="en-US" sz="3600" spc="-1" strike="noStrike">
                <a:solidFill>
                  <a:srgbClr val="990099"/>
                </a:solidFill>
                <a:latin typeface="Comic Sans MS"/>
              </a:rPr>
              <a:t>ratio</a:t>
            </a:r>
            <a:r>
              <a:rPr b="0" lang="en-US" sz="3600" spc="-1" strike="noStrike">
                <a:solidFill>
                  <a:srgbClr val="990099"/>
                </a:solidFill>
                <a:latin typeface="Comic Sans MS"/>
              </a:rPr>
              <a:t> is 4 to 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footb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990720"/>
            <a:ext cx="1114200" cy="666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footbal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67080" y="18288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footbal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" y="16002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football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410080" y="11430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football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781680" y="11430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5" descr="football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209680" y="18288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7" descr="basketball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276720" y="83808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8" descr="basketball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419720" y="106668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9" descr="basketball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3352680" y="182880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0" descr="basketball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791320" y="1905120"/>
            <a:ext cx="68580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9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9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3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5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6"/>
          <p:cNvSpPr/>
          <p:nvPr/>
        </p:nvSpPr>
        <p:spPr>
          <a:xfrm>
            <a:off x="5943600" y="2895480"/>
            <a:ext cx="3200400" cy="2819520"/>
          </a:xfrm>
          <a:prstGeom prst="rect">
            <a:avLst/>
          </a:prstGeom>
          <a:solidFill>
            <a:srgbClr val="339966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0099"/>
                </a:solidFill>
                <a:latin typeface="Comic Sans MS"/>
              </a:rPr>
              <a:t>What are some other ways we can write the ratio of basketball to footballs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2666880"/>
            <a:ext cx="21333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i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685800" y="472428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905120" y="312408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quantit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cond quant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1905120" y="373392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quantit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cond quant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828800" y="44956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quantity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ivid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the second quantity (as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ra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457200" y="20574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very ratio can be written in 3 ways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1447920" y="29718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Picture 14" descr="basketb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1752480"/>
            <a:ext cx="1114200" cy="10382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5"/>
          <p:cNvSpPr/>
          <p:nvPr/>
        </p:nvSpPr>
        <p:spPr>
          <a:xfrm>
            <a:off x="6095880" y="3200400"/>
            <a:ext cx="32004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Careful!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Order matters in a ratio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4 to 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Is NOT the same 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6 to 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339" nodeType="after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40" dur="1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341" dur="1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42" dur="1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8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8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80"/>
                            </p:stCondLst>
                            <p:childTnLst>
                              <p:par>
                                <p:cTn id="3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mic Sans MS"/>
              </a:rPr>
              <a:t>Write the ratio of sandwiches to coke bottles 3 different ways.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428640" y="1066680"/>
            <a:ext cx="4343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6:8 , 6 to 8, and   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4"/>
          <p:cNvSpPr/>
          <p:nvPr/>
        </p:nvSpPr>
        <p:spPr>
          <a:xfrm>
            <a:off x="5562720" y="1371600"/>
            <a:ext cx="6094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25"/>
          <p:cNvSpPr/>
          <p:nvPr/>
        </p:nvSpPr>
        <p:spPr>
          <a:xfrm>
            <a:off x="914400" y="3733920"/>
            <a:ext cx="693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 Box 26"/>
          <p:cNvSpPr/>
          <p:nvPr/>
        </p:nvSpPr>
        <p:spPr>
          <a:xfrm>
            <a:off x="990720" y="3733920"/>
            <a:ext cx="67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ince a fraction can be simplified, We can simplify the ratio 6/8 to 3/4.  The ratio of sandwiches to coke bottles can also be expressed as 3 : 4 or 3 to 4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28"/>
          <p:cNvSpPr/>
          <p:nvPr/>
        </p:nvSpPr>
        <p:spPr>
          <a:xfrm>
            <a:off x="685800" y="4800600"/>
            <a:ext cx="7238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other words, ratios can be simplified to form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equivalen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ratios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9" name="Picture 32" descr="sandwhich_lunch">
            <a:hlinkClick r:id="rId1"/>
          </p:cNvPr>
          <p:cNvPicPr/>
          <p:nvPr/>
        </p:nvPicPr>
        <p:blipFill>
          <a:blip r:embed="rId2"/>
          <a:stretch/>
        </p:blipFill>
        <p:spPr>
          <a:xfrm rot="5663400">
            <a:off x="2562480" y="1398960"/>
            <a:ext cx="912960" cy="1162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3" descr="sandwhich_lunch">
            <a:hlinkClick r:id="rId3"/>
          </p:cNvPr>
          <p:cNvPicPr/>
          <p:nvPr/>
        </p:nvPicPr>
        <p:blipFill>
          <a:blip r:embed="rId4"/>
          <a:stretch/>
        </p:blipFill>
        <p:spPr>
          <a:xfrm rot="5663400">
            <a:off x="962640" y="1323000"/>
            <a:ext cx="912600" cy="1162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4" descr="sandwhich_lunch">
            <a:hlinkClick r:id="rId5"/>
          </p:cNvPr>
          <p:cNvPicPr/>
          <p:nvPr/>
        </p:nvPicPr>
        <p:blipFill>
          <a:blip r:embed="rId6"/>
          <a:stretch/>
        </p:blipFill>
        <p:spPr>
          <a:xfrm rot="5663400">
            <a:off x="4163040" y="1551600"/>
            <a:ext cx="912600" cy="1162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5" descr="sandwhich_lunch">
            <a:hlinkClick r:id="rId7"/>
          </p:cNvPr>
          <p:cNvPicPr/>
          <p:nvPr/>
        </p:nvPicPr>
        <p:blipFill>
          <a:blip r:embed="rId8"/>
          <a:stretch/>
        </p:blipFill>
        <p:spPr>
          <a:xfrm rot="5663400">
            <a:off x="5839560" y="1551600"/>
            <a:ext cx="912600" cy="1162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9" descr="cok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05520" y="1676520"/>
            <a:ext cx="647640" cy="961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1" descr="cok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828800" y="1371600"/>
            <a:ext cx="647640" cy="961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2" descr="coke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924680" y="1523880"/>
            <a:ext cx="648000" cy="962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3" descr="coke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429000" y="1676520"/>
            <a:ext cx="647640" cy="961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4" descr="coke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858000" y="1523880"/>
            <a:ext cx="647640" cy="962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5" descr="coke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391520" y="1523880"/>
            <a:ext cx="647640" cy="962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6" descr="sandwhich_lunch">
            <a:hlinkClick r:id="rId21"/>
          </p:cNvPr>
          <p:cNvPicPr/>
          <p:nvPr/>
        </p:nvPicPr>
        <p:blipFill>
          <a:blip r:embed="rId22"/>
          <a:stretch/>
        </p:blipFill>
        <p:spPr>
          <a:xfrm rot="5663400">
            <a:off x="1114920" y="2313360"/>
            <a:ext cx="912960" cy="1162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7" descr="sandwhich_lunch">
            <a:hlinkClick r:id="rId23"/>
          </p:cNvPr>
          <p:cNvPicPr/>
          <p:nvPr/>
        </p:nvPicPr>
        <p:blipFill>
          <a:blip r:embed="rId24"/>
          <a:stretch/>
        </p:blipFill>
        <p:spPr>
          <a:xfrm rot="5663400">
            <a:off x="2410560" y="2466000"/>
            <a:ext cx="912600" cy="1162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9" descr="coke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4495680" y="2438280"/>
            <a:ext cx="648000" cy="962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0" descr="coke"/>
          <p:cNvPicPr/>
          <p:nvPr/>
        </p:nvPicPr>
        <p:blipFill>
          <a:blip r:embed="rId27"/>
          <a:stretch/>
        </p:blipFill>
        <p:spPr>
          <a:xfrm>
            <a:off x="3809880" y="2666880"/>
            <a:ext cx="648000" cy="96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5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5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Comic Sans MS"/>
              </a:rPr>
              <a:t>Equivalent Rati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70102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mplify the following ratio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to 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 to 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 to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533520" y="3429000"/>
            <a:ext cx="723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838080" y="3429000"/>
            <a:ext cx="784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 – Write the ratio as a fra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2 – Simplify the fraction (Find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eatest common factor (GCF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both numbers and divide the numerator and denominator by the GCF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3 – Write the equivalent ratio in the same form as the ques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Line 6"/>
          <p:cNvSpPr/>
          <p:nvPr/>
        </p:nvSpPr>
        <p:spPr>
          <a:xfrm>
            <a:off x="2514600" y="1676520"/>
            <a:ext cx="2362320" cy="0"/>
          </a:xfrm>
          <a:prstGeom prst="line">
            <a:avLst/>
          </a:prstGeom>
          <a:ln w="6048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257800" y="1523880"/>
            <a:ext cx="327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65000"/>
              <a:buFont typeface="Arial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 4 /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= 1       = 1 to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        8 /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Line 8"/>
          <p:cNvSpPr/>
          <p:nvPr/>
        </p:nvSpPr>
        <p:spPr>
          <a:xfrm>
            <a:off x="5943600" y="1905120"/>
            <a:ext cx="6094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Line 9"/>
          <p:cNvSpPr/>
          <p:nvPr/>
        </p:nvSpPr>
        <p:spPr>
          <a:xfrm>
            <a:off x="5181480" y="1905120"/>
            <a:ext cx="6098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Line 10"/>
          <p:cNvSpPr/>
          <p:nvPr/>
        </p:nvSpPr>
        <p:spPr>
          <a:xfrm>
            <a:off x="6781680" y="1905120"/>
            <a:ext cx="6098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5181480" y="25909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CF = 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7696080" y="1447920"/>
            <a:ext cx="914400" cy="457200"/>
          </a:xfrm>
          <a:prstGeom prst="rect">
            <a:avLst/>
          </a:prstGeom>
          <a:noFill/>
          <a:ln w="442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3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4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4" dur="3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5" dur="3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3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20:33:06Z</dcterms:created>
  <dc:creator>buffena</dc:creator>
  <dc:description/>
  <dc:language>en-US</dc:language>
  <cp:lastModifiedBy>RomaK</cp:lastModifiedBy>
  <dcterms:modified xsi:type="dcterms:W3CDTF">2015-09-04T09:19:27Z</dcterms:modified>
  <cp:revision>36</cp:revision>
  <dc:subject/>
  <dc:title>DO NOW (not later):</dc:title>
</cp:coreProperties>
</file>