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hoosh.wav" ContentType="audio/x-wav"/>
  <Override PartName="/ppt/media/image8.jpeg" ContentType="image/jpeg"/>
  <Override PartName="/ppt/media/image10.jpeg" ContentType="image/jpeg"/>
  <Override PartName="/ppt/media/image9.jpeg" ContentType="image/jpeg"/>
  <Override PartName="/ppt/media/chimes.wav" ContentType="audio/x-wav"/>
  <Override PartName="/ppt/media/image6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hammer.wav" ContentType="audio/x-wav"/>
  <Override PartName="/ppt/media/click.wav" ContentType="audio/x-wav"/>
  <Override PartName="/ppt/media/arrow.wav" ContentType="audio/x-wav"/>
  <Override PartName="/ppt/media/image4.jpeg" ContentType="image/jpeg"/>
  <Override PartName="/ppt/media/type.wav" ContentType="audio/x-wav"/>
  <Override PartName="/ppt/media/image5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696E2-422C-4765-B61A-604B80FFC4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W (not later)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the number of boys to girls in the clas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W (not later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the number of boys to girls in the c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valent Ratios can be formed by multiplying the ratio by any numb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the ratio 2 : 3 can also be written a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: 6 (multiply original ratio by by 2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: 9 (multiply original ratio by by 3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: 12 (multiply original ratio by by 4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2 : 3 can be expressed a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 to 3x (multiply the original ratio by any  number x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valent Ratios can be formed by multiplying the ratio by any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the ratio 2 : 3 can also be written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: 6 (multiply original ratio by by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: 9 (multiply original ratio by by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: 12 (multiply original ratio by by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2 : 3 can be expressed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 to 3x (multiply the original ratio by any  number 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 Ratio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atio that compares more than 2 quantities is called a compound ratio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ke recipe says the ratio of cups of milk, sugar, and batter are 1:2:4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s that there is one cup of milk for every two cups of sugar and four cups of batt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 Ratio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atio that compares more than 2 quantities is called a compound rat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ke recipe says the ratio of cups of milk, sugar, and batter are 1:2:4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s that there is one cup of milk for every two cups of sugar and four cups of ba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g contains 18 yellow, blue, and red marbles. The ratio of yellow to blue to red marbles is 4 : 2 : 3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ratio of yellow to blue marbles in simplest for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ratio of yellow to red marble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yellow marbles are ther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: 2 can be simplified to 2 : 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: 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ow : Blue : Red  is  4 : 2 : 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any multiple of this is an equivalent ratio, this can also be written as 4x : 2x: 3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4x = yellow, 2x = blue , 3x = r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 + 2x+ 3x = 18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x = 1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= 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 question asks for yellow marbles,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4x or 4 (2) = 8 yellow marbl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g contains 18 yellow, blue, and red marbles. The ratio of yellow to blue to red marbles is 4 : 2 : 3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ratio of yellow to blue marbles in simplest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ratio of yellow to red marbl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yellow marbles are the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: 2 can be simplified to 2 :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: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ow : Blue : Red  is  4 : 2 :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any multiple of this is an equivalent ratio, this can also be written as 4x : 2x: 3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4x = yellow, 2x = blue , 3x = 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 + 2x+ 3x = 18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x =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=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 question asks for yellow marbles,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4x or 4 (2) = 8 yellow marb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problem # 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You have 100 different shirts.  The ratio of blue to black shirts is  20  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Write the ratio of blue to black shirts 3 different way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Write the ratio in simplest for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Explain what this ratio tells u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How many black shirts do you hav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problem #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You have 100 different shirts.  The ratio of blue to black shirts is  20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Write the ratio of blue to black shirts 3 different 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Write the ratio in simplest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Explain what this ratio tells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How many black shirts do you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 - # 1                         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ve 100 different shirts.  The ratio of blue to black shirts is 20 / 30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Write the ratio of blue to black shirts 3 different way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to 30 ,   20 : 30,    2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Write the ratio in simplest form.  2    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Explain what this ratio tells us.  For every two blue shirts, there are 3 black shirt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How many black shirts do you have?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 + 3x = 10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x = 10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= 2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2x black shirts  so 2 (20)  = 40 black shir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 - # 1                         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ve 100 different shirts.  The ratio of blue to black shirts is 20 / 3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Write the ratio of blue to black shirts 3 different 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to 30 ,   20 : 30,   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Write the ratio in simplest form.  2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Explain what this ratio tells us.  For every two blue shirts, there are 3 black shi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How many black shirts do you hav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 + 3x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x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=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2x black shirts  so 2 (20)  = 40 black shi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Word Problem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go to a party where the ratio of boys to girls is 28 to 56.  Express the ratio of boys to girls in simplest form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at this ratio tells u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 / 56 = 1 / 2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of boys to girls is 1 to 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For every 1 boy there are 2 girls at the part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Word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go to a party where the ratio of boys to girls is 28 to 56.  Express the ratio of boys to girls in simplest form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at this ratio tells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 / 56 = 1 / 2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of boys to girls is 1 to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For every 1 boy there are 2 girls at the par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Word Problem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dy has 72 candy bars.  If the ratio of Mars to Snickers is 8:4,  Find the number of each type of cand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at this ratio tell u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Word Proble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dy has 72 candy bars.  If the ratio of Mars to Snickers is 8:4,  Find the number of each type of can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at this ratio tell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llenge Ques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imeter of a rectangle is 500 feet.  The ratio of the base and height is 3:2.  What is the measure of the height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llenge 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imeter of a rectangle is 500 feet.  The ratio of the base and height is 3:2.  What is the measure of the he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boys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girls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we compare boys to girls we get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 boys to _____ girl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boys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girls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we compare boys to girls we g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 boys to _____ gir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call a comparison between two or more quantitie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just found the RATIO of boys to girl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ratio of girls to boys the same 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when writing a ratio, ORDER matter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call a comparison between two or more quantiti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just found the RATIO of boys to gir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ratio of girls to boys the same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when writing a ratio, ORDER mat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ratio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rati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Friday night and your friends are having a party……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of girls to guys is 2 to 12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you want to attend the party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Friday night and your friends are having a party…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of girls to guys is 2 to 12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you want to attend the part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basketballs to footballs are ther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very 4 basketballs there are 6 football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is 4 to 6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basketballs to footballs are the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very 4 basketballs there are 6 footba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is 4 to 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some other ways we can write the ratio of basketball to football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o 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: 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quantity to Second quant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quantity : Second quant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quantity divided by the second quantity (as a fraction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ratio can be written in 3 way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eful!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 matters in a ratio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o 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NOT the same 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to 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some other ways we can write the ratio of basketball to footbal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o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: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quantity to Second quant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quantity : Second quant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quantity divided by the second quantity (as a fractio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ratio can be written in 3 way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eful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 matters in a rati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o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NOT the same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to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ratio of sandwiches to coke bottles 3 different way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:8 , 6 to 8, and   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a fraction can be simplified, We can simplify the ratio 6/8 to 3/4.  The ratio of sandwiches to coke bottles can also be expressed as 3 : 4 or 3 to 4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ther words, ratios can be simplified to form equivalent ratio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ratio of sandwiches to coke bottles 3 different 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:8 , 6 to 8, and  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a fraction can be simplified, We can simplify the ratio 6/8 to 3/4.  The ratio of sandwiches to coke bottles can also be expressed as 3 : 4 or 3 to 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ther words, ratios can be simplified to form equivalent rati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valent Ratio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ify the following ratios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o 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to 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to 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 – Write the ratio as a fra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 – Simplify the fraction (Find the greatest common factor (GCF) of both numbers and divide the numerator and denominator by the GCF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 – Write the equivalent ratio in the same form as the ques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4 / 4     = 1       = 1 to 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        8 / 4        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 = 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valent Rat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ify the following ratio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o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to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to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 – Write the ratio as a f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 – Simplify the fraction (Find the greatest common factor (GCF) of both numbers and divide the numerator and denominator by the GCF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 – Write the equivalent ratio in the same form as the 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4 / 4     = 1       = 1 to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        8 / 4       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 =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0A95-B7FF-4D88-B717-C43D940B5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0E7C-0FD3-47C2-B129-B7B547E8E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36BA-A0A6-4220-A20C-E6A5B1175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6B11-3099-45D1-AE92-8A86B3192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112D5-3C43-4841-83B5-599D8650D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B258C-2310-4AEB-965F-6BDA290F9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35172-D1C5-4C95-B60C-774402B89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7AFDB-75B4-4988-B5BB-CF5879A3B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A34E0-E906-4BA0-A03A-DFDBFC266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6665B-9449-4459-8F87-FD7BC37A2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85B5D-ED22-45B8-ADE3-58A5F91C2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5370-046F-4F98-9BEE-69EE0BEBF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B26B6-2B95-4439-8A09-BC7C279AE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DF999-8021-4C87-BD71-EC6D48373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918BA-85C3-4A7F-BBCE-8A668982C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FBC87-7009-484D-ACEB-18DCD8741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A0D08-183F-4588-9C46-13D5D807A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03F2-E4D3-4790-86BF-2802F7936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B4E6-ED27-465A-B1C4-F0B358055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5E06-FA01-4426-9E2D-DE746ABA1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9E6D-B225-49E1-870D-7631BA389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EFB6-9F83-46E6-8A43-CD45EE9C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3D6E-6801-4684-A68B-24362962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2678-60B6-4C31-962C-1EB554845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060E9-9530-42AF-9F80-AA9D61C5C42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461C5-361B-40BA-BA9A-98F10EE4C0C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pba-na.com/images/bathroom_acessories/77dwg_sm.gif&amp;imgrefurl=http://www.pba-na.com/bathroom/77.shtml&amp;h=250&amp;w=190&amp;sz=4&amp;tbnid=OgACVEX_L_9RVM:&amp;tbnh=106&amp;tbnw=80&amp;hl=en&amp;start=4&amp;prev=/images%3Fq%3Dbathroom%2Bsymbol%2Bmen%26svnum%3D10%26hl%3Den%26lr%3D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aiga.org/Resources/SymbolSigns/gif_large/13_toiletsq_women_inv.gif&amp;imgrefurl=http://www.aiga.org/content.cfm%3FContentAlias%3Dsymbolsigns&amp;h=613&amp;w=613&amp;sz=8&amp;tbnid=QagpGr2_zz4ZMM:&amp;tbnh=134&amp;tbnw=134&amp;hl=en&amp;start=4&amp;prev=/images%3Fq%3Dsymbol%2Bwomen%26svnum%3D10%26hl%3Den%26lr%3D" TargetMode="External"/><Relationship Id="rId4" Type="http://schemas.openxmlformats.org/officeDocument/2006/relationships/image" Target="../media/image2.jpeg"/><Relationship Id="rId5" Type="http://schemas.openxmlformats.org/officeDocument/2006/relationships/audio" Target="../media/hammer.wav"/><Relationship Id="rId6" Type="http://schemas.openxmlformats.org/officeDocument/2006/relationships/audio" Target="../media/arrow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adlantern.com/clipart/clips/bdayparty/partyhat1.gif&amp;imgrefurl=http://www.madlantern.com/clipart/Party.htm&amp;h=150&amp;w=142&amp;sz=8&amp;tbnid=YVI1nlna4yntPM:&amp;tbnh=90&amp;tbnw=85&amp;hl=en&amp;start=2&amp;prev=/images%3Fq%3Dparty%2Bhat%26svnum%3D10%26hl%3Den%26lr%3D" TargetMode="External"/><Relationship Id="rId2" Type="http://schemas.openxmlformats.org/officeDocument/2006/relationships/image" Target="../media/image4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grace-collection.com/images/football.JPG&amp;imgrefurl=http://www.grace-collection.com/sports-patterns.html&amp;h=216&amp;w=360&amp;sz=48&amp;tbnid=8OKOrfNjNUe7aM:&amp;tbnh=70&amp;tbnw=117&amp;hl=en&amp;start=4&amp;prev=/images%3Fq%3Dfootball%26svnum%3D10%26hl%3Den%26lr%3D%26sa%3DN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google.com/imgres?imgurl=http://www.grace-collection.com/images/football.JPG&amp;imgrefurl=http://www.grace-collection.com/sports-patterns.html&amp;h=216&amp;w=360&amp;sz=48&amp;tbnid=8OKOrfNjNUe7aM:&amp;tbnh=70&amp;tbnw=117&amp;hl=en&amp;start=4&amp;prev=/images%3Fq%3Dfootball%26svnum%3D10%26hl%3Den%26lr%3D%26sa%3DN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images.google.com/imgres?imgurl=http://www.grace-collection.com/images/football.JPG&amp;imgrefurl=http://www.grace-collection.com/sports-patterns.html&amp;h=216&amp;w=360&amp;sz=48&amp;tbnid=8OKOrfNjNUe7aM:&amp;tbnh=70&amp;tbnw=117&amp;hl=en&amp;start=4&amp;prev=/images%3Fq%3Dfootball%26svnum%3D10%26hl%3Den%26lr%3D%26sa%3DN" TargetMode="External"/><Relationship Id="rId6" Type="http://schemas.openxmlformats.org/officeDocument/2006/relationships/image" Target="../media/image5.jpeg"/><Relationship Id="rId7" Type="http://schemas.openxmlformats.org/officeDocument/2006/relationships/hyperlink" Target="http://images.google.com/imgres?imgurl=http://www.grace-collection.com/images/football.JPG&amp;imgrefurl=http://www.grace-collection.com/sports-patterns.html&amp;h=216&amp;w=360&amp;sz=48&amp;tbnid=8OKOrfNjNUe7aM:&amp;tbnh=70&amp;tbnw=117&amp;hl=en&amp;start=4&amp;prev=/images%3Fq%3Dfootball%26svnum%3D10%26hl%3Den%26lr%3D%26sa%3DN" TargetMode="External"/><Relationship Id="rId8" Type="http://schemas.openxmlformats.org/officeDocument/2006/relationships/image" Target="../media/image5.jpeg"/><Relationship Id="rId9" Type="http://schemas.openxmlformats.org/officeDocument/2006/relationships/hyperlink" Target="http://images.google.com/imgres?imgurl=http://www.grace-collection.com/images/football.JPG&amp;imgrefurl=http://www.grace-collection.com/sports-patterns.html&amp;h=216&amp;w=360&amp;sz=48&amp;tbnid=8OKOrfNjNUe7aM:&amp;tbnh=70&amp;tbnw=117&amp;hl=en&amp;start=4&amp;prev=/images%3Fq%3Dfootball%26svnum%3D10%26hl%3Den%26lr%3D%26sa%3DN" TargetMode="External"/><Relationship Id="rId10" Type="http://schemas.openxmlformats.org/officeDocument/2006/relationships/image" Target="../media/image5.jpeg"/><Relationship Id="rId11" Type="http://schemas.openxmlformats.org/officeDocument/2006/relationships/hyperlink" Target="http://images.google.com/imgres?imgurl=http://www.grace-collection.com/images/football.JPG&amp;imgrefurl=http://www.grace-collection.com/sports-patterns.html&amp;h=216&amp;w=360&amp;sz=48&amp;tbnid=8OKOrfNjNUe7aM:&amp;tbnh=70&amp;tbnw=117&amp;hl=en&amp;start=4&amp;prev=/images%3Fq%3Dfootball%26svnum%3D10%26hl%3Den%26lr%3D%26sa%3DN" TargetMode="External"/><Relationship Id="rId12" Type="http://schemas.openxmlformats.org/officeDocument/2006/relationships/image" Target="../media/image5.jpeg"/><Relationship Id="rId13" Type="http://schemas.openxmlformats.org/officeDocument/2006/relationships/hyperlink" Target="http://images.google.com/imgres?imgurl=http://www.grace-collection.com/images/basketball.JPG&amp;imgrefurl=http://www.grace-collection.com/sports-patterns.html&amp;h=337&amp;w=360&amp;sz=62&amp;tbnid=ujXFXrLqxBwKnM:&amp;tbnh=109&amp;tbnw=117&amp;hl=en&amp;start=1&amp;prev=/images%3Fq%3Dbasketball%26svnum%3D10%26hl%3Den%26lr%3D" TargetMode="External"/><Relationship Id="rId14" Type="http://schemas.openxmlformats.org/officeDocument/2006/relationships/image" Target="../media/image6.jpeg"/><Relationship Id="rId15" Type="http://schemas.openxmlformats.org/officeDocument/2006/relationships/hyperlink" Target="http://images.google.com/imgres?imgurl=http://www.grace-collection.com/images/basketball.JPG&amp;imgrefurl=http://www.grace-collection.com/sports-patterns.html&amp;h=337&amp;w=360&amp;sz=62&amp;tbnid=ujXFXrLqxBwKnM:&amp;tbnh=109&amp;tbnw=117&amp;hl=en&amp;start=1&amp;prev=/images%3Fq%3Dbasketball%26svnum%3D10%26hl%3Den%26lr%3D" TargetMode="External"/><Relationship Id="rId16" Type="http://schemas.openxmlformats.org/officeDocument/2006/relationships/image" Target="../media/image6.jpeg"/><Relationship Id="rId17" Type="http://schemas.openxmlformats.org/officeDocument/2006/relationships/hyperlink" Target="http://images.google.com/imgres?imgurl=http://www.grace-collection.com/images/basketball.JPG&amp;imgrefurl=http://www.grace-collection.com/sports-patterns.html&amp;h=337&amp;w=360&amp;sz=62&amp;tbnid=ujXFXrLqxBwKnM:&amp;tbnh=109&amp;tbnw=117&amp;hl=en&amp;start=1&amp;prev=/images%3Fq%3Dbasketball%26svnum%3D10%26hl%3Den%26lr%3D" TargetMode="External"/><Relationship Id="rId18" Type="http://schemas.openxmlformats.org/officeDocument/2006/relationships/image" Target="../media/image6.jpeg"/><Relationship Id="rId19" Type="http://schemas.openxmlformats.org/officeDocument/2006/relationships/hyperlink" Target="http://images.google.com/imgres?imgurl=http://www.grace-collection.com/images/basketball.JPG&amp;imgrefurl=http://www.grace-collection.com/sports-patterns.html&amp;h=337&amp;w=360&amp;sz=62&amp;tbnid=ujXFXrLqxBwKnM:&amp;tbnh=109&amp;tbnw=117&amp;hl=en&amp;start=1&amp;prev=/images%3Fq%3Dbasketball%26svnum%3D10%26hl%3Den%26lr%3D" TargetMode="External"/><Relationship Id="rId20" Type="http://schemas.openxmlformats.org/officeDocument/2006/relationships/image" Target="../media/image6.jpeg"/><Relationship Id="rId21" Type="http://schemas.openxmlformats.org/officeDocument/2006/relationships/audio" Target="../media/click.wav"/><Relationship Id="rId22" Type="http://schemas.openxmlformats.org/officeDocument/2006/relationships/audio" Target="../media/click.wav"/><Relationship Id="rId23" Type="http://schemas.openxmlformats.org/officeDocument/2006/relationships/audio" Target="../media/click.wav"/><Relationship Id="rId24" Type="http://schemas.openxmlformats.org/officeDocument/2006/relationships/audio" Target="../media/click.wav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grace-collection.com/images/basketball.JPG&amp;imgrefurl=http://www.grace-collection.com/sports-patterns.html&amp;h=337&amp;w=360&amp;sz=62&amp;tbnid=ujXFXrLqxBwKnM:&amp;tbnh=109&amp;tbnw=117&amp;hl=en&amp;start=1&amp;prev=/images%3Fq%3Dbasketball%26svnum%3D10%26hl%3Den%26lr%3D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harborhaven.com/Admin/sandwhich_lunch.jpg&amp;imgrefurl=http://www.harborhaven.com/Admin/body_admin.html&amp;h=196&amp;w=155&amp;sz=8&amp;tbnid=_OHaBsGL63gPFM:&amp;tbnh=98&amp;tbnw=77&amp;hl=en&amp;start=11&amp;prev=/images%3Fq%3Dsandwhich%26svnum%3D10%26hl%3Den%26lr%3D%26sa%3DN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com/imgres?imgurl=http://www.harborhaven.com/Admin/sandwhich_lunch.jpg&amp;imgrefurl=http://www.harborhaven.com/Admin/body_admin.html&amp;h=196&amp;w=155&amp;sz=8&amp;tbnid=_OHaBsGL63gPFM:&amp;tbnh=98&amp;tbnw=77&amp;hl=en&amp;start=11&amp;prev=/images%3Fq%3Dsandwhich%26svnum%3D10%26hl%3Den%26lr%3D%26sa%3DN" TargetMode="External"/><Relationship Id="rId4" Type="http://schemas.openxmlformats.org/officeDocument/2006/relationships/image" Target="../media/image7.jpeg"/><Relationship Id="rId5" Type="http://schemas.openxmlformats.org/officeDocument/2006/relationships/hyperlink" Target="http://images.google.com/imgres?imgurl=http://www.harborhaven.com/Admin/sandwhich_lunch.jpg&amp;imgrefurl=http://www.harborhaven.com/Admin/body_admin.html&amp;h=196&amp;w=155&amp;sz=8&amp;tbnid=_OHaBsGL63gPFM:&amp;tbnh=98&amp;tbnw=77&amp;hl=en&amp;start=11&amp;prev=/images%3Fq%3Dsandwhich%26svnum%3D10%26hl%3Den%26lr%3D%26sa%3DN" TargetMode="External"/><Relationship Id="rId6" Type="http://schemas.openxmlformats.org/officeDocument/2006/relationships/image" Target="../media/image7.jpeg"/><Relationship Id="rId7" Type="http://schemas.openxmlformats.org/officeDocument/2006/relationships/hyperlink" Target="http://images.google.com/imgres?imgurl=http://www.harborhaven.com/Admin/sandwhich_lunch.jpg&amp;imgrefurl=http://www.harborhaven.com/Admin/body_admin.html&amp;h=196&amp;w=155&amp;sz=8&amp;tbnid=_OHaBsGL63gPFM:&amp;tbnh=98&amp;tbnw=77&amp;hl=en&amp;start=11&amp;prev=/images%3Fq%3Dsandwhich%26svnum%3D10%26hl%3Den%26lr%3D%26sa%3DN" TargetMode="External"/><Relationship Id="rId8" Type="http://schemas.openxmlformats.org/officeDocument/2006/relationships/image" Target="../media/image7.jpeg"/><Relationship Id="rId9" Type="http://schemas.openxmlformats.org/officeDocument/2006/relationships/hyperlink" Target="http://images.google.com/imgres?imgurl=http://images.scripting.com/archiveScriptingCom/2005/05/23/coke.jpg&amp;imgrefurl=http://archive.scripting.com/dir/davesWorld/weblogarchive/2005/may&amp;h=215&amp;w=146&amp;sz=6&amp;tbnid=Ngnsx4-UHE5KFM:&amp;tbnh=101&amp;tbnw=68&amp;hl=en&amp;start=7&amp;prev=/images%3Fq%3Dcoke%26svnum%3D10%26hl%3Den%26lr%3D" TargetMode="External"/><Relationship Id="rId10" Type="http://schemas.openxmlformats.org/officeDocument/2006/relationships/image" Target="../media/image8.jpeg"/><Relationship Id="rId11" Type="http://schemas.openxmlformats.org/officeDocument/2006/relationships/hyperlink" Target="http://images.google.com/imgres?imgurl=http://images.scripting.com/archiveScriptingCom/2005/05/23/coke.jpg&amp;imgrefurl=http://archive.scripting.com/dir/davesWorld/weblogarchive/2005/may&amp;h=215&amp;w=146&amp;sz=6&amp;tbnid=Ngnsx4-UHE5KFM:&amp;tbnh=101&amp;tbnw=68&amp;hl=en&amp;start=7&amp;prev=/images%3Fq%3Dcoke%26svnum%3D10%26hl%3Den%26lr%3D" TargetMode="External"/><Relationship Id="rId12" Type="http://schemas.openxmlformats.org/officeDocument/2006/relationships/image" Target="../media/image8.jpeg"/><Relationship Id="rId13" Type="http://schemas.openxmlformats.org/officeDocument/2006/relationships/hyperlink" Target="http://images.google.com/imgres?imgurl=http://images.scripting.com/archiveScriptingCom/2005/05/23/coke.jpg&amp;imgrefurl=http://archive.scripting.com/dir/davesWorld/weblogarchive/2005/may&amp;h=215&amp;w=146&amp;sz=6&amp;tbnid=Ngnsx4-UHE5KFM:&amp;tbnh=101&amp;tbnw=68&amp;hl=en&amp;start=7&amp;prev=/images%3Fq%3Dcoke%26svnum%3D10%26hl%3Den%26lr%3D" TargetMode="External"/><Relationship Id="rId14" Type="http://schemas.openxmlformats.org/officeDocument/2006/relationships/image" Target="../media/image8.jpeg"/><Relationship Id="rId15" Type="http://schemas.openxmlformats.org/officeDocument/2006/relationships/hyperlink" Target="http://images.google.com/imgres?imgurl=http://images.scripting.com/archiveScriptingCom/2005/05/23/coke.jpg&amp;imgrefurl=http://archive.scripting.com/dir/davesWorld/weblogarchive/2005/may&amp;h=215&amp;w=146&amp;sz=6&amp;tbnid=Ngnsx4-UHE5KFM:&amp;tbnh=101&amp;tbnw=68&amp;hl=en&amp;start=7&amp;prev=/images%3Fq%3Dcoke%26svnum%3D10%26hl%3Den%26lr%3D" TargetMode="External"/><Relationship Id="rId16" Type="http://schemas.openxmlformats.org/officeDocument/2006/relationships/image" Target="../media/image8.jpeg"/><Relationship Id="rId17" Type="http://schemas.openxmlformats.org/officeDocument/2006/relationships/hyperlink" Target="http://images.google.com/imgres?imgurl=http://images.scripting.com/archiveScriptingCom/2005/05/23/coke.jpg&amp;imgrefurl=http://archive.scripting.com/dir/davesWorld/weblogarchive/2005/may&amp;h=215&amp;w=146&amp;sz=6&amp;tbnid=Ngnsx4-UHE5KFM:&amp;tbnh=101&amp;tbnw=68&amp;hl=en&amp;start=7&amp;prev=/images%3Fq%3Dcoke%26svnum%3D10%26hl%3Den%26lr%3D" TargetMode="External"/><Relationship Id="rId18" Type="http://schemas.openxmlformats.org/officeDocument/2006/relationships/image" Target="../media/image8.jpeg"/><Relationship Id="rId19" Type="http://schemas.openxmlformats.org/officeDocument/2006/relationships/hyperlink" Target="http://images.google.com/imgres?imgurl=http://images.scripting.com/archiveScriptingCom/2005/05/23/coke.jpg&amp;imgrefurl=http://archive.scripting.com/dir/davesWorld/weblogarchive/2005/may&amp;h=215&amp;w=146&amp;sz=6&amp;tbnid=Ngnsx4-UHE5KFM:&amp;tbnh=101&amp;tbnw=68&amp;hl=en&amp;start=7&amp;prev=/images%3Fq%3Dcoke%26svnum%3D10%26hl%3Den%26lr%3D" TargetMode="External"/><Relationship Id="rId20" Type="http://schemas.openxmlformats.org/officeDocument/2006/relationships/image" Target="../media/image8.jpeg"/><Relationship Id="rId21" Type="http://schemas.openxmlformats.org/officeDocument/2006/relationships/hyperlink" Target="http://images.google.com/imgres?imgurl=http://www.harborhaven.com/Admin/sandwhich_lunch.jpg&amp;imgrefurl=http://www.harborhaven.com/Admin/body_admin.html&amp;h=196&amp;w=155&amp;sz=8&amp;tbnid=_OHaBsGL63gPFM:&amp;tbnh=98&amp;tbnw=77&amp;hl=en&amp;start=11&amp;prev=/images%3Fq%3Dsandwhich%26svnum%3D10%26hl%3Den%26lr%3D%26sa%3DN" TargetMode="External"/><Relationship Id="rId22" Type="http://schemas.openxmlformats.org/officeDocument/2006/relationships/image" Target="../media/image7.jpeg"/><Relationship Id="rId23" Type="http://schemas.openxmlformats.org/officeDocument/2006/relationships/hyperlink" Target="http://images.google.com/imgres?imgurl=http://www.harborhaven.com/Admin/sandwhich_lunch.jpg&amp;imgrefurl=http://www.harborhaven.com/Admin/body_admin.html&amp;h=196&amp;w=155&amp;sz=8&amp;tbnid=_OHaBsGL63gPFM:&amp;tbnh=98&amp;tbnw=77&amp;hl=en&amp;start=11&amp;prev=/images%3Fq%3Dsandwhich%26svnum%3D10%26hl%3Den%26lr%3D%26sa%3DN" TargetMode="External"/><Relationship Id="rId24" Type="http://schemas.openxmlformats.org/officeDocument/2006/relationships/image" Target="../media/image7.jpeg"/><Relationship Id="rId25" Type="http://schemas.openxmlformats.org/officeDocument/2006/relationships/hyperlink" Target="http://images.google.com/imgres?imgurl=http://images.scripting.com/archiveScriptingCom/2005/05/23/coke.jpg&amp;imgrefurl=http://archive.scripting.com/dir/davesWorld/weblogarchive/2005/may&amp;h=215&amp;w=146&amp;sz=6&amp;tbnid=Ngnsx4-UHE5KFM:&amp;tbnh=101&amp;tbnw=68&amp;hl=en&amp;start=7&amp;prev=/images%3Fq%3Dcoke%26svnum%3D10%26hl%3Den%26lr%3D" TargetMode="External"/><Relationship Id="rId26" Type="http://schemas.openxmlformats.org/officeDocument/2006/relationships/image" Target="../media/image8.jpeg"/><Relationship Id="rId27" Type="http://schemas.openxmlformats.org/officeDocument/2006/relationships/image" Target="../media/image8.jpeg"/><Relationship Id="rId28" Type="http://schemas.openxmlformats.org/officeDocument/2006/relationships/slideLayout" Target="../slideLayouts/slideLayout1.xml"/><Relationship Id="rId2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DO NOW (not later)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Compare the number of boys to girls in the clas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9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0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b812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33"/>
                </a:solidFill>
                <a:latin typeface="Comic Sans MS"/>
              </a:rPr>
              <a:t>Equivalent Ratios can be formed by multiplying the ratio by any number.</a:t>
            </a:r>
            <a:endParaRPr b="0" lang="en-US" sz="3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example, the ratio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2 : 3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an also be written a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 : 6 (multiply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origin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atio by by 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6 : 9 (multiply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origin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atio by by 3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8 : 12 (multiply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origin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atio by by 4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762120" y="4267080"/>
            <a:ext cx="769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ratio 2 : 3 can be expressed a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2x to 3x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multiply the original ratio by any  number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2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2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2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2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2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2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5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6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7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0" dur="8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1" dur="8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2" dur="8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2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2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2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3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1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animMotion origin="layout" path="M 0 0 L 0 -0.07213 E">
                                      <p:cBhvr>
                                        <p:cTn id="6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3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3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3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3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cde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ompound Ratios</a:t>
            </a: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	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A ratio that compares more than 2 quantities is called a </a:t>
            </a:r>
            <a:r>
              <a:rPr b="0" lang="en-US" sz="3000" spc="-1" strike="noStrike">
                <a:solidFill>
                  <a:srgbClr val="ff3399"/>
                </a:solidFill>
                <a:latin typeface="Arial"/>
              </a:rPr>
              <a:t>compound</a:t>
            </a: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 rati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A cake recipe says the ratio of cups of </a:t>
            </a:r>
            <a:r>
              <a:rPr b="0" lang="en-US" sz="2600" spc="-1" strike="noStrike">
                <a:solidFill>
                  <a:srgbClr val="5e2908"/>
                </a:solidFill>
                <a:latin typeface="Arial"/>
              </a:rPr>
              <a:t>milk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, </a:t>
            </a:r>
            <a:r>
              <a:rPr b="0" lang="en-US" sz="2600" spc="-1" strike="noStrike">
                <a:solidFill>
                  <a:srgbClr val="f11717"/>
                </a:solidFill>
                <a:latin typeface="Arial"/>
              </a:rPr>
              <a:t>sugar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, and batter are </a:t>
            </a:r>
            <a:r>
              <a:rPr b="0" lang="en-US" sz="2600" spc="-1" strike="noStrike">
                <a:solidFill>
                  <a:srgbClr val="5e2908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:</a:t>
            </a:r>
            <a:r>
              <a:rPr b="0" lang="en-US" sz="2600" spc="-1" strike="noStrike">
                <a:solidFill>
                  <a:srgbClr val="f11717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:</a:t>
            </a:r>
            <a:r>
              <a:rPr b="0" lang="en-US" sz="2600" spc="-1" strike="noStrike">
                <a:solidFill>
                  <a:srgbClr val="0000cc"/>
                </a:solidFill>
                <a:latin typeface="Arial"/>
              </a:rPr>
              <a:t>4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33"/>
                </a:solidFill>
                <a:latin typeface="Arial"/>
              </a:rPr>
              <a:t>This means that there is </a:t>
            </a:r>
            <a:r>
              <a:rPr b="0" lang="en-US" sz="2400" spc="-1" strike="noStrike">
                <a:solidFill>
                  <a:srgbClr val="5e2908"/>
                </a:solidFill>
                <a:latin typeface="Arial"/>
              </a:rPr>
              <a:t>one cup of milk</a:t>
            </a:r>
            <a:r>
              <a:rPr b="0" lang="en-US" sz="2400" spc="-1" strike="noStrike">
                <a:solidFill>
                  <a:srgbClr val="006633"/>
                </a:solidFill>
                <a:latin typeface="Arial"/>
              </a:rPr>
              <a:t> for every </a:t>
            </a:r>
            <a:r>
              <a:rPr b="0" lang="en-US" sz="2400" spc="-1" strike="noStrike">
                <a:solidFill>
                  <a:srgbClr val="f11717"/>
                </a:solidFill>
                <a:latin typeface="Arial"/>
              </a:rPr>
              <a:t>two cups of sugar</a:t>
            </a:r>
            <a:r>
              <a:rPr b="0" lang="en-US" sz="2400" spc="-1" strike="noStrike">
                <a:solidFill>
                  <a:srgbClr val="006633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 cups of bat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baking"/>
          <p:cNvPicPr/>
          <p:nvPr/>
        </p:nvPicPr>
        <p:blipFill>
          <a:blip r:embed="rId1"/>
          <a:stretch/>
        </p:blipFill>
        <p:spPr>
          <a:xfrm>
            <a:off x="3733920" y="4983120"/>
            <a:ext cx="1295280" cy="10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1" dur="2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4" dur="2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9" dur="20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Franklin Gothic Medium"/>
              </a:rPr>
              <a:t>A bag contains 18 yellow, blue, and red marbles. The ratio of </a:t>
            </a:r>
            <a:r>
              <a:rPr b="1" lang="en-US" sz="2800" spc="-1" strike="noStrike">
                <a:solidFill>
                  <a:srgbClr val="afbf39"/>
                </a:solidFill>
                <a:latin typeface="Franklin Gothic Medium"/>
              </a:rPr>
              <a:t>yellow</a:t>
            </a:r>
            <a:r>
              <a:rPr b="1" lang="en-US" sz="2800" spc="-1" strike="noStrike">
                <a:solidFill>
                  <a:srgbClr val="006633"/>
                </a:solidFill>
                <a:latin typeface="Franklin Gothic Medium"/>
              </a:rPr>
              <a:t> to </a:t>
            </a:r>
            <a:r>
              <a:rPr b="1" lang="en-US" sz="2800" spc="-1" strike="noStrike">
                <a:solidFill>
                  <a:srgbClr val="09195d"/>
                </a:solidFill>
                <a:latin typeface="Franklin Gothic Medium"/>
              </a:rPr>
              <a:t>blue</a:t>
            </a:r>
            <a:r>
              <a:rPr b="1" lang="en-US" sz="2800" spc="-1" strike="noStrike">
                <a:solidFill>
                  <a:srgbClr val="006633"/>
                </a:solidFill>
                <a:latin typeface="Franklin Gothic Medium"/>
              </a:rPr>
              <a:t> to </a:t>
            </a:r>
            <a:r>
              <a:rPr b="1" lang="en-US" sz="2800" spc="-1" strike="noStrike">
                <a:solidFill>
                  <a:srgbClr val="ff0000"/>
                </a:solidFill>
                <a:latin typeface="Franklin Gothic Medium"/>
              </a:rPr>
              <a:t>red</a:t>
            </a:r>
            <a:r>
              <a:rPr b="1" lang="en-US" sz="2800" spc="-1" strike="noStrike">
                <a:solidFill>
                  <a:srgbClr val="006633"/>
                </a:solidFill>
                <a:latin typeface="Franklin Gothic Medium"/>
              </a:rPr>
              <a:t> marbles is </a:t>
            </a:r>
            <a:r>
              <a:rPr b="1" lang="en-US" sz="2800" spc="-1" strike="noStrike">
                <a:solidFill>
                  <a:srgbClr val="afbf39"/>
                </a:solidFill>
                <a:latin typeface="Franklin Gothic Medium"/>
              </a:rPr>
              <a:t>4</a:t>
            </a:r>
            <a:r>
              <a:rPr b="1" lang="en-US" sz="2800" spc="-1" strike="noStrike">
                <a:solidFill>
                  <a:srgbClr val="006633"/>
                </a:solidFill>
                <a:latin typeface="Franklin Gothic Medium"/>
              </a:rPr>
              <a:t> : </a:t>
            </a:r>
            <a:r>
              <a:rPr b="1" lang="en-US" sz="2800" spc="-1" strike="noStrike">
                <a:solidFill>
                  <a:srgbClr val="09195d"/>
                </a:solidFill>
                <a:latin typeface="Franklin Gothic Medium"/>
              </a:rPr>
              <a:t>2</a:t>
            </a:r>
            <a:r>
              <a:rPr b="1" lang="en-US" sz="2800" spc="-1" strike="noStrike">
                <a:solidFill>
                  <a:srgbClr val="006633"/>
                </a:solidFill>
                <a:latin typeface="Franklin Gothic Medium"/>
              </a:rPr>
              <a:t> : </a:t>
            </a:r>
            <a:r>
              <a:rPr b="1" lang="en-US" sz="2800" spc="-1" strike="noStrike">
                <a:solidFill>
                  <a:srgbClr val="ff0000"/>
                </a:solidFill>
                <a:latin typeface="Franklin Gothic Medium"/>
              </a:rPr>
              <a:t>3</a:t>
            </a:r>
            <a:r>
              <a:rPr b="1" lang="en-US" sz="2800" spc="-1" strike="noStrike">
                <a:solidFill>
                  <a:srgbClr val="006633"/>
                </a:solidFill>
                <a:latin typeface="Franklin Gothic Medium"/>
              </a:rPr>
              <a:t>.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7543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rite the ratio of yellow to blue marbles in simplest for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is the ratio of yellow to red marble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many yellow marbles are ther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marbles"/>
          <p:cNvPicPr/>
          <p:nvPr/>
        </p:nvPicPr>
        <p:blipFill>
          <a:blip r:embed="rId1"/>
          <a:stretch/>
        </p:blipFill>
        <p:spPr>
          <a:xfrm>
            <a:off x="3886200" y="1295280"/>
            <a:ext cx="990720" cy="5860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6"/>
          <p:cNvSpPr/>
          <p:nvPr/>
        </p:nvSpPr>
        <p:spPr>
          <a:xfrm>
            <a:off x="3429000" y="24382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 : 2 can be simplified to 2 : 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7391520" y="2819520"/>
            <a:ext cx="14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 : 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762120" y="2362320"/>
            <a:ext cx="693396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Yellow : Blue : Red  is  4 : 2 : 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Since any multiple of this is an equivalent ratio, this can also be written as </a:t>
            </a:r>
            <a:r>
              <a:rPr b="1" lang="en-US" sz="2000" spc="-1" strike="noStrike">
                <a:solidFill>
                  <a:srgbClr val="0000cc"/>
                </a:solidFill>
                <a:latin typeface="Comic Sans MS"/>
              </a:rPr>
              <a:t>4x : 2x: 3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omic Sans MS"/>
              </a:rPr>
              <a:t>Let 4x = yellow, 2x = blue , 3x = r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4x + 2x+ 3x = 18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9x = 18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X= 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Since the question asks for yellow marbles,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there are 4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 or 4 (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) = 8 yellow marbl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4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9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0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1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8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4" dur="8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8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8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2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6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73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3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3.77053E-007 L -0.0033 -0.21212 E">
                                      <p:cBhvr>
                                        <p:cTn id="740" dur="2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9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9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9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9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79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9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0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0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0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0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0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5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0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0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0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0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1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1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1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1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1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1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1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7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1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2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2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2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3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2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2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2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2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9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3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3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3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3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5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3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3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3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4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Garamond"/>
              </a:rPr>
              <a:t>Practice problem # 1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(1) You have </a:t>
            </a:r>
            <a:r>
              <a:rPr b="1" lang="en-US" sz="3000" spc="-1" strike="noStrike">
                <a:solidFill>
                  <a:srgbClr val="990099"/>
                </a:solidFill>
                <a:latin typeface="Comic Sans MS"/>
              </a:rPr>
              <a:t>100</a:t>
            </a: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 different shirts.  The ratio of blue to black shirts is  20 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                                             </a:t>
            </a: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30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a) Write the ratio of blue to black shirts 3 different way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b) Write the ratio in simplest for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         </a:t>
            </a: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c) Explain what this ratio tells u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   </a:t>
            </a: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d) How many black shirts do you hav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4"/>
          <p:cNvSpPr/>
          <p:nvPr/>
        </p:nvSpPr>
        <p:spPr>
          <a:xfrm>
            <a:off x="5410080" y="2209680"/>
            <a:ext cx="68580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Garamond"/>
              </a:rPr>
              <a:t>Solution  - # 1                         </a:t>
            </a:r>
            <a:r>
              <a:rPr b="1" lang="en-US" sz="42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Comic Sans MS"/>
              </a:rPr>
              <a:t>You have </a:t>
            </a:r>
            <a:r>
              <a:rPr b="1" lang="en-US" sz="1800" spc="-1" strike="noStrike">
                <a:solidFill>
                  <a:srgbClr val="cc9900"/>
                </a:solidFill>
                <a:latin typeface="Comic Sans MS"/>
              </a:rPr>
              <a:t>100</a:t>
            </a:r>
            <a:r>
              <a:rPr b="0" lang="en-US" sz="1800" spc="-1" strike="noStrike">
                <a:solidFill>
                  <a:srgbClr val="cc9900"/>
                </a:solidFill>
                <a:latin typeface="Comic Sans MS"/>
              </a:rPr>
              <a:t> different shirts.  The ratio of blue to black shirts is 20 / 3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Comic Sans MS"/>
              </a:rPr>
              <a:t>a) Write the ratio of blue to black shirts 3 different wa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99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cc99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20 to 30 ,   20 : 30,    2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                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3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Comic Sans MS"/>
              </a:rPr>
              <a:t>b) Write the ratio in simplest form.</a:t>
            </a:r>
            <a:r>
              <a:rPr b="0" lang="en-US" sz="2600" spc="-1" strike="noStrike">
                <a:solidFill>
                  <a:srgbClr val="cc9900"/>
                </a:solidFill>
                <a:latin typeface="Comic Sans MS"/>
              </a:rPr>
              <a:t>  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2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         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Comic Sans MS"/>
              </a:rPr>
              <a:t>c) Explain what this ratio tells us.  </a:t>
            </a:r>
            <a:r>
              <a:rPr b="0" lang="en-US" sz="1800" spc="-1" strike="noStrike">
                <a:solidFill>
                  <a:srgbClr val="f11717"/>
                </a:solidFill>
                <a:latin typeface="Comic Sans MS"/>
              </a:rPr>
              <a:t>For every two blue shirts, there are 3 black shi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Comic Sans MS"/>
              </a:rPr>
              <a:t>d) How many black shirts do you hav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Comic Sans MS"/>
              </a:rPr>
              <a:t>            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2x + 3x =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             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5x =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                </a:t>
            </a:r>
            <a:r>
              <a:rPr b="1" lang="en-US" sz="1800" spc="-1" strike="noStrike">
                <a:solidFill>
                  <a:srgbClr val="990099"/>
                </a:solidFill>
                <a:latin typeface="Comic Sans MS"/>
              </a:rPr>
              <a:t>x =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             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There are 2</a:t>
            </a:r>
            <a:r>
              <a:rPr b="1" lang="en-US" sz="1800" spc="-1" strike="noStrike">
                <a:solidFill>
                  <a:srgbClr val="990099"/>
                </a:solidFill>
                <a:latin typeface="Comic Sans MS"/>
              </a:rPr>
              <a:t>x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 black shirts  so 2 (</a:t>
            </a:r>
            <a:r>
              <a:rPr b="1" lang="en-US" sz="1800" spc="-1" strike="noStrike">
                <a:solidFill>
                  <a:srgbClr val="990099"/>
                </a:solidFill>
                <a:latin typeface="Comic Sans MS"/>
              </a:rPr>
              <a:t>20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)  = 40 black shi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4"/>
          <p:cNvSpPr/>
          <p:nvPr/>
        </p:nvSpPr>
        <p:spPr>
          <a:xfrm>
            <a:off x="4800600" y="205740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Line 5"/>
          <p:cNvSpPr/>
          <p:nvPr/>
        </p:nvSpPr>
        <p:spPr>
          <a:xfrm>
            <a:off x="4343400" y="289548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5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2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8" dur="2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2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2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2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4" dur="2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2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2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1" dur="20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4" dur="20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7" dur="20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0" dur="2000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4" dur="1000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2000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8" dur="2000" fill="hold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2000" fill="hold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Croobie"/>
              </a:rPr>
              <a:t>Practice Word Problem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47920" y="1066320"/>
            <a:ext cx="6781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31360" indent="-531360">
              <a:lnSpc>
                <a:spcPct val="10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SimHe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11717"/>
                </a:solidFill>
                <a:latin typeface="SimHei"/>
              </a:rPr>
              <a:t>You go to a party where the ratio of boys to girls is 28 to 56.  Express the ratio of boys to girls in simplest form.</a:t>
            </a:r>
            <a:r>
              <a:rPr b="0" lang="en-US" sz="3600" spc="-1" strike="noStrike">
                <a:solidFill>
                  <a:srgbClr val="000000"/>
                </a:solidFill>
                <a:latin typeface="SimHei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1360" indent="-531360">
              <a:lnSpc>
                <a:spcPct val="10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SimHe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SimHei"/>
              </a:rPr>
              <a:t>Explain what this ratio tells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990720" y="3048120"/>
            <a:ext cx="746748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65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8 / 56 = 1 / 2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The ratio of boys to girls is 1 to 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(2) For every 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oy there are 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girls at the part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918" dur="2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19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920" dur="2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5" dur="8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6" dur="8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7" dur="8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0" dur="8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1" dur="8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2" dur="8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5" dur="8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6" dur="8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7" dur="8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Croobie"/>
              </a:rPr>
              <a:t>Practice Word Problems 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69339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901"/>
              </a:spcBef>
              <a:buClr>
                <a:srgbClr val="cc9900"/>
              </a:buClr>
              <a:buSzPct val="6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Mindy has 72 candy bars.  If the ratio of Mars to Snickers is 8:4,  Find the number of each type of cand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901"/>
              </a:spcBef>
              <a:buClr>
                <a:srgbClr val="cc9900"/>
              </a:buClr>
              <a:buSzPct val="6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Explain what this ratio tell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943" dur="2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44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945" dur="2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Garamond"/>
              </a:rPr>
              <a:t>Challenge Ques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erimeter of a rectangle is 500 feet.  The ratio of the base and height is 3:2.  What is the measure of the heigh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number of boys 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number of girls 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we compare boys </a:t>
            </a:r>
            <a:r>
              <a:rPr b="0" lang="en-US" sz="3000" spc="-1" strike="noStrike">
                <a:solidFill>
                  <a:srgbClr val="996600"/>
                </a:solidFill>
                <a:latin typeface="Arial"/>
              </a:rPr>
              <a:t>t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girls we g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 boys to _____ gir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77dwg_s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457200"/>
            <a:ext cx="762120" cy="1009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13_toiletsq_women_inv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43800" y="45720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3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What do we call a comparison between two or more quantities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914400" y="1828800"/>
            <a:ext cx="495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Comic Sans MS"/>
              </a:rPr>
              <a:t>    </a:t>
            </a:r>
            <a:r>
              <a:rPr b="1" lang="en-US" sz="4400" spc="-1" strike="noStrike">
                <a:solidFill>
                  <a:srgbClr val="996600"/>
                </a:solidFill>
                <a:latin typeface="Comic Sans MS"/>
              </a:rPr>
              <a:t>RATI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5410080" y="167652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We just found the RATIO of boys to girl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5334120" y="3429000"/>
            <a:ext cx="236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00"/>
                </a:solidFill>
                <a:latin typeface="Comic Sans MS"/>
              </a:rPr>
              <a:t>Is the ratio of </a:t>
            </a:r>
            <a:r>
              <a:rPr b="1" lang="en-US" sz="2400" spc="-1" strike="noStrike">
                <a:solidFill>
                  <a:srgbClr val="996600"/>
                </a:solidFill>
                <a:latin typeface="Comic Sans MS"/>
              </a:rPr>
              <a:t>girls to boys</a:t>
            </a:r>
            <a:r>
              <a:rPr b="0" lang="en-US" sz="2400" spc="-1" strike="noStrike">
                <a:solidFill>
                  <a:srgbClr val="996600"/>
                </a:solidFill>
                <a:latin typeface="Comic Sans MS"/>
              </a:rPr>
              <a:t> the same 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066680" y="52578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No, when writing a ratio,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ORDER</a:t>
            </a: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 matter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3" name="Picture 10" descr="animation-teacher"/>
          <p:cNvPicPr/>
          <p:nvPr/>
        </p:nvPicPr>
        <p:blipFill>
          <a:blip r:embed="rId1"/>
          <a:stretch/>
        </p:blipFill>
        <p:spPr>
          <a:xfrm>
            <a:off x="762120" y="2057400"/>
            <a:ext cx="2057400" cy="1947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9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7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9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Comic Sans MS"/>
              </a:rPr>
              <a:t>AIM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ff0000"/>
                </a:solidFill>
                <a:latin typeface="Impact"/>
              </a:rPr>
              <a:t>	</a:t>
            </a:r>
            <a:r>
              <a:rPr b="0" i="1" lang="en-US" sz="7200" spc="-1" strike="noStrike">
                <a:solidFill>
                  <a:srgbClr val="ff0000"/>
                </a:solidFill>
                <a:latin typeface="Impact"/>
              </a:rPr>
              <a:t>	</a:t>
            </a:r>
            <a:r>
              <a:rPr b="0" i="1" lang="en-US" sz="7200" spc="-1" strike="noStrike">
                <a:solidFill>
                  <a:srgbClr val="ff0000"/>
                </a:solidFill>
                <a:latin typeface="Impact"/>
              </a:rPr>
              <a:t>What is a ratio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Monotype Corsiva"/>
              </a:rPr>
              <a:t>It’s Friday night and your friends are having a party……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Arial"/>
              </a:rPr>
              <a:t>The ratio of girls to guys is 2 to 12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762120" y="251460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Comic Sans MS"/>
              </a:rPr>
              <a:t>Would you want to attend the party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9" name="Picture 7" descr="partyhat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2680" y="3886200"/>
            <a:ext cx="17272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How many basketballs to footballs are there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2819520"/>
            <a:ext cx="6477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Comic Sans MS"/>
              </a:rPr>
              <a:t>For every 4 basketballs there are 6 football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Comic Sans MS"/>
              </a:rPr>
              <a:t>The </a:t>
            </a:r>
            <a:r>
              <a:rPr b="1" i="1" lang="en-US" sz="3600" spc="-1" strike="noStrike">
                <a:solidFill>
                  <a:srgbClr val="990099"/>
                </a:solidFill>
                <a:latin typeface="Comic Sans MS"/>
              </a:rPr>
              <a:t>ratio</a:t>
            </a:r>
            <a:r>
              <a:rPr b="0" lang="en-US" sz="3600" spc="-1" strike="noStrike">
                <a:solidFill>
                  <a:srgbClr val="990099"/>
                </a:solidFill>
                <a:latin typeface="Comic Sans MS"/>
              </a:rPr>
              <a:t> is 4 to 6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footbal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5120" y="990720"/>
            <a:ext cx="1114200" cy="666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football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267080" y="1828800"/>
            <a:ext cx="1114560" cy="666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football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85800" y="1600200"/>
            <a:ext cx="1114560" cy="666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1" descr="football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410080" y="1143000"/>
            <a:ext cx="1114560" cy="666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3" descr="football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781680" y="1143000"/>
            <a:ext cx="1114560" cy="666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5" descr="football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209680" y="1828800"/>
            <a:ext cx="1114560" cy="666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7" descr="basketball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3276720" y="838080"/>
            <a:ext cx="685800" cy="638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8" descr="basketball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4419720" y="1066680"/>
            <a:ext cx="685800" cy="638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9" descr="basketball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3352680" y="1828800"/>
            <a:ext cx="685800" cy="638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0" descr="basketball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5791320" y="1905120"/>
            <a:ext cx="685800" cy="63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9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9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9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1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6"/>
          <p:cNvSpPr/>
          <p:nvPr/>
        </p:nvSpPr>
        <p:spPr>
          <a:xfrm>
            <a:off x="5943600" y="2895480"/>
            <a:ext cx="3200400" cy="2819520"/>
          </a:xfrm>
          <a:prstGeom prst="rect">
            <a:avLst/>
          </a:prstGeom>
          <a:solidFill>
            <a:srgbClr val="339966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990099"/>
                </a:solidFill>
                <a:latin typeface="Comic Sans MS"/>
              </a:rPr>
              <a:t>What are some other ways we can write the ratio of basketball to footballs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2666880"/>
            <a:ext cx="213336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4 to 6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6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i="1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685800" y="4724280"/>
            <a:ext cx="533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1905120" y="312408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quantity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cond quantit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1905120" y="373392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quantit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cond quantit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1828800" y="449568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quantity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ivid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 the second quantity (as 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ra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457200" y="205740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very ratio can be written in 3 ways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Line 9"/>
          <p:cNvSpPr/>
          <p:nvPr/>
        </p:nvSpPr>
        <p:spPr>
          <a:xfrm>
            <a:off x="1447920" y="29718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1" name="Picture 14" descr="basketbal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48520" y="1752480"/>
            <a:ext cx="1114200" cy="103824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15"/>
          <p:cNvSpPr/>
          <p:nvPr/>
        </p:nvSpPr>
        <p:spPr>
          <a:xfrm>
            <a:off x="6095880" y="3200400"/>
            <a:ext cx="32004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Careful!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Order matters in a ratio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4 to 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Is NOT the same a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6 to 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345" nodeType="after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46" dur="1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347" dur="1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48" dur="1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4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5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5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5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8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9" dur="8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" dur="8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80"/>
                            </p:stCondLst>
                            <p:childTnLst>
                              <p:par>
                                <p:cTn id="3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Comic Sans MS"/>
              </a:rPr>
              <a:t>Write the ratio of sandwiches to coke bottles 3 different ways.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428640" y="1066680"/>
            <a:ext cx="4343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6:8 , 6 to 8, and   6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4"/>
          <p:cNvSpPr/>
          <p:nvPr/>
        </p:nvSpPr>
        <p:spPr>
          <a:xfrm>
            <a:off x="5562720" y="1371600"/>
            <a:ext cx="60948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Text Box 25"/>
          <p:cNvSpPr/>
          <p:nvPr/>
        </p:nvSpPr>
        <p:spPr>
          <a:xfrm>
            <a:off x="914400" y="3733920"/>
            <a:ext cx="693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Text Box 26"/>
          <p:cNvSpPr/>
          <p:nvPr/>
        </p:nvSpPr>
        <p:spPr>
          <a:xfrm>
            <a:off x="990720" y="3733920"/>
            <a:ext cx="670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ince a fraction can be simplified, We can simplify the ratio 6/8 to 3/4.  The ratio of sandwiches to coke bottles can also be expressed as 3 : 4 or 3 to 4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Text Box 28"/>
          <p:cNvSpPr/>
          <p:nvPr/>
        </p:nvSpPr>
        <p:spPr>
          <a:xfrm>
            <a:off x="685800" y="4800600"/>
            <a:ext cx="7238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other words, ratios can be simplified to form 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equivalent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ratios.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9" name="Picture 32" descr="sandwhich_lunch">
            <a:hlinkClick r:id="rId1"/>
          </p:cNvPr>
          <p:cNvPicPr/>
          <p:nvPr/>
        </p:nvPicPr>
        <p:blipFill>
          <a:blip r:embed="rId2"/>
          <a:stretch/>
        </p:blipFill>
        <p:spPr>
          <a:xfrm rot="5663400">
            <a:off x="2562480" y="1398960"/>
            <a:ext cx="912960" cy="11620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3" descr="sandwhich_lunch">
            <a:hlinkClick r:id="rId3"/>
          </p:cNvPr>
          <p:cNvPicPr/>
          <p:nvPr/>
        </p:nvPicPr>
        <p:blipFill>
          <a:blip r:embed="rId4"/>
          <a:stretch/>
        </p:blipFill>
        <p:spPr>
          <a:xfrm rot="5663400">
            <a:off x="962640" y="1323000"/>
            <a:ext cx="912600" cy="11620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4" descr="sandwhich_lunch">
            <a:hlinkClick r:id="rId5"/>
          </p:cNvPr>
          <p:cNvPicPr/>
          <p:nvPr/>
        </p:nvPicPr>
        <p:blipFill>
          <a:blip r:embed="rId6"/>
          <a:stretch/>
        </p:blipFill>
        <p:spPr>
          <a:xfrm rot="5663400">
            <a:off x="4163040" y="1551600"/>
            <a:ext cx="912600" cy="1162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5" descr="sandwhich_lunch">
            <a:hlinkClick r:id="rId7"/>
          </p:cNvPr>
          <p:cNvPicPr/>
          <p:nvPr/>
        </p:nvPicPr>
        <p:blipFill>
          <a:blip r:embed="rId8"/>
          <a:stretch/>
        </p:blipFill>
        <p:spPr>
          <a:xfrm rot="5663400">
            <a:off x="5839560" y="1551600"/>
            <a:ext cx="912600" cy="1162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9" descr="coke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105520" y="1676520"/>
            <a:ext cx="647640" cy="961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1" descr="coke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1828800" y="1371600"/>
            <a:ext cx="647640" cy="961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2" descr="coke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7924680" y="1523880"/>
            <a:ext cx="648000" cy="962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3" descr="coke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3429000" y="1676520"/>
            <a:ext cx="647640" cy="961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4" descr="coke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6858000" y="1523880"/>
            <a:ext cx="647640" cy="9622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5" descr="coke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7391520" y="1523880"/>
            <a:ext cx="647640" cy="9622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6" descr="sandwhich_lunch">
            <a:hlinkClick r:id="rId21"/>
          </p:cNvPr>
          <p:cNvPicPr/>
          <p:nvPr/>
        </p:nvPicPr>
        <p:blipFill>
          <a:blip r:embed="rId22"/>
          <a:stretch/>
        </p:blipFill>
        <p:spPr>
          <a:xfrm rot="5663400">
            <a:off x="1114920" y="2313360"/>
            <a:ext cx="912960" cy="1162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7" descr="sandwhich_lunch">
            <a:hlinkClick r:id="rId23"/>
          </p:cNvPr>
          <p:cNvPicPr/>
          <p:nvPr/>
        </p:nvPicPr>
        <p:blipFill>
          <a:blip r:embed="rId24"/>
          <a:stretch/>
        </p:blipFill>
        <p:spPr>
          <a:xfrm rot="5663400">
            <a:off x="2410560" y="2466000"/>
            <a:ext cx="912600" cy="11620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9" descr="coke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4495680" y="2438280"/>
            <a:ext cx="648000" cy="962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0" descr="coke"/>
          <p:cNvPicPr/>
          <p:nvPr/>
        </p:nvPicPr>
        <p:blipFill>
          <a:blip r:embed="rId27"/>
          <a:stretch/>
        </p:blipFill>
        <p:spPr>
          <a:xfrm>
            <a:off x="3809880" y="2666880"/>
            <a:ext cx="648000" cy="96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5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5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Comic Sans MS"/>
              </a:rPr>
              <a:t>Equivalent Ratio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70102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mplify the following ratio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 to 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0 to 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8 to 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533520" y="3429000"/>
            <a:ext cx="723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838080" y="3429000"/>
            <a:ext cx="7848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1 – Write the ratio as a frac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2 – Simplify the fraction (Find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reatest common factor (GCF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both numbers and divide the numerator and denominator by the GCF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3 – Write the equivalent ratio in the same form as the ques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Line 6"/>
          <p:cNvSpPr/>
          <p:nvPr/>
        </p:nvSpPr>
        <p:spPr>
          <a:xfrm>
            <a:off x="2514600" y="1676520"/>
            <a:ext cx="2362320" cy="0"/>
          </a:xfrm>
          <a:prstGeom prst="line">
            <a:avLst/>
          </a:prstGeom>
          <a:ln w="6048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5257800" y="1523880"/>
            <a:ext cx="327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65000"/>
              <a:buFont typeface="Arial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  4 /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= 1       = 1 to 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        8 /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Line 8"/>
          <p:cNvSpPr/>
          <p:nvPr/>
        </p:nvSpPr>
        <p:spPr>
          <a:xfrm>
            <a:off x="5943600" y="1905120"/>
            <a:ext cx="60948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Line 9"/>
          <p:cNvSpPr/>
          <p:nvPr/>
        </p:nvSpPr>
        <p:spPr>
          <a:xfrm>
            <a:off x="5181480" y="1905120"/>
            <a:ext cx="6098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Line 10"/>
          <p:cNvSpPr/>
          <p:nvPr/>
        </p:nvSpPr>
        <p:spPr>
          <a:xfrm>
            <a:off x="6781680" y="1905120"/>
            <a:ext cx="6098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5181480" y="259092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CF = 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Rectangle 14"/>
          <p:cNvSpPr/>
          <p:nvPr/>
        </p:nvSpPr>
        <p:spPr>
          <a:xfrm>
            <a:off x="7696080" y="1447920"/>
            <a:ext cx="914400" cy="457200"/>
          </a:xfrm>
          <a:prstGeom prst="rect">
            <a:avLst/>
          </a:prstGeom>
          <a:noFill/>
          <a:ln w="442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8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9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0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3" dur="8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4" dur="8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5" dur="8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9" dur="8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8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3" dur="8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4" dur="8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5" dur="8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9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0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1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0" dur="3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1" dur="3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2" dur="3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5T20:33:06Z</dcterms:created>
  <dc:creator>buffena</dc:creator>
  <dc:description/>
  <dc:language>en-US</dc:language>
  <cp:lastModifiedBy>RomaK</cp:lastModifiedBy>
  <dcterms:modified xsi:type="dcterms:W3CDTF">2015-09-04T09:19:27Z</dcterms:modified>
  <cp:revision>36</cp:revision>
  <dc:subject/>
  <dc:title>DO NOW (not later):</dc:title>
</cp:coreProperties>
</file>