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54438D-6DB6-4705-87A1-796135255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VMS Library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legs are from home to first and from first to sec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:        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2  =  902 + 902 = 16,20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 = 127.28 ft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gs are from home to first and from first to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 =  902 + 902 = 16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high is the window? 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igh is the window?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draw a diagram that shows the sides of the right triangl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bel the sides: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is 25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 is 7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 a2 + b2 = c2 to solve for the missing sid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: 7 meter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sid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is 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 is 7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2 + b2 = c2 to solve for the miss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72 + b2 = 25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9 + b2 = 625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2 = 576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did you do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b2 =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 + b2 =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=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24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ived in southern Italy during the sixth century B.C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idered the first true mathematicia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d mathematics as a means to understand the natural world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in southern Italy during the sixth century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the first true mathemati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thematics as a means to understand the natur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ongest side is the hypotenuse, side c (opposite the 90o angle)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other two sides are the legs, sides a and b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side is the hypotenuse, side c (opposite the 90o 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wo sides are the legs, sides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baseball “diamond” is really a squa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distance between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ecutive bases is 9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eet. How far does a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atcher have to throw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ball from home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late to second ba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 is the hypotenu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s are the legs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Now use: 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use: 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F5F-20DD-4090-9C88-6390AF08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76C-DCB5-49F5-88C3-A77C896B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463D7-DA0A-4A3D-959A-E0DDEED7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387B1-482E-4233-881A-962CDA7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73797-A180-4E43-81B8-5104C42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3900D-AD9B-4435-AF68-13E98E3A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7C6FC-108D-48F5-8E9B-7A5228A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54FBA-E4DB-4F54-A8B4-913CEB8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FCBEC-B2D7-463A-A280-66F808E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98D6-B9B3-4CC5-A6D9-9B82D325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3CB91-7628-41B5-B0EF-59C6AEAF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0508F-97E5-44DF-842E-65C578E4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521-4C28-40CC-9F7E-A7580473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B5B21-5855-47C8-A72C-707B500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A9531-1746-4AC7-BCD8-6275C2CD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F533A-59A8-49AC-81C0-11038EBF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34511-57A1-4A21-AE53-758638B8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67968-C657-4F48-93F5-B8BFC7A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46974-A697-40EE-910E-CB6664E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80EB9-051F-4058-8569-8BE6F055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66E98-3936-4C9A-8521-85DBB05C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0EA78-F7AC-4481-82D9-F1AAE2E8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C3715-D876-4D4B-9D0B-A4A3B7BA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EC6-E603-48AD-A1AF-038D702A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E30BF-6912-4265-A0A4-5A9F9E28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F2586-90D7-49A0-9313-E6FA7FB1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6DF59-D807-4781-8761-A05FC3BE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FD77F-0D93-4926-A370-957DEE8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67803-94C8-4588-8472-3A6A28ED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A554-4C4E-40C6-A109-3E97CEBE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22015-A208-4687-9166-75B9712C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034A3-F246-4C2A-977E-53E94D0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8F083-737E-4453-9F40-62607A8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76407-FB19-4F9A-99DC-B126D1AF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78BF-266B-4EFA-9A18-4A05EB41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3D0F5-C5CF-4490-B3D0-01F30B2A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E045E-EF85-40A6-AF1B-9A0D16FC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FC85D-56AF-41C1-87A4-8A5ABEC9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DAB0A-0A22-4AB1-93EF-204E33F8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7994C-D68A-41E1-98CA-E5D89D8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93840-698C-40DE-8F40-4336D1F9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4093E-0B8A-45E3-8084-4985949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D2A33-ACC0-41CA-87AB-F4158BB8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11130-F9F7-46FD-A69C-11E74AD2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B9E30-9B1D-417E-BDEB-AE34BD8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A37E-9E81-45FE-88E6-1E540B41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14E46-C72C-4897-8EEC-D9D4151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6B7D4-A06B-4659-AFC6-3A9A5727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9EE0F-0194-4F56-B17A-53354F7B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67224-DF85-4794-8D9D-6BE41888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9FF89-019B-49C1-9255-A0C36170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2AC9E-89E7-4740-BE0F-57D85EAE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18D87-8374-4072-9981-088967E5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7072D-F375-4BCD-81F1-FD459B19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E1364-A428-454D-AD6B-12A129F5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13E47-0B3A-40E9-A5AA-76DAF546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9F41-4A60-47D2-9C8C-03EF3F4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234BD-5BF7-4BBA-83A1-D32E7005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0F72F-0E33-49E7-879D-E928807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B0C85-C40A-4D9F-8951-9B8FB54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65A62-E9A3-47A4-A948-46E1DD31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050A4-2449-4A3D-AE37-2D2EC8F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7907B-37E2-485D-ABFD-84444D45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3A1DC-56FE-4D4E-AEC1-59C1B455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C67F-5893-4F53-B2DA-FB071584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FACF-0482-41B7-B55E-61C0DAED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6F78-6E31-49A7-B65E-6A370C17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B5D-CFB7-49B1-9D87-8F72E43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0F5-F616-490E-9F47-B22378AA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DF57-AC06-4656-956E-471C041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D3B6-A170-4A7A-A12A-C0E1DD0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13E6-A99A-4888-9D20-79188D55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B726-FE10-46EF-A3D4-BF4443FD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0D08-388D-45C7-9D83-DE37DAD5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8EA4-FEE2-4312-B761-79E43168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D36B-0A7E-4A15-BE59-BB212C13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24E0-27D2-4AB2-B3D3-F639835B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BDA4-E753-4AE6-8A0E-6996490B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C22F-4B71-4FC1-8320-925B3A14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138-52AF-4152-92FB-29A156A1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F536-81D9-47F5-BEF8-A55C23F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A025-52B4-4D79-8F02-96A4D15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A048-1A22-4D93-A383-56C93B3D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9FBB-7B8F-4D54-8E6E-26856C8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B5AC-CAC7-47CD-936E-953C0AAB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163C-236C-4BEB-A06D-D225A6F0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7B95-2F80-405D-AB43-B54E79B9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8B72-43E6-4667-AC95-97E3FA92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ADC1-43D2-42B3-8F11-B6282062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3040-9368-4BB6-B12F-6FCE704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2DF-FD0A-4CE1-A855-98569432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7220-9687-45E6-80C3-42E506C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CD20A-9C0C-4FA8-B9EC-0D9E3392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EAA10-8373-4582-9882-65B140E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ABC6-4A8F-4A20-84BF-D1F1460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9E1D-86DC-44D1-8E96-7C315D6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FFFF-92E5-4F44-92C7-DF9367D7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8575C-4EDA-4406-AE2F-CC0CD5CC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DFED-E79A-4BB2-8E16-B1CAC631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E26C-184A-4F6C-B97B-86C3A000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919D-7B16-4486-BE42-09E7062D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E0A-4CFB-4367-A867-89998EE5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0520-2CE1-4242-98F0-ED34D546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2DDEB-11BA-46EE-B45F-B90B277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A91F-788D-479B-93C3-FF6E46C5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EE2F0-7CA3-49A0-8F5B-931C3B72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5910-4142-4513-9FFC-C53523E4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0A3D1-3B25-4D06-B438-9308228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94EA-35DA-4494-853D-AC7A693D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6DDF-FA04-4B2C-A810-D7BF64B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305D-8F86-41F0-8B0F-D62D05F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CE945-8417-4FAD-BA24-13726B77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1A0-4A66-46F8-9AFC-2343FD5A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7227-7BC7-4DFF-B034-80257F12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7076-FC7A-4FD6-9AB7-A6E2345F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30A3-E3E3-4D92-9D37-F95917BF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6C27C-75BA-46AF-90DF-932B87D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DAE7-B031-4792-8EEF-065A7103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52DE-7A74-4101-8118-93D98B4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42F8A-5807-4BD9-B3EA-D69B868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71212-C6B3-45C3-B5F7-0EDCF03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201D5-4B10-4D58-AEDA-9D4623E2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549F7-B938-420A-8D47-5A33E5F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FA5-E9B5-41B2-8235-641D8B9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AD34-AA9F-49F2-A2F6-0E7C24F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3F792-EAD6-4B29-90B5-5E346107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E20C-2CB9-413B-A521-217E00EE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24C3-6FE6-4C67-A210-3A387D98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CF3E3-D2A6-4FE0-B851-E24071C9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DB36A-E166-4059-B3F7-B1D77CC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757C-2D0B-4F9B-9392-E844A36A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B6E5A-70B2-4543-A7ED-73A84735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5D5A-FC8D-4047-B426-94836E9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0742-C73B-4F52-9965-020285AF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1BC-631E-4102-9ABF-F3F4931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CD2D-EF9A-4961-832D-1691DC21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7794A-E019-4749-90B9-BA467DD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FAE82-6EC5-4EF2-9171-3E8CF481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E2DD2-0875-47F5-9738-1027B383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736B-AF07-4D7D-8F16-D279BD1D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EAC5-621F-48CB-B00F-15DA2343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4F511-957A-4689-B865-6D3B4AC7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C06C-7932-43B8-AED3-E610492A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A513F-568C-4725-9FE4-E8DB427F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2FC8-7B5A-4529-A90A-5B61ED78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56F-D600-445B-8E16-BD9AC20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FF0F7-A3B0-49A9-B7CA-0693A749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8E9CB-30F4-4738-9631-9F3EEA4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45E41-9490-4A99-8B38-E52E4DA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C6AF6-E15E-4F50-82B6-CD1DC7BB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D7F7D-8DE7-4A00-AA64-998512C8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1AD05-5C1F-4BEF-8F70-4C00C146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6508-664A-4B4D-8D78-EEA539BD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EA357-5C9A-4727-9F97-743EDE57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0CC42-6C21-4CB0-825B-574E7D98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89170-03D1-4D47-89DF-815D53D9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B90B-411B-41D8-BB83-469D4FE208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DE3-1D80-4A3C-94BE-418F4C9DE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D320-A226-492A-B624-ACD1220737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D62-D002-44F5-9643-66C9AA99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5256-0E91-498B-B903-B79D515892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6083-D8EF-44EF-A02D-4D9A04579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14C6-A945-410B-83D0-21DA155DED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A5E3-9308-4253-AD34-9CEC636F8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909-2011-4FDB-9D3A-04D6C76351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0CD0-0B55-424A-BB42-61F1D06F7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8361-62E1-4F9A-BA16-626ADD9623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DB3C-388D-4A7E-81E7-1C50ACFC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7CD-124A-4A8F-AADD-292C2EB311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A90-C5FC-426E-838A-5714DD222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E5A2-0A9B-46D9-A703-D343429513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CA2-B589-40B3-9AFA-1B1DE4014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AE34-8301-46A7-987D-752DF2EA86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6C70-464A-44D1-96AC-C8AFB21B5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4AE9-F834-4170-8879-59ADC8CC3A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84A3-4606-4AE6-9C71-C13A9149A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F1C0-18E7-4167-AA98-64DCECF64F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8838-0B74-4FB6-836D-5F94C025D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6F48-D46A-4389-B745-8CEEA5FEBF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498-769F-4EE5-B6BE-954BB680E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5436-39F2-418A-B8FF-5D8F0FA1C8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CB56-219D-47E8-BDF7-1EB41DE64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r. Clutt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MS Library</a:t>
            </a:r>
            <a:endParaRPr b="0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54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the distance from home to second, or side x in the pictur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e from home to first and from first to secon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ution:        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16,20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127.28 f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8" name="Picture 5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5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high is the window?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1" name="Picture 8" descr="house"/>
          <p:cNvPicPr/>
          <p:nvPr/>
        </p:nvPicPr>
        <p:blipFill>
          <a:blip r:embed="rId2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72" name="file.mid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5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draw a diagram that shows the sides of the right triangl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el the sides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25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7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 solve for the missing sid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/>
            <a:ahLst/>
            <a:rect l="l" t="t" r="r" b="b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/>
            <a:ahLst/>
            <a:rect l="l" t="t" r="r" b="b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4213440" y="5573880"/>
            <a:ext cx="440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house: 7 meters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/>
            <a:ahLst/>
            <a:rect l="l" t="t" r="r" b="b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5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625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576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w did you do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5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d in southern Italy during the sixth century B.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dered the first true mathematicia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d mathematics as a means to understand the natural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to teach that the earth was a sphere that revolves around the su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4" name="Picture 6" descr="Pythagoraspainting"/>
          <p:cNvPicPr/>
          <p:nvPr/>
        </p:nvPicPr>
        <p:blipFill>
          <a:blip r:embed="rId2"/>
          <a:stretch/>
        </p:blipFill>
        <p:spPr>
          <a:xfrm>
            <a:off x="4724280" y="1523880"/>
            <a:ext cx="38102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ngest side is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hypotenus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opposite the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gle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other two sides are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egs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ythagoras developed a formula for finding the length of the sides of any 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r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ang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35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ff66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+ b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= c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0" name="Picture 15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3" name="Picture 4" descr="pythprf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baseball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baseball “diamond” is really a squar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9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istance between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cutive bases is 9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t. How far does a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tcher have to thro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ball from home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late to second ba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2" name="Picture 9" descr="baball1"/>
          <p:cNvPicPr/>
          <p:nvPr/>
        </p:nvPicPr>
        <p:blipFill>
          <a:blip r:embed="rId2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 is the hypotenu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s are the leg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5" name="Picture 4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5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6:13:07Z</dcterms:created>
  <dc:creator>Mr. Clutter</dc:creator>
  <dc:description/>
  <dc:language>en-US</dc:language>
  <cp:lastModifiedBy>RomaK</cp:lastModifiedBy>
  <cp:lastPrinted>2000-06-22T06:41:35Z</cp:lastPrinted>
  <dcterms:modified xsi:type="dcterms:W3CDTF">2015-09-04T09:19:11Z</dcterms:modified>
  <cp:revision>39</cp:revision>
  <dc:subject/>
  <dc:title>Pythagorean Theorem</dc:title>
</cp:coreProperties>
</file>