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pplause.wav" ContentType="audio/x-wav"/>
  <Override PartName="/ppt/media/image2.png" ContentType="image/png"/>
  <Override PartName="/ppt/media/breeze.wav" ContentType="audio/x-wav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5744-1430-4CF4-AACC-342CADF3D7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83D3-C262-4328-B182-480EEE5C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9B7-CACD-42BA-93CE-CC3B115C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2601-48C3-4061-930A-4439FC83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487-A87D-423F-B6C9-BEDCE10E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E622-CAC2-4543-86E4-389312E8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8B3F-B718-4ACE-A072-8372DF76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E3A-CE0F-4F4C-8EC6-A28AF953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C9FC-CFD7-47D9-999B-5797211C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8E92-8C7F-4ACD-BF97-5A090586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CA0-C726-45E9-9F8F-F10983D7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D69D-9484-42F9-B2A1-88E31D1A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E8F9-8FD3-45DB-8AA6-7BB8772C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D847-6A79-493B-9028-EB407BDFA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4724280" y="1066680"/>
            <a:ext cx="358164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YTHAGORAS'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OREM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327636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 rot="5400000">
            <a:off x="2019240" y="571320"/>
            <a:ext cx="5257800" cy="5486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HANK YOU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121" name="Picture 5" descr="MCj04359890000[1]"/>
          <p:cNvPicPr/>
          <p:nvPr/>
        </p:nvPicPr>
        <p:blipFill>
          <a:blip r:embed="rId1"/>
          <a:stretch/>
        </p:blipFill>
        <p:spPr>
          <a:xfrm>
            <a:off x="3429000" y="762120"/>
            <a:ext cx="21337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502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828360" y="304560"/>
            <a:ext cx="763164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proof41"/>
          <p:cNvPicPr/>
          <p:nvPr/>
        </p:nvPicPr>
        <p:blipFill>
          <a:blip r:embed="rId2"/>
          <a:stretch/>
        </p:blipFill>
        <p:spPr>
          <a:xfrm>
            <a:off x="533520" y="1447920"/>
            <a:ext cx="2666880" cy="28954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2819520" y="1217880"/>
            <a:ext cx="564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alf sum of the bases times the altitu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before, simplifications yield 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276720" y="37501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ere is the following calc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½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2ab = 2ab +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8"/>
          <p:cNvSpPr/>
          <p:nvPr/>
        </p:nvSpPr>
        <p:spPr>
          <a:xfrm>
            <a:off x="745200" y="41760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5400000">
            <a:off x="1523520" y="990360"/>
            <a:ext cx="1218960" cy="2133720"/>
          </a:xfrm>
          <a:prstGeom prst="rtTriangl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738440" y="102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2043360" y="20937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74808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993240" y="31240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1075320" y="351648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1132200" y="38466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9 -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1585440" y="41511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 = 5.7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5562720" y="1295280"/>
            <a:ext cx="2438280" cy="1447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6781680" y="1295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>
            <a:off x="67053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5929200" y="171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7377840" y="1690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71629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7072560" y="27036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5320800" y="30844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5775480" y="335268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5"/>
          <p:cNvSpPr/>
          <p:nvPr/>
        </p:nvSpPr>
        <p:spPr>
          <a:xfrm>
            <a:off x="5861880" y="369396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9 -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5874120" y="4038480"/>
            <a:ext cx="10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8"/>
          <p:cNvSpPr/>
          <p:nvPr/>
        </p:nvSpPr>
        <p:spPr>
          <a:xfrm>
            <a:off x="5928840" y="430380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9"/>
          <p:cNvSpPr/>
          <p:nvPr/>
        </p:nvSpPr>
        <p:spPr>
          <a:xfrm>
            <a:off x="5396040" y="46083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ve for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0"/>
          <p:cNvSpPr/>
          <p:nvPr/>
        </p:nvSpPr>
        <p:spPr>
          <a:xfrm>
            <a:off x="6080400" y="4989600"/>
            <a:ext cx="15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1"/>
          <p:cNvSpPr/>
          <p:nvPr/>
        </p:nvSpPr>
        <p:spPr>
          <a:xfrm>
            <a:off x="6164640" y="5294160"/>
            <a:ext cx="14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144+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2"/>
          <p:cNvSpPr/>
          <p:nvPr/>
        </p:nvSpPr>
        <p:spPr>
          <a:xfrm>
            <a:off x="6239880" y="5599080"/>
            <a:ext cx="10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3"/>
          <p:cNvSpPr/>
          <p:nvPr/>
        </p:nvSpPr>
        <p:spPr>
          <a:xfrm>
            <a:off x="6326280" y="594360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= 17.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93280" y="316080"/>
            <a:ext cx="239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93640" y="107784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905120" y="2286000"/>
            <a:ext cx="342900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1905120" y="2286000"/>
            <a:ext cx="3429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320080" y="27036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262680" y="3465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050840" y="399888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549800" y="4332240"/>
            <a:ext cx="20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459440" y="4749840"/>
            <a:ext cx="24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 81  + 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1460160" y="5257800"/>
            <a:ext cx="13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1525680" y="563868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457200" y="3808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600200" y="1676520"/>
            <a:ext cx="1828800" cy="1752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600200" y="167652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555200" y="3886200"/>
            <a:ext cx="24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+  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129040" y="4332240"/>
            <a:ext cx="194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2499840" y="4789440"/>
            <a:ext cx="228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MCj04247540000[1]"/>
          <p:cNvPicPr/>
          <p:nvPr/>
        </p:nvPicPr>
        <p:blipFill>
          <a:blip r:embed="rId1"/>
          <a:stretch/>
        </p:blipFill>
        <p:spPr>
          <a:xfrm>
            <a:off x="5105520" y="3809880"/>
            <a:ext cx="2562120" cy="24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609480" y="4572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MCj04118680000[1]"/>
          <p:cNvPicPr/>
          <p:nvPr/>
        </p:nvPicPr>
        <p:blipFill>
          <a:blip r:embed="rId1"/>
          <a:stretch/>
        </p:blipFill>
        <p:spPr>
          <a:xfrm>
            <a:off x="1371600" y="47242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V="1">
            <a:off x="2209680" y="30477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20968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2209680" y="3048120"/>
            <a:ext cx="22860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450080" y="37339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034080" y="2627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414600" y="3846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220968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549400" y="2475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6093000" y="2982960"/>
            <a:ext cx="18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+ 3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6163560" y="33130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00 + 1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6170400" y="361800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6233760" y="400212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0.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521280" y="3697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57200" y="114300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2514600" y="4267080"/>
            <a:ext cx="39625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2895480" cy="4800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4114800" y="1903680"/>
            <a:ext cx="470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5:59:10Z</dcterms:created>
  <dc:creator>APG</dc:creator>
  <dc:description/>
  <dc:language>en-US</dc:language>
  <cp:lastModifiedBy>RomaK</cp:lastModifiedBy>
  <dcterms:modified xsi:type="dcterms:W3CDTF">2015-09-04T09:18:29Z</dcterms:modified>
  <cp:revision>8</cp:revision>
  <dc:subject/>
  <dc:title>Pythagoras theorem</dc:title>
</cp:coreProperties>
</file>