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breeze.wav" ContentType="audio/x-wav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9E3A-A422-4096-917F-E1275F16C1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585-2F15-4B8F-AD33-33F461A9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DB2-5EFE-4826-9A66-E084E259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22E-D0DC-4B7A-8CA8-D893C3D2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359-AECD-4D5C-A47B-6F83F0FB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343-908C-47BB-8094-AB6E58D3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F39-7AD7-40C0-9959-CF045A0E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74A-BF4E-429D-86DD-CAB99CF2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163-5DAE-4230-B26E-062424D1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6763-3A73-422F-9F95-2DBC82CF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1A5-9A0C-44B1-A118-A0E70A01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278-A750-485A-A278-81F9ED0F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456-522A-43C0-9FE7-94C3FB7E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06E2-84C2-45C6-B7E2-2324C64EC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724280" y="1066680"/>
            <a:ext cx="35816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YTHAGORAS'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OR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27636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5400000">
            <a:off x="2019240" y="571320"/>
            <a:ext cx="5257800" cy="548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 YOU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21" name="Picture 5" descr="MCj04359890000[1]"/>
          <p:cNvPicPr/>
          <p:nvPr/>
        </p:nvPicPr>
        <p:blipFill>
          <a:blip r:embed="rId1"/>
          <a:stretch/>
        </p:blipFill>
        <p:spPr>
          <a:xfrm>
            <a:off x="3429000" y="762120"/>
            <a:ext cx="21337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828360" y="304560"/>
            <a:ext cx="7631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roof41"/>
          <p:cNvPicPr/>
          <p:nvPr/>
        </p:nvPicPr>
        <p:blipFill>
          <a:blip r:embed="rId2"/>
          <a:stretch/>
        </p:blipFill>
        <p:spPr>
          <a:xfrm>
            <a:off x="533520" y="1447920"/>
            <a:ext cx="266688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19520" y="121788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lf sum of the bases times the al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before, simplifications yield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76720" y="37501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re is the following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½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ab = 2ab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745200" y="4176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5400000">
            <a:off x="1523520" y="990360"/>
            <a:ext cx="1218960" cy="213372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38440" y="102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043360" y="2093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480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993240" y="3124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5320" y="351648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132200" y="3846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9 -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85440" y="41511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= 5.7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562720" y="1295280"/>
            <a:ext cx="243828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67816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7053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929200" y="171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7377840" y="16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1629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7072560" y="2703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320800" y="3084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775480" y="33526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5861880" y="36939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9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5874120" y="4038480"/>
            <a:ext cx="10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5928840" y="4303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5396040" y="4608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ve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6080400" y="498960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6164640" y="529416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44+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6239880" y="5599080"/>
            <a:ext cx="10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6326280" y="59436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= 17.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93280" y="316080"/>
            <a:ext cx="239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93640" y="10778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905120" y="2286000"/>
            <a:ext cx="34290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5120" y="2286000"/>
            <a:ext cx="3429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20080" y="2703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62680" y="3465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050840" y="39988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49800" y="43322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59440" y="474984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81  +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460160" y="52578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525680" y="56386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57200" y="3808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1676520"/>
            <a:ext cx="1828800" cy="1752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600200" y="16765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55200" y="3886200"/>
            <a:ext cx="24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29040" y="433224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99840" y="4789440"/>
            <a:ext cx="22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MCj04247540000[1]"/>
          <p:cNvPicPr/>
          <p:nvPr/>
        </p:nvPicPr>
        <p:blipFill>
          <a:blip r:embed="rId1"/>
          <a:stretch/>
        </p:blipFill>
        <p:spPr>
          <a:xfrm>
            <a:off x="5105520" y="3809880"/>
            <a:ext cx="256212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9480" y="4572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MCj04118680000[1]"/>
          <p:cNvPicPr/>
          <p:nvPr/>
        </p:nvPicPr>
        <p:blipFill>
          <a:blip r:embed="rId1"/>
          <a:stretch/>
        </p:blipFill>
        <p:spPr>
          <a:xfrm>
            <a:off x="1371600" y="47242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V="1">
            <a:off x="2209680" y="3047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209680" y="3048120"/>
            <a:ext cx="22860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45008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4080" y="2627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414600" y="384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22096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549400" y="247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093000" y="2982960"/>
            <a:ext cx="18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6163560" y="3313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00 + 1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70400" y="361800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233760" y="40021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21280" y="369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57200" y="11430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4114800" y="1903680"/>
            <a:ext cx="470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5:59:10Z</dcterms:created>
  <dc:creator>APG</dc:creator>
  <dc:description/>
  <dc:language>en-US</dc:language>
  <cp:lastModifiedBy>RomaK</cp:lastModifiedBy>
  <dcterms:modified xsi:type="dcterms:W3CDTF">2015-09-04T09:18:29Z</dcterms:modified>
  <cp:revision>8</cp:revision>
  <dc:subject/>
  <dc:title>Pythagoras theorem</dc:title>
</cp:coreProperties>
</file>