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pplause.wav" ContentType="audio/x-wav"/>
  <Override PartName="/ppt/media/image2.png" ContentType="image/png"/>
  <Override PartName="/ppt/media/breeze.wav" ContentType="audio/x-wav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EB35-2CCD-4FC8-97A3-33770D79EA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AS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THAGORAS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oof was discovered by President J.A. Garfield in 1876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is the formula for the area of a trapezoid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sum of the bases times the altitude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* (a+b) * (a+b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at the picture another way, this als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computed as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of areas of the three triangl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*a*b + ½*a*b + ½*c*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before, simplifications yield a2+ b2=c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the following calcul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(a + b)(a + b) = ½ab + ½ab + ½c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(a + b)2 = ½(ab + ab + cc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+ b)2 = (ab + ab + cc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+ b2 + 2ab = 2ab + c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+ b2 = c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of was discovered by President J.A. Garfield in 1876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ey is the formula for the area of a trapezoid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sum of the bases times the altitud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* (a+b) * (a+b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picture another way, this al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mputed a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areas of the three triangl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*a*b + ½*a*b + ½*c*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before, simplifications yield a2+ b2=c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following calc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(a + b)(a + b) = ½ab + ½ab + ½c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(a + b)2 = ½(ab + ab + c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2 = (ab + ab + c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b2 + 2ab = 2ab + c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b2 = c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Find the unknown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+ 42=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49 -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5.7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132 - 5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169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 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12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for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122 +1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=144+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28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17.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Find the unknown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+ 42=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49 -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5.7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132 - 5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169 -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 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12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122 +1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=144+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2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7.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Analys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length of a diagonal of a rectang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ength 9 cm and width 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92  +  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 81  + 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= 9.85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Analys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ength of a diagonal of a rectang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length 9 cm and width 4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92  +  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 81  + 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= 9.8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quare has diagonals of length 10 c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sides of the squ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2  +  s2  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s2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2 =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7.07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diagonals of length 10 c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ides of the squ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  +  s2  =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2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 =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7.07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hip sails 20 km due North and then 35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East.  How far is it from its starting point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202  + 35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400 + 12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 = 16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= 40.3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hip sails 20 km due North and then 3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East.  How far is it from its starting poin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202  + 35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400 + 12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 = 16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= 40.3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L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4 m ladder rests against a vertical w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its foot 2 m from the wall.  How far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ll does the ladder re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Find the length of a diagonal of a rectangular box of length 12 cm, width 5 cm and height 4 c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L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4 m ladder rests against a vertica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its foot 2 m from the wall.  How fa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does the ladder re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Find the length of a diagonal of a rectangular box of length 12 cm, width 5 cm and height 4 c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better wither to be silent, or to say th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more value than sil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er throw a pearl at haz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 an idle or useless word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do not say a little in man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, but a great deal in a few. 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tter wither to be silent, or to say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ore value than sil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oner throw a pearl at haza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idle or useless word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say a little in ma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, but a great deal in a few.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ythag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2BA5-995F-4335-B832-94039F14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034-A878-4383-BEBB-46ADECFB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C20D-457F-4832-967B-A9F23857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1549-FA4D-46A5-B7C3-9D2464E7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4076-55C5-4EC4-8A2D-CC399810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DE1B-AD66-4C52-B217-5A19123B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469A-B3CA-4DEA-9D34-A9F0BC80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0D4C-65AC-4713-A7BC-B93D785E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E5E2-C997-4382-8025-BC1D1330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BEBC-0B7E-4D41-8C28-B29CAB35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C5BA-7256-4430-A3FB-64B0E890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6834-B07F-4DBA-82CE-744B1004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9F56-30DE-416D-A373-4862F5DE7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4724280" y="1066680"/>
            <a:ext cx="358164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YTHAGORAS'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OREM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327636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 rot="5400000">
            <a:off x="2019240" y="571320"/>
            <a:ext cx="5257800" cy="5486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HANK YOU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121" name="Picture 5" descr="MCj04359890000[1]"/>
          <p:cNvPicPr/>
          <p:nvPr/>
        </p:nvPicPr>
        <p:blipFill>
          <a:blip r:embed="rId1"/>
          <a:stretch/>
        </p:blipFill>
        <p:spPr>
          <a:xfrm>
            <a:off x="3429000" y="762120"/>
            <a:ext cx="21337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502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828360" y="304560"/>
            <a:ext cx="763164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of was discovered by President J.A. Garfield in 187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proof41"/>
          <p:cNvPicPr/>
          <p:nvPr/>
        </p:nvPicPr>
        <p:blipFill>
          <a:blip r:embed="rId2"/>
          <a:stretch/>
        </p:blipFill>
        <p:spPr>
          <a:xfrm>
            <a:off x="533520" y="1447920"/>
            <a:ext cx="2666880" cy="28954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2819520" y="1217880"/>
            <a:ext cx="564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key is the formula for the area of a trapezoid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alf sum of the bases times the altitu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 * (a+b) * (a+b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ing at the picture another way, th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computed a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of areas of the three triangles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*a*b + ½*a*b + ½*c*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before, simplifications yield 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276720" y="375012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ere is the following calc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(a + b)(a + b) = ½ab + ½ab + ½c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(a + b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½(ab + ab + c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+ b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ab + ab + c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2ab = 2ab + 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8"/>
          <p:cNvSpPr/>
          <p:nvPr/>
        </p:nvSpPr>
        <p:spPr>
          <a:xfrm>
            <a:off x="745200" y="41760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 Find the unknown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 rot="5400000">
            <a:off x="1523520" y="990360"/>
            <a:ext cx="1218960" cy="2133720"/>
          </a:xfrm>
          <a:prstGeom prst="rtTriangl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738440" y="102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2043360" y="20937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748080" y="178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993240" y="31240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1075320" y="3516480"/>
            <a:ext cx="11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1132200" y="38466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9 -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1585440" y="41511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 = 5.7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5562720" y="1295280"/>
            <a:ext cx="2438280" cy="1447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6781680" y="1295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 flipH="1">
            <a:off x="67053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5929200" y="1712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7377840" y="16905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71629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7072560" y="27036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5320800" y="30844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5775480" y="335268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5"/>
          <p:cNvSpPr/>
          <p:nvPr/>
        </p:nvSpPr>
        <p:spPr>
          <a:xfrm>
            <a:off x="5861880" y="369396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9 -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5874120" y="4038480"/>
            <a:ext cx="10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 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8"/>
          <p:cNvSpPr/>
          <p:nvPr/>
        </p:nvSpPr>
        <p:spPr>
          <a:xfrm>
            <a:off x="5928840" y="430380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= 12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9"/>
          <p:cNvSpPr/>
          <p:nvPr/>
        </p:nvSpPr>
        <p:spPr>
          <a:xfrm>
            <a:off x="5396040" y="46083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ve for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0"/>
          <p:cNvSpPr/>
          <p:nvPr/>
        </p:nvSpPr>
        <p:spPr>
          <a:xfrm>
            <a:off x="6080400" y="4989600"/>
            <a:ext cx="15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1"/>
          <p:cNvSpPr/>
          <p:nvPr/>
        </p:nvSpPr>
        <p:spPr>
          <a:xfrm>
            <a:off x="6164640" y="5294160"/>
            <a:ext cx="14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144+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2"/>
          <p:cNvSpPr/>
          <p:nvPr/>
        </p:nvSpPr>
        <p:spPr>
          <a:xfrm>
            <a:off x="6239880" y="5599080"/>
            <a:ext cx="10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2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3"/>
          <p:cNvSpPr/>
          <p:nvPr/>
        </p:nvSpPr>
        <p:spPr>
          <a:xfrm>
            <a:off x="6326280" y="594360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= 17.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593280" y="316080"/>
            <a:ext cx="239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 Analy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93640" y="107784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length of a diagonal of a rect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length 9 cm and width 4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905120" y="2286000"/>
            <a:ext cx="342900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1905120" y="2286000"/>
            <a:ext cx="3429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320080" y="27036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262680" y="3465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050840" y="399888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549800" y="4332240"/>
            <a:ext cx="20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459440" y="4749840"/>
            <a:ext cx="24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 81  + 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1460160" y="5257800"/>
            <a:ext cx="13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1525680" y="5638680"/>
            <a:ext cx="22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 = 9.8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457200" y="3808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quare has diagonals of length 10 c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the sides of the squ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600200" y="1676520"/>
            <a:ext cx="1828800" cy="1752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600200" y="1676520"/>
            <a:ext cx="1828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555200" y="3886200"/>
            <a:ext cx="24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+  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2129040" y="4332240"/>
            <a:ext cx="194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2499840" y="4789440"/>
            <a:ext cx="228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= 7.07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MCj04247540000[1]"/>
          <p:cNvPicPr/>
          <p:nvPr/>
        </p:nvPicPr>
        <p:blipFill>
          <a:blip r:embed="rId1"/>
          <a:stretch/>
        </p:blipFill>
        <p:spPr>
          <a:xfrm>
            <a:off x="5105520" y="3809880"/>
            <a:ext cx="2562120" cy="243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609480" y="4572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ip sails 20 km due North and then 35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East.  How far is it from its starting poi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MCj04118680000[1]"/>
          <p:cNvPicPr/>
          <p:nvPr/>
        </p:nvPicPr>
        <p:blipFill>
          <a:blip r:embed="rId1"/>
          <a:stretch/>
        </p:blipFill>
        <p:spPr>
          <a:xfrm>
            <a:off x="1371600" y="47242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V="1">
            <a:off x="2209680" y="30477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20968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2209680" y="3048120"/>
            <a:ext cx="22860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450080" y="37339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034080" y="2627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414600" y="3846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24382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220968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549400" y="2475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6093000" y="2982960"/>
            <a:ext cx="18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+ 3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6163560" y="33130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00 + 1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6170400" y="361800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6233760" y="400212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0.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521280" y="36972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57200" y="114300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4 m ladder rests against a vertical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its foot 2 m from the wall.  How far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all does the ladder rea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Find the length of a diagonal of a rectangular box of length 12 cm, width 5 cm and height 4 c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1"/>
          <a:stretch/>
        </p:blipFill>
        <p:spPr>
          <a:xfrm>
            <a:off x="2514600" y="4267080"/>
            <a:ext cx="39625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2895480" cy="48006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4114800" y="1903680"/>
            <a:ext cx="470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better wither to be silent, or to say th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ore value than sile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oner throw a pearl at haz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n an idle or useless wor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do not say a little in m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s, but a great deal in a few.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Pythag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05:59:10Z</dcterms:created>
  <dc:creator>APG</dc:creator>
  <dc:description/>
  <dc:language>en-US</dc:language>
  <cp:lastModifiedBy>RomaK</cp:lastModifiedBy>
  <dcterms:modified xsi:type="dcterms:W3CDTF">2015-09-04T09:18:29Z</dcterms:modified>
  <cp:revision>8</cp:revision>
  <dc:subject/>
  <dc:title>Pythagoras theorem</dc:title>
</cp:coreProperties>
</file>