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2281-8770-468F-AD87-C15340C8D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ing, calculating and drawing angles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ur learning objectives tod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use a protractor to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 acute and obtuse angles to the nearest degre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aw acute and obtuse angles to the nearest degre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calculate angles on a straight li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, calculating and drawing angl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learning objectives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se a protractor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acute and obtuse angles to the nearest deg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cute and obtuse angles to the nearest deg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lculate angles on a straight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do we use to help u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protra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e is a standard protractor like you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 in the classroo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use to help 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tr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a standard protractor like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in the classro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we use a protractor, we need to line it up correctl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need to make sure the protractor is lined up correctl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this ready to measure the angl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use a protractor, we need to line it up correc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make sure the protractor is lined up correc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is ready to measure the ang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re you right......................it wasn’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ok for the upside down ‘T’ in the middle of the straight line on your protractor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needs to be exactly on the vertex of your 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you right......................it was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the upside down ‘T’ in the middle of the straight line on your protracto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needs to be exactly on the vertex of your 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need to remember..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doesn’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ter which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y round th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le is, you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WAYS ne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line the up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wn ‘T’ to the verte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the 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to remember.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doesn’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whi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 roun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le is,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ne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ine the up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‘T’ to the ve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w you are read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ad from the 0°, and follow the inner set of numbe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are rea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from the 0°, and follow the inner set of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ce you reach 30° you need to be careful!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then need to look at the 1° markings on the outer set of numbe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reach 30° you need to be careful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then need to look at the 1° markings on the outer set of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does it measu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angle measures 35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it meas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gle measures 35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ing, calculating and drawing angles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member our learning objectives today 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use a protractor to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 acute and obtuse angles to the nearest degre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aw acute and obtuse angles to the nearest degre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calculate angles on a straight li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, calculating and drawing angl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our learning objectives today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se a protractor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acute and obtuse angles to the nearest deg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cute and obtuse angles to the nearest deg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lculate angles on a straight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4CA4-49EF-4056-9671-4CD50ADA4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2419-6F8F-4F12-98DC-E5216D68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E547-FB37-4EDE-BCD0-847FB8EED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66E2-D336-487E-A4C2-1C498F3DA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9B04-BE09-4097-9DE6-D68B85CB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9D93-0341-4C16-A306-84A4DB45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3985-C061-40EF-9EA6-68472109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52E0-B44F-411B-B808-ED3A5EAA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587C-1C9E-43C0-B392-9863779F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3E84-E1DC-413C-B623-3F032B96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3778-245D-4112-B8E1-7FE50BD8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2F25-6DE1-4090-9A3B-D1F197C8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5BC3-DAFF-4DEC-B9AC-207B874D1A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00"/>
                </a:solidFill>
                <a:latin typeface="Comic Sans MS"/>
              </a:rPr>
              <a:t>Measuring, calculating and drawing angles..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Comic Sans MS"/>
              </a:rPr>
              <a:t>Our learning objectives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To use a protractor t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measure acute and obtuse angles to the nearest degr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draw acute and obtuse angles to the nearest degr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To calculate angles on a straight l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4" descr="MCj03404080000[1]"/>
          <p:cNvPicPr/>
          <p:nvPr/>
        </p:nvPicPr>
        <p:blipFill>
          <a:blip r:embed="rId1"/>
          <a:stretch/>
        </p:blipFill>
        <p:spPr>
          <a:xfrm rot="1230000">
            <a:off x="1403280" y="5157720"/>
            <a:ext cx="28069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495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6375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9825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305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525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ffff00"/>
                </a:solidFill>
                <a:latin typeface="Comic Sans MS"/>
              </a:rPr>
              <a:t>What do we use to help u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273672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A protra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4" descr="Protractor"/>
          <p:cNvPicPr/>
          <p:nvPr/>
        </p:nvPicPr>
        <p:blipFill>
          <a:blip r:embed="rId1"/>
          <a:stretch/>
        </p:blipFill>
        <p:spPr>
          <a:xfrm>
            <a:off x="1547640" y="2133720"/>
            <a:ext cx="6048720" cy="33177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801720" y="5589720"/>
            <a:ext cx="751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Here is a standard protractor like yo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use in the classroo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75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075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00"/>
                </a:solidFill>
                <a:latin typeface="Comic Sans MS"/>
              </a:rPr>
              <a:t>When we use a protractor, we need to line it up correctly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000" y="5084280"/>
            <a:ext cx="7272360" cy="12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You need to make sure the protractor is lined up correctl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s this ready to measure the angl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Picture 4" descr="Protractor"/>
          <p:cNvPicPr/>
          <p:nvPr/>
        </p:nvPicPr>
        <p:blipFill>
          <a:blip r:embed="rId1"/>
          <a:stretch/>
        </p:blipFill>
        <p:spPr>
          <a:xfrm>
            <a:off x="2556000" y="2781360"/>
            <a:ext cx="3960720" cy="2173320"/>
          </a:xfrm>
          <a:prstGeom prst="rect">
            <a:avLst/>
          </a:prstGeom>
          <a:ln w="0">
            <a:noFill/>
          </a:ln>
        </p:spPr>
      </p:pic>
      <p:sp>
        <p:nvSpPr>
          <p:cNvPr id="58" name="Line 5"/>
          <p:cNvSpPr/>
          <p:nvPr/>
        </p:nvSpPr>
        <p:spPr>
          <a:xfrm flipV="1">
            <a:off x="3348000" y="263664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Line 6"/>
          <p:cNvSpPr/>
          <p:nvPr/>
        </p:nvSpPr>
        <p:spPr>
          <a:xfrm>
            <a:off x="3348000" y="472428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525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6025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7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00"/>
                </a:solidFill>
                <a:latin typeface="Comic Sans MS"/>
              </a:rPr>
              <a:t>Were you right......................it wasn’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501336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Look for the upside down ‘T’ in the middle of the straight line on your protractor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This needs to be exactly on the vertex of your an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Picture 4" descr="Protractor"/>
          <p:cNvPicPr/>
          <p:nvPr/>
        </p:nvPicPr>
        <p:blipFill>
          <a:blip r:embed="rId1"/>
          <a:stretch/>
        </p:blipFill>
        <p:spPr>
          <a:xfrm>
            <a:off x="1258920" y="1628640"/>
            <a:ext cx="3960720" cy="2173320"/>
          </a:xfrm>
          <a:prstGeom prst="rect">
            <a:avLst/>
          </a:prstGeom>
          <a:ln w="0">
            <a:noFill/>
          </a:ln>
        </p:spPr>
      </p:pic>
      <p:sp>
        <p:nvSpPr>
          <p:cNvPr id="63" name="Line 5"/>
          <p:cNvSpPr/>
          <p:nvPr/>
        </p:nvSpPr>
        <p:spPr>
          <a:xfrm flipV="1">
            <a:off x="3203640" y="148392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Line 6"/>
          <p:cNvSpPr/>
          <p:nvPr/>
        </p:nvSpPr>
        <p:spPr>
          <a:xfrm>
            <a:off x="3203640" y="357336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2987640" y="37162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65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1975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700560" y="476280"/>
            <a:ext cx="56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00"/>
                </a:solidFill>
                <a:latin typeface="Comic Sans MS"/>
              </a:rPr>
              <a:t>We need to remember..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Picture 3" descr="Protractor"/>
          <p:cNvPicPr/>
          <p:nvPr/>
        </p:nvPicPr>
        <p:blipFill>
          <a:blip r:embed="rId1"/>
          <a:stretch/>
        </p:blipFill>
        <p:spPr>
          <a:xfrm rot="2578200">
            <a:off x="2700000" y="1844280"/>
            <a:ext cx="3960720" cy="2173320"/>
          </a:xfrm>
          <a:prstGeom prst="rect">
            <a:avLst/>
          </a:prstGeom>
          <a:ln w="0">
            <a:noFill/>
          </a:ln>
        </p:spPr>
      </p:pic>
      <p:sp>
        <p:nvSpPr>
          <p:cNvPr id="68" name="Line 4"/>
          <p:cNvSpPr/>
          <p:nvPr/>
        </p:nvSpPr>
        <p:spPr>
          <a:xfrm>
            <a:off x="4067280" y="3502080"/>
            <a:ext cx="3600360" cy="503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Line 5"/>
          <p:cNvSpPr/>
          <p:nvPr/>
        </p:nvSpPr>
        <p:spPr>
          <a:xfrm>
            <a:off x="4067280" y="3500280"/>
            <a:ext cx="2736720" cy="2592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AutoShape 6"/>
          <p:cNvSpPr/>
          <p:nvPr/>
        </p:nvSpPr>
        <p:spPr>
          <a:xfrm rot="2581200">
            <a:off x="3419280" y="35002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446400" y="2371680"/>
            <a:ext cx="3737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It doesn’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matter whic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way round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angle is, yo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ALWAYS ne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to line the ups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down ‘T’ to the vert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of the an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6443640" y="1628640"/>
            <a:ext cx="23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75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8775"/>
                            </p:stCondLst>
                            <p:childTnLst>
                              <p:par>
                                <p:cTn id="8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9275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ffff00"/>
                </a:solidFill>
                <a:latin typeface="Comic Sans MS"/>
              </a:rPr>
              <a:t>Now you are ready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530064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Read from the 0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°, and follow the inner set of numb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Picture 4" descr="Protractor"/>
          <p:cNvPicPr/>
          <p:nvPr/>
        </p:nvPicPr>
        <p:blipFill>
          <a:blip r:embed="rId1"/>
          <a:stretch/>
        </p:blipFill>
        <p:spPr>
          <a:xfrm>
            <a:off x="1258920" y="1916280"/>
            <a:ext cx="3960720" cy="2172960"/>
          </a:xfrm>
          <a:prstGeom prst="rect">
            <a:avLst/>
          </a:prstGeom>
          <a:ln w="0">
            <a:noFill/>
          </a:ln>
        </p:spPr>
      </p:pic>
      <p:sp>
        <p:nvSpPr>
          <p:cNvPr id="76" name="Line 5"/>
          <p:cNvSpPr/>
          <p:nvPr/>
        </p:nvSpPr>
        <p:spPr>
          <a:xfrm flipV="1">
            <a:off x="3203640" y="177300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Line 6"/>
          <p:cNvSpPr/>
          <p:nvPr/>
        </p:nvSpPr>
        <p:spPr>
          <a:xfrm>
            <a:off x="3203640" y="386064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AutoShape 7"/>
          <p:cNvSpPr/>
          <p:nvPr/>
        </p:nvSpPr>
        <p:spPr>
          <a:xfrm>
            <a:off x="4356000" y="400536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1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,-8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96,-92,-8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1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,-8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96,-92,-8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650"/>
                            </p:stCondLst>
                            <p:childTnLst>
                              <p:par>
                                <p:cTn id="1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Comic Sans MS"/>
              </a:rPr>
              <a:t>Once you reach 30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° you need to be careful!!!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530064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You then need to look at the 1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° markings on the outer set of numb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Picture 4" descr="Protractor"/>
          <p:cNvPicPr/>
          <p:nvPr/>
        </p:nvPicPr>
        <p:blipFill>
          <a:blip r:embed="rId1"/>
          <a:stretch/>
        </p:blipFill>
        <p:spPr>
          <a:xfrm>
            <a:off x="1258920" y="1916280"/>
            <a:ext cx="3960720" cy="2172960"/>
          </a:xfrm>
          <a:prstGeom prst="rect">
            <a:avLst/>
          </a:prstGeom>
          <a:ln w="0">
            <a:noFill/>
          </a:ln>
        </p:spPr>
      </p:pic>
      <p:sp>
        <p:nvSpPr>
          <p:cNvPr id="82" name="Line 5"/>
          <p:cNvSpPr/>
          <p:nvPr/>
        </p:nvSpPr>
        <p:spPr>
          <a:xfrm flipV="1">
            <a:off x="3203640" y="177300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203640" y="386064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AutoShape 7"/>
          <p:cNvSpPr/>
          <p:nvPr/>
        </p:nvSpPr>
        <p:spPr>
          <a:xfrm rot="16200000">
            <a:off x="5177520" y="23194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6825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00"/>
                </a:solidFill>
                <a:latin typeface="Comic Sans MS"/>
              </a:rPr>
              <a:t>What does it measure?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6920" y="465300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This angle measures 35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4" descr="Protractor"/>
          <p:cNvPicPr/>
          <p:nvPr/>
        </p:nvPicPr>
        <p:blipFill>
          <a:blip r:embed="rId1"/>
          <a:stretch/>
        </p:blipFill>
        <p:spPr>
          <a:xfrm>
            <a:off x="1258920" y="1916280"/>
            <a:ext cx="3960720" cy="2172960"/>
          </a:xfrm>
          <a:prstGeom prst="rect">
            <a:avLst/>
          </a:prstGeom>
          <a:ln w="0">
            <a:noFill/>
          </a:ln>
        </p:spPr>
      </p:pic>
      <p:sp>
        <p:nvSpPr>
          <p:cNvPr id="88" name="Line 5"/>
          <p:cNvSpPr/>
          <p:nvPr/>
        </p:nvSpPr>
        <p:spPr>
          <a:xfrm flipV="1">
            <a:off x="3203640" y="177300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Line 6"/>
          <p:cNvSpPr/>
          <p:nvPr/>
        </p:nvSpPr>
        <p:spPr>
          <a:xfrm>
            <a:off x="3203640" y="386064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 rot="16200000">
            <a:off x="5177520" y="23194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6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8925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00"/>
                </a:solidFill>
                <a:latin typeface="Comic Sans MS"/>
              </a:rPr>
              <a:t>Measuring, calculating and drawing angles..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Comic Sans MS"/>
              </a:rPr>
              <a:t>Remember our learning objectives today 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To use a protractor t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measure acute and obtuse angles to the nearest degr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draw acute and obtuse angles to the nearest degr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To calculate angles on a straight l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4" descr="MCj03404080000[1]"/>
          <p:cNvPicPr/>
          <p:nvPr/>
        </p:nvPicPr>
        <p:blipFill>
          <a:blip r:embed="rId1"/>
          <a:stretch/>
        </p:blipFill>
        <p:spPr>
          <a:xfrm rot="1230000">
            <a:off x="1403280" y="5157720"/>
            <a:ext cx="28069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775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65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3875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635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18:14:05Z</dcterms:created>
  <dc:creator>dan</dc:creator>
  <dc:description/>
  <dc:language>en-US</dc:language>
  <cp:lastModifiedBy>RomaK</cp:lastModifiedBy>
  <dcterms:modified xsi:type="dcterms:W3CDTF">2015-09-04T09:18:15Z</dcterms:modified>
  <cp:revision>5</cp:revision>
  <dc:subject/>
  <dc:title>Measuring, calculating and drawing angles...</dc:title>
</cp:coreProperties>
</file>