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13A8-4CE7-4851-91A4-342E0F0D6B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95A4-9B74-40E1-89ED-6EA1C13DC9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2A56-D1F5-4B5B-8530-CE5FEC0A52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0F9C-FCCA-4FD4-9760-A4C9CBA96D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C1AF-B233-41D5-B680-70E7DA87A2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2207-E0F4-42E5-9E65-142FC0BA7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E77C-33CF-4E63-9159-745CD2A22F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49D6-0ADF-46C0-BFAE-27DC61DF0D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15A6-9A9B-4604-87EF-5C278EA1B2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Jokerman"/>
              </a:rPr>
              <a:t>Yerkes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2B25-4132-4C50-ABE3-B11CE8ED99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C97A-5925-4CB7-91F3-06692BDC06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FE4A-19CC-491D-BE59-1513206EC6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6475-D56F-467C-AB4F-3DB970163E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D731-526C-4552-B414-70BA9C47CB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3A0B-6B4B-4E25-B823-FB3AB2C5EF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C0E1-5143-4925-982F-BF8CD44FFE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6300-910E-4866-900C-1243D6FA05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BC28-AB81-45F2-829C-4D605759D2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66DA-D479-4DDF-8B4B-C8E60D257C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9365-90A3-4221-B5CD-D3F53E0BD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4B11-DE0B-4348-8242-4303510DE3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AB2-754B-4C89-A25A-963F497F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91E-C032-4E79-901E-DF042A1C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E53-6A5D-4F08-AE20-A87BAE30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AFF4-1E3A-42C7-86BE-437CDE2A7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80F-9554-4E23-B714-6C33E202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A00-8D74-46F9-A876-383FA887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4B2-9015-42B6-B9FB-90898E6C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E686-5100-470D-A539-AA726B0C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ECE-2C4D-4B3E-93C7-FE9402A2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7F0-0650-4E5D-ADBC-61B93269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90A-2FE6-46AA-9541-3E71FA1E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4A35-21A9-4218-B212-8FDF6413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BABE-50D8-4361-AF7C-0077F05979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reats to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ikeya-zhang"/>
          <p:cNvPicPr/>
          <p:nvPr/>
        </p:nvPicPr>
        <p:blipFill>
          <a:blip r:embed="rId1"/>
          <a:stretch/>
        </p:blipFill>
        <p:spPr>
          <a:xfrm>
            <a:off x="0" y="0"/>
            <a:ext cx="5280120" cy="32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gaspra"/>
          <p:cNvPicPr/>
          <p:nvPr/>
        </p:nvPicPr>
        <p:blipFill>
          <a:blip r:embed="rId2"/>
          <a:stretch/>
        </p:blipFill>
        <p:spPr>
          <a:xfrm>
            <a:off x="6559560" y="3411360"/>
            <a:ext cx="2584440" cy="3446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com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ronomers are monitoring the danger from near-Earth asteroids and com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ley’s Comet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ppears every 76 yea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e from 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lley"/>
          <p:cNvPicPr/>
          <p:nvPr/>
        </p:nvPicPr>
        <p:blipFill>
          <a:blip r:embed="rId1"/>
          <a:stretch/>
        </p:blipFill>
        <p:spPr>
          <a:xfrm>
            <a:off x="1676520" y="1981080"/>
            <a:ext cx="5841720" cy="46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ig County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hbcraigcova"/>
          <p:cNvPicPr/>
          <p:nvPr/>
        </p:nvPicPr>
        <p:blipFill>
          <a:blip r:embed="rId1"/>
          <a:stretch/>
        </p:blipFill>
        <p:spPr>
          <a:xfrm>
            <a:off x="1981080" y="2057400"/>
            <a:ext cx="54864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327672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Alexandria, VA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hbalexandriava"/>
          <p:cNvPicPr/>
          <p:nvPr/>
        </p:nvPicPr>
        <p:blipFill>
          <a:blip r:embed="rId1"/>
          <a:stretch/>
        </p:blipFill>
        <p:spPr>
          <a:xfrm>
            <a:off x="457200" y="457200"/>
            <a:ext cx="44578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-Bopp as seen from Wyoming in 199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hbwyoming"/>
          <p:cNvPicPr/>
          <p:nvPr/>
        </p:nvPicPr>
        <p:blipFill>
          <a:blip r:embed="rId1"/>
          <a:stretch/>
        </p:blipFill>
        <p:spPr>
          <a:xfrm>
            <a:off x="1219320" y="1752480"/>
            <a:ext cx="6858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Yerkes </a:t>
            </a:r>
            <a:r>
              <a:rPr b="1" lang="en-US" sz="8000" spc="-1" strike="noStrike">
                <a:solidFill>
                  <a:srgbClr val="000000"/>
                </a:solidFill>
                <a:latin typeface="Jokerman"/>
              </a:rPr>
              <a:t>Observator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yerkes"/>
          <p:cNvPicPr/>
          <p:nvPr/>
        </p:nvPicPr>
        <p:blipFill>
          <a:blip r:embed="rId1"/>
          <a:stretch/>
        </p:blipFill>
        <p:spPr>
          <a:xfrm>
            <a:off x="228600" y="2362320"/>
            <a:ext cx="2946240" cy="4254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yerkes2"/>
          <p:cNvPicPr/>
          <p:nvPr/>
        </p:nvPicPr>
        <p:blipFill>
          <a:blip r:embed="rId2"/>
          <a:stretch/>
        </p:blipFill>
        <p:spPr>
          <a:xfrm>
            <a:off x="5562720" y="4572000"/>
            <a:ext cx="3246480" cy="2030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yerkes3"/>
          <p:cNvPicPr/>
          <p:nvPr/>
        </p:nvPicPr>
        <p:blipFill>
          <a:blip r:embed="rId3"/>
          <a:stretch/>
        </p:blipFill>
        <p:spPr>
          <a:xfrm>
            <a:off x="3276720" y="2666880"/>
            <a:ext cx="34750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ts are balls of rock and ice, with trails of debris blown outward by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highly elliptical orbits and speed up as they approach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ajectories of observed object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 be predicted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n asteroid (or comet) on a collision course with Earth is spotted early enough, it may be possible to alter the trajectory of the aster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762120" y="99072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762120" y="1436760"/>
            <a:ext cx="6705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can asteroids and comets be seen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difference between a comet and an asteroid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at can be done to protect us from asteroid impacts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219320" y="1784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With telescopes,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ecause they reflect light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19320" y="3216240"/>
            <a:ext cx="65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teroids are large rocks usually in orbit between Mars and Jupiter.  Comets are ice and rock found in very elliptical orbits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219320" y="5045040"/>
            <a:ext cx="550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Detect them early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nd then alter their cou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62120" y="3808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Threats to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 this lesson we should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properties of aster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asteroids have affected Earth in the p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a comet is made from ice and dust, the tail of a is a trail of debris and that comets have highly elliptical or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that the speed of a comet increases as it approaches a 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 a near-Earth object (NEO) as an asteroid or comet on a possible collision course with Earth and how NEO may be seen with telescopes and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observations can be used to determine their trajecto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plain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h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 speed of a comet increases as it approaches a star: the strength of gravity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ggest and discuss possible actions which could be taken to reduce the threat of NEOs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4000" y="285264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4"/>
          <a:stretch/>
        </p:blipFill>
        <p:spPr>
          <a:xfrm>
            <a:off x="324000" y="465300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5"/>
          <a:stretch/>
        </p:blipFill>
        <p:spPr>
          <a:xfrm>
            <a:off x="324000" y="537372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steroid Gaspra, found in the Asteroid Belt between Mars &amp; Jup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gaspra"/>
          <p:cNvPicPr/>
          <p:nvPr/>
        </p:nvPicPr>
        <p:blipFill>
          <a:blip r:embed="rId1"/>
          <a:stretch/>
        </p:blipFill>
        <p:spPr>
          <a:xfrm>
            <a:off x="4343400" y="304920"/>
            <a:ext cx="4548240" cy="60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 Ida with it’s moon Dacty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idasmoondactyl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464832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4"/>
          <p:cNvSpPr/>
          <p:nvPr/>
        </p:nvSpPr>
        <p:spPr>
          <a:xfrm rot="1021200">
            <a:off x="7086240" y="259092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are large rocks left over from the formation of the Solar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are mostly between the orbits of Mars and Jup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teroids (large rocks) have collid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Earth in the past caus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rate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ejection of hot rock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widespread fir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unlight blocked by dus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limate chan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pecies exti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llis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vidence for past collision on Earth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r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layers of unusual elements in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sudden changes of fossil number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between adjacent layers of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50920" y="400320"/>
            <a:ext cx="8483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Asteroids are small ______________ which orbit the ______________, mainly between ______________ and ______________. Occasionally, a long time ago, ______________ are thought to have struck ______________, forming large ______________ and huge amounts of ______________ and ______________ vapour. An enormous asteroid is believed to have hit ______________ 65 ______________ years ago, leading to the ______________ of the ______________. ______________ could not penetrate the ______________ so ______________ fell, causing ______________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9640" y="4941720"/>
            <a:ext cx="7920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steroid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tmospher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limat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omet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crate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inosau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dust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arth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extinctio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Jupiter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a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eteor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illion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Neptune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rock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atur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nowball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unlight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temperatures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water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203640" y="33336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826920" y="69228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5724360" y="69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826920" y="105264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755640" y="1484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611280" y="18446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219640" y="1773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a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2627280" y="2205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5435640" y="2133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0"/>
          <p:cNvSpPr/>
          <p:nvPr/>
        </p:nvSpPr>
        <p:spPr>
          <a:xfrm>
            <a:off x="611280" y="2852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3564000" y="2924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1042920" y="3284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"/>
          <p:cNvSpPr/>
          <p:nvPr/>
        </p:nvSpPr>
        <p:spPr>
          <a:xfrm>
            <a:off x="4500720" y="3284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nosa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4"/>
          <p:cNvSpPr/>
          <p:nvPr/>
        </p:nvSpPr>
        <p:spPr>
          <a:xfrm>
            <a:off x="539640" y="3645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n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6300720" y="364500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tmo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6"/>
          <p:cNvSpPr/>
          <p:nvPr/>
        </p:nvSpPr>
        <p:spPr>
          <a:xfrm>
            <a:off x="900000" y="400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5076720" y="4005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undation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now be able to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large asteroids have collided with the Earth in the past  and describe some of the consequences  and evidence of such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ate that asteroids are rocks and describe that asteroids are left over from the formation of the Solar System and where they can be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Higher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13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xplain why the asteroid belt is between Mars and Jupiter: the large gravity of Jupiter disrupts the formation of a planet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539640" y="1557360"/>
            <a:ext cx="4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588960" cy="749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588960" cy="74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95280" y="4653000"/>
            <a:ext cx="5889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14:47:54Z</dcterms:created>
  <dc:creator>Heather Murphy</dc:creator>
  <dc:description/>
  <dc:language>en-US</dc:language>
  <cp:lastModifiedBy>RomaK</cp:lastModifiedBy>
  <dcterms:modified xsi:type="dcterms:W3CDTF">2015-08-01T07:07:34Z</dcterms:modified>
  <cp:revision>9</cp:revision>
  <dc:subject/>
  <dc:title>Threats to Earth</dc:title>
</cp:coreProperties>
</file>