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CAMERA.WAV" ContentType="audio/x-wav"/>
  <Override PartName="/ppt/media/TYPE.WAV" ContentType="audio/x-wav"/>
  <Override PartName="/ppt/media/image2.wmf" ContentType="image/x-wmf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36E5-658D-417A-8DFA-881ACF2F25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854-39F8-4F3D-A80B-2CF56F6B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D32-449A-4C49-9AB7-58E57E27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938-36E1-4113-8405-068EE4B6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661-A92D-4B91-8E9C-544051EB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A9D8-AFA1-4F45-A05F-52B02D2B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53A1-5EC8-4159-B205-2443ABBA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4C8B-2DEA-44E8-9B63-3FDA5AEF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2FF-76AC-440A-9DE0-753DF303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C46B-25ED-4DBE-A95E-4845E6A1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3E3A-2CF9-4268-835F-E9532ACD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D88E-E5A4-4441-B781-E0397F4B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C28-AC83-490C-B179-E16BB562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7EA2-D111-4242-8E68-867113A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DF2C-9D7F-45B4-9251-3F527EA9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8F3F-09E3-4EEA-BB41-3F794542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46FC-A90C-4783-A4B4-750C5271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805E-9FD3-4D8D-99BF-2894AB77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DA6-519C-4A3D-B366-680C3B86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4E2-3AFA-4040-8C85-16B29EF7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DE1-A80A-4E18-A957-5969117D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B67-0C3D-4050-B28C-21609096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B36-50D6-4663-8522-8A9518AB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871-4B17-4133-8857-B62200D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6DE-34F4-4246-9E1E-2B085D9A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5685-A92F-4990-9A78-03A676010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0F19-722A-4CD8-AE80-2FAB2222F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Prime Factorization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by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r. Emerlina C. Binuy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2590560"/>
            <a:ext cx="6934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every composite number expressed as a product of a prime number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Concept Summary</a:t>
            </a: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m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whole number that has exactly two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actors, 1 and the number itself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, 13, 25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number greater than 1 with more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han two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6, 10, 18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Neither prime nor 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 has only one factor. O has an infinite number or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0, 1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75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.</a:t>
            </a: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Identify Prime and composite, </a:t>
            </a: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or neithe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28:  The factors of 28 are 1 and 28, 2 and 14, and 4 and 7.  Since 28 has more than two factors, it is a composit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11:   The factors of 11 are 1 and 11.  Since there are exactly two factors, 1 and the number itself, 11 is a prim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Object 7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Facto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when two or more numbers are multiplied, each number is called a factor of the produc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rim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whole number that has exactly two unique factors, 1 and the number itself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Composit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number greater than 1 with more than two facto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903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Prime Numbers and Prime Factoriz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Every Composite number can be written as a product of prim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6  =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8  = 2 x 2 x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12= 2 x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Prime Fa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Factors that are prime numbers are called prime factors.  You can use Factor Tree to find prime factors. This one shows the prime factors of 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2590920" y="4419720"/>
            <a:ext cx="30456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124080" y="4419720"/>
            <a:ext cx="22860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362320" y="4800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49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97144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2900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43200" y="5562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30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572000" y="5105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pe you enjoy the Lesson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Have a nice day to all of you!!!!!!!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4:12:50Z</dcterms:created>
  <dc:creator>emerlina binuya</dc:creator>
  <dc:description/>
  <dc:language>en-US</dc:language>
  <cp:lastModifiedBy>RomaK</cp:lastModifiedBy>
  <dcterms:modified xsi:type="dcterms:W3CDTF">2015-09-04T09:17:57Z</dcterms:modified>
  <cp:revision>30</cp:revision>
  <dc:subject/>
  <dc:title>Prime Factorization</dc:title>
</cp:coreProperties>
</file>