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LASER.WAV" ContentType="audio/x-wav"/>
  <Override PartName="/ppt/media/CAMERA.WAV" ContentType="audio/x-wav"/>
  <Override PartName="/ppt/media/TYPE.WAV" ContentType="audio/x-wav"/>
  <Override PartName="/ppt/media/image2.wmf" ContentType="image/x-wmf"/>
  <Override PartName="/ppt/media/image3.wmf" ContentType="image/x-wmf"/>
  <Override PartName="/ppt/media/WHOOSH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2F260-B000-4186-BD7F-E4EB3F6EC5C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Prime Factorization</a:t>
            </a:r>
            <a:br>
              <a:rPr sz="1200"/>
            </a:b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by</a:t>
            </a:r>
            <a:br>
              <a:rPr sz="1200"/>
            </a:b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Dr. Emerlina C. Binuya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every composite number expressed as a product of a prime number.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e Factoriz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. Emerlina C. Binuy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composite number expressed as a product of a prime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Concept Summary: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Prime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A whole number that has exactly two 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factors, 1 and the number itself.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11, 13, 25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Composite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A number greater than 1 with more 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than two factors.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6, 10, 18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Neither prime nor composite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1 has only one factor. O has an infinite number or factors.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0, 1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Summa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hole number that has exactly tw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, 1 and the number itself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, 13, 2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it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greater than 1 with mor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two factor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, 10, 1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ither prime nor composit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has only one factor. O has an infinite number or factor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, 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.Identify Prime and composite, </a:t>
            </a:r>
            <a:br>
              <a:rPr sz="1200"/>
            </a:b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or neither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28:  The factors of 28 are 1 and 28, 2 and 14, and 4 and 7.  Since 28 has more than two factors, it is a composite number.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11:   The factors of 11 are 1 and 11.  Since there are exactly two factors, 1 and the number itself, 11 is a prime number.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Identify Prime and composite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nei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:  The factors of 28 are 1 and 28, 2 and 14, and 4 and 7.  Since 28 has more than two factors, it is a composite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:   The factors of 11 are 1 and 11.  Since there are exactly two factors, 1 and the number itself, 11 is a prime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Remember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Factor: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when two or more numbers are multiplied, each number is called a factor of the product.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Prime Number: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a whole number that has exactly two unique factors, 1 and the number itself.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Composite number: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a number greater than 1 with more than two factors.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wo or more numbers are multiplied, each number is called a factor of the produ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e Number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hole number that has exactly two unique factors, 1 and the number itsel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ite number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greater than 1 with more than two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Prime Numbers and Prime Factorization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Every Composite number can be written as a product of prime numbers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6  = 2 x 3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8  = 2 x 2 x 2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12= 2 x 2 x 3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e Numbers and Prime Fact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Composite number can be written as a product of prim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 = 2 x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 = 2 x 2 x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= 2 x 2 x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Prime Factors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Factors that are prime numbers are called prime factors.  You can use Factor Tree to find prime factors. This one shows the prime factors of 50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50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50=2 x 5 x 5 is the prime factorization of 50.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e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that are prime numbers are called prime factors.  You can use Factor Tree to find prime factors. This one shows the prime factors of 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=2 x 5 x 5 is the prime factorization of 5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Hope you enjoy the Lesson!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Have a nice day to all of you!!!!!!!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 you enjoy the Less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nice day to all of you!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93D7-E6E6-4590-89BD-52CC44645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BD77-0815-48FA-B075-917FD4484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22F8-BC02-4285-8F8F-7D6949DA9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4491-6706-4915-ABDE-BAE737185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230E1-0D0A-45BA-B3AB-57C189588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36B41-7680-43EB-87D2-B61B6CD9A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E6EB6-D711-4DC0-90D6-7722AF5BE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5DAAE-24DA-4EA5-96DF-D0F618F49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FA11A-43CF-480E-AAE6-AB05651A0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7896B-F35B-490E-AF51-1F1727C12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A5EAA-6E54-46CE-B5DE-193E87F7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3DEB-01F3-4FB5-8C94-30E0F3DF7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09CB2-245B-4E6D-9151-2D9995FD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6F401-CD8D-4C50-AED4-0FA84D88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B8DBF-BCF5-4AAB-A183-A34FFCC36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6F6DD-8CE5-470B-A004-DE0C5D4C1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0E0AF-04E9-4274-92C2-4E3318EB8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B491-98CE-4471-A6D0-EFDD0920E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770C-8B27-4C16-B0F0-0E4647BE0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E312-01DA-4E9E-9662-0B4171844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E35C-68F1-4117-B997-D637AEDAA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42B1-0619-4768-A63C-CF35D601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0C33-10B4-448F-948B-0204282A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2BBC-00B4-4719-B882-A1E745E7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1913F-BB53-48BB-BD91-D7418ED44F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5C702-5DD9-4715-81F8-B6F37AA1CF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ffff"/>
                </a:solidFill>
                <a:latin typeface="Tahoma"/>
              </a:rPr>
              <a:t>Prime Factorization</a:t>
            </a:r>
            <a:br>
              <a:rPr sz="4000"/>
            </a:br>
            <a:r>
              <a:rPr b="1" i="1" lang="en-US" sz="4000" spc="-1" strike="noStrike">
                <a:solidFill>
                  <a:srgbClr val="ccffff"/>
                </a:solidFill>
                <a:latin typeface="Tahoma"/>
              </a:rPr>
              <a:t>by</a:t>
            </a:r>
            <a:br>
              <a:rPr sz="4000"/>
            </a:br>
            <a:r>
              <a:rPr b="1" i="1" lang="en-US" sz="4000" spc="-1" strike="noStrike">
                <a:solidFill>
                  <a:srgbClr val="ccffff"/>
                </a:solidFill>
                <a:latin typeface="Tahoma"/>
              </a:rPr>
              <a:t>Dr. Emerlina C. Binuya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295280" y="2590560"/>
            <a:ext cx="693432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ecff"/>
                </a:solidFill>
                <a:latin typeface="Tahoma"/>
              </a:rPr>
              <a:t>every composite number expressed as a product of a prime number.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3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ccffff"/>
                </a:solidFill>
                <a:latin typeface="Tahoma"/>
              </a:rPr>
              <a:t>Concept Summary</a:t>
            </a:r>
            <a:r>
              <a:rPr b="1" lang="en-US" sz="4000" spc="-1" strike="noStrike">
                <a:solidFill>
                  <a:srgbClr val="ccffff"/>
                </a:solidFill>
                <a:latin typeface="Tahoma"/>
              </a:rPr>
              <a:t>: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6868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Prime</a:t>
            </a:r>
            <a:r>
              <a:rPr b="1" lang="en-US" sz="20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A whole number that has exactly two 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factors, 1 and the number itself.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4" marL="2057400" indent="-228600">
              <a:spcBef>
                <a:spcPts val="34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11, 13, 25</a:t>
            </a:r>
            <a:r>
              <a:rPr b="1" lang="en-US" sz="14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Composite</a:t>
            </a:r>
            <a:r>
              <a:rPr b="1" lang="en-US" sz="20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A number greater than 1 with more 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than two factors.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6, 10, 18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Neither prime nor composite</a:t>
            </a:r>
            <a:r>
              <a:rPr b="1" lang="en-US" sz="20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1 has only one factor. O has an infinite number or factors.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0, 1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75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75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75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75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75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75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75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75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75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75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ff"/>
                </a:solidFill>
                <a:latin typeface="Tahoma"/>
              </a:rPr>
              <a:t>.</a:t>
            </a:r>
            <a:r>
              <a:rPr b="1" i="1" lang="en-US" sz="3600" spc="-1" strike="noStrike">
                <a:solidFill>
                  <a:srgbClr val="ccffff"/>
                </a:solidFill>
                <a:latin typeface="Tahoma"/>
              </a:rPr>
              <a:t>Identify Prime and composite, </a:t>
            </a:r>
            <a:br>
              <a:rPr sz="3600"/>
            </a:br>
            <a:r>
              <a:rPr b="1" i="1" lang="en-US" sz="3600" spc="-1" strike="noStrike">
                <a:solidFill>
                  <a:srgbClr val="ccffff"/>
                </a:solidFill>
                <a:latin typeface="Tahoma"/>
              </a:rPr>
              <a:t>or neither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520" y="1523520"/>
            <a:ext cx="72392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700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ahoma"/>
              </a:rPr>
              <a:t>28:  The factors of 28 are 1 and 28, 2 and 14, and 4 and 7.  Since 28 has more than two factors, it is a composite number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ahoma"/>
              </a:rPr>
              <a:t>11:   The factors of 11 are 1 and 11.  Since there are exactly two factors, 1 and the number itself, 11 is a prime number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98" name="Object 7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1905120" cy="3933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75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75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75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75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75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75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ff"/>
                </a:solidFill>
                <a:latin typeface="Tahoma"/>
              </a:rPr>
              <a:t>Remem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ecff"/>
                </a:solidFill>
                <a:uFillTx/>
                <a:latin typeface="Tahoma"/>
              </a:rPr>
              <a:t>Factor</a:t>
            </a: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:</a:t>
            </a: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when two or more numbers are multiplied, each number is called a factor of the product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ecff"/>
                </a:solidFill>
                <a:uFillTx/>
                <a:latin typeface="Tahoma"/>
              </a:rPr>
              <a:t>Prime Number</a:t>
            </a: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:</a:t>
            </a: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a whole number that has exactly two unique factors, 1 and the number itself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ecff"/>
                </a:solidFill>
                <a:uFillTx/>
                <a:latin typeface="Tahoma"/>
              </a:rPr>
              <a:t>Composite number</a:t>
            </a: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:</a:t>
            </a: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a number greater than 1 with more than two factor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01" name="Object 5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990360" cy="1752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3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3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3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3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ahoma"/>
              </a:rPr>
              <a:t>Prime Numbers and Prime Factoriz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Every Composite number can be written as a product of prime numb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6  = 2 x 3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8  = 2 x 2 x 2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12= 2 x 2 x 3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3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3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75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75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75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75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ff"/>
                </a:solidFill>
                <a:latin typeface="Tahoma"/>
              </a:rPr>
              <a:t>Prime Facto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Factors that are prime numbers are called prime factors.  You can use Factor Tree to find prime factors. This one shows the prime factors of 50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50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06" name="Line 4"/>
          <p:cNvSpPr/>
          <p:nvPr/>
        </p:nvSpPr>
        <p:spPr>
          <a:xfrm flipH="1">
            <a:off x="2590920" y="4419720"/>
            <a:ext cx="304560" cy="45720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" name="Line 5"/>
          <p:cNvSpPr/>
          <p:nvPr/>
        </p:nvSpPr>
        <p:spPr>
          <a:xfrm>
            <a:off x="3124080" y="4419720"/>
            <a:ext cx="228600" cy="45720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2362320" y="4800600"/>
            <a:ext cx="4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049560" y="4800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Line 8"/>
          <p:cNvSpPr/>
          <p:nvPr/>
        </p:nvSpPr>
        <p:spPr>
          <a:xfrm flipH="1">
            <a:off x="2971440" y="5257800"/>
            <a:ext cx="228600" cy="38088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Line 9"/>
          <p:cNvSpPr/>
          <p:nvPr/>
        </p:nvSpPr>
        <p:spPr>
          <a:xfrm>
            <a:off x="3429000" y="5257800"/>
            <a:ext cx="228600" cy="38088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2743200" y="556272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3583080" y="5562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4572000" y="510552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50=2 x 5 x 5 is the prime factorization of 50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pe you enjoy the Lesson!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Tahoma"/>
              </a:rPr>
              <a:t>Have a nice day to all of you!!!!!!!</a:t>
            </a:r>
            <a:endParaRPr b="0" lang="en-US" sz="4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04:12:50Z</dcterms:created>
  <dc:creator>emerlina binuya</dc:creator>
  <dc:description/>
  <dc:language>en-US</dc:language>
  <cp:lastModifiedBy>RomaK</cp:lastModifiedBy>
  <dcterms:modified xsi:type="dcterms:W3CDTF">2015-09-04T09:17:57Z</dcterms:modified>
  <cp:revision>30</cp:revision>
  <dc:subject/>
  <dc:title>Prime Factorization</dc:title>
</cp:coreProperties>
</file>