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AE93-99FD-4826-91D5-BCC3F4692B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ng Prime Fac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ny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Number – An integer whose only factors are 1 and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– a number that can divide another number without a remai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s – an expression of numbers that divides another integer without a remainder where all the factors are pr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hoose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9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Try That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use 36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y 2 factors – let’s use 3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let’s factor these number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ops, 6 is not prime - let’s factor aga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, arrange them from least to grea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, re-write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, it’s the same answ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e-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numbers are made up of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Prime Factor Tree, the goal is to keep reducing each factor to its lowest possible prim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have all the prime factors identified, re-arrange them from least to greatest and re-write them as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C726-7D78-4C09-8325-4D2DEA3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9290-DC8E-4539-8088-975BB7E8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C28-A256-4CA6-98EC-5D7442998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9DF-7497-459F-B40A-8E0A4299E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A52-3CE0-4C71-8FE7-F6C02AC2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0DAE-33EA-4D79-98CD-2B799C47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E34E-9577-4911-BB4C-8FE5CD76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C0BC-C41B-4169-9D96-29D095AD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5B97-192D-4E5B-A79B-26A111BEF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FDBF-1F1F-40D4-B3AF-AC177A3B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4097-7FA5-4630-AEEE-178BC630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48F4-C34F-412D-81B7-60ECDDE65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E868-9136-41CD-B1D2-C94D682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9E286-1EFC-4FC5-9390-EDCDFBBF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886D-3F94-4BB1-9E5A-26EB9574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9A4B-F12F-4346-A24F-A8F1787E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6592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4280" y="160020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6592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4280" y="3964320"/>
            <a:ext cx="267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491F-B2AF-405F-A448-05786B86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582-DCC6-4186-9485-2AEDC230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E45-2F37-4183-A594-1262A94B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3116-17F0-4E78-91BA-99722431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1C9-61B7-47CC-8E16-9FCC82A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621-E09E-4091-AA3C-6C6FA759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3480" y="396432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C5B-5CD7-4986-BEEE-4026BB49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3480" y="1600200"/>
            <a:ext cx="4053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30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5B5B-BE5C-4C82-9ABC-185242D9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457200" y="1600200"/>
            <a:ext cx="8305920" cy="4495680"/>
          </a:xfrm>
          <a:prstGeom prst="rect">
            <a:avLst/>
          </a:prstGeom>
          <a:solidFill>
            <a:srgbClr val="80808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-152280" y="228600"/>
            <a:ext cx="9524880" cy="12193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393939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A6F-546F-45F7-BEE8-4EA5EAEA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j038768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3"/>
          <p:cNvSpPr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ADE-1A05-4F2A-B2F6-AA819C4738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ime Factor T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38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overing Prime Facto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f Any Numb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fini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Number – An integer whose only factors are 1 and itself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ctor – a number that can divide another number without a remaind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me Factors – an expression of numbers that divides another integer without a remainder where all the factors are pri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Choose a Numb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t’s use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oose any 2 factors – let’s use 9 and 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1" name="Group 59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cxnSp>
          <p:nvCxnSpPr>
            <p:cNvPr id="102" name="AutoShape 9"/>
            <p:cNvCxnSpPr>
              <a:endCxn id="103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grpSp>
          <p:nvGrpSpPr>
            <p:cNvPr id="104" name="Group 40"/>
            <p:cNvGrpSpPr/>
            <p:nvPr/>
          </p:nvGrpSpPr>
          <p:grpSpPr>
            <a:xfrm>
              <a:off x="5562720" y="2209320"/>
              <a:ext cx="2286000" cy="749520"/>
              <a:chOff x="5562720" y="2209320"/>
              <a:chExt cx="2286000" cy="749520"/>
            </a:xfrm>
          </p:grpSpPr>
          <p:sp>
            <p:nvSpPr>
              <p:cNvPr id="105" name="Text Box 7"/>
              <p:cNvSpPr/>
              <p:nvPr/>
            </p:nvSpPr>
            <p:spPr>
              <a:xfrm>
                <a:off x="70102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Text Box 8"/>
              <p:cNvSpPr/>
              <p:nvPr/>
            </p:nvSpPr>
            <p:spPr>
              <a:xfrm>
                <a:off x="5562720" y="24382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9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06" name="AutoShape 10"/>
              <p:cNvCxnSpPr>
                <a:endCxn id="105" idx="0"/>
              </p:cNvCxnSpPr>
              <p:nvPr/>
            </p:nvCxnSpPr>
            <p:spPr>
              <a:xfrm>
                <a:off x="6629040" y="2209320"/>
                <a:ext cx="801000" cy="229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07" name="Text Box 19"/>
              <p:cNvSpPr/>
              <p:nvPr/>
            </p:nvSpPr>
            <p:spPr>
              <a:xfrm>
                <a:off x="6324480" y="2438280"/>
                <a:ext cx="83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08" name="Group 63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09" name="Group 62"/>
            <p:cNvGrpSpPr/>
            <p:nvPr/>
          </p:nvGrpSpPr>
          <p:grpSpPr>
            <a:xfrm>
              <a:off x="5105520" y="3871440"/>
              <a:ext cx="2895480" cy="763920"/>
              <a:chOff x="5105520" y="3871440"/>
              <a:chExt cx="2895480" cy="763920"/>
            </a:xfrm>
          </p:grpSpPr>
          <p:grpSp>
            <p:nvGrpSpPr>
              <p:cNvPr id="110" name="Group 60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11" name="Text Box 22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2" name="Text Box 23"/>
                <p:cNvSpPr/>
                <p:nvPr/>
              </p:nvSpPr>
              <p:spPr>
                <a:xfrm>
                  <a:off x="594360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2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13" name="Text Box 28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14" name="AutoShape 32"/>
                <p:cNvCxnSpPr>
                  <a:endCxn id="112" idx="0"/>
                </p:cNvCxnSpPr>
                <p:nvPr/>
              </p:nvCxnSpPr>
              <p:spPr>
                <a:xfrm flipH="1">
                  <a:off x="636192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15" name="AutoShape 33"/>
                <p:cNvCxnSpPr>
                  <a:endCxn id="116" idx="0"/>
                </p:cNvCxnSpPr>
                <p:nvPr/>
              </p:nvCxnSpPr>
              <p:spPr>
                <a:xfrm>
                  <a:off x="5981400" y="3871440"/>
                  <a:ext cx="114372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17" name="Text Box 21"/>
              <p:cNvSpPr/>
              <p:nvPr/>
            </p:nvSpPr>
            <p:spPr>
              <a:xfrm>
                <a:off x="5562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Text Box 24"/>
              <p:cNvSpPr/>
              <p:nvPr/>
            </p:nvSpPr>
            <p:spPr>
              <a:xfrm>
                <a:off x="670572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" name="Text Box 25"/>
            <p:cNvSpPr/>
            <p:nvPr/>
          </p:nvSpPr>
          <p:spPr>
            <a:xfrm>
              <a:off x="754380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9" name="Group 64"/>
          <p:cNvGrpSpPr/>
          <p:nvPr/>
        </p:nvGrpSpPr>
        <p:grpSpPr>
          <a:xfrm>
            <a:off x="5524560" y="4633560"/>
            <a:ext cx="2552760" cy="763920"/>
            <a:chOff x="5524560" y="4633560"/>
            <a:chExt cx="2552760" cy="763920"/>
          </a:xfrm>
        </p:grpSpPr>
        <p:sp>
          <p:nvSpPr>
            <p:cNvPr id="120" name="Text Box 29"/>
            <p:cNvSpPr/>
            <p:nvPr/>
          </p:nvSpPr>
          <p:spPr>
            <a:xfrm>
              <a:off x="56386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Text Box 30"/>
            <p:cNvSpPr/>
            <p:nvPr/>
          </p:nvSpPr>
          <p:spPr>
            <a:xfrm>
              <a:off x="6400800" y="48769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Text Box 31"/>
            <p:cNvSpPr/>
            <p:nvPr/>
          </p:nvSpPr>
          <p:spPr>
            <a:xfrm>
              <a:off x="72388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23" name="AutoShape 34"/>
            <p:cNvCxnSpPr>
              <a:stCxn id="111" idx="2"/>
              <a:endCxn id="120" idx="0"/>
            </p:cNvCxnSpPr>
            <p:nvPr/>
          </p:nvCxnSpPr>
          <p:spPr>
            <a:xfrm>
              <a:off x="55245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4" name="AutoShape 36"/>
            <p:cNvCxnSpPr>
              <a:stCxn id="116" idx="2"/>
              <a:endCxn id="122" idx="0"/>
            </p:cNvCxnSpPr>
            <p:nvPr/>
          </p:nvCxnSpPr>
          <p:spPr>
            <a:xfrm>
              <a:off x="7124760" y="4633560"/>
              <a:ext cx="53424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5" name="AutoShape 38"/>
            <p:cNvCxnSpPr/>
            <p:nvPr/>
          </p:nvCxnSpPr>
          <p:spPr>
            <a:xfrm flipH="1">
              <a:off x="7619760" y="4724280"/>
              <a:ext cx="305280" cy="1533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26" name="AutoShape 39"/>
            <p:cNvCxnSpPr>
              <a:stCxn id="112" idx="2"/>
              <a:endCxn id="120" idx="0"/>
            </p:cNvCxnSpPr>
            <p:nvPr/>
          </p:nvCxnSpPr>
          <p:spPr>
            <a:xfrm flipH="1">
              <a:off x="6057720" y="4633560"/>
              <a:ext cx="305280" cy="2437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grpSp>
        <p:nvGrpSpPr>
          <p:cNvPr id="127" name="Group 58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sp>
          <p:nvSpPr>
            <p:cNvPr id="128" name="Text Box 13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9" name="Group 57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30" name="Text Box 14"/>
              <p:cNvSpPr/>
              <p:nvPr/>
            </p:nvSpPr>
            <p:spPr>
              <a:xfrm>
                <a:off x="6705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131" name="Group 45"/>
              <p:cNvGrpSpPr/>
              <p:nvPr/>
            </p:nvGrpSpPr>
            <p:grpSpPr>
              <a:xfrm>
                <a:off x="5105520" y="2957400"/>
                <a:ext cx="2819160" cy="915840"/>
                <a:chOff x="5105520" y="2957400"/>
                <a:chExt cx="2819160" cy="915840"/>
              </a:xfrm>
            </p:grpSpPr>
            <p:sp>
              <p:nvSpPr>
                <p:cNvPr id="132" name="Text Box 46"/>
                <p:cNvSpPr/>
                <p:nvPr/>
              </p:nvSpPr>
              <p:spPr>
                <a:xfrm>
                  <a:off x="5943600" y="335268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33" name="Group 47"/>
                <p:cNvGrpSpPr/>
                <p:nvPr/>
              </p:nvGrpSpPr>
              <p:grpSpPr>
                <a:xfrm>
                  <a:off x="5105520" y="2957400"/>
                  <a:ext cx="2819160" cy="915840"/>
                  <a:chOff x="5105520" y="2957400"/>
                  <a:chExt cx="2819160" cy="915840"/>
                </a:xfrm>
              </p:grpSpPr>
              <p:sp>
                <p:nvSpPr>
                  <p:cNvPr id="134" name="Text Box 48"/>
                  <p:cNvSpPr/>
                  <p:nvPr/>
                </p:nvSpPr>
                <p:spPr>
                  <a:xfrm>
                    <a:off x="5105520" y="335268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ffffff"/>
                        </a:solidFill>
                        <a:latin typeface="Tahoma"/>
                      </a:rPr>
                      <a:t>3</a:t>
                    </a:r>
                    <a:endParaRPr b="0" lang="en-US" sz="2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35" name="Group 49"/>
                  <p:cNvGrpSpPr/>
                  <p:nvPr/>
                </p:nvGrpSpPr>
                <p:grpSpPr>
                  <a:xfrm>
                    <a:off x="5524200" y="2957400"/>
                    <a:ext cx="2400480" cy="915840"/>
                    <a:chOff x="5524200" y="2957400"/>
                    <a:chExt cx="2400480" cy="915840"/>
                  </a:xfrm>
                </p:grpSpPr>
                <p:sp>
                  <p:nvSpPr>
                    <p:cNvPr id="136" name="Text Box 50"/>
                    <p:cNvSpPr/>
                    <p:nvPr/>
                  </p:nvSpPr>
                  <p:spPr>
                    <a:xfrm>
                      <a:off x="7086600" y="3352680"/>
                      <a:ext cx="838080" cy="5205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37" name="Group 51"/>
                    <p:cNvGrpSpPr/>
                    <p:nvPr/>
                  </p:nvGrpSpPr>
                  <p:grpSpPr>
                    <a:xfrm>
                      <a:off x="5524200" y="2957400"/>
                      <a:ext cx="2363040" cy="915840"/>
                      <a:chOff x="5524200" y="2957400"/>
                      <a:chExt cx="2363040" cy="915840"/>
                    </a:xfrm>
                  </p:grpSpPr>
                  <p:cxnSp>
                    <p:nvCxnSpPr>
                      <p:cNvPr id="138" name="AutoShape 52"/>
                      <p:cNvCxnSpPr>
                        <a:endCxn id="134" idx="0"/>
                      </p:cNvCxnSpPr>
                      <p:nvPr/>
                    </p:nvCxnSpPr>
                    <p:spPr>
                      <a:xfrm flipH="1">
                        <a:off x="552420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39" name="AutoShape 53"/>
                      <p:cNvCxnSpPr>
                        <a:endCxn id="132" idx="0"/>
                      </p:cNvCxnSpPr>
                      <p:nvPr/>
                    </p:nvCxnSpPr>
                    <p:spPr>
                      <a:xfrm>
                        <a:off x="5981760" y="2957400"/>
                        <a:ext cx="38160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0" name="AutoShape 54"/>
                      <p:cNvCxnSpPr/>
                      <p:nvPr/>
                    </p:nvCxnSpPr>
                    <p:spPr>
                      <a:xfrm flipH="1">
                        <a:off x="7124040" y="2957400"/>
                        <a:ext cx="30564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cxnSp>
                    <p:nvCxnSpPr>
                      <p:cNvPr id="141" name="AutoShape 55"/>
                      <p:cNvCxnSpPr/>
                      <p:nvPr/>
                    </p:nvCxnSpPr>
                    <p:spPr>
                      <a:xfrm>
                        <a:off x="7429680" y="2957400"/>
                        <a:ext cx="457920" cy="396000"/>
                      </a:xfrm>
                      <a:prstGeom prst="straightConnector1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  <a:tailEnd len="lg" type="triangle" w="med"/>
                      </a:ln>
                    </p:spPr>
                  </p:cxnSp>
                  <p:sp>
                    <p:nvSpPr>
                      <p:cNvPr id="142" name="Text Box 56"/>
                      <p:cNvSpPr/>
                      <p:nvPr/>
                    </p:nvSpPr>
                    <p:spPr>
                      <a:xfrm>
                        <a:off x="5562720" y="3352680"/>
                        <a:ext cx="8380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spcBef>
                            <a:spcPts val="1749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2800" spc="-1" strike="noStrike">
                            <a:solidFill>
                              <a:srgbClr val="ffffff"/>
                            </a:solidFill>
                            <a:latin typeface="Tahoma"/>
                          </a:rPr>
                          <a:t>x</a:t>
                        </a:r>
                        <a:endParaRPr b="0" lang="en-US" sz="28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</p:grpSp>
          </p:grpSp>
        </p:grpSp>
      </p:grpSp>
      <p:pic>
        <p:nvPicPr>
          <p:cNvPr id="143" name="Picture 66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" nodeType="afterEffect" fill="hold" presetClass="exit" presetID="2" presetSubtype="4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Try That Again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7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’s use 36 ag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oose any 2 factors – let’s use 3 and 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w let’s factor these numbers, to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ops, 6 is not prime - let’s factor again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xt, arrange them from least to grea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st, re-write as expon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ok, it’s the same answe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248520" y="16765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105520" y="2957400"/>
            <a:ext cx="3200400" cy="915840"/>
            <a:chOff x="5105520" y="2957400"/>
            <a:chExt cx="3200400" cy="915840"/>
          </a:xfrm>
        </p:grpSpPr>
        <p:grpSp>
          <p:nvGrpSpPr>
            <p:cNvPr id="148" name="Group 55"/>
            <p:cNvGrpSpPr/>
            <p:nvPr/>
          </p:nvGrpSpPr>
          <p:grpSpPr>
            <a:xfrm>
              <a:off x="5105520" y="2957400"/>
              <a:ext cx="2819160" cy="915840"/>
              <a:chOff x="5105520" y="2957400"/>
              <a:chExt cx="2819160" cy="915840"/>
            </a:xfrm>
          </p:grpSpPr>
          <p:sp>
            <p:nvSpPr>
              <p:cNvPr id="149" name="Text Box 10"/>
              <p:cNvSpPr/>
              <p:nvPr/>
            </p:nvSpPr>
            <p:spPr>
              <a:xfrm>
                <a:off x="51055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0" name="AutoShape 13"/>
              <p:cNvCxnSpPr>
                <a:stCxn id="151" idx="2"/>
                <a:endCxn id="149" idx="0"/>
              </p:cNvCxnSpPr>
              <p:nvPr/>
            </p:nvCxnSpPr>
            <p:spPr>
              <a:xfrm flipH="1">
                <a:off x="552420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152" name="AutoShape 15"/>
              <p:cNvCxnSpPr>
                <a:stCxn id="153" idx="2"/>
                <a:endCxn id="154" idx="0"/>
              </p:cNvCxnSpPr>
              <p:nvPr/>
            </p:nvCxnSpPr>
            <p:spPr>
              <a:xfrm flipH="1">
                <a:off x="7124040" y="2957400"/>
                <a:ext cx="30564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5" name="Text Box 18"/>
              <p:cNvSpPr/>
              <p:nvPr/>
            </p:nvSpPr>
            <p:spPr>
              <a:xfrm>
                <a:off x="708660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cxnSp>
            <p:nvCxnSpPr>
              <p:cNvPr id="156" name="AutoShape 16"/>
              <p:cNvCxnSpPr>
                <a:stCxn id="153" idx="2"/>
                <a:endCxn id="157" idx="0"/>
              </p:cNvCxnSpPr>
              <p:nvPr/>
            </p:nvCxnSpPr>
            <p:spPr>
              <a:xfrm>
                <a:off x="7429680" y="2957400"/>
                <a:ext cx="457920" cy="396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158" name="Text Box 24"/>
              <p:cNvSpPr/>
              <p:nvPr/>
            </p:nvSpPr>
            <p:spPr>
              <a:xfrm>
                <a:off x="5562720" y="335268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x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7" name="Text Box 11"/>
            <p:cNvSpPr/>
            <p:nvPr/>
          </p:nvSpPr>
          <p:spPr>
            <a:xfrm>
              <a:off x="7467480" y="33526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6705720" y="33526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6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9" name="Group 54"/>
          <p:cNvGrpSpPr/>
          <p:nvPr/>
        </p:nvGrpSpPr>
        <p:grpSpPr>
          <a:xfrm>
            <a:off x="5562720" y="2209320"/>
            <a:ext cx="2286000" cy="749520"/>
            <a:chOff x="5562720" y="2209320"/>
            <a:chExt cx="2286000" cy="749520"/>
          </a:xfrm>
        </p:grpSpPr>
        <p:sp>
          <p:nvSpPr>
            <p:cNvPr id="153" name="Text Box 5"/>
            <p:cNvSpPr/>
            <p:nvPr/>
          </p:nvSpPr>
          <p:spPr>
            <a:xfrm>
              <a:off x="70102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1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Text Box 6"/>
            <p:cNvSpPr/>
            <p:nvPr/>
          </p:nvSpPr>
          <p:spPr>
            <a:xfrm>
              <a:off x="5562720" y="2438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60" name="AutoShape 7"/>
            <p:cNvCxnSpPr>
              <a:endCxn id="151" idx="0"/>
            </p:cNvCxnSpPr>
            <p:nvPr/>
          </p:nvCxnSpPr>
          <p:spPr>
            <a:xfrm flipH="1">
              <a:off x="5981040" y="2209320"/>
              <a:ext cx="6498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61" name="AutoShape 8"/>
            <p:cNvCxnSpPr>
              <a:endCxn id="153" idx="0"/>
            </p:cNvCxnSpPr>
            <p:nvPr/>
          </p:nvCxnSpPr>
          <p:spPr>
            <a:xfrm>
              <a:off x="6629040" y="2209320"/>
              <a:ext cx="801000" cy="22932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sp>
          <p:nvSpPr>
            <p:cNvPr id="162" name="Text Box 17"/>
            <p:cNvSpPr/>
            <p:nvPr/>
          </p:nvSpPr>
          <p:spPr>
            <a:xfrm>
              <a:off x="6324480" y="2438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63" name="Group 59"/>
          <p:cNvGrpSpPr/>
          <p:nvPr/>
        </p:nvGrpSpPr>
        <p:grpSpPr>
          <a:xfrm>
            <a:off x="5105520" y="3871440"/>
            <a:ext cx="3276360" cy="763920"/>
            <a:chOff x="5105520" y="3871440"/>
            <a:chExt cx="3276360" cy="763920"/>
          </a:xfrm>
        </p:grpSpPr>
        <p:grpSp>
          <p:nvGrpSpPr>
            <p:cNvPr id="164" name="Group 58"/>
            <p:cNvGrpSpPr/>
            <p:nvPr/>
          </p:nvGrpSpPr>
          <p:grpSpPr>
            <a:xfrm>
              <a:off x="5105520" y="3871440"/>
              <a:ext cx="3276360" cy="763920"/>
              <a:chOff x="5105520" y="3871440"/>
              <a:chExt cx="3276360" cy="763920"/>
            </a:xfrm>
          </p:grpSpPr>
          <p:grpSp>
            <p:nvGrpSpPr>
              <p:cNvPr id="165" name="Group 57"/>
              <p:cNvGrpSpPr/>
              <p:nvPr/>
            </p:nvGrpSpPr>
            <p:grpSpPr>
              <a:xfrm>
                <a:off x="5105520" y="3871440"/>
                <a:ext cx="2895480" cy="763920"/>
                <a:chOff x="5105520" y="3871440"/>
                <a:chExt cx="2895480" cy="763920"/>
              </a:xfrm>
            </p:grpSpPr>
            <p:sp>
              <p:nvSpPr>
                <p:cNvPr id="166" name="Text Box 20"/>
                <p:cNvSpPr/>
                <p:nvPr/>
              </p:nvSpPr>
              <p:spPr>
                <a:xfrm>
                  <a:off x="51055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7" name="Text Box 25"/>
                <p:cNvSpPr/>
                <p:nvPr/>
              </p:nvSpPr>
              <p:spPr>
                <a:xfrm>
                  <a:off x="71629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8" name="Text Box 35"/>
                <p:cNvSpPr/>
                <p:nvPr/>
              </p:nvSpPr>
              <p:spPr>
                <a:xfrm>
                  <a:off x="6324480" y="4114800"/>
                  <a:ext cx="8384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x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69" name="AutoShape 45"/>
                <p:cNvCxnSpPr>
                  <a:stCxn id="149" idx="2"/>
                  <a:endCxn id="166" idx="0"/>
                </p:cNvCxnSpPr>
                <p:nvPr/>
              </p:nvCxnSpPr>
              <p:spPr>
                <a:xfrm>
                  <a:off x="55242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0" name="AutoShape 46"/>
                <p:cNvCxnSpPr>
                  <a:stCxn id="154" idx="2"/>
                  <a:endCxn id="171" idx="0"/>
                </p:cNvCxnSpPr>
                <p:nvPr/>
              </p:nvCxnSpPr>
              <p:spPr>
                <a:xfrm flipH="1">
                  <a:off x="6361920" y="3871440"/>
                  <a:ext cx="76284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cxnSp>
              <p:nvCxnSpPr>
                <p:cNvPr id="172" name="AutoShape 47"/>
                <p:cNvCxnSpPr>
                  <a:stCxn id="154" idx="2"/>
                  <a:endCxn id="173" idx="0"/>
                </p:cNvCxnSpPr>
                <p:nvPr/>
              </p:nvCxnSpPr>
              <p:spPr>
                <a:xfrm>
                  <a:off x="7124400" y="3871440"/>
                  <a:ext cx="108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  <p:sp>
              <p:nvSpPr>
                <p:cNvPr id="173" name="Text Box 22"/>
                <p:cNvSpPr/>
                <p:nvPr/>
              </p:nvSpPr>
              <p:spPr>
                <a:xfrm>
                  <a:off x="6705720" y="41148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Tahoma"/>
                    </a:rPr>
                    <a:t>3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cxnSp>
              <p:nvCxnSpPr>
                <p:cNvPr id="174" name="AutoShape 48"/>
                <p:cNvCxnSpPr>
                  <a:stCxn id="154" idx="2"/>
                  <a:endCxn id="175" idx="0"/>
                </p:cNvCxnSpPr>
                <p:nvPr/>
              </p:nvCxnSpPr>
              <p:spPr>
                <a:xfrm>
                  <a:off x="7124760" y="3871440"/>
                  <a:ext cx="838800" cy="243720"/>
                </a:xfrm>
                <a:prstGeom prst="straightConnector1">
                  <a:avLst/>
                </a:prstGeom>
                <a:ln w="19080">
                  <a:solidFill>
                    <a:srgbClr val="ffffff"/>
                  </a:solidFill>
                  <a:miter/>
                  <a:tailEnd len="lg" type="triangle" w="med"/>
                </a:ln>
              </p:spPr>
            </p:cxnSp>
          </p:grpSp>
          <p:sp>
            <p:nvSpPr>
              <p:cNvPr id="171" name="Text Box 21"/>
              <p:cNvSpPr/>
              <p:nvPr/>
            </p:nvSpPr>
            <p:spPr>
              <a:xfrm>
                <a:off x="59436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5" name="Text Box 23"/>
              <p:cNvSpPr/>
              <p:nvPr/>
            </p:nvSpPr>
            <p:spPr>
              <a:xfrm>
                <a:off x="7543800" y="4114800"/>
                <a:ext cx="838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76" name="Text Box 19"/>
            <p:cNvSpPr/>
            <p:nvPr/>
          </p:nvSpPr>
          <p:spPr>
            <a:xfrm>
              <a:off x="5562720" y="4114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77" name="Group 60"/>
          <p:cNvGrpSpPr/>
          <p:nvPr/>
        </p:nvGrpSpPr>
        <p:grpSpPr>
          <a:xfrm>
            <a:off x="5105520" y="4724280"/>
            <a:ext cx="3276360" cy="520560"/>
            <a:chOff x="5105520" y="4724280"/>
            <a:chExt cx="3276360" cy="520560"/>
          </a:xfrm>
        </p:grpSpPr>
        <p:sp>
          <p:nvSpPr>
            <p:cNvPr id="178" name="Text Box 37"/>
            <p:cNvSpPr/>
            <p:nvPr/>
          </p:nvSpPr>
          <p:spPr>
            <a:xfrm>
              <a:off x="51055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9" name="Text Box 42"/>
            <p:cNvSpPr/>
            <p:nvPr/>
          </p:nvSpPr>
          <p:spPr>
            <a:xfrm>
              <a:off x="63244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Text Box 40"/>
            <p:cNvSpPr/>
            <p:nvPr/>
          </p:nvSpPr>
          <p:spPr>
            <a:xfrm>
              <a:off x="754380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Text Box 41"/>
            <p:cNvSpPr/>
            <p:nvPr/>
          </p:nvSpPr>
          <p:spPr>
            <a:xfrm>
              <a:off x="5562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71629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3" name="Text Box 38"/>
            <p:cNvSpPr/>
            <p:nvPr/>
          </p:nvSpPr>
          <p:spPr>
            <a:xfrm>
              <a:off x="5867280" y="47242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Text Box 39"/>
            <p:cNvSpPr/>
            <p:nvPr/>
          </p:nvSpPr>
          <p:spPr>
            <a:xfrm>
              <a:off x="6705720" y="47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5" name="Group 61"/>
          <p:cNvGrpSpPr/>
          <p:nvPr/>
        </p:nvGrpSpPr>
        <p:grpSpPr>
          <a:xfrm>
            <a:off x="5524560" y="5243040"/>
            <a:ext cx="2552760" cy="687600"/>
            <a:chOff x="5524560" y="5243040"/>
            <a:chExt cx="2552760" cy="687600"/>
          </a:xfrm>
        </p:grpSpPr>
        <p:sp>
          <p:nvSpPr>
            <p:cNvPr id="186" name="Text Box 26"/>
            <p:cNvSpPr/>
            <p:nvPr/>
          </p:nvSpPr>
          <p:spPr>
            <a:xfrm>
              <a:off x="56386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6477120" y="54100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Text Box 28"/>
            <p:cNvSpPr/>
            <p:nvPr/>
          </p:nvSpPr>
          <p:spPr>
            <a:xfrm>
              <a:off x="7238880" y="541008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r>
                <a:rPr b="0" lang="en-US" sz="2800" spc="-1" strike="noStrike" baseline="3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cxnSp>
          <p:nvCxnSpPr>
            <p:cNvPr id="189" name="AutoShape 49"/>
            <p:cNvCxnSpPr>
              <a:stCxn id="178" idx="2"/>
              <a:endCxn id="186" idx="0"/>
            </p:cNvCxnSpPr>
            <p:nvPr/>
          </p:nvCxnSpPr>
          <p:spPr>
            <a:xfrm>
              <a:off x="55245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0" name="AutoShape 51"/>
            <p:cNvCxnSpPr>
              <a:stCxn id="183" idx="2"/>
              <a:endCxn id="186" idx="0"/>
            </p:cNvCxnSpPr>
            <p:nvPr/>
          </p:nvCxnSpPr>
          <p:spPr>
            <a:xfrm flipH="1">
              <a:off x="6057360" y="5243040"/>
              <a:ext cx="22932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1" name="AutoShape 52"/>
            <p:cNvCxnSpPr>
              <a:stCxn id="184" idx="2"/>
              <a:endCxn id="188" idx="0"/>
            </p:cNvCxnSpPr>
            <p:nvPr/>
          </p:nvCxnSpPr>
          <p:spPr>
            <a:xfrm>
              <a:off x="7124760" y="5243040"/>
              <a:ext cx="53424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  <p:cxnSp>
          <p:nvCxnSpPr>
            <p:cNvPr id="192" name="AutoShape 53"/>
            <p:cNvCxnSpPr>
              <a:stCxn id="180" idx="2"/>
              <a:endCxn id="188" idx="0"/>
            </p:cNvCxnSpPr>
            <p:nvPr/>
          </p:nvCxnSpPr>
          <p:spPr>
            <a:xfrm flipH="1">
              <a:off x="7657920" y="5243040"/>
              <a:ext cx="305280" cy="16704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tailEnd len="lg" type="triangle" w="med"/>
            </a:ln>
          </p:spPr>
        </p:cxnSp>
      </p:grpSp>
      <p:pic>
        <p:nvPicPr>
          <p:cNvPr id="193" name="Picture 62" descr="MCj03248280000[1]"/>
          <p:cNvPicPr/>
          <p:nvPr/>
        </p:nvPicPr>
        <p:blipFill>
          <a:blip r:embed="rId1"/>
          <a:stretch/>
        </p:blipFill>
        <p:spPr>
          <a:xfrm>
            <a:off x="5410080" y="2057400"/>
            <a:ext cx="2633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xit" presetID="49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et’s Re-Ca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osite numbers are made up of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 Prime Factor Tree, the goal is to keep reducing each factor to its lowest possible prime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you have all the prime factors identified, re-arrange them from least to greatest and re-write them as expon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4:55:02Z</dcterms:created>
  <dc:creator> Jason Humberd</dc:creator>
  <dc:description/>
  <dc:language>en-US</dc:language>
  <cp:lastModifiedBy>RomaK</cp:lastModifiedBy>
  <dcterms:modified xsi:type="dcterms:W3CDTF">2015-09-04T09:17:50Z</dcterms:modified>
  <cp:revision>13</cp:revision>
  <dc:subject/>
  <dc:title>Slide 1</dc:title>
</cp:coreProperties>
</file>