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515A-D9CD-455D-96A8-8E920D072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ngth and Peri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easurements are only approxi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asurement is ever ex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a ruler with 0.5cm marking, We might measure this eraser to be 5.5 cm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used a more precise ruler, with 0.1 cm markings, then we find the length to be 5.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used a micrometer that measured to the nearest 0.01 cm, we may find that the measured length is 5.41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easurements are approxi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meter of a shape is the distance around the shape. It is the sum of the lengths of the sides of the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47B-8B05-49B3-8625-660E5222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DB25-D98C-4C68-956D-30F9C9DD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20B5-B85A-4C53-8DDA-9A434B97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EB19-B18F-4F26-8C05-F9DC13AC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9430-9555-4FAA-A803-1A1DC10B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B73-E9E4-421D-8ADD-9AFB7810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844-F912-4216-926D-A086F228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DD9-A9B4-40A0-94CB-7DA88D6E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307-3E05-4FEB-99F2-BCB70E3E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62FB-008F-49E1-91C3-338E4AD1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A5D9-0A0B-42AC-8A47-2FC51FA3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4CE-FC46-4ADE-833F-EA2A7304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114B-4AE5-4BAA-B27D-E33BB62C52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Length and 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7868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2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easure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0717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measurements are only approximatio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o measurement is ever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exact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ing a ruler with 0.5cm marking, We might measure this eraser to be 5.5 cm long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we used a more precise ruler, with 0.1 cm markings, then we find the length to be 5.4 c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we used a micrometer that measured to the nearest 0.01 cm, we may find that the measured length is 5.41 c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measurements are approximatio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286680" y="5286240"/>
            <a:ext cx="28573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ff"/>
                </a:solidFill>
                <a:latin typeface="Calibri"/>
              </a:rPr>
              <a:t>Limit of Accurac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0000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ffffff"/>
                </a:solidFill>
                <a:latin typeface="Calibri"/>
              </a:rPr>
              <a:t>Perimeter</a:t>
            </a: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Perimeter of a shape is the distance around the shape. It is the sum of the lengths of the sides of the shap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0:23:23Z</dcterms:created>
  <dc:creator>Corporate Edition</dc:creator>
  <dc:description/>
  <dc:language>en-US</dc:language>
  <cp:lastModifiedBy>RomaK</cp:lastModifiedBy>
  <dcterms:modified xsi:type="dcterms:W3CDTF">2015-09-04T09:17:43Z</dcterms:modified>
  <cp:revision>6</cp:revision>
  <dc:subject/>
  <dc:title>Slide 1</dc:title>
</cp:coreProperties>
</file>