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31D4-E046-4A38-BB18-EBB14BFBD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ngth and Peri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easurements are only approxi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asurement is ever ex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a ruler with 0.5cm marking, We might measure this eraser to be 5.5 cm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used a more precise ruler, with 0.1 cm markings, then we find the length to be 5.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used a micrometer that measured to the nearest 0.01 cm, we may find that the measured length is 5.41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easurements are approxi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meter of a shape is the distance around the shape. It is the sum of the lengths of the sides of the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B94-3B51-4564-BB2C-A0E45E2C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F1FD-7B7D-4653-9C00-BD52BE32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AD4F-D42D-4678-BFB7-04DC9902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C78-1792-4C61-A866-4910F7FF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CB3F-31AB-4910-9D45-73F712FC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F0B-13B2-436A-97F9-B028BC76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6E9-6CC6-49E7-8AEB-0683A920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951-1B06-441D-8B7F-1FF51766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B62-7B6C-4F34-A235-8B8383B4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32BA-1E58-42D6-85C0-F473CD98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279-B985-44DF-8B52-9F632BE0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2BCF-1CA3-4AF9-B2F6-3A9C02AB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245F-FA33-41F3-9040-CD93EE1A93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Length and 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7868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2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easure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0717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measurements are only approximatio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o measurement is ever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exact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sing a ruler with 0.5cm marking, We might measure this eraser to be 5.5 cm long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we used a more precise ruler, with 0.1 cm markings, then we find the length to be 5.4 c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we used a micrometer that measured to the nearest 0.01 cm, we may find that the measured length is 5.41 c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measurements are approximatio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286680" y="5286240"/>
            <a:ext cx="28573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ff"/>
                </a:solidFill>
                <a:latin typeface="Calibri"/>
              </a:rPr>
              <a:t>Limit of Accurac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0000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ffffff"/>
                </a:solidFill>
                <a:latin typeface="Calibri"/>
              </a:rPr>
              <a:t>Perimeter</a:t>
            </a: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Perimeter of a shape is the distance around the shape. It is the sum of the lengths of the sides of the shap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0:23:23Z</dcterms:created>
  <dc:creator>Corporate Edition</dc:creator>
  <dc:description/>
  <dc:language>en-US</dc:language>
  <cp:lastModifiedBy>RomaK</cp:lastModifiedBy>
  <dcterms:modified xsi:type="dcterms:W3CDTF">2015-09-04T09:17:43Z</dcterms:modified>
  <cp:revision>6</cp:revision>
  <dc:subject/>
  <dc:title>Slide 1</dc:title>
</cp:coreProperties>
</file>