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DC139-DFBD-490B-A3A9-7CC899EF89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ngth and Perime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measurements are only approxima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measurement is ever exac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ing a ruler with 0.5cm marking, We might measure this eraser to be 5.5 cm lo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we used a more precise ruler, with 0.1 cm markings, then we find the length to be 5.4 c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we used a micrometer that measured to the nearest 0.01 cm, we may find that the measured length is 5.41 c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measurements are approxima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mit of Accura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imit of Accuracy of a Measuring Instrument are +/- 0.5 of the unit shown on the instrument’s sca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Limit of Accurac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he Limit of Accuracy of a Measuring Instrument are +/- 0.5 of the unit shown on the instrument’s sca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rimeter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erimeter of a shape is the distance around the shape. It is the sum of the lengths of the sides of the sha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2154-A0B7-435B-AA4F-92D015E99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98C1-F0FE-48EE-BBA2-BA379D6F9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6879-DD8E-410B-94CC-7A9C9360D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384C-44B4-48C6-8F77-D3A763FF3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DF1A-A76F-464C-A000-DD9B34C73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FB10-1E77-4C8B-96B7-53B7241F3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2916-A59D-4E2C-BE00-B0FB0219B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1E4A-FD35-4436-B60C-4D0B7CF68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457D-ECDA-4518-86BB-2D284E1C4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5425-3EE1-4983-90C4-232027621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A1A6-DA45-4B8A-960F-884CBFBE5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E790-1B9A-4734-AB35-19960C8FA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60B92-325E-45C8-BA0F-72D2FDEA68F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Calibri"/>
              </a:rPr>
              <a:t>Length and Perimeter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785880" y="500040"/>
            <a:ext cx="7786800" cy="57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285840" y="928800"/>
            <a:ext cx="82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Calibri"/>
              </a:rPr>
              <a:t>Measurement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0" y="1071720"/>
            <a:ext cx="82296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ll measurements are only approximations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No measurement is ever </a:t>
            </a:r>
            <a:r>
              <a:rPr b="0" i="1" lang="en-US" sz="3000" spc="-1" strike="noStrike">
                <a:solidFill>
                  <a:srgbClr val="ffffff"/>
                </a:solidFill>
                <a:latin typeface="Calibri"/>
              </a:rPr>
              <a:t>exact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Using a ruler with 0.5cm marking, We might measure this eraser to be 5.5 cm long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If we used a more precise ruler, with 0.1 cm markings, then we find the length to be 5.4 cm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If we used a micrometer that measured to the nearest 0.01 cm, we may find that the measured length is 5.41 cm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ll measurements are approximations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6286680" y="5286240"/>
            <a:ext cx="285732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400" spc="-1" strike="noStrike">
                <a:solidFill>
                  <a:srgbClr val="ffffff"/>
                </a:solidFill>
                <a:latin typeface="Calibri"/>
              </a:rPr>
              <a:t>Limit of Accuracy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599840"/>
            <a:ext cx="8229600" cy="43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5400" spc="-1" strike="noStrike">
                <a:solidFill>
                  <a:srgbClr val="ff0000"/>
                </a:solidFill>
                <a:latin typeface="Calibri"/>
              </a:rPr>
              <a:t>The Limit of Accuracy of a Measuring Instrument are +/- 0.5 of the unit shown on the instrument’s scale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000" spc="-1" strike="noStrike">
                <a:solidFill>
                  <a:srgbClr val="ffffff"/>
                </a:solidFill>
                <a:latin typeface="Calibri"/>
              </a:rPr>
              <a:t>Perimeter</a:t>
            </a:r>
            <a:r>
              <a:rPr b="0" lang="en-AU" sz="44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28760" y="1928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ffffff"/>
                </a:solidFill>
                <a:latin typeface="Calibri"/>
              </a:rPr>
              <a:t>The Perimeter of a shape is the distance around the shape. It is the sum of the lengths of the sides of the shape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1T10:23:23Z</dcterms:created>
  <dc:creator>Corporate Edition</dc:creator>
  <dc:description/>
  <dc:language>en-US</dc:language>
  <cp:lastModifiedBy>RomaK</cp:lastModifiedBy>
  <dcterms:modified xsi:type="dcterms:W3CDTF">2015-09-04T09:17:43Z</dcterms:modified>
  <cp:revision>6</cp:revision>
  <dc:subject/>
  <dc:title>Slide 1</dc:title>
</cp:coreProperties>
</file>