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472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B6E8-A592-453F-91DE-A4DB9CCDD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VMS Librar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ndard way to simplify mathematical expressions and eq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 standard way to simplify mathematical expressions and equations.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s Con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Consist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voids Confusion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ives Consistenc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operations are a set of r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thematicians have agreed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o avoid mass CONFU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implifying mathematical express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equations. Without these simple, b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rules, learning mathematics wou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madd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der of operations are a set of rule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hat mathematicians have agreed to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llow to avoid mass CONFUSION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when simplifying mathematical expression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equations. Without these simple, but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important rules, learning mathematics would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be maddening.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within Grouping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), { }, [ ], |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Expo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se to P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he Rul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implify within Grouping Symbol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( ), { }, [ ], | |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implify Exponents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Raise to Power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Complete Multiplication and Division from Left to Righ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Complete Addition and Subtraction from Left to Righ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to Ou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der of operations, we do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 first.  So what’s 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Back to Our Exampl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11 * 4  =  44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Or does it equal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8 + 3 * 4  =  8 + 12 =  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Using order of operations, we do the 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ultiplication first.  So what’s ou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nswer?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hes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How can we remember it?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arenthesi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Plea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s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cus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ultiplica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M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Divis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Dear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ddi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un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ubtraction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all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points to remember that will give audience confidence or improve mor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Key points to remember that will give audience confidence or improve moral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8C32-63A4-4C32-988F-8BC07313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753-6850-48B7-A783-DEC9FCAC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638-5304-4E15-8C63-ECDE7385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647E-E896-47AA-9717-0254F74D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7919-52EF-4D6C-AC5B-9BF261C7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20F3-54EB-48B8-821D-DF805C92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CCB6-9E28-41A2-A2AC-7D9A09A8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C20E-1DC5-4DE9-9E74-DCDD342D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A6B2-4F95-4CFA-BF12-40E022EB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2587-8C61-490A-A6AD-B5E90C13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4806-D4EC-421B-8989-1DF53578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7854-3850-4613-9E00-8026281D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2909-A7FA-4216-B2E5-501DA124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CA30-14D4-4837-A938-C4A9A2DF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CCAD-CF4B-456F-B413-8DCCB0F6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7130-BAB8-4657-8B92-A3393D62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3134-9334-42FF-BA1C-4401E605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436A-B0B0-41CE-8B5C-A825D77D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924C-276A-4ABE-A7DE-B37AE541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BE2-2BA7-4E7C-B748-75A96785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E7C8-D5F1-4BDE-A8E6-5CD016D6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2476-2F58-480B-9B57-A23812D8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AEF-CDA7-4B28-B23C-943C53D2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0D85-DD2B-4F13-BE0C-A3CA99D7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83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6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Oval 8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Oval 9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Oval 10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Oval 11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Oval 12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Oval 13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Oval 14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Oval 15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Oval 16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Oval 17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Oval 18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Oval 19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Oval 20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Oval 21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Oval 22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Oval 23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Oval 24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Oval 25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Oval 26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Oval 27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Oval 28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Oval 29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Oval 30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Oval 31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Oval 32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Oval 33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Oval 34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Oval 35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Oval 36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Oval 37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Oval 38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Oval 39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Oval 40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Oval 41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Oval 42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Oval 43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Oval 44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Oval 45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Oval 46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Oval 47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Oval 48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8" name="Oval 49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9" name="Oval 50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0" name="Oval 51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51" name="Group 69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3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4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5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6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7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8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9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0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1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2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3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4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5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6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7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8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0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0" name="Rectangle 71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1" name="Rectangle 72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2" name="Rectangle 73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3" name="Rectangle 74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4" name="Rectangle 75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5" name="Oval 76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638A-66A0-4E6A-A138-D4D9E8B13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18" name="Group 83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4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Oval 6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Oval 7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Oval 8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Oval 9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Oval 10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Oval 11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Oval 12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Oval 13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Oval 14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Oval 15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Oval 16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Oval 17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Oval 18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Oval 19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Oval 20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Oval 21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Oval 22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Oval 23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Oval 24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Oval 30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Oval 31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Oval 32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Oval 33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Oval 34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Oval 35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Oval 36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Oval 37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Oval 38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Oval 39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Oval 40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Oval 41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Oval 42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Oval 43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Oval 44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Oval 45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Oval 46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Oval 47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3" name="Oval 48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4" name="Oval 49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165" name="Group 67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0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7" name="Oval 51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8" name="Oval 52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9" name="Oval 53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0" name="Oval 54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1" name="Oval 55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2" name="Oval 56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3" name="Oval 57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4" name="Oval 58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5" name="Oval 59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6" name="Oval 60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7" name="Oval 61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8" name="Oval 62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9" name="Oval 63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0" name="Oval 64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1" name="Oval 65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2" name="Oval 66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8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4" name="Rectangle 69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5" name="Rectangle 70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6" name="Rectangle 71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7" name="Rectangle 72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8" name="Rectangle 73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9" name="Oval 74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73D7-0D45-4E40-8337-F0994A43EA10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Order of Operations</a:t>
            </a: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r. Clutter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VMS Librar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66"/>
                </a:solidFill>
                <a:latin typeface="Times New Roman"/>
              </a:rPr>
              <a:t>Order of Operations</a:t>
            </a:r>
            <a:endParaRPr b="0" lang="en-US" sz="66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562120" y="22860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99"/>
                </a:solidFill>
                <a:latin typeface="Arial Narrow"/>
              </a:rPr>
              <a:t>A standard way to simplify mathematical expressions and equations.</a:t>
            </a:r>
            <a:endParaRPr b="0" lang="en-US" sz="54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voids Confusion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Gives Consistenc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505680" y="3733920"/>
            <a:ext cx="329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11 * 4 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Or does it equal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8 + 12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Order of operations are a set of rules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that mathematicians have agreed to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follow to avoid mass CONFUSION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when simplifying mathematical expressions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or equations. Without these simple, but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important rules, learning mathematics would 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 Narrow"/>
              </a:rPr>
              <a:t>be maddening.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The Rule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mplify within Grouping Symbols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( ), { }, [ ], | |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mplify Exponents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Raise to Powers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omplete Multiplication and Division from Left to Righ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omplete Addition and Subtraction from Left to Righ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Back to Our Exampl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2362320" y="213372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11 * 4 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4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Or does it equal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8 + 3 * 4  =  8 + 12 =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420280" y="4613400"/>
            <a:ext cx="47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Using order of operations, we do the 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multiplication first.  So what’s our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answer?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2423880" y="5908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How can we remember it?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Parenthesis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Pleas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Exponents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Excus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ultiplica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M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Divis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Dear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ddi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Aun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ubtraction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ally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Key points to remember that will give audience confidence or improve moral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20:11:28Z</dcterms:created>
  <dc:creator>Mr. Clutter</dc:creator>
  <dc:description/>
  <dc:language>en-US</dc:language>
  <cp:lastModifiedBy>RomaK</cp:lastModifiedBy>
  <dcterms:modified xsi:type="dcterms:W3CDTF">2015-09-04T07:44:40Z</dcterms:modified>
  <cp:revision>6</cp:revision>
  <dc:subject/>
  <dc:title>Order of Operations</dc:title>
</cp:coreProperties>
</file>