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5BA3-15B9-420D-8611-419390299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9FF-BD36-464A-8029-893C1597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E9F-1FBE-4410-B0FA-4E0836E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019-8089-4074-A8EF-118480B1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C4A-118D-4484-8337-68D32A51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6B2F-FB6A-48C5-808D-64AD27DE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6BA9-8D2E-4B9C-A42B-E7D4EFF8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6669-6458-4736-8CA3-86B0484B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F5A7-1B50-47DE-8364-1F546A60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7626-2769-48A9-BB07-48C8EAE6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43B1-C09D-4D1F-8345-941E2103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3EB6-F9B5-4A5E-970A-9F9DD4CC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24D-812F-47E9-903D-800520F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E267-BE44-4E1E-8FF4-13866A3D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8954-E084-4584-A591-86426C53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B7A4-8FBC-4055-882E-5E897D8E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4AB-35E4-4936-9582-0DBC4544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2DBD-04CA-424E-95AC-2625FD64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40C-B00D-4424-87CD-160B697E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797-742F-47C7-AA10-40650C7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113-203F-4927-8696-428E200A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E0E-2679-441F-98A7-C656AEEA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07A-82FC-45AA-BC09-EEC68995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B5E-F701-4DC0-9BF5-2292DD6C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1C0-4D31-4450-87CD-54526BF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83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6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69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0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1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2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3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4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5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7B8-99D9-48F7-848B-F046D8F02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83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4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3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4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5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6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7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8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49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67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0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1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2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3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4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5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6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7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58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59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0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1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2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3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4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5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6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8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69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4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821-517D-40AE-84AC-AF7F278398F7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r. Clutte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MS Librar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endParaRPr b="0" lang="en-US" sz="6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Arial Narrow"/>
              </a:rPr>
              <a:t>A standard way to simplify mathematical expressions and equations.</a:t>
            </a:r>
            <a:endParaRPr b="0" lang="en-US" sz="5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voids Confusion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Gives Consistenc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05680" y="3733920"/>
            <a:ext cx="329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der of operations are a set of rule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that mathematicians have agreed to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follow to avoid mass CONFUSION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when simplifying mathematical expression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 equations. Without these simple, but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important rules, learning mathematics would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be maddening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Rule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within Grouping Symbo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( ), { }, [ ], | |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Exponents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Raise to Power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Multiplication and Divis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Addition and Subtract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ack to Our Exampl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36232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20280" y="461340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423880" y="590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How can we remember i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arenthesi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lea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ponent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cu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ultiplic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ivis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ea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ddi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un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ubtrac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all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20:11:28Z</dcterms:created>
  <dc:creator>Mr. Clutter</dc:creator>
  <dc:description/>
  <dc:language>en-US</dc:language>
  <cp:lastModifiedBy>RomaK</cp:lastModifiedBy>
  <dcterms:modified xsi:type="dcterms:W3CDTF">2015-09-04T07:44:40Z</dcterms:modified>
  <cp:revision>6</cp:revision>
  <dc:subject/>
  <dc:title>Order of Operations</dc:title>
</cp:coreProperties>
</file>