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B6AC-0C8E-4E9C-8A5A-FCA164F61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6D8-6E4F-45C3-A5B0-3CF34ADC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5A8-3FA8-4934-B862-B50765D8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3B7-5F71-44B7-B185-D7E0D191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F75-8F8F-4661-B2CC-45321548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1E2A-FAB4-4DD8-9987-83D7C7D0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BA27-5156-4C5D-9DB6-8D0264D4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CBED-5494-4906-A55C-C4D29680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895D-1166-46C4-94DE-96583B06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FC01-2B88-422E-95A5-98770BCF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03EA-74EC-4A9A-8A56-6B34F0B6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98E4-F47C-4EF0-8021-53A8381D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3E3-52B5-44A3-91C2-67C32C2C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7A57-0B56-474E-9CAB-1376C48D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D3E0-55F3-4CA2-83FF-55B4D16A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552A-4A41-40C4-81CF-FFF120CA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9E99-41C4-4489-AFED-AE84D224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5500-545C-44F3-9623-9A76A815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9F5-C9CB-4815-AB12-7A3F64BF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3DF-4E95-4559-9C02-CCF2D3C9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A41-E871-4C2C-8F72-B60C6905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9F1-74A3-4FE0-B85E-2F040433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C73-542B-442F-B43D-A51FC80B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137-E52C-454D-983C-C74FD131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C9D-2E6D-45C5-858F-4C448FDE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83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6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9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1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2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7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8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19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0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1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2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3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4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5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29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0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1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2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3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4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5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6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7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8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39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0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1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2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3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4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5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6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7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8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49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0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1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69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0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1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2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3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4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5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6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67FE-4D96-43AB-A392-872044895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83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4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4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3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4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5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6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7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8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49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67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0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1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2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3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4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5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6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7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58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59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0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1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2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3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4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5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6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8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69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0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1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2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3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4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8C8F-E0BC-4B4C-92FA-AA8DBEA1F615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r. Clutte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VMS Librar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endParaRPr b="0" lang="en-US" sz="6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Arial Narrow"/>
              </a:rPr>
              <a:t>A standard way to simplify mathematical expressions and equations.</a:t>
            </a:r>
            <a:endParaRPr b="0" lang="en-US" sz="5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voids Confusion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Gives Consistenc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505680" y="3733920"/>
            <a:ext cx="329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der of operations are a set of rule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that mathematicians have agreed to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follow to avoid mass CONFUSION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when simplifying mathematical expression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 equations. Without these simple, but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important rules, learning mathematics would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be maddening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he Rule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within Grouping Symbols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( ), { }, [ ], | |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Exponents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Raise to Power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Multiplication and Divis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Addition and Subtract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Back to Our Exampl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362320" y="21337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420280" y="4613400"/>
            <a:ext cx="47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423880" y="5908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How can we remember it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arenthesi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lea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ponent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cu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ultiplica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ivis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ea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ddi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un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ubtrac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all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Key points to remember that will give audience confidence or improve moral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20:11:28Z</dcterms:created>
  <dc:creator>Mr. Clutter</dc:creator>
  <dc:description/>
  <dc:language>en-US</dc:language>
  <cp:lastModifiedBy>RomaK</cp:lastModifiedBy>
  <dcterms:modified xsi:type="dcterms:W3CDTF">2015-09-04T07:44:40Z</dcterms:modified>
  <cp:revision>6</cp:revision>
  <dc:subject/>
  <dc:title>Order of Operations</dc:title>
</cp:coreProperties>
</file>