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D450-D7FA-462E-85B6-A16F19298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3EA-306F-4BE8-AB2C-B524DBAF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4DA-91AB-4A69-AC28-4E102BEE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DE8-7209-45E7-934A-AC81CC17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7C4-2725-40C6-A849-E04017CB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C16-2CD0-4ABD-AEDF-E5FCCC55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8CA-1F97-49C9-A2CE-08AD34D8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607-4E36-41B5-8ACD-6B82A30C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CB8-DE92-4E05-B0FA-A8CB22CD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C88-60F9-4AF5-BB38-340A275E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5E3-B71F-4AB3-A26C-E87A33D2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0FF-163F-4459-B079-0018F770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E5E-2E0C-4D66-A5B7-7F3BA323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7A3F-70AB-4DD5-9A7A-A3B41FB81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43200" y="5638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098960" y="46893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9072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d14528_"/>
          <p:cNvPicPr/>
          <p:nvPr/>
        </p:nvPicPr>
        <p:blipFill>
          <a:blip r:embed="rId1"/>
          <a:stretch/>
        </p:blipFill>
        <p:spPr>
          <a:xfrm>
            <a:off x="4657680" y="35146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f two equal factors of a number.  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quared equal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the 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The square root of 144 is 12 because 12 squared is 14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a01595_"/>
          <p:cNvPicPr/>
          <p:nvPr/>
        </p:nvPicPr>
        <p:blipFill>
          <a:blip r:embed="rId1"/>
          <a:stretch/>
        </p:blipFill>
        <p:spPr>
          <a:xfrm>
            <a:off x="6745320" y="1981080"/>
            <a:ext cx="2398680" cy="23702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d00136_"/>
          <p:cNvPicPr/>
          <p:nvPr/>
        </p:nvPicPr>
        <p:blipFill>
          <a:blip r:embed="rId1"/>
          <a:stretch/>
        </p:blipFill>
        <p:spPr>
          <a:xfrm>
            <a:off x="3429000" y="3352680"/>
            <a:ext cx="4584600" cy="2733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6:17:53Z</dcterms:created>
  <dc:creator>MS</dc:creator>
  <dc:description/>
  <dc:language>en-US</dc:language>
  <cp:lastModifiedBy>RomaK</cp:lastModifiedBy>
  <dcterms:modified xsi:type="dcterms:W3CDTF">2015-09-04T07:44:34Z</dcterms:modified>
  <cp:revision>13</cp:revision>
  <dc:subject/>
  <dc:title>Terms from chapter 8</dc:title>
</cp:coreProperties>
</file>