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C3E4-4A1F-4822-BB06-C48E540D3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56C-7F1C-4318-A184-31C31155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5B02-0447-41B4-A2BA-AC0294C1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B7B-8234-456E-84D1-D5CE7DD9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551-F4A0-41ED-948D-2B4D6148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C8B-995A-46DF-9EAD-1C3817DF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5E3-2176-40EE-9724-E8843E0D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05C-D7CB-432A-A43F-04217109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C97-0EA9-46D3-A287-59DA4B83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2DAC-E7DD-4026-8211-511E83D6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6A6-B519-4863-B311-F85E42C4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E39-9B66-4CB1-91E1-91AE93A8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505-A34E-424E-9D6C-5230FE3C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5704-EA7B-455F-BD56-1E690BED8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43200" y="5638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098960" y="46893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9072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d14528_"/>
          <p:cNvPicPr/>
          <p:nvPr/>
        </p:nvPicPr>
        <p:blipFill>
          <a:blip r:embed="rId1"/>
          <a:stretch/>
        </p:blipFill>
        <p:spPr>
          <a:xfrm>
            <a:off x="4657680" y="35146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f two equal factors of a number.  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quared equal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the 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The square root of 144 is 12 because 12 squared is 14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a01595_"/>
          <p:cNvPicPr/>
          <p:nvPr/>
        </p:nvPicPr>
        <p:blipFill>
          <a:blip r:embed="rId1"/>
          <a:stretch/>
        </p:blipFill>
        <p:spPr>
          <a:xfrm>
            <a:off x="6745320" y="1981080"/>
            <a:ext cx="2398680" cy="23702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d00136_"/>
          <p:cNvPicPr/>
          <p:nvPr/>
        </p:nvPicPr>
        <p:blipFill>
          <a:blip r:embed="rId1"/>
          <a:stretch/>
        </p:blipFill>
        <p:spPr>
          <a:xfrm>
            <a:off x="3429000" y="3352680"/>
            <a:ext cx="4584600" cy="2733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6:17:53Z</dcterms:created>
  <dc:creator>MS</dc:creator>
  <dc:description/>
  <dc:language>en-US</dc:language>
  <cp:lastModifiedBy>RomaK</cp:lastModifiedBy>
  <dcterms:modified xsi:type="dcterms:W3CDTF">2015-09-04T07:44:34Z</dcterms:modified>
  <cp:revision>13</cp:revision>
  <dc:subject/>
  <dc:title>Terms from chapter 8</dc:title>
</cp:coreProperties>
</file>