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3F2C-B79C-4B4A-B43B-9BF58FA0C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wo equal factors of a number.  If a squared equals b then a is the square root of b.  The square root of 144 is 12 because 12 squared is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A96D-8007-4581-913E-8142D384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931-9E5B-48EE-BD19-50DC31A8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4BC-4EB7-43CC-8024-AB1D7B76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D44-AE3B-4EF8-9425-C7BF1BCE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02B-F164-4AB0-B572-818947AB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870C-743B-42A5-B3A0-9D43842B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137B-F1B3-43D4-BB6A-F54EEEDE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8CA5-B241-4658-8D6D-B37A60EA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BCC-37A5-44F3-8635-C400C8F5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D54-02EB-4DEE-8B07-4AF1F2B1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8E35-6A08-45EE-9C4F-EA8121B2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81F8-5D3D-4A77-8D4A-96296CE8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1F00-1184-4569-B69E-2496156B3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umbers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43200" y="56386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4098960" y="468936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990720" y="57913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nteg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whole numbers and their opposites.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-3, -2, -1, 0, 1, 2, 3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ation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ny number that can be expressed in the form a/b where a and b are integers and b is not equal to 0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rfect 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quares of whole number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bd14528_"/>
          <p:cNvPicPr/>
          <p:nvPr/>
        </p:nvPicPr>
        <p:blipFill>
          <a:blip r:embed="rId1"/>
          <a:stretch/>
        </p:blipFill>
        <p:spPr>
          <a:xfrm>
            <a:off x="4657680" y="3514680"/>
            <a:ext cx="1743120" cy="17431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quare roo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e of two equal factors of a number.  I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squared equal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is the square root of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  The square root of 144 is 12 because 12 squared is 144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dical Sig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e sign used to represent a nonnegative square roo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Principle Square Roo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A nonnegative square root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umbers that cannot be expressed as a/b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na01595_"/>
          <p:cNvPicPr/>
          <p:nvPr/>
        </p:nvPicPr>
        <p:blipFill>
          <a:blip r:embed="rId1"/>
          <a:stretch/>
        </p:blipFill>
        <p:spPr>
          <a:xfrm>
            <a:off x="6745320" y="1981080"/>
            <a:ext cx="2398680" cy="23702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eal Numb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rrational numbers together with rational numbers to form the set of all number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Natural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1, 2, 3, 4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ed00136_"/>
          <p:cNvPicPr/>
          <p:nvPr/>
        </p:nvPicPr>
        <p:blipFill>
          <a:blip r:embed="rId1"/>
          <a:stretch/>
        </p:blipFill>
        <p:spPr>
          <a:xfrm>
            <a:off x="3429000" y="3352680"/>
            <a:ext cx="4584600" cy="27338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hole Number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0, 1, 2, 3, 4, 5..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5000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16:17:53Z</dcterms:created>
  <dc:creator>MS</dc:creator>
  <dc:description/>
  <dc:language>en-US</dc:language>
  <cp:lastModifiedBy>RomaK</cp:lastModifiedBy>
  <dcterms:modified xsi:type="dcterms:W3CDTF">2015-09-04T07:44:34Z</dcterms:modified>
  <cp:revision>13</cp:revision>
  <dc:subject/>
  <dc:title>Terms from chapter 8</dc:title>
</cp:coreProperties>
</file>