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6C68-6E2A-44EC-BB4C-D1E7DE99E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2D2-7455-4584-B307-F5281471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44FD-606C-44C6-9506-76A67DB2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616B-16D7-4582-BEFF-9D5B48E4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6FB3-6EFC-4DAD-8B53-D644838D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D52-132B-4D60-867A-DD64BB38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3943-1500-40DC-B8F8-9DF87AE7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312D-8349-4500-8AD0-00793A9B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84AD-CA32-4D58-A6CC-E95E93A4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3AA7-C799-4EFF-A5E8-DC6BD9AB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CF7-02F2-432E-8CE2-3C2D16E3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DB6-12AA-4F5B-90A3-651F3206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3E5E-43C2-4831-AC94-B4E8A8E5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2345-FD40-4287-B468-9CF50532A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43200" y="56386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098960" y="468936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90720" y="5791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bd14528_"/>
          <p:cNvPicPr/>
          <p:nvPr/>
        </p:nvPicPr>
        <p:blipFill>
          <a:blip r:embed="rId1"/>
          <a:stretch/>
        </p:blipFill>
        <p:spPr>
          <a:xfrm>
            <a:off x="4657680" y="351468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of two equal factors of a number.  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quared equal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the 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 The square root of 144 is 12 because 12 squared is 14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na01595_"/>
          <p:cNvPicPr/>
          <p:nvPr/>
        </p:nvPicPr>
        <p:blipFill>
          <a:blip r:embed="rId1"/>
          <a:stretch/>
        </p:blipFill>
        <p:spPr>
          <a:xfrm>
            <a:off x="6745320" y="1981080"/>
            <a:ext cx="2398680" cy="23702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ed00136_"/>
          <p:cNvPicPr/>
          <p:nvPr/>
        </p:nvPicPr>
        <p:blipFill>
          <a:blip r:embed="rId1"/>
          <a:stretch/>
        </p:blipFill>
        <p:spPr>
          <a:xfrm>
            <a:off x="3429000" y="3352680"/>
            <a:ext cx="4584600" cy="27338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6:17:53Z</dcterms:created>
  <dc:creator>MS</dc:creator>
  <dc:description/>
  <dc:language>en-US</dc:language>
  <cp:lastModifiedBy>RomaK</cp:lastModifiedBy>
  <dcterms:modified xsi:type="dcterms:W3CDTF">2015-09-04T07:44:34Z</dcterms:modified>
  <cp:revision>13</cp:revision>
  <dc:subject/>
  <dc:title>Terms from chapter 8</dc:title>
</cp:coreProperties>
</file>