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46DB-F01E-48F7-A005-7CA1E5118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858-BD63-43E7-8A7B-9D08E61E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355-48F7-47FA-8FB4-19BF3937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626-2B51-43F8-BE33-8620F588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BC1-1054-4742-8F04-BA1272BB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461-7360-4ADD-B2E2-AFC2DA8C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CB5-D56F-4C5E-8BFE-81D6C5E0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A62-F958-4B95-A3D0-8C0BB01F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FD02-4C99-44A5-B2FE-C4E92B76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C62-EEFD-4EFF-B457-78564AFF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644-3D30-4472-B2B9-5BAA65B2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EAD-1132-4C0C-BC5B-3EA84B1E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F7F-69F3-4AAD-9982-30C65CAB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0136-93B5-40B7-B631-9CF6C0A2B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43200" y="5638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098960" y="46893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9072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d14528_"/>
          <p:cNvPicPr/>
          <p:nvPr/>
        </p:nvPicPr>
        <p:blipFill>
          <a:blip r:embed="rId1"/>
          <a:stretch/>
        </p:blipFill>
        <p:spPr>
          <a:xfrm>
            <a:off x="4657680" y="35146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f two equal factors of a number.  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quared equal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the 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The square root of 144 is 12 because 12 squared is 14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a01595_"/>
          <p:cNvPicPr/>
          <p:nvPr/>
        </p:nvPicPr>
        <p:blipFill>
          <a:blip r:embed="rId1"/>
          <a:stretch/>
        </p:blipFill>
        <p:spPr>
          <a:xfrm>
            <a:off x="6745320" y="1981080"/>
            <a:ext cx="2398680" cy="23702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d00136_"/>
          <p:cNvPicPr/>
          <p:nvPr/>
        </p:nvPicPr>
        <p:blipFill>
          <a:blip r:embed="rId1"/>
          <a:stretch/>
        </p:blipFill>
        <p:spPr>
          <a:xfrm>
            <a:off x="3429000" y="3352680"/>
            <a:ext cx="4584600" cy="2733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6:17:53Z</dcterms:created>
  <dc:creator>MS</dc:creator>
  <dc:description/>
  <dc:language>en-US</dc:language>
  <cp:lastModifiedBy>RomaK</cp:lastModifiedBy>
  <dcterms:modified xsi:type="dcterms:W3CDTF">2015-09-04T07:44:34Z</dcterms:modified>
  <cp:revision>13</cp:revision>
  <dc:subject/>
  <dc:title>Terms from chapter 8</dc:title>
</cp:coreProperties>
</file>