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FC78-A60A-43DC-A1D4-0E583540C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hole numbers and their opposit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-3, -2, -1, 0, 1, 2, 3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hole numbers and their opposit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-3, -2, -1, 0, 1, 2, 3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number that can be expressed in the form a/b where a and b are integers and b is not equal to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number that can be expressed in the form a/b where a and b are integers and b is not equal to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ect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ect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wo equal factors of a number.  If a squared equals b then a is the square root of b.  The square root of 144 is 12 because 12 squared is 14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wo equal factors of a number.  If a squared equals b then a is the square root of b.  The square root of 144 is 12 because 12 squared is 14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cal 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gn used to represent a nonnegative square roo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cal 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gn used to represent a nonnegative square roo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 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nnegative 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 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nnegative 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ation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that cannot be expressed as a/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ation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that cannot be expressed as a/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ational numbers together with rational numbers to form the set of al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ational numbers together with rational numbers to form the set of al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 2, 3, 4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 2, 3, 4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 1, 2, 3, 4, 5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 1, 2, 3, 4, 5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7709-AFB3-48BF-B322-2F90FC434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22A6-6E1F-4E82-AFA9-A9093B9B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07C1-AE1B-4466-9A67-0818768E7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DA64-F4A0-4D6E-B995-541F7104C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F022-7145-4F2F-BCA4-977980A4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D4C9-BA5B-4BFF-8461-FDCD7C3D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31B4-4E80-4D2E-845D-59DE2942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B657-BA0B-45A0-A435-FA22DB53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14C8-C7D4-46A5-B6A3-3CBFB205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DB26-139B-41C4-A80D-760B34A9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7022-CDAC-4766-979D-03123540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EFFB-4821-42A8-8F60-C0D610F9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72C7-2818-4E4D-AF1B-269AEE631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Numbers</a:t>
            </a: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743200" y="56386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4098960" y="4689360"/>
            <a:ext cx="321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990720" y="57913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whole numbers and their opposites.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...-3, -2, -1, 0, 1, 2, 3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Rational Numb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ny number that can be expressed in the form a/b where a and b are integers and b is not equal to 0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erfect Squar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quares of whole number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bd14528_"/>
          <p:cNvPicPr/>
          <p:nvPr/>
        </p:nvPicPr>
        <p:blipFill>
          <a:blip r:embed="rId1"/>
          <a:stretch/>
        </p:blipFill>
        <p:spPr>
          <a:xfrm>
            <a:off x="4657680" y="3514680"/>
            <a:ext cx="1743120" cy="174312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quare roo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of two equal factors of a number.  I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quared equal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the square root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 The square root of 144 is 12 because 12 squared is 144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Radical Sig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he sign used to represent a nonnegative square root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Principle Square Roo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A nonnegative square roo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Irrational Numbe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Numbers that cannot be expressed as a/b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na01595_"/>
          <p:cNvPicPr/>
          <p:nvPr/>
        </p:nvPicPr>
        <p:blipFill>
          <a:blip r:embed="rId1"/>
          <a:stretch/>
        </p:blipFill>
        <p:spPr>
          <a:xfrm>
            <a:off x="6745320" y="1981080"/>
            <a:ext cx="2398680" cy="237024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Real Numbe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Irrational numbers together with rational numbers to form the set of all number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Natural Numb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1, 2, 3, 4..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ed00136_"/>
          <p:cNvPicPr/>
          <p:nvPr/>
        </p:nvPicPr>
        <p:blipFill>
          <a:blip r:embed="rId1"/>
          <a:stretch/>
        </p:blipFill>
        <p:spPr>
          <a:xfrm>
            <a:off x="3429000" y="3352680"/>
            <a:ext cx="4584600" cy="273384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ole Numb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0, 1, 2, 3, 4, 5..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16:17:53Z</dcterms:created>
  <dc:creator>MS</dc:creator>
  <dc:description/>
  <dc:language>en-US</dc:language>
  <cp:lastModifiedBy>RomaK</cp:lastModifiedBy>
  <dcterms:modified xsi:type="dcterms:W3CDTF">2015-09-04T07:44:34Z</dcterms:modified>
  <cp:revision>13</cp:revision>
  <dc:subject/>
  <dc:title>Terms from chapter 8</dc:title>
</cp:coreProperties>
</file>