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AB49-A091-48A8-BCFC-58DE3BC090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you should be able to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powers with the same ba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 powers with the same ba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you should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powers with the same 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 powers with the same 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powers of the sam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 text below in to your books and then answer the ques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add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x an = am+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 22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x 46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x 6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x 83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 x 9 -2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x 2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 –7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2 x 3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2 x 8 -3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your answer in power for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6= 5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powers of the sa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 text below in to your books and then answer th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ad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x an = am+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 22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x 46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x 6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x 83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 x 9 -2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x 2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 –7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2 x 3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2 x 8 -3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your answer in power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6= 5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powers of the sam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add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x an = am+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 22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x 46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x 6 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x 83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 x 9 –2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x 2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 –7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2 x 3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2 x 8 -3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2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-2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1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1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me card acti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powers of the sa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ad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x an = am+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 22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x 46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x 6 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x 83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 x 9 –2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x 2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 –7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2 x 3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2 x 8 -3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2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-2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1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1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me card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powers of the sam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 text below in to your books and then answer the ques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ividing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subtrac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÷ an = am - 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÷ 22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 ÷ 45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÷ 6  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÷ 83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1 ÷ 35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÷ 2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÷ 5 –7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2 ÷ 113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4 ÷ 7-3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your answer in power for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6 ÷ 52= 5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powers of the sa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 text below in to your books and then answer th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ivi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subtra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÷ an = am -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÷ 22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 ÷ 45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÷ 6  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÷ 83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1 ÷ 35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÷ 2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÷ 5 –7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2 ÷ 113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4 ÷ 7-3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your answer in power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6 ÷ 52= 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ividing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subtrac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÷ an = am - 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÷ 22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 ÷ 45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÷ 6  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÷ 83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1 ÷ 35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÷ 2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÷ 5 –7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2 ÷ 113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4 ÷ 7-3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powers of the sam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1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ry thes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2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 x 3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 x 5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 x 4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 Ques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ivi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subtra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÷ an = am -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÷ 22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 ÷ 45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÷ 6  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÷ 83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1 ÷ 35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÷ 2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÷ 5 –7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2 ÷ 113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4 ÷ 7-3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powers of the sa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1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ry the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 x 3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 x 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 x 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61A3-9121-4656-97EF-D55B607AA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C787-73BB-4FBE-A03E-6215AAE7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8F12-DDC1-4BBA-819A-563D801BD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C1A1-FAC2-4F05-B8BD-E23907920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A068-9C47-4E85-814E-177CEDBE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02D5-AACC-427C-BBE5-F4CE9D35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43CF-A015-4256-8293-9A7B30DA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06C8-C550-436C-A492-9DC77B73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C408-9758-469B-AC68-95A78F2F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8414-EE94-45B9-911F-D0DDDA0A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9F12-2A9A-4827-BA63-7952D334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9DB2-196F-454F-88D7-873B6E15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A3CF-9D6C-4353-9BF0-4FB5693CB0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 u="sng">
                <a:solidFill>
                  <a:srgbClr val="3333cc"/>
                </a:solidFill>
                <a:uFillTx/>
                <a:latin typeface="Comic Sans MS"/>
              </a:rPr>
              <a:t>Lesson Objectiv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179280" y="2421000"/>
            <a:ext cx="8642520" cy="280116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y the end of this lesson you should be able t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ultiply powers with the same bas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vide powers with the same bas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cc"/>
                </a:solidFill>
                <a:uFillTx/>
                <a:latin typeface="Comic Sans MS"/>
              </a:rPr>
              <a:t>Multiplying powers of the same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981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py the text below in to your books and then answer the ques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80880" y="2286000"/>
            <a:ext cx="3353040" cy="1679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27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multiply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owers of the same base (number) ar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dde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 general: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x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+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4191120" y="1752480"/>
            <a:ext cx="259056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6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2 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5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–7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3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858000" y="3200400"/>
            <a:ext cx="1905120" cy="21132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 your answer in power for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x 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= 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2860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se numb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666880" y="47242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Line 9"/>
          <p:cNvSpPr/>
          <p:nvPr/>
        </p:nvSpPr>
        <p:spPr>
          <a:xfrm flipV="1">
            <a:off x="1219320" y="38858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Line 10"/>
          <p:cNvSpPr/>
          <p:nvPr/>
        </p:nvSpPr>
        <p:spPr>
          <a:xfrm flipH="1" flipV="1">
            <a:off x="2057400" y="38098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Line 11"/>
          <p:cNvSpPr/>
          <p:nvPr/>
        </p:nvSpPr>
        <p:spPr>
          <a:xfrm flipH="1" flipV="1">
            <a:off x="2590560" y="380988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7550"/>
                            </p:stCondLst>
                            <p:childTnLst>
                              <p:par>
                                <p:cTn id="49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155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3050"/>
                            </p:stCondLst>
                            <p:childTnLst>
                              <p:par>
                                <p:cTn id="6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455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6050"/>
                            </p:stCondLst>
                            <p:childTnLst>
                              <p:par>
                                <p:cTn id="6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7550"/>
                            </p:stCondLst>
                            <p:childTnLst>
                              <p:par>
                                <p:cTn id="7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905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455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cc"/>
                </a:solidFill>
                <a:uFillTx/>
                <a:latin typeface="Comic Sans MS"/>
              </a:rPr>
              <a:t>Multiplying powers of the same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114800" y="12193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80880" y="2286000"/>
            <a:ext cx="3353040" cy="1679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27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multiply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owers of the same base (number) ar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dde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 general: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x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+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191120" y="1752480"/>
            <a:ext cx="236196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2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2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4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6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6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8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3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9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9</a:t>
            </a:r>
            <a:r>
              <a:rPr b="0" lang="en-GB" sz="2000" spc="-1" strike="noStrike">
                <a:solidFill>
                  <a:srgbClr val="777777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–2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-3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2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5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5</a:t>
            </a:r>
            <a:r>
              <a:rPr b="0" lang="en-GB" sz="2000" spc="-1" strike="noStrike">
                <a:solidFill>
                  <a:srgbClr val="777777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–7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3 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3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777777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8</a:t>
            </a:r>
            <a:r>
              <a:rPr b="0" lang="en-GB" sz="2000" spc="-1" strike="noStrike">
                <a:solidFill>
                  <a:srgbClr val="777777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-3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6095880" y="1752480"/>
            <a:ext cx="9144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0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1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22860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se numb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2666880" y="47242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Line 10"/>
          <p:cNvSpPr/>
          <p:nvPr/>
        </p:nvSpPr>
        <p:spPr>
          <a:xfrm flipV="1">
            <a:off x="1219320" y="38858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Line 11"/>
          <p:cNvSpPr/>
          <p:nvPr/>
        </p:nvSpPr>
        <p:spPr>
          <a:xfrm flipH="1" flipV="1">
            <a:off x="2057400" y="38098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12"/>
          <p:cNvSpPr/>
          <p:nvPr/>
        </p:nvSpPr>
        <p:spPr>
          <a:xfrm flipH="1" flipV="1">
            <a:off x="2590560" y="380988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179280" y="6237360"/>
            <a:ext cx="352908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llow me card acti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1500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cc"/>
                </a:solidFill>
                <a:uFillTx/>
                <a:latin typeface="Comic Sans MS"/>
              </a:rPr>
              <a:t>Dividing powers of the same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50920" y="981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py the text below in to your books and then answer the ques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80880" y="2286000"/>
            <a:ext cx="3470400" cy="17402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27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divid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owers of the same base (number) ar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ubtracte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 general: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÷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 - 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191120" y="1752480"/>
            <a:ext cx="259056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2   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5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–7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11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7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3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7020000" y="3213000"/>
            <a:ext cx="1904760" cy="21132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 your answer in power for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÷ 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= 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2860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se numb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2666880" y="47242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9"/>
          <p:cNvSpPr/>
          <p:nvPr/>
        </p:nvSpPr>
        <p:spPr>
          <a:xfrm flipV="1">
            <a:off x="1219320" y="38858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Line 10"/>
          <p:cNvSpPr/>
          <p:nvPr/>
        </p:nvSpPr>
        <p:spPr>
          <a:xfrm flipH="1" flipV="1">
            <a:off x="2057400" y="38098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11"/>
          <p:cNvSpPr/>
          <p:nvPr/>
        </p:nvSpPr>
        <p:spPr>
          <a:xfrm flipH="1" flipV="1">
            <a:off x="2590560" y="380988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9" presetSubtype="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3"/>
          <p:cNvSpPr/>
          <p:nvPr/>
        </p:nvSpPr>
        <p:spPr>
          <a:xfrm>
            <a:off x="380880" y="2286000"/>
            <a:ext cx="3470400" cy="17402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27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divid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owers of the same base (number) ar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ubtracte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 general: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÷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 - 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4191120" y="1752480"/>
            <a:ext cx="259056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2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2  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7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4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5  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6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    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8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3  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3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11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3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5 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-3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2   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5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5</a:t>
            </a:r>
            <a:r>
              <a:rPr b="0" lang="en-GB" sz="20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–7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11</a:t>
            </a:r>
            <a:r>
              <a:rPr b="0" lang="en-GB" sz="10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11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3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7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-4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7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-3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cc"/>
                </a:solidFill>
                <a:uFillTx/>
                <a:latin typeface="Comic Sans MS"/>
              </a:rPr>
              <a:t>Dividing </a:t>
            </a:r>
            <a:r>
              <a:rPr b="0" lang="en-GB" sz="4000" spc="-1" strike="noStrike" u="sng">
                <a:solidFill>
                  <a:srgbClr val="3333cc"/>
                </a:solidFill>
                <a:uFillTx/>
                <a:latin typeface="Comic Sans MS"/>
              </a:rPr>
              <a:t>powers of the same nu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114800" y="12193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6095880" y="1752480"/>
            <a:ext cx="914400" cy="47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2860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se numb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2666880" y="47242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Line 9"/>
          <p:cNvSpPr/>
          <p:nvPr/>
        </p:nvSpPr>
        <p:spPr>
          <a:xfrm flipV="1">
            <a:off x="1219320" y="38858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Line 10"/>
          <p:cNvSpPr/>
          <p:nvPr/>
        </p:nvSpPr>
        <p:spPr>
          <a:xfrm flipH="1" flipV="1">
            <a:off x="2057400" y="38098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Line 11"/>
          <p:cNvSpPr/>
          <p:nvPr/>
        </p:nvSpPr>
        <p:spPr>
          <a:xfrm flipH="1" flipV="1">
            <a:off x="2590560" y="380988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6877080" y="1700280"/>
            <a:ext cx="2087640" cy="53593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w try thes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2 x 2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3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5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 x 3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5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-3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 x 5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4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2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 x 4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7020000" y="6237360"/>
            <a:ext cx="19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6804000" y="9079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xtra Ques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9T11:47:59Z</dcterms:created>
  <dc:creator>BWN</dc:creator>
  <dc:description/>
  <dc:language>en-US</dc:language>
  <cp:lastModifiedBy>RomaK</cp:lastModifiedBy>
  <dcterms:modified xsi:type="dcterms:W3CDTF">2015-09-04T07:44:28Z</dcterms:modified>
  <cp:revision>16</cp:revision>
  <dc:subject/>
  <dc:title>Multiplying powers of the same number</dc:title>
</cp:coreProperties>
</file>