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14C6-2579-478F-972A-64D4DFA352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CBD-F854-4934-91B0-E234B0C5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489-0142-4771-8FD5-08BE6197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9F0-1867-48E2-8837-6A012756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DB7-A12F-486B-AFE1-FFEA2CAC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75C-9402-4284-B46C-60CC67BA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3C2-3213-4DED-932E-8C0EDA45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A40-7AD7-48F7-829F-B9275ED9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52B-D5EB-4053-B177-3C3BF3F9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094-8A1D-41EA-9467-E8AFCDA1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BC9-F683-4BD9-8A32-187E3A7E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7A0-CAEC-4D43-99B6-2F431134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27A-962F-4E07-9DF7-C829F6F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F225-3528-40FE-9CDE-C78A590A05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3333cc"/>
                </a:solidFill>
                <a:uFillTx/>
                <a:latin typeface="Comic Sans MS"/>
              </a:rPr>
              <a:t>Lesson Objec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79280" y="2421000"/>
            <a:ext cx="8642520" cy="2801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ltiply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de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0" y="3200400"/>
            <a:ext cx="190512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x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905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91120" y="1752480"/>
            <a:ext cx="23619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6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2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7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3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5880" y="1752480"/>
            <a:ext cx="914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79280" y="6237360"/>
            <a:ext cx="3529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low me card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5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020000" y="3213000"/>
            <a:ext cx="190476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÷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3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</a:t>
            </a: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owers of the sam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5880" y="1752480"/>
            <a:ext cx="91440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77080" y="1700280"/>
            <a:ext cx="2087640" cy="5359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try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2 x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7020000" y="623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804000" y="90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ra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1:47:59Z</dcterms:created>
  <dc:creator>BWN</dc:creator>
  <dc:description/>
  <dc:language>en-US</dc:language>
  <cp:lastModifiedBy>RomaK</cp:lastModifiedBy>
  <dcterms:modified xsi:type="dcterms:W3CDTF">2015-09-04T07:44:28Z</dcterms:modified>
  <cp:revision>16</cp:revision>
  <dc:subject/>
  <dc:title>Multiplying powers of the same number</dc:title>
</cp:coreProperties>
</file>