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2539-C9B3-42F5-9E91-DEB5FB9244B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sson Ob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end of this lesson you should be able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e powers with the same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-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6= 5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multiply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ad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x an = am+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 22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3 x 46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x 6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x 8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2 x 9 –2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x 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x 5 –7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2 x 3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-2 x 8 -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 -2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-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me card ac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 the text below in to your books and then answer th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your answer in power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6 ÷ 52=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divi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s of the same base (number) are subtrac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: am ÷ an = am -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÷ 22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7 ÷ 45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2 ÷ 6  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4 ÷ 83 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11 ÷ 35 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3 ÷ 2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5 ÷ 5 –7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2 ÷ 113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4 ÷ 7-3  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viding powers of the sam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1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-1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ry the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x 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x 3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3 x 5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2 x 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-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tra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8F6A-7802-4DC1-8FED-777AA587E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6D6F-3235-415F-9D0F-CC776556C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71F6-13E9-487F-AD3C-1D8B2E160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B99-D22A-4E57-A72E-7E1AB5F6F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7F56-49C8-44C3-9A90-91460011A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1DA8-18E4-4BB8-AC8F-943D64F6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E23-0DFC-45B0-B771-05C548238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6CE5-9A08-4C8D-AA70-6EF287F9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4870-1C38-410D-90CD-4A89875C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F499-8250-4E95-8B75-AB7862A1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A31F-52DA-4AC1-8C9D-4C992E58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C091-099F-4469-8EFB-DF469EC2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2DCB-DB59-44E9-9A16-8862FB7FC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 u="sng">
                <a:solidFill>
                  <a:srgbClr val="3333cc"/>
                </a:solidFill>
                <a:uFillTx/>
                <a:latin typeface="Comic Sans MS"/>
              </a:rPr>
              <a:t>Lesson Objective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4"/>
          <p:cNvSpPr/>
          <p:nvPr/>
        </p:nvSpPr>
        <p:spPr>
          <a:xfrm>
            <a:off x="179280" y="2421000"/>
            <a:ext cx="8642520" cy="28011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fff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y the end of this lesson you should be able t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ltiply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vide powers with the same b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2 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58000" y="3200400"/>
            <a:ext cx="190512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x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550"/>
                            </p:stCondLst>
                            <p:childTnLst>
                              <p:par>
                                <p:cTn id="4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50"/>
                            </p:stCondLst>
                            <p:childTnLst>
                              <p:par>
                                <p:cTn id="49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155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305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6050"/>
                            </p:stCondLst>
                            <p:childTnLst>
                              <p:par>
                                <p:cTn id="68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7550"/>
                            </p:stCondLst>
                            <p:childTnLst>
                              <p:par>
                                <p:cTn id="72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9050"/>
                            </p:stCondLst>
                            <p:childTnLst>
                              <p:par>
                                <p:cTn id="7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455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3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Multiply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380880" y="2286000"/>
            <a:ext cx="3353040" cy="1679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multiply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dd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x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+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191120" y="1752480"/>
            <a:ext cx="23619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4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6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6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3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9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2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2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5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–7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3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3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777777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 x 8</a:t>
            </a:r>
            <a:r>
              <a:rPr b="0" lang="en-GB" sz="2000" spc="-1" strike="noStrike">
                <a:solidFill>
                  <a:srgbClr val="777777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777777"/>
                </a:solidFill>
                <a:latin typeface="Comic Sans MS"/>
              </a:rPr>
              <a:t>-3 </a:t>
            </a:r>
            <a:r>
              <a:rPr b="0" lang="en-GB" sz="2400" spc="-1" strike="noStrike">
                <a:solidFill>
                  <a:srgbClr val="777777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6095880" y="1752480"/>
            <a:ext cx="914400" cy="48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0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1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Line 10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11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12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179280" y="6237360"/>
            <a:ext cx="352908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ollow me card activi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1500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powers of the same numb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50920" y="9810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py the text below in to your books and then answer the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7020000" y="3213000"/>
            <a:ext cx="1904760" cy="211320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647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ive your answer in power for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6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 ÷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= 5</a:t>
            </a:r>
            <a:r>
              <a:rPr b="0" lang="en-GB" sz="2400" spc="-1" strike="noStrike" baseline="30000">
                <a:solidFill>
                  <a:srgbClr val="ffffff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19" presetSubtype="5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" nodeType="afterEffect" fill="hold" presetClass="entr" presetID="2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3"/>
          <p:cNvSpPr/>
          <p:nvPr/>
        </p:nvSpPr>
        <p:spPr>
          <a:xfrm>
            <a:off x="380880" y="2286000"/>
            <a:ext cx="3470400" cy="174024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005e47"/>
              </a:gs>
            </a:gsLst>
            <a:lin ang="27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When divid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Powers of the same base (number) are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subtracted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In general: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÷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 = a</a:t>
            </a:r>
            <a:r>
              <a:rPr b="0" lang="en-GB" sz="2000" spc="-1" strike="noStrike" baseline="30000">
                <a:solidFill>
                  <a:srgbClr val="ffffff"/>
                </a:solidFill>
                <a:latin typeface="Comic Sans MS"/>
              </a:rPr>
              <a:t>m - 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4191120" y="1752480"/>
            <a:ext cx="2590560" cy="490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4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6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  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8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3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 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2   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5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5</a:t>
            </a:r>
            <a:r>
              <a:rPr b="0" lang="en-GB" sz="2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–7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b2b2b2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2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11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3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b2b2b2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4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 ÷ 7</a:t>
            </a:r>
            <a:r>
              <a:rPr b="0" lang="en-GB" sz="2000" spc="-1" strike="noStrike" baseline="30000">
                <a:solidFill>
                  <a:srgbClr val="b2b2b2"/>
                </a:solidFill>
                <a:latin typeface="Comic Sans MS"/>
              </a:rPr>
              <a:t>-3    </a:t>
            </a:r>
            <a:r>
              <a:rPr b="0" lang="en-GB" sz="2400" spc="-1" strike="noStrike">
                <a:solidFill>
                  <a:srgbClr val="b2b2b2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3333cc"/>
                </a:solidFill>
                <a:uFillTx/>
                <a:latin typeface="Comic Sans MS"/>
              </a:rPr>
              <a:t>Dividing </a:t>
            </a:r>
            <a:r>
              <a:rPr b="0" lang="en-GB" sz="4000" spc="-1" strike="noStrike" u="sng">
                <a:solidFill>
                  <a:srgbClr val="3333cc"/>
                </a:solidFill>
                <a:uFillTx/>
                <a:latin typeface="Comic Sans MS"/>
              </a:rPr>
              <a:t>powers of the same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114800" y="12193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095880" y="1752480"/>
            <a:ext cx="914400" cy="47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-1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28600" y="44197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se numb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2666880" y="4724280"/>
            <a:ext cx="106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9"/>
          <p:cNvSpPr/>
          <p:nvPr/>
        </p:nvSpPr>
        <p:spPr>
          <a:xfrm flipV="1">
            <a:off x="1219320" y="38858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Line 10"/>
          <p:cNvSpPr/>
          <p:nvPr/>
        </p:nvSpPr>
        <p:spPr>
          <a:xfrm flipH="1" flipV="1">
            <a:off x="2057400" y="3809880"/>
            <a:ext cx="838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Line 11"/>
          <p:cNvSpPr/>
          <p:nvPr/>
        </p:nvSpPr>
        <p:spPr>
          <a:xfrm flipH="1" flipV="1">
            <a:off x="2590560" y="3809880"/>
            <a:ext cx="533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6877080" y="1700280"/>
            <a:ext cx="2087640" cy="53593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50000">
                <a:srgbClr val="ffffff"/>
              </a:gs>
              <a:gs pos="100000">
                <a:srgbClr val="3366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w try thes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2 x 2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3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-3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5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2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 x 4</a:t>
            </a:r>
            <a:r>
              <a:rPr b="0" lang="en-GB" sz="2400" spc="-1" strike="noStrike" u="sng" baseline="30000">
                <a:solidFill>
                  <a:srgbClr val="000000"/>
                </a:solidFill>
                <a:uFillTx/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7020000" y="623736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6804000" y="90792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xtra Ques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1:47:59Z</dcterms:created>
  <dc:creator>BWN</dc:creator>
  <dc:description/>
  <dc:language>en-US</dc:language>
  <cp:lastModifiedBy>RomaK</cp:lastModifiedBy>
  <dcterms:modified xsi:type="dcterms:W3CDTF">2015-09-04T07:44:28Z</dcterms:modified>
  <cp:revision>16</cp:revision>
  <dc:subject/>
  <dc:title>Multiplying powers of the same number</dc:title>
</cp:coreProperties>
</file>