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png" ContentType="image/png"/>
  <Override PartName="/ppt/media/breez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CDAD-7F2D-44D4-84BD-C0A24CBBB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3F32-676F-4B7A-B155-42CB9591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D98-B215-4661-A91C-E7746F50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AF2-8198-444F-A5A4-1AB81D33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BDC-044E-4E94-8175-5F036F7E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9573D-340B-4BA5-8854-06ADCA13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7A022-8A00-479A-A657-A7E1511E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D120E-4A8D-4EB2-B5C9-B1B28B1F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922DC-CB6C-455C-ACB2-054663CF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F5902-2085-4103-994F-AA589297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90DDC-10B6-4FD2-9027-54C0A6A0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68C3F-CAA7-4940-BD1A-DC2EB2CB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28E-E661-499E-8D6E-0A7CB90B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EC083-887D-4639-ABD8-4A9D3EC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0A755-2361-4672-B856-0848B0DB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EA7CE-B3A3-428C-B079-75EFDBCF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D88F2-7872-4D4F-A34A-C0442A7D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90EB4-F3CC-4196-9C33-2A5736EB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E9B1-AEEF-47CD-B673-B52CD58C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B85-B15D-4D02-B57C-4EEA69C2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FAE-8BC3-4CA2-B839-28C38BD1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846-1BA1-4535-AFDD-1F309609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0D6-E82F-4192-858B-DF4485F9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A69-8CE8-4153-BF01-6449A86A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A42-E734-48C8-B578-C9949B98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C098-0ACC-43D7-A138-8C7B12931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AF9D-4EBA-4603-8F87-1CCECA8C2767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371600"/>
            <a:ext cx="70106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MORE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FACTOR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5000">
    <p:comb dir="horz"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The Milligan Method 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cc"/>
                </a:solidFill>
                <a:latin typeface="Tahoma"/>
              </a:rPr>
              <a:t>Here is another way to factor a quadratic.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***But always try GMF 1</a:t>
            </a:r>
            <a:r>
              <a:rPr b="0" i="1" lang="en-US" sz="1800" spc="-1" strike="noStrike" baseline="30000">
                <a:solidFill>
                  <a:srgbClr val="ff0066"/>
                </a:solidFill>
                <a:latin typeface="Tahoma"/>
              </a:rPr>
              <a:t>st</a:t>
            </a: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!!***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3124080" y="2590920"/>
                <a:ext cx="259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Rectangle 10"/>
          <p:cNvSpPr/>
          <p:nvPr/>
        </p:nvSpPr>
        <p:spPr>
          <a:xfrm>
            <a:off x="401760" y="3276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609480" y="3657600"/>
                <a:ext cx="443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Rectangle 13"/>
          <p:cNvSpPr/>
          <p:nvPr/>
        </p:nvSpPr>
        <p:spPr>
          <a:xfrm>
            <a:off x="1828800" y="364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752480" y="4038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33520" y="4038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83808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Line 17"/>
          <p:cNvSpPr/>
          <p:nvPr/>
        </p:nvSpPr>
        <p:spPr>
          <a:xfrm flipH="1">
            <a:off x="76176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383760" y="48762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914400" y="525744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2746080" y="54093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2133720" y="56541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this should be the middle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2666880" y="386784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5424840" y="31996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4"/>
              <p:cNvSpPr txBox="1"/>
              <p:nvPr/>
            </p:nvSpPr>
            <p:spPr>
              <a:xfrm>
                <a:off x="5791320" y="3581280"/>
                <a:ext cx="455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Rectangle 28"/>
          <p:cNvSpPr/>
          <p:nvPr/>
        </p:nvSpPr>
        <p:spPr>
          <a:xfrm>
            <a:off x="7010280" y="3550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7010280" y="396216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5791320" y="396216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Line 36"/>
          <p:cNvSpPr/>
          <p:nvPr/>
        </p:nvSpPr>
        <p:spPr>
          <a:xfrm flipH="1">
            <a:off x="6019560" y="41911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6019920" y="51811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6019920" y="4191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5181480" y="62481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ahoma"/>
              </a:rPr>
              <a:t>close, but we need +5</a:t>
            </a:r>
            <a:r>
              <a:rPr b="0" lang="en-US" sz="16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5565240" y="47998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0000">
    <p:comb dir="horz"/>
    <p:sndAc>
      <p:stSnd>
        <p:snd r:embed="rId1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63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9300"/>
                            </p:stCondLst>
                            <p:childTnLst>
                              <p:par>
                                <p:cTn id="1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8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783000" y="12186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244520" y="1600200"/>
                <a:ext cx="507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2209680" y="1599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143000" y="19807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381040" y="198072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137124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37160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0695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6002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700200" y="457200"/>
                <a:ext cx="256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13"/>
          <p:cNvSpPr/>
          <p:nvPr/>
        </p:nvSpPr>
        <p:spPr>
          <a:xfrm>
            <a:off x="285408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5630760" y="1447920"/>
                <a:ext cx="541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Rectangle 16"/>
          <p:cNvSpPr/>
          <p:nvPr/>
        </p:nvSpPr>
        <p:spPr>
          <a:xfrm>
            <a:off x="5410080" y="190476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6629400" y="144684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6813360" y="190476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048120" y="2179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4" name="Line 20"/>
          <p:cNvSpPr/>
          <p:nvPr/>
        </p:nvSpPr>
        <p:spPr>
          <a:xfrm flipV="1">
            <a:off x="3352680" y="25142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4419720" y="300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4724280" y="3732840"/>
            <a:ext cx="27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y  +  8) (y  -  3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3200400" y="434232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35000">
    <p:comb dir="horz"/>
    <p:sndAc>
      <p:stSnd>
        <p:snd r:embed="rId2" name="cashreg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2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12"/>
              <p:cNvSpPr txBox="1"/>
              <p:nvPr/>
            </p:nvSpPr>
            <p:spPr>
              <a:xfrm>
                <a:off x="1752480" y="38088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Line 6"/>
          <p:cNvSpPr/>
          <p:nvPr/>
        </p:nvSpPr>
        <p:spPr>
          <a:xfrm>
            <a:off x="5334120" y="2057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Line 5"/>
          <p:cNvSpPr/>
          <p:nvPr/>
        </p:nvSpPr>
        <p:spPr>
          <a:xfrm flipH="1">
            <a:off x="1218960" y="21337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5257440" y="20574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1295280" y="21337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85800" y="961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914400" y="1371600"/>
                <a:ext cx="5079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Rectangle 15"/>
          <p:cNvSpPr/>
          <p:nvPr/>
        </p:nvSpPr>
        <p:spPr>
          <a:xfrm>
            <a:off x="2133720" y="1356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4952880" y="1371600"/>
                <a:ext cx="457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Rectangle 16"/>
          <p:cNvSpPr/>
          <p:nvPr/>
        </p:nvSpPr>
        <p:spPr>
          <a:xfrm>
            <a:off x="6248520" y="137052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1752480" y="4191120"/>
                <a:ext cx="584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Rectangle 17"/>
          <p:cNvSpPr/>
          <p:nvPr/>
        </p:nvSpPr>
        <p:spPr>
          <a:xfrm>
            <a:off x="2895480" y="41900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17524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3a       + 4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1677240" y="510444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1a        - 6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1066680" y="190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1059840" y="186048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2155320" y="1828800"/>
            <a:ext cx="3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5038200" y="182880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6197760" y="182880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50320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4724280" y="989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12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7150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4648320" y="4494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3a  +  4) (a  -  6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4267080" y="502884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3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4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4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416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4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26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3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3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44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4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5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5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1382760" y="380880"/>
                <a:ext cx="24908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8"/>
          <p:cNvSpPr/>
          <p:nvPr/>
        </p:nvSpPr>
        <p:spPr>
          <a:xfrm>
            <a:off x="710280" y="9136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746600" y="83736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914400" y="1219320"/>
                <a:ext cx="609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Rectangle 12"/>
          <p:cNvSpPr/>
          <p:nvPr/>
        </p:nvSpPr>
        <p:spPr>
          <a:xfrm>
            <a:off x="2264760" y="12038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929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390040" y="175212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5"/>
              <p:cNvSpPr txBox="1"/>
              <p:nvPr/>
            </p:nvSpPr>
            <p:spPr>
              <a:xfrm>
                <a:off x="1905120" y="4495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4"/>
              <p:cNvSpPr txBox="1"/>
              <p:nvPr/>
            </p:nvSpPr>
            <p:spPr>
              <a:xfrm>
                <a:off x="5105520" y="1174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Rectangle 17"/>
          <p:cNvSpPr/>
          <p:nvPr/>
        </p:nvSpPr>
        <p:spPr>
          <a:xfrm>
            <a:off x="6303600" y="12182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1206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6504840" y="16761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1219320" y="19810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5410080" y="19051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1219320" y="20574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541008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51843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9ffdb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c9ffd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286000" y="3611520"/>
            <a:ext cx="342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0e0e0"/>
                </a:solidFill>
                <a:uFillTx/>
                <a:latin typeface="Tahoma"/>
              </a:rPr>
              <a:t>this should be the middle term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e0e0"/>
                </a:solidFill>
                <a:latin typeface="Tahoma"/>
              </a:rPr>
              <a:t>-20</a:t>
            </a:r>
            <a:r>
              <a:rPr b="0" lang="en-US" sz="1800" spc="-1" strike="noStrike">
                <a:solidFill>
                  <a:srgbClr val="e0e0e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5" name="Rectangle 2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5638680" y="32000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0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67402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7086600" y="205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3026880" y="449496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1891080" y="4876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1891080" y="51807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4583160" y="601956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4952880" y="4342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ahoma"/>
              </a:rPr>
              <a:t>(2w  -  5) (2w  -  5)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3"/>
              <p:cNvSpPr txBox="1"/>
              <p:nvPr/>
            </p:nvSpPr>
            <p:spPr>
              <a:xfrm>
                <a:off x="5562720" y="4876920"/>
                <a:ext cx="19047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5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6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6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6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66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662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2600"/>
                            </p:stCondLst>
                            <p:childTnLst>
                              <p:par>
                                <p:cTn id="7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72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9200"/>
                            </p:stCondLst>
                            <p:childTnLst>
                              <p:par>
                                <p:cTn id="7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8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5"/>
              <p:cNvSpPr txBox="1"/>
              <p:nvPr/>
            </p:nvSpPr>
            <p:spPr>
              <a:xfrm>
                <a:off x="914400" y="457200"/>
                <a:ext cx="2438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27"/>
          <p:cNvSpPr/>
          <p:nvPr/>
        </p:nvSpPr>
        <p:spPr>
          <a:xfrm>
            <a:off x="4800600" y="1065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1" name="Rectangle 28"/>
          <p:cNvSpPr/>
          <p:nvPr/>
        </p:nvSpPr>
        <p:spPr>
          <a:xfrm>
            <a:off x="838080" y="1113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Rectangle 29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31"/>
          <p:cNvSpPr/>
          <p:nvPr/>
        </p:nvSpPr>
        <p:spPr>
          <a:xfrm>
            <a:off x="5108040" y="28947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Rectangle 32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Rectangle 33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9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7" name="Rectangle 34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45720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8"/>
              <p:cNvSpPr txBox="1"/>
              <p:nvPr/>
            </p:nvSpPr>
            <p:spPr>
              <a:xfrm>
                <a:off x="1174680" y="1523880"/>
                <a:ext cx="501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2" name="Rectangle 40"/>
          <p:cNvSpPr/>
          <p:nvPr/>
        </p:nvSpPr>
        <p:spPr>
          <a:xfrm>
            <a:off x="4437000" y="3565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1"/>
              <p:cNvSpPr txBox="1"/>
              <p:nvPr/>
            </p:nvSpPr>
            <p:spPr>
              <a:xfrm>
                <a:off x="5029200" y="14479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2"/>
              <p:cNvSpPr txBox="1"/>
              <p:nvPr/>
            </p:nvSpPr>
            <p:spPr>
              <a:xfrm>
                <a:off x="1447920" y="39625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Rectangle 43"/>
          <p:cNvSpPr/>
          <p:nvPr/>
        </p:nvSpPr>
        <p:spPr>
          <a:xfrm>
            <a:off x="2405520" y="15231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44"/>
          <p:cNvSpPr/>
          <p:nvPr/>
        </p:nvSpPr>
        <p:spPr>
          <a:xfrm>
            <a:off x="6367680" y="14472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7" name="Rectangle 45"/>
          <p:cNvSpPr/>
          <p:nvPr/>
        </p:nvSpPr>
        <p:spPr>
          <a:xfrm>
            <a:off x="2557800" y="39618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108180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2466000" y="19047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2064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6428520" y="182844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1523880" y="426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8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15238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1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4" name="Rectangle 52"/>
          <p:cNvSpPr/>
          <p:nvPr/>
        </p:nvSpPr>
        <p:spPr>
          <a:xfrm>
            <a:off x="5029200" y="4647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x  -  8) (x  -  1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5" name="Line 53"/>
          <p:cNvSpPr/>
          <p:nvPr/>
        </p:nvSpPr>
        <p:spPr>
          <a:xfrm flipH="1">
            <a:off x="1294920" y="21337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6" name="Line 54"/>
          <p:cNvSpPr/>
          <p:nvPr/>
        </p:nvSpPr>
        <p:spPr>
          <a:xfrm flipH="1">
            <a:off x="5334120" y="2133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7" name="Line 55"/>
          <p:cNvSpPr/>
          <p:nvPr/>
        </p:nvSpPr>
        <p:spPr>
          <a:xfrm>
            <a:off x="1295280" y="20574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8" name="Line 56"/>
          <p:cNvSpPr/>
          <p:nvPr/>
        </p:nvSpPr>
        <p:spPr>
          <a:xfrm>
            <a:off x="5334120" y="20574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9" name="Line 57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0" name="Rectangle 5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1" name="Rectangle 59"/>
          <p:cNvSpPr/>
          <p:nvPr/>
        </p:nvSpPr>
        <p:spPr>
          <a:xfrm>
            <a:off x="5562720" y="32763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8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8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9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9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9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92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928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9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7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21700"/>
                            </p:stCondLst>
                            <p:childTnLst>
                              <p:par>
                                <p:cTn id="9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10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34700"/>
                            </p:stCondLst>
                            <p:childTnLst>
                              <p:par>
                                <p:cTn id="10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0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38700"/>
                            </p:stCondLst>
                            <p:childTnLst>
                              <p:par>
                                <p:cTn id="10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7"/>
          <p:cNvSpPr/>
          <p:nvPr/>
        </p:nvSpPr>
        <p:spPr>
          <a:xfrm>
            <a:off x="13716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3" name="Line 6"/>
          <p:cNvSpPr/>
          <p:nvPr/>
        </p:nvSpPr>
        <p:spPr>
          <a:xfrm flipH="1">
            <a:off x="1371600" y="190512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4" name="Line 9"/>
          <p:cNvSpPr/>
          <p:nvPr/>
        </p:nvSpPr>
        <p:spPr>
          <a:xfrm flipH="1">
            <a:off x="5638320" y="1981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7150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2"/>
              <p:cNvSpPr txBox="1"/>
              <p:nvPr/>
            </p:nvSpPr>
            <p:spPr>
              <a:xfrm>
                <a:off x="1114560" y="122868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8" name="Rectangle 16"/>
          <p:cNvSpPr/>
          <p:nvPr/>
        </p:nvSpPr>
        <p:spPr>
          <a:xfrm>
            <a:off x="2438280" y="12182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8380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11581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24512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51814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6"/>
              <p:cNvSpPr txBox="1"/>
              <p:nvPr/>
            </p:nvSpPr>
            <p:spPr>
              <a:xfrm>
                <a:off x="5457960" y="1228680"/>
                <a:ext cx="563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Rectangle 27"/>
          <p:cNvSpPr/>
          <p:nvPr/>
        </p:nvSpPr>
        <p:spPr>
          <a:xfrm>
            <a:off x="6629400" y="1280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5501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67183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54892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10695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1676520" y="30477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601992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1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2514600" y="3200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69688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5" name="Line 38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9"/>
              <p:cNvSpPr txBox="1"/>
              <p:nvPr/>
            </p:nvSpPr>
            <p:spPr>
              <a:xfrm>
                <a:off x="1343160" y="4200480"/>
                <a:ext cx="566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Rectangle 40"/>
          <p:cNvSpPr/>
          <p:nvPr/>
        </p:nvSpPr>
        <p:spPr>
          <a:xfrm>
            <a:off x="2362320" y="41900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1471680" y="464796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2412360" y="4647960"/>
            <a:ext cx="52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7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5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228600" y="5638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029200" y="46472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2x  +  7) (2x  +  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Rectangle 4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6"/>
              <p:cNvSpPr txBox="1"/>
              <p:nvPr/>
            </p:nvSpPr>
            <p:spPr>
              <a:xfrm>
                <a:off x="1382760" y="304920"/>
                <a:ext cx="2338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nodeType="clickEffect" fill="hold">
                      <p:stCondLst>
                        <p:cond delay="0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13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117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1172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11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25600"/>
                            </p:stCondLst>
                            <p:childTnLst>
                              <p:par>
                                <p:cTn id="1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12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1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7:44:17Z</dcterms:modified>
  <cp:revision>74</cp:revision>
  <dc:subject/>
  <dc:title>Factoring. The milligan method</dc:title>
</cp:coreProperties>
</file>