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FA69-8F50-44AD-BCE5-F0128D608E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ickfire Mental Maths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ickfire Mental Maths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 Estimate the height of the table in cm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 The line drawn from the centre to the edge of a circl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 900 ÷ 15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 Estimate the height of the table in c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 The line drawn from the centre to the edge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 900 ÷ 15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ONE 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 Write ten to one in the morning in 24 hr clo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ONE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 Write ten to one in the morning in 24 hr 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w check your ANSWERS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check your ANSW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9.4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m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/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0 ml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hundredths or 6/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0 cm 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4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20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pint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6 or ½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cm – 85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.5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9.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/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0 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hundredths or 6/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0 cm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20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p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6 or 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cm – 8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werpoint was kindly donated to www.worldofteaching.co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in  your exercise book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in  your exercise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19 x 3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ogether £3.52, £5.00 and 92p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get 6 out of 10 on a spelling test what is this score as a percentag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19 x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ogether £3.52, £5.00 and 9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get 6 out of 10 on a spelling test what is this score as a perce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square 4cm by 4 cm now write down it’s area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erimeter of the squar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 Shade in ¼  of the squa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square 4cm by 4 cm now write down it’s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erimeter of the squ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 Shade in ¼  of the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0.43 as a frac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illilitres in 3 ½ litres 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Work out 32 + 3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0.43 as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illilitres in 3 ½ litres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Work out 32 +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Divide   630   by    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What is the value of 6 in the number 3.06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Work out  one tenth of 9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Divide   630   by   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What is the value of 6 in the number 3.06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Work out  one tenth of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Work out 13 squa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What is the square root of 36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Work out  the volume of a cuboid measuring 5cm by 6 cm by 8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Work out 13 squ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What is the square root of 36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Work out  the volume of a cuboid measuring 5cm by 6 cm by 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How much could I buy £50 trainers for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How many centimetres in 68.2 metres 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Sketch the net of a 2 cm cub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!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OFF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How much could I buy £50 trainers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How many centimetres in 68.2 metres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Sketch the net of a 2 cm c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 How many pints in a gall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 What is one-third plus one-sixth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 How many lines of symmetry in a      parallelogram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 How many pints in a gall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 What is one-third plus one-six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 How many lines of symmetry in a      parallelogram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F141-406D-4B91-9867-3422415E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967-10EB-4C54-89D0-207FD458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1608-62D4-4246-8BAB-7216EC69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3011-EB32-474D-BB96-C84BD895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2A3C-042D-4695-AF23-0DACB076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9335-F31C-4968-9438-38ED8682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0B09-2867-4A7B-AB3B-60A0F37A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5F0-E6F3-4CD5-8A75-181D818D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594-BE6B-4ACA-AF4A-9A439129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29BB-918C-498F-964D-90FB6A3A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88A-76F1-4918-A85B-3E607342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A1E-37FE-4F9A-B30E-91311FAC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BCBA-2B5B-432A-B683-834C6E86397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Quickfir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ental Math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2971800" y="2743200"/>
            <a:ext cx="2666880" cy="18288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417240 h 1828800"/>
              <a:gd name="textAreaBottom" fmla="*/ 14115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omic Sans MS"/>
              </a:rPr>
              <a:t>question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57200" y="762120"/>
            <a:ext cx="822960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2.  Estimate the height of the table in c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3.  The line drawn from the centre to the edge of a circl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4. 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900 ÷ 15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380880"/>
            <a:ext cx="792468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AST ONE 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25.  Write ten to one in the morning in 24 hr cloc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ow check your ANSWERS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8960" y="380880"/>
            <a:ext cx="335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£9.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4 cm</a:t>
            </a:r>
            <a:r>
              <a:rPr b="0" lang="en-GB" sz="1800" spc="-1" strike="noStrike" baseline="68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8 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43/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500 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 hundredths or 6/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9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16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380880"/>
            <a:ext cx="2286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240 cm </a:t>
            </a:r>
            <a:r>
              <a:rPr b="0" lang="en-GB" sz="1800" spc="-1" strike="noStrike" baseline="68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£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820 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8pi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/6 or 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5cm – 85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Radi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00.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7543800" y="16002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7543800" y="1295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848720" y="160020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238880" y="16002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543800" y="19051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7543800" y="2209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00"/>
                </a:solidFill>
                <a:latin typeface="Comic Sans MS"/>
              </a:rPr>
              <a:t>Answer in  your exercise book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 flipV="1">
            <a:off x="685800" y="532440"/>
            <a:ext cx="777240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09480" y="6094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ork out 19 x 3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dd together £3.52, £5.00 and 92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f I get 6 out of 10 on a spelling test what is this score as a percentag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09480" y="1219320"/>
            <a:ext cx="7543800" cy="54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Draw a square 4cm by 4 cm now write down it’s are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hat is the perimeter of the squa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6.   Shade in 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¼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  of the squar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rite 0.43 as a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How many millilitres in 3 ½ litres 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9.  Work out 3</a:t>
            </a:r>
            <a:r>
              <a:rPr b="0" lang="en-GB" sz="2400" spc="-1" strike="noStrike" baseline="76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GB" sz="2400" spc="-1" strike="noStrike" baseline="76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838080" y="1295280"/>
            <a:ext cx="7848720" cy="44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0. Divide  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630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  by   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1. What is the value of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in the number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3.0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2. Work out  one tenth of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 95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333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3. Work out 13 square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4. What is the square root of 36?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5. Work out  the volume of a cuboid measuring 5cm by 6 cm by 8 c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791320" y="3429000"/>
            <a:ext cx="212868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85800" y="1143000"/>
            <a:ext cx="800100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6. How much could I buy £50 trainers for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7. How many centimetres in 68.2 metres ?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8. Sketch the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net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of a 2 cm cube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685800" y="533520"/>
            <a:ext cx="3276720" cy="1523880"/>
          </a:xfrm>
          <a:prstGeom prst="cloudCallout">
            <a:avLst>
              <a:gd name="adj1" fmla="val -50194"/>
              <a:gd name="adj2" fmla="val -7916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33"/>
                </a:solidFill>
                <a:latin typeface="Comic Sans MS"/>
              </a:rPr>
              <a:t>SALE!  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Comic Sans MS"/>
              </a:rPr>
              <a:t>20%</a:t>
            </a:r>
            <a:r>
              <a:rPr b="0" lang="en-GB" sz="2800" spc="-1" strike="noStrike">
                <a:solidFill>
                  <a:srgbClr val="660033"/>
                </a:solidFill>
                <a:latin typeface="Comic Sans MS"/>
              </a:rPr>
              <a:t>OFF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14400" y="838080"/>
            <a:ext cx="739152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19.  How many pints in a gallon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0.  What is one-third plus one-sixth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1.  How many lines of symmetry in a      parallelogram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5:02:41Z</dcterms:created>
  <dc:creator>home</dc:creator>
  <dc:description/>
  <dc:language>en-US</dc:language>
  <cp:lastModifiedBy>RomaK</cp:lastModifiedBy>
  <dcterms:modified xsi:type="dcterms:W3CDTF">2015-09-04T07:44:11Z</dcterms:modified>
  <cp:revision>7</cp:revision>
  <dc:subject/>
  <dc:title>Quickfire Mental Maths  </dc:title>
</cp:coreProperties>
</file>