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0533-7D7E-403E-857C-851D300BA2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7A0-4BA5-4E43-A29D-ED74A09A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570-BD9D-41AC-A9E0-7CBEFC21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169-6952-4CA8-A530-FFFDD860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5EA-B462-4C7B-92B9-A7CECBBD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232-4D1A-4CEC-9A6C-E5EB471B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E56-DEBA-4109-B660-B2E3C6B3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D3E-F885-41A2-876A-A053B0CE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7E39-8BF4-4903-8525-452BED22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B56-739F-43F9-9333-5BF96993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B96-D9BE-4372-9DB5-5D91D23E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4DDB-63B7-4764-8ACA-EA13DDD0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C32B-76AD-4F6A-814C-239A3191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9426-739E-4CD3-8326-63730AA7886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Quickfir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ental Math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2971800" y="2743200"/>
            <a:ext cx="2666880" cy="18288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omic Sans MS"/>
              </a:rPr>
              <a:t>question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7621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2.  Estimate the height of the table in c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3.  The line drawn from the centre to the edge of a circ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4.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900 ÷ 15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380880"/>
            <a:ext cx="79246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AST ONE 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25.  Write ten to one in the morning in 24 hr cloc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ow check your ANSWERS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8960" y="38088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9.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 cm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3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500 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 hundredths or 6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1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2286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240 cm 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820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pi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/6 or 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5cm – 85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Radi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0.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754380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7543800" y="1295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848720" y="16002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23888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543800" y="19051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754380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Comic Sans MS"/>
              </a:rPr>
              <a:t>Answer in  your exercise book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 flipV="1">
            <a:off x="685800" y="532440"/>
            <a:ext cx="77724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9480" y="6094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ork out 19 x 3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dd together £3.52, £5.00 and 92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f I get 6 out of 10 on a spelling test what is this score as a percentag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1219320"/>
            <a:ext cx="754380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Draw a square 4cm by 4 cm now write down it’s are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at is the perimeter of the squa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6.   Shade in 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¼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 of the squa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rite 0.43 as a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How many millilitres in 3 ½ litres 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9.  Work out 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38080" y="1295280"/>
            <a:ext cx="784872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0. Divide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630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  by 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1. What is the value of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in the number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3.0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2. Work out  one tenth of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 95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333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3. Work out 13 square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4. What is the square root of 36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5. Work out  the volume of a cuboid measuring 5cm by 6 cm by 8 c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791320" y="3429000"/>
            <a:ext cx="21286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1143000"/>
            <a:ext cx="800100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6. How much could I buy £50 trainers for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7. How many centimetres in 68.2 metres 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8. Sketch the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t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of a 2 cm cub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685800" y="533520"/>
            <a:ext cx="3276720" cy="1523880"/>
          </a:xfrm>
          <a:prstGeom prst="cloudCallout">
            <a:avLst>
              <a:gd name="adj1" fmla="val -50194"/>
              <a:gd name="adj2" fmla="val -7916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33"/>
                </a:solidFill>
                <a:latin typeface="Comic Sans MS"/>
              </a:rPr>
              <a:t>SALE!  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Comic Sans MS"/>
              </a:rPr>
              <a:t>20%</a:t>
            </a:r>
            <a:r>
              <a:rPr b="0" lang="en-GB" sz="2800" spc="-1" strike="noStrike">
                <a:solidFill>
                  <a:srgbClr val="660033"/>
                </a:solidFill>
                <a:latin typeface="Comic Sans MS"/>
              </a:rPr>
              <a:t>OFF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14400" y="838080"/>
            <a:ext cx="739152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9.  How many pints in a gallo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0.  What is one-third plus one-sixth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1.  How many lines of symmetry in a      parallelogram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5:02:41Z</dcterms:created>
  <dc:creator>home</dc:creator>
  <dc:description/>
  <dc:language>en-US</dc:language>
  <cp:lastModifiedBy>RomaK</cp:lastModifiedBy>
  <dcterms:modified xsi:type="dcterms:W3CDTF">2015-09-04T07:44:11Z</dcterms:modified>
  <cp:revision>7</cp:revision>
  <dc:subject/>
  <dc:title>Quickfire Mental Maths  </dc:title>
</cp:coreProperties>
</file>