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4130-ABCA-4A21-87EC-800001C2FAE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, Median, Mo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7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, Median, Mode </a:t>
            </a:r>
            <a:br>
              <a:rPr sz="1200"/>
            </a:b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amp; Ran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y Mr. Clutt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007-200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Divide the sum by the number of add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add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Divide the sum by the number of adde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# of addend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or average of these numbers is 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ean or average of these numbers is 16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10, 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10, 1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9, 1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9, 1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7, 11,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7, 11, 1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, 33, 41, 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6, 33, 41, 5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in t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idd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– the middle number in a set of ordered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=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 – the middle number in a set of ordered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 = 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middl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middle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 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– the answer to an addition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end – the numbers you added together to get the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9 =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Vocabulary Re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um – the answer to an addition problem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ddend – the numbers you added together to get the sum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 + 9 = 1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middl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your median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middle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is your median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5, 27, 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5, 27, 2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+ 25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+ 25 =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, 10,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10, 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6, 10, 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10, 1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1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11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1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11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, 7, 2, 12, 14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7, 12, 14, 19, 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+ 14 =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, 7, 2, 12, 14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7, 12, 14, 19, 3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2 + 14 =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3, 5, 81, 67, 25, 7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3 + 67 = 1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, 25, 53, 67, 78, 8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3, 5, 81, 67, 25, 7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3 + 67 = 12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, 25, 53, 67, 78, 8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the mos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pula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 mode – the most popular or that which is in fash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ball caps are a la mod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la mode – the most popular or that which is in fashi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aseball caps are a la mode toda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 – the number that appears most frequently in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 – the number that appears most frequently in a set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 = 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vera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od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8, 19, 21,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od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8, 19, 21, 24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od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number that is repeated the m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8, 19, 21, 2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od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number that is repeated the mo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8, 19, 21, 24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8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8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8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8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2, 9, 9, 4, 9,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2, 4, 9, 9, 9,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2, 9, 9, 4, 9, 10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2, 4, 9, 9, 9, 10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, 21, 27, 31, 21,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21, 22, 27, 31,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2, 21, 27, 31, 21, 32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21, 22, 27, 31, 3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the dist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etwee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– the difference between the greatest and the least value in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 – the difference between the greatest and the least value in a set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 = 1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lowest and highest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lowest and highest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Find the difference between these 2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 – 18 =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is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Find the difference between these 2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7 – 18 = 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ange is 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– the average of a group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– the average of a group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= 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8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 – 4 =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8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8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 – 4 = 2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8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, 21, 27, 31, 21,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 – 21 =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21, 22, 27, 31,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2, 21, 27, 31, 21, 32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2 – 21 = 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21, 22, 27, 31, 3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, 8, 3, 1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 – 3 = 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, 8, 11, 19, 3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, 8, 3, 1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 – 3 = 2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, 8, 11, 19, 3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, 7, 9, 4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 – 7 = 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9, 23, 19, 4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3, 7, 9, 4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1 – 7 = 34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9, 23, 19, 4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= 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dd all th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+10+12+18+22+26 = 9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dd all the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Divide the sum by the number of add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+10+12+18+22+26 = 9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addends are t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Divide the sum by the number of adde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many addends are ther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2D18-CB37-4A4A-A040-CF79672A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FDB-6506-4868-8003-E512DE5E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5FA-7091-4120-A904-3F3F0D93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392-0AF4-4B33-BA2B-CF0B9DD8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A33D-06F7-4374-84D4-D3F8D116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322A-2EBF-47C6-9CA6-F931FC6D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F35E-8844-415A-9508-600B43FB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5FDA-5B3B-4588-B983-BE40B48E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97CD-BD56-457C-B759-EB01B0B8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CA71-65B4-489D-9602-D93C1EB1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87DE-3E20-4A2B-B6BB-1CB81903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B23-77E1-4109-ADB6-636D2D1F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0F1D-B5CE-4F57-BC8E-B4721CBB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D49F-3008-4612-87A6-0D553EE9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508F-555A-47C9-9EEC-279319EE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2F06-FEC0-45A7-8555-F7C0EE69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2EE5-2FE0-4FEB-81FE-B26923D2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8C72-4568-498F-9F16-3DDC7A26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A1E7-D0E3-4F2F-969C-7D8A7C71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A04-A84C-4DE0-B1A3-145D91FA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4F19-08D6-4A13-BCCE-52E1CEF9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CFE-C383-42DA-8948-E73B1FD1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CAE-3E29-4B94-BA49-85664F47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8F8-CF60-42F2-84CD-A625287D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281916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AAF1-3D70-429F-AAC8-067AFB00A3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8B6C-D391-4910-BC3D-91D750AAFF38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Mean, Median, Mode </a:t>
            </a:r>
            <a:br>
              <a:rPr sz="4800"/>
            </a:b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&amp; Rang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By Mr. Clutter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VMS Library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2007-2008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Divide the sum by the number of adde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572000" y="3505320"/>
            <a:ext cx="84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>
            <a:off x="5105520" y="3733920"/>
            <a:ext cx="1371600" cy="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259240" y="3581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9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H="1">
            <a:off x="6172200" y="4114800"/>
            <a:ext cx="8380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7011360" y="365760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imes New Roman"/>
              </a:rPr>
              <a:t>sum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759240" y="3657600"/>
            <a:ext cx="304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imes New Roman"/>
              </a:rPr>
              <a:t># of addend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3733920" y="4114800"/>
            <a:ext cx="8380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52596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5259600" y="4114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4876920" y="4952880"/>
            <a:ext cx="137160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Line 17"/>
          <p:cNvSpPr/>
          <p:nvPr/>
        </p:nvSpPr>
        <p:spPr>
          <a:xfrm>
            <a:off x="4800600" y="4724280"/>
            <a:ext cx="3049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5259600" y="4724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5943600" y="4419720"/>
            <a:ext cx="0" cy="45720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5638680" y="47242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638680" y="2819520"/>
            <a:ext cx="64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5640480" y="5334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5257800" y="53341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4952880" y="6172200"/>
            <a:ext cx="12193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Line 25"/>
          <p:cNvSpPr/>
          <p:nvPr/>
        </p:nvSpPr>
        <p:spPr>
          <a:xfrm>
            <a:off x="4952880" y="5943600"/>
            <a:ext cx="3049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The mean or average of these numbers is 16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1373400" y="358128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973240" y="236232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10, 1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388800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668680" y="2286000"/>
            <a:ext cx="36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, 9, 1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88800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440080" y="2286000"/>
            <a:ext cx="43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7, 11, 1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4421160" y="38862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440080" y="2209680"/>
            <a:ext cx="43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6, 33, 41, 5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04028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3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</a:t>
            </a:r>
            <a:r>
              <a:rPr b="0" lang="en-US" sz="6600" spc="-1" strike="noStrike" u="sng">
                <a:solidFill>
                  <a:srgbClr val="ff41ff"/>
                </a:solidFill>
                <a:uFillTx/>
                <a:latin typeface="Tahoma"/>
              </a:rPr>
              <a:t>d</a:t>
            </a: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a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in th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i</a:t>
            </a:r>
            <a:r>
              <a:rPr b="0" lang="en-US" sz="6600" spc="-1" strike="noStrike" u="sng">
                <a:solidFill>
                  <a:srgbClr val="ff41ff"/>
                </a:solidFill>
                <a:uFillTx/>
                <a:latin typeface="Tahoma"/>
              </a:rPr>
              <a:t>dd</a:t>
            </a: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l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dian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middle number in a set of ordered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059200" y="3352680"/>
            <a:ext cx="52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088080" y="4800600"/>
            <a:ext cx="308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dian = 7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3886200" y="335268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middle number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Oval 6"/>
          <p:cNvSpPr/>
          <p:nvPr/>
        </p:nvSpPr>
        <p:spPr>
          <a:xfrm>
            <a:off x="3962520" y="44956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41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ahoma"/>
              </a:rPr>
              <a:t>Sum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– the answer to an addition problem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Addend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– the numbers you added together to get the sum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743920" y="4648320"/>
            <a:ext cx="36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Times New Roman"/>
              </a:rPr>
              <a:t>6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 + </a:t>
            </a:r>
            <a:r>
              <a:rPr b="0" lang="en-US" sz="6600" spc="-1" strike="noStrike">
                <a:solidFill>
                  <a:srgbClr val="ff6600"/>
                </a:solidFill>
                <a:latin typeface="Times New Roman"/>
              </a:rPr>
              <a:t>9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 = 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15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middle number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754280" y="342900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3962520" y="342900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914400" y="4800600"/>
            <a:ext cx="746748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imes New Roman"/>
              </a:rPr>
              <a:t>This is your median number.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tep 3 – If there are two middle numbers, find the mean of these two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219320" y="419112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5, 27, 28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4" name="Oval 5"/>
          <p:cNvSpPr/>
          <p:nvPr/>
        </p:nvSpPr>
        <p:spPr>
          <a:xfrm>
            <a:off x="4648320" y="42670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3429000" y="4267080"/>
            <a:ext cx="99072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tep 3 – If there are two middle numbers, find the mean of these two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666880" y="34290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+ 25 =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4038480" y="3429000"/>
            <a:ext cx="99072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2590920" y="342900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5564160" y="335268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3581280" y="5029200"/>
            <a:ext cx="84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4114800" y="5257800"/>
            <a:ext cx="1905120" cy="0"/>
          </a:xfrm>
          <a:prstGeom prst="line">
            <a:avLst/>
          </a:prstGeom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344840" y="510552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4344840" y="44197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7" name="Line 12"/>
          <p:cNvSpPr/>
          <p:nvPr/>
        </p:nvSpPr>
        <p:spPr>
          <a:xfrm flipH="1">
            <a:off x="5409720" y="4800600"/>
            <a:ext cx="762120" cy="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6233400" y="4317840"/>
            <a:ext cx="197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41ff"/>
                </a:solidFill>
                <a:latin typeface="Times New Roman"/>
              </a:rPr>
              <a:t>median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973240" y="182880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6, 10, 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3888000" y="42670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0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049560" y="289548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10, 1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3733920" y="2819520"/>
            <a:ext cx="1218960" cy="12189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1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4040280" y="41148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11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3581280" y="29718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602000" y="1676520"/>
            <a:ext cx="608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, 7, 2, 12, 14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6402600" y="34290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3124080" y="25146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677960" y="2590920"/>
            <a:ext cx="589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, 7, 12, 14, 19, 3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Oval 8"/>
          <p:cNvSpPr/>
          <p:nvPr/>
        </p:nvSpPr>
        <p:spPr>
          <a:xfrm>
            <a:off x="4267080" y="25146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992880" y="4267080"/>
            <a:ext cx="408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2 + 14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5640480" y="4191120"/>
            <a:ext cx="84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6172200" y="4419720"/>
            <a:ext cx="1523880" cy="0"/>
          </a:xfrm>
          <a:prstGeom prst="line">
            <a:avLst/>
          </a:prstGeom>
          <a:ln w="38160">
            <a:solidFill>
              <a:srgbClr val="ff4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6478560" y="4270320"/>
            <a:ext cx="94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296720" y="16765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3, 5, 81, 67, 25, 7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6859440" y="3581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6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Oval 5"/>
          <p:cNvSpPr/>
          <p:nvPr/>
        </p:nvSpPr>
        <p:spPr>
          <a:xfrm>
            <a:off x="3124080" y="266688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7" name="Oval 7"/>
          <p:cNvSpPr/>
          <p:nvPr/>
        </p:nvSpPr>
        <p:spPr>
          <a:xfrm>
            <a:off x="4191120" y="2666880"/>
            <a:ext cx="121896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916560" y="4267080"/>
            <a:ext cx="446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3 + 67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 12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5640480" y="4191120"/>
            <a:ext cx="84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6172200" y="4419720"/>
            <a:ext cx="1676520" cy="0"/>
          </a:xfrm>
          <a:prstGeom prst="line">
            <a:avLst/>
          </a:prstGeom>
          <a:ln w="38160">
            <a:solidFill>
              <a:srgbClr val="ff4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6478560" y="4270320"/>
            <a:ext cx="132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2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1296720" y="28195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, 25, 53, 67, 78, 8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od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the most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Popular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3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3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3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3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3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A la mode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most popular or that which is in fashion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33520" y="3352680"/>
            <a:ext cx="807696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30" name="Picture 9" descr="CLOAC053"/>
          <p:cNvPicPr/>
          <p:nvPr/>
        </p:nvPicPr>
        <p:blipFill>
          <a:blip r:embed="rId1"/>
          <a:stretch/>
        </p:blipFill>
        <p:spPr>
          <a:xfrm>
            <a:off x="762120" y="3505320"/>
            <a:ext cx="1828800" cy="588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0" descr="CLOAC062"/>
          <p:cNvPicPr/>
          <p:nvPr/>
        </p:nvPicPr>
        <p:blipFill>
          <a:blip r:embed="rId2"/>
          <a:stretch/>
        </p:blipFill>
        <p:spPr>
          <a:xfrm>
            <a:off x="1676520" y="4038480"/>
            <a:ext cx="2280960" cy="1119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1" descr="CLOAC055"/>
          <p:cNvPicPr/>
          <p:nvPr/>
        </p:nvPicPr>
        <p:blipFill>
          <a:blip r:embed="rId3"/>
          <a:stretch/>
        </p:blipFill>
        <p:spPr>
          <a:xfrm>
            <a:off x="3657600" y="3429000"/>
            <a:ext cx="1606680" cy="1154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CLOAC072"/>
          <p:cNvPicPr/>
          <p:nvPr/>
        </p:nvPicPr>
        <p:blipFill>
          <a:blip r:embed="rId4"/>
          <a:stretch/>
        </p:blipFill>
        <p:spPr>
          <a:xfrm>
            <a:off x="4952880" y="4129200"/>
            <a:ext cx="2057400" cy="9284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CLOAC075"/>
          <p:cNvPicPr/>
          <p:nvPr/>
        </p:nvPicPr>
        <p:blipFill>
          <a:blip r:embed="rId5"/>
          <a:stretch/>
        </p:blipFill>
        <p:spPr>
          <a:xfrm>
            <a:off x="6705720" y="3352680"/>
            <a:ext cx="18032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4"/>
          <p:cNvSpPr/>
          <p:nvPr/>
        </p:nvSpPr>
        <p:spPr>
          <a:xfrm>
            <a:off x="678240" y="5334120"/>
            <a:ext cx="784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Baseball caps are a la mode today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6" name="Oval 15"/>
          <p:cNvSpPr/>
          <p:nvPr/>
        </p:nvSpPr>
        <p:spPr>
          <a:xfrm>
            <a:off x="3505320" y="3048120"/>
            <a:ext cx="1752480" cy="1828800"/>
          </a:xfrm>
          <a:prstGeom prst="ellipse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Oval 16"/>
          <p:cNvSpPr/>
          <p:nvPr/>
        </p:nvSpPr>
        <p:spPr>
          <a:xfrm>
            <a:off x="6705720" y="3124080"/>
            <a:ext cx="1752480" cy="1828800"/>
          </a:xfrm>
          <a:prstGeom prst="ellipse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ode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number that appears most frequently in a set of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677960" y="33526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3106800" y="4800600"/>
            <a:ext cx="261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ode = 1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3" name="Oval 6"/>
          <p:cNvSpPr/>
          <p:nvPr/>
        </p:nvSpPr>
        <p:spPr>
          <a:xfrm>
            <a:off x="167652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4" name="Oval 7"/>
          <p:cNvSpPr/>
          <p:nvPr/>
        </p:nvSpPr>
        <p:spPr>
          <a:xfrm>
            <a:off x="251460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a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ans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Averag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od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752480" y="434340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8, 19, 21, 24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od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number that is repeated the mo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1752480" y="434340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8, 19, 21, 24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5" name="Oval 6"/>
          <p:cNvSpPr/>
          <p:nvPr/>
        </p:nvSpPr>
        <p:spPr>
          <a:xfrm>
            <a:off x="1752480" y="434340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6" name="Oval 7"/>
          <p:cNvSpPr/>
          <p:nvPr/>
        </p:nvSpPr>
        <p:spPr>
          <a:xfrm>
            <a:off x="2895480" y="434340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135160" y="1905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8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4040280" y="4114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2135160" y="3048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8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35812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3" name="Oval 7"/>
          <p:cNvSpPr/>
          <p:nvPr/>
        </p:nvSpPr>
        <p:spPr>
          <a:xfrm>
            <a:off x="2819520" y="3048120"/>
            <a:ext cx="76176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1296720" y="19051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2, 9, 9, 4, 9, 10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4040280" y="4114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9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296720" y="297180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2, 4, 9, 9, 9, 10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42670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5105520" y="3048120"/>
            <a:ext cx="76176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1" name="Oval 8"/>
          <p:cNvSpPr/>
          <p:nvPr/>
        </p:nvSpPr>
        <p:spPr>
          <a:xfrm>
            <a:off x="58672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1297080" y="1905120"/>
            <a:ext cx="684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2, 21, 27, 31, 21, 32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4040280" y="41148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2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297080" y="2971800"/>
            <a:ext cx="66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1, 21, 22, 27, 31, 3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251460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8" name="Oval 8"/>
          <p:cNvSpPr/>
          <p:nvPr/>
        </p:nvSpPr>
        <p:spPr>
          <a:xfrm>
            <a:off x="129528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Rang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the distanc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Betwee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Range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– the difference between the greatest and the least value in a set of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677960" y="33526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3126960" y="4800600"/>
            <a:ext cx="30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Range = 12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167652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781680" y="3429000"/>
            <a:ext cx="9907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3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3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lowest and highest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1828800" y="441972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6248520" y="4419720"/>
            <a:ext cx="99036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3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3 – Find the difference between these 2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754280" y="320040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5" name="Oval 6"/>
          <p:cNvSpPr/>
          <p:nvPr/>
        </p:nvSpPr>
        <p:spPr>
          <a:xfrm>
            <a:off x="1828800" y="320040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6" name="Oval 7"/>
          <p:cNvSpPr/>
          <p:nvPr/>
        </p:nvSpPr>
        <p:spPr>
          <a:xfrm>
            <a:off x="6324480" y="320040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2669040" y="4267080"/>
            <a:ext cx="365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7 – 18 =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2286720" y="5029200"/>
            <a:ext cx="451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The range is 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an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average of a group of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7800" y="327672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267000" y="4724280"/>
            <a:ext cx="25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an = 3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2135160" y="1905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8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440080" y="426708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 – 4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25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2135160" y="3048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8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5486400" y="304812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205740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1297080" y="1905120"/>
            <a:ext cx="684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2, 21, 27, 31, 21, 32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592720" y="4267080"/>
            <a:ext cx="403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2 – 21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1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1297080" y="2971800"/>
            <a:ext cx="66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1, 21, 22, 27, 31, 3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1" name="Oval 6"/>
          <p:cNvSpPr/>
          <p:nvPr/>
        </p:nvSpPr>
        <p:spPr>
          <a:xfrm>
            <a:off x="7086600" y="2971800"/>
            <a:ext cx="8380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2" name="Oval 7"/>
          <p:cNvSpPr/>
          <p:nvPr/>
        </p:nvSpPr>
        <p:spPr>
          <a:xfrm>
            <a:off x="129528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, 8, 3, 1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2668680" y="434340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 – 3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28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, 8, 11, 19, 3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8" name="Oval 6"/>
          <p:cNvSpPr/>
          <p:nvPr/>
        </p:nvSpPr>
        <p:spPr>
          <a:xfrm>
            <a:off x="5867280" y="3048120"/>
            <a:ext cx="106704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9" name="Oval 7"/>
          <p:cNvSpPr/>
          <p:nvPr/>
        </p:nvSpPr>
        <p:spPr>
          <a:xfrm>
            <a:off x="1905120" y="3048120"/>
            <a:ext cx="10666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3, 7, 9, 4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2668680" y="434340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1 – 7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34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9, 23, 19, 4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5" name="Oval 6"/>
          <p:cNvSpPr/>
          <p:nvPr/>
        </p:nvSpPr>
        <p:spPr>
          <a:xfrm>
            <a:off x="5867280" y="3048120"/>
            <a:ext cx="106704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6" name="Oval 7"/>
          <p:cNvSpPr/>
          <p:nvPr/>
        </p:nvSpPr>
        <p:spPr>
          <a:xfrm>
            <a:off x="1905120" y="3048120"/>
            <a:ext cx="10666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028"/>
          <p:cNvSpPr/>
          <p:nvPr/>
        </p:nvSpPr>
        <p:spPr>
          <a:xfrm>
            <a:off x="244008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Oval 1029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Oval 1030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Oval 1031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Oval 1032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Oval 1033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Oval 1034"/>
          <p:cNvSpPr/>
          <p:nvPr/>
        </p:nvSpPr>
        <p:spPr>
          <a:xfrm>
            <a:off x="2590920" y="41911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Oval 1035"/>
          <p:cNvSpPr/>
          <p:nvPr/>
        </p:nvSpPr>
        <p:spPr>
          <a:xfrm>
            <a:off x="2590920" y="37339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Oval 1037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Oval 1038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Oval 1039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Oval 1040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Line 1041"/>
          <p:cNvSpPr/>
          <p:nvPr/>
        </p:nvSpPr>
        <p:spPr>
          <a:xfrm flipH="1">
            <a:off x="1676520" y="3962520"/>
            <a:ext cx="914400" cy="106668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Line 1042"/>
          <p:cNvSpPr/>
          <p:nvPr/>
        </p:nvSpPr>
        <p:spPr>
          <a:xfrm>
            <a:off x="3733920" y="4343400"/>
            <a:ext cx="990360" cy="68580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Oval 1043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Oval 1044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Oval 1045"/>
          <p:cNvSpPr/>
          <p:nvPr/>
        </p:nvSpPr>
        <p:spPr>
          <a:xfrm>
            <a:off x="7238880" y="41911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Oval 1046"/>
          <p:cNvSpPr/>
          <p:nvPr/>
        </p:nvSpPr>
        <p:spPr>
          <a:xfrm>
            <a:off x="7238880" y="37339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Line 1050"/>
          <p:cNvSpPr/>
          <p:nvPr/>
        </p:nvSpPr>
        <p:spPr>
          <a:xfrm flipH="1">
            <a:off x="6324120" y="44197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Line 1051"/>
          <p:cNvSpPr/>
          <p:nvPr/>
        </p:nvSpPr>
        <p:spPr>
          <a:xfrm flipH="1">
            <a:off x="6324120" y="39625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44008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Oval 8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42670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10666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Oval 17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Oval 18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Oval 19"/>
          <p:cNvSpPr/>
          <p:nvPr/>
        </p:nvSpPr>
        <p:spPr>
          <a:xfrm>
            <a:off x="7238880" y="41911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Oval 20"/>
          <p:cNvSpPr/>
          <p:nvPr/>
        </p:nvSpPr>
        <p:spPr>
          <a:xfrm>
            <a:off x="7238880" y="37339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 flipH="1">
            <a:off x="6324120" y="44197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6324120" y="39625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36376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41911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10666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Oval 11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Oval 12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Oval 13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Oval 14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Oval 15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Oval 16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Oval 17"/>
          <p:cNvSpPr/>
          <p:nvPr/>
        </p:nvSpPr>
        <p:spPr>
          <a:xfrm>
            <a:off x="571500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Oval 18"/>
          <p:cNvSpPr/>
          <p:nvPr/>
        </p:nvSpPr>
        <p:spPr>
          <a:xfrm>
            <a:off x="571500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2971800" y="30481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mean = 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dd all the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449720" y="281952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60080" y="4267080"/>
            <a:ext cx="828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Divide the sum by the number of adde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449720" y="304812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60080" y="4114800"/>
            <a:ext cx="828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914400" y="5105520"/>
            <a:ext cx="739152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How many addends are there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1T17:58:31Z</dcterms:created>
  <dc:creator>Mr. Clutter</dc:creator>
  <dc:description/>
  <dc:language>en-US</dc:language>
  <cp:lastModifiedBy>RomaK</cp:lastModifiedBy>
  <dcterms:modified xsi:type="dcterms:W3CDTF">2015-09-04T07:44:05Z</dcterms:modified>
  <cp:revision>9</cp:revision>
  <dc:subject/>
  <dc:title>Mean, Median, Mode  &amp; Range</dc:title>
</cp:coreProperties>
</file>