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8538-0AA0-4E32-8481-ABD3B3A101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et of numbers arranged in rows and columns enclosed in round or square brackets is called a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der of a matrix gives the number of rows followed by the number of columns in a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t of numbers arranged in rows and columns enclosed in round or square brackets is called a mat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der of a matrix gives the number of rows followed by the number of columns in a mat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trix with an equal number of rows and columns is called a square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agonal matrix has all its elements zero except for those in the leading diagonal (from top to bottom righ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matrices are equal if, and only if, they are identical. This means they must be of the same order and the respective elements must be identic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trix with an equal number of rows and columns is called a square mat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onal matrix has all its elements zero except for those in the leading diagonal (from top to bottom righ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matrices are equal if, and only if, they are identical. This means they must be of the same order and the respective elements must be identi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only add or subtract matrices of the same 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add, you simply add the corresponding elements in each matrix. To subtract, you subtract the corresponding elements in each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alar multiplication: You can multiply a matrix by a number. Each element of the matrix must be multiplied by th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only add or subtract matrices of the same 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dd, you simply add the corresponding elements in each matrix. To subtract, you subtract the corresponding elements in each mat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ar multiplication: You can multiply a matrix by a number. Each element of the matrix must be multiplied by the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ication of matri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possible to work out the product of two matrices according to the following ru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columns in the first matrix must be equal to the number of rows in the second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der of the product of the matrices is the number of rows in the first matrix multiplied by the number of columns in the seco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multiplying, multiply the elements of a row of the first matrix by the elements in a column of the second matrix and add the produc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of matr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possible to work out the product of two matrices according to the following ru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columns in the first matrix must be equal to the number of rows in the second mat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der of the product of the matrices is the number of rows in the first matrix multiplied by the number of columns in the seco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ultiplying, multiply the elements of a row of the first matrix by the elements in a column of the second matrix and add the produ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and B are two matrices, then AB is not generally equal to BA. In other words, multiplication of matrices is not commuta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ant of a matrix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and B are two matrices, then AB is not generally equal to BA. In other words, multiplication of matrices is not commuta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nt of a matrix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verse of a matrix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verse of a square matrix A is denoted by A-1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. A-1 = A-1. A = I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 is the unit matrix of the same order as 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verse of a matrix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verse of a square matrix A is denoted by A-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. A-1 = A-1. A = I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 is the unit matrix of the same order as 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3359-E71D-4101-89A6-AAD2564FE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CA89-8EE1-43FB-9CBA-CD6DCC0F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91D0-3ACA-4BBA-9A03-5054E406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E8B8-7B1D-49B6-A7F2-9A3AADEE0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DD77-CEE5-40C1-8A8E-6EAF35ED0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13CA-A7DC-4921-B4C6-CF1DA4CF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5ACA-5586-4E73-AEC3-B21E10B3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A9D7-67E2-494F-ADC4-D54F47DB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B2EE-862F-403E-88CB-CB23F553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2AF1-F11B-4C0B-B700-31F94D47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DCC0-3D44-4A05-BB89-043AB618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A842-B8D1-46CD-A668-5C3679DD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EF00-5659-4713-A2D2-EB3C5693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AEAE-85A7-4D9F-966A-0E3EA397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5865-4150-445E-949B-F9A447D3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F598-1E52-4C0C-BC2F-B846D0A4E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F4E0-C66A-45CD-A530-EC76150D1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517B-F8E7-41A0-9055-98BC1AF3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2C34-1049-484F-9D8F-4765AF59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4EA7-431E-4F96-BE0B-189ECD36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3C50-8AD3-4391-97F2-F11D7560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B009-8BF0-4A36-B1B2-4BC27C2B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D09E-FC11-4267-AAF2-7A871973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ABE0-178E-4927-A5E4-8D01C693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351E-A717-4903-9FAF-1FBD77A08F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E12B-46F0-480F-8948-EA8C645DB1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143000" y="1600200"/>
            <a:ext cx="72388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set of numbers arranged in rows and columns enclosed in round or square brackets is called a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order of a matrix gives the number of rows followed by the number of columns in a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143000" y="1447920"/>
            <a:ext cx="723888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matrix with an equal number of rows and columns is called a square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diagonal matrix has all its elements zero except for those in the leading diagonal (from top to bottom righ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wo matrices are equal if, and only if, they are identical. This means they must be of the same order and the respective elements must be identi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143000" y="1600200"/>
            <a:ext cx="723888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You can only add or subtract matrices of the same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 add, you simply add the corresponding elements in each matrix. To subtract, you subtract the corresponding elements in each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calar multiplication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 You can multiply a matrix by a number. Each element of the matrix must be multiplied by the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990720" y="1371600"/>
            <a:ext cx="72388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ultiplication of matr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t is possible to work out the product of two matrices according to the following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number of columns in the first matrix must be equal to the number of rows in the second matr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order of the product of the matrices is the number of rows in the first matrix multiplied by the number of columns in the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en multiplying, multiply the elements of a row of the first matrix by the elements in a column of the second matrix and add the produ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43000" y="1600200"/>
            <a:ext cx="72388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A and B are two matrices, then AB is not generally equal to BA. In other words, multiplication of matrices is not commut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ant of a matri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4"/>
              <p:cNvSpPr txBox="1"/>
              <p:nvPr/>
            </p:nvSpPr>
            <p:spPr>
              <a:xfrm>
                <a:off x="1295280" y="3971880"/>
                <a:ext cx="487692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t xml:space="preserve">b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143000" y="1600200"/>
            <a:ext cx="72388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 inverse of a matri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inverse of a square matrix A is denoted by A</a:t>
            </a:r>
            <a:r>
              <a:rPr b="0" lang="en-US" sz="2800" spc="-1" strike="noStrike" baseline="30000">
                <a:solidFill>
                  <a:srgbClr val="000066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 . A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</a:rPr>
              <a:t>-1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= A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</a:rPr>
              <a:t>-1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. A = 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ere I is the unit matrix of the same order as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4T07:43:58Z</dcterms:modified>
  <cp:revision>33</cp:revision>
  <dc:subject/>
  <dc:title>PowerPoint Presentation</dc:title>
</cp:coreProperties>
</file>