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E7E4-1B63-4204-AC4C-C8239353A1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trix with an equal number of rows and columns is called a square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only add or subtract matrices of the same 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ar multiplication: You can multiply a matrix by a number. Each element of the matrix must be multiplied by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of matr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nt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matrix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verse of a square matrix A is denoted by A-1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. A-1 = A-1. A = 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 is the unit matrix of the same order as 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1B9-A600-4168-85FF-5ECEAF52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1B8-7084-477F-8AF8-B0815F8C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A3C-C994-4727-BD34-11535B49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4E5-D386-4382-9671-95FD5D5D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B50D-B218-4E2E-B19C-FBDA0CD6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FDDE-E25B-4751-A30A-12CB96AC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F9A7-3C66-4298-A558-A2DC224C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255B-8A43-4498-BF5F-5250C3EB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9AE6C-08D5-4EA9-80B3-624FB44B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7826-FDBB-40DE-9093-004C85D2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B89E-1A48-47C0-8CE2-4754481C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9A5-D985-4984-A871-E1F08C15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F658-83BF-4077-B595-15AD0007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F6E4-1703-431F-9282-75D48AB8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2A7E-F427-413E-9F3F-53291AE1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6FD2-E9C9-4D14-A16A-1BA80B37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BD4B-D96C-4198-8888-11863004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CF9-F1A4-4A26-BA59-45974BB6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BB9-E796-4533-A799-5938531B2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638-8B97-47BE-9642-8C773EFC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B19-90C5-47A0-B71E-79C241A2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5F81-2B73-4931-8DFE-CD839EDD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7C4-B35C-498E-ABC7-48B9430B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A86-90EE-414B-AF6D-5AB9B200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EE51-3815-4AD5-A091-2060D124C1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09C7-CCB6-4CD1-8796-F532235119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143000" y="1600200"/>
            <a:ext cx="72388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et of numbers arranged in rows and columns enclosed in round or square brackets is called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rder of a matrix gives the number of rows followed by the number of columns in a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43000" y="1447920"/>
            <a:ext cx="723888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matrix with an equal number of rows and columns is called a square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agonal matrix has all its elements zero except for those in the leading diagonal (from top to bottom righ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matrices are equal if, and only if, they are identical. This means they must be of the same order and the respective elements must be identi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143000" y="1600200"/>
            <a:ext cx="723888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can only add or subtract matrices of the same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add, you simply add the corresponding elements in each matrix. To subtract, you subtract the corresponding elements in each matr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calar multiplic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You can multiply a matrix by a number. Each element of the matrix must be multiplied by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990720" y="1371600"/>
            <a:ext cx="7238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 of mat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t is possible to work out the product of two matrices according to the following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number of columns in the first matrix must be equal to the number of rows in the second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order of the product of the matrices is the number of rows in the first matrix multiplied by the number of columns in the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n multiplying, multiply the elements of a row of the first matrix by the elements in a column of the second matrix and add the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43000" y="1600200"/>
            <a:ext cx="72388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f A and B are two matrices, then AB is not generally equal to BA. In other words, multiplication of matrices is not commut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ant of a matri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295280" y="3971880"/>
                <a:ext cx="487692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MATR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143000" y="1600200"/>
            <a:ext cx="72388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inverse of a matri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inverse of a square matrix A is denoted by A</a:t>
            </a:r>
            <a:r>
              <a:rPr b="0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 .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800" spc="-1" strike="noStrike" baseline="30000">
                <a:solidFill>
                  <a:srgbClr val="000066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. A = 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ere I is the unit matrix of the same order as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07:43:58Z</dcterms:modified>
  <cp:revision>33</cp:revision>
  <dc:subject/>
  <dc:title>PowerPoint Presentation</dc:title>
</cp:coreProperties>
</file>