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F4FEB-FAF4-4ED6-BFB7-78E6E6DBBF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et of numbers arranged in rows and columns enclosed in round or square brackets is called a matri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rder of a matrix gives the number of rows followed by the number of columns in a matri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t of numbers arranged in rows and columns enclosed in round or square brackets is called a matri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der of a matrix gives the number of rows followed by the number of columns in a matri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trix with an equal number of rows and columns is called a square matri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iagonal matrix has all its elements zero except for those in the leading diagonal (from top to bottom righ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matrices are equal if, and only if, they are identical. This means they must be of the same order and the respective elements must be identic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trix with an equal number of rows and columns is called a square matri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agonal matrix has all its elements zero except for those in the leading diagonal (from top to bottom righ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matrices are equal if, and only if, they are identical. This means they must be of the same order and the respective elements must be identic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RIX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only add or subtract matrices of the same or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add, you simply add the corresponding elements in each matrix. To subtract, you subtract the corresponding elements in each matri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alar multiplication: You can multiply a matrix by a number. Each element of the matrix must be multiplied by the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RI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only add or subtract matrices of the same or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dd, you simply add the corresponding elements in each matrix. To subtract, you subtract the corresponding elements in each matri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lar multiplication: You can multiply a matrix by a number. Each element of the matrix must be multiplied by the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ication of matri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possible to work out the product of two matrices according to the following ru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columns in the first matrix must be equal to the number of rows in the second matri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rder of the product of the matrices is the number of rows in the first matrix multiplied by the number of columns in the seco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multiplying, multiply the elements of a row of the first matrix by the elements in a column of the second matrix and add the produc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 of matr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possible to work out the product of two matrices according to the following ru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columns in the first matrix must be equal to the number of rows in the second matri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der of the product of the matrices is the number of rows in the first matrix multiplied by the number of columns in the seco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multiplying, multiply the elements of a row of the first matrix by the elements in a column of the second matrix and add the produc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and B are two matrices, then AB is not generally equal to BA. In other words, multiplication of matrices is not commuta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rminant of a matrix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and B are two matrices, then AB is not generally equal to BA. In other words, multiplication of matrices is not commuta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ant of a matrix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verse of a matrix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verse of a square matrix A is denoted by A-1 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. A-1 = A-1. A = I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I is the unit matrix of the same order as 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verse of a matrix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verse of a square matrix A is denoted by A-1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. A-1 = A-1. A = I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 is the unit matrix of the same order as 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C929-9E9C-45A2-AFFB-769AC037D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BA1F-CD79-4F07-9A46-A2213A9FA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843E-D672-4BF2-8B65-E438D977C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2439-AADA-4433-97FD-20B69C09E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B66BC-858D-4F11-AB98-7E5BE83B9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7EE1D-5E0B-4476-A7F3-9EF110FA8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A89BE-0904-445F-80D0-4A0D89239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D6E55-0D59-4CC4-B0A5-1DCE23407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D4250-25F9-4403-919F-FF8017E17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85E7F-B1DC-4F3C-B423-3659BC1A0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3FE59-AC5F-4321-A187-A4C5837B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F1E2-DC7F-40F3-BF11-C3A36991A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B3178-A168-4160-B932-941D8FF1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F91D7-D834-43FA-B7AA-DFE1676C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23F2F-2619-492B-AA30-24885037B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87DEA-1993-4DAD-9A6A-CF41B2534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38CDA-3C84-40CB-B78C-820B92A1D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AD6D-3964-4978-BB0A-68D9769A8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EDB3-59E8-42AE-B7A2-A9C32760C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BBFD-0099-40AA-86E7-F3212D9E4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CE1F-B8FE-405E-945F-2D14A1403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5DBC-66FC-4C71-A94A-CC951F48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6DEE-6BCA-42CA-A442-2DC76793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7FAA-0798-4A61-A720-42758A9A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52D89-C5C6-4337-81C9-AF4E7D3239F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D439E-55B0-43E3-B23C-F13B7645F63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Arial"/>
              </a:rPr>
              <a:t>MATRIX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143000" y="1600200"/>
            <a:ext cx="723888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set of numbers arranged in rows and columns enclosed in round or square brackets is called a matri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order of a matrix gives the number of rows followed by the number of columns in a matri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Arial"/>
              </a:rPr>
              <a:t>MATRIX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143000" y="1447920"/>
            <a:ext cx="723888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matrix with an equal number of rows and columns is called a square matri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diagonal matrix has all its elements zero except for those in the leading diagonal (from top to bottom righ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wo matrices are equal if, and only if, they are identical. This means they must be of the same order and the respective elements must be identic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Arial"/>
              </a:rPr>
              <a:t>MATRIX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143000" y="1600200"/>
            <a:ext cx="7238880" cy="56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You can only add or subtract matrices of the same or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o add, you simply add the corresponding elements in each matrix. To subtract, you subtract the corresponding elements in each matri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calar multiplication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: You can multiply a matrix by a number. Each element of the matrix must be multiplied by the num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Arial"/>
              </a:rPr>
              <a:t>MATRIX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990720" y="1371600"/>
            <a:ext cx="723888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ultiplication of matr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t is possible to work out the product of two matrices according to the following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number of columns in the first matrix must be equal to the number of rows in the second matri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order of the product of the matrices is the number of rows in the first matrix multiplied by the number of columns in the sec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hen multiplying, multiply the elements of a row of the first matrix by the elements in a column of the second matrix and add the produc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Arial"/>
              </a:rPr>
              <a:t>MATRIX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143000" y="1600200"/>
            <a:ext cx="72388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f A and B are two matrices, then AB is not generally equal to BA. In other words, multiplication of matrices is not commut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ant of a matri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4"/>
              <p:cNvSpPr txBox="1"/>
              <p:nvPr/>
            </p:nvSpPr>
            <p:spPr>
              <a:xfrm>
                <a:off x="1295280" y="3971880"/>
                <a:ext cx="487692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f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 </m:t>
                            </m:r>
                            <m:r>
                              <m:t xml:space="preserve">b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Arial"/>
              </a:rPr>
              <a:t>MATRIX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1143000" y="1600200"/>
            <a:ext cx="723888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e inverse of a matri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inverse of a square matrix A is denoted by A</a:t>
            </a:r>
            <a:r>
              <a:rPr b="0" lang="en-US" sz="2800" spc="-1" strike="noStrike" baseline="30000">
                <a:solidFill>
                  <a:srgbClr val="000066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 . A</a:t>
            </a:r>
            <a:r>
              <a:rPr b="1" lang="en-US" sz="2800" spc="-1" strike="noStrike" baseline="30000">
                <a:solidFill>
                  <a:srgbClr val="000066"/>
                </a:solidFill>
                <a:latin typeface="Arial"/>
              </a:rPr>
              <a:t>-1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= A</a:t>
            </a:r>
            <a:r>
              <a:rPr b="1" lang="en-US" sz="2800" spc="-1" strike="noStrike" baseline="30000">
                <a:solidFill>
                  <a:srgbClr val="000066"/>
                </a:solidFill>
                <a:latin typeface="Arial"/>
              </a:rPr>
              <a:t>-1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. A = I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here I is the unit matrix of the same order as 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maK</cp:lastModifiedBy>
  <dcterms:modified xsi:type="dcterms:W3CDTF">2015-09-04T07:43:58Z</dcterms:modified>
  <cp:revision>33</cp:revision>
  <dc:subject/>
  <dc:title>PowerPoint Presentation</dc:title>
</cp:coreProperties>
</file>