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22D8-B9C6-4600-A8EF-CCD8FA9C39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tarter quiz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arter qui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ion is the opposite to clockwi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rection is the opposite to clockwi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clockw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 divided by ?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divided by ?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 is a pie char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ape is a pie ch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lar, 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r, 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centimetres in 1.8 m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entimetres in 1.8 m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sig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?  9  = 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sig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?  9  = 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  X  ?  =  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 X  ?  = 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line of symmetry on your bo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line of symmetry on your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the middle from top to botto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he middle from top to botto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/10  -  Superst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/10  -  Very Good inde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/10  -  Good on y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/10  -  O.K (ish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/10  -  Go home and learn you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10  -  Superst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10  -  Very Good inde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/10  -  Good on y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/10  -  O.K (ish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/10  -  Go home and lear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2D shape has 5 sid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2D shape has 5 s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s between 0 and 14 are impossible to get with a throw of 2 di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numbers between 0 and 14 are impossible to get with a throw of 2 dic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and 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and 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years are there in a centu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ars are there in a centu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4FD-CC45-4DBD-B0C8-B2051B30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3C1D-246A-4FD5-866D-BECAD88A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EB6-6AAB-4100-8AA6-53FD870C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F1E4-6DB1-4E0D-B072-730CFF67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855-E2D6-4E92-A76A-A72E2820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D66-6489-445D-B3EF-C707A301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6AB1-7B46-41FB-AF44-CF2BE43E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B78-CAD9-4E01-BD87-0D0DCC20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7C7-45DD-4889-AD9F-7E1AF72E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3E7-9CA0-49DA-BE9D-B807BAE2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B55D-DCA3-4F4B-9089-59B7B4BB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52B-6161-47A3-AADF-0F126303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93E3-33B3-4953-8E55-0366F7B04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icsearch.com/info.cgi?q=question%20marks&amp;id=fxDpCZ5s6hjg-Q85jYAcRDT26V40JV0roz4pkS1ahqE&amp;opt=%26cols%3D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26920" y="1557360"/>
            <a:ext cx="4638960" cy="31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0 starter quiz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estions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Click to view image detai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28640"/>
            <a:ext cx="2735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direction is the opposite to clockwis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nticlockwi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70 divided by ? =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shape is a pie char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Circular, 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1844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ow many centimetres in 1.8 m?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sig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4220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3  ?  9  =  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8  X  ?  =  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ere is the line of symmetry on your bod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own the middle from top to bottom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0/10  -  Supersta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9/10  -  Very Good inde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8/10  -  Good on y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7/10  -  O.K (ish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/10  -  Go home and learn your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ich 2D shape has 5 sid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ich numbers between 0 and 14 are impossible to get with a throw of 2 dice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  and 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ow many years are there in a centur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1:53:06Z</dcterms:created>
  <dc:creator>Technical Services</dc:creator>
  <dc:description/>
  <dc:language>en-US</dc:language>
  <cp:lastModifiedBy>LEGION</cp:lastModifiedBy>
  <dcterms:modified xsi:type="dcterms:W3CDTF">2015-09-08T10:36:37Z</dcterms:modified>
  <cp:revision>26</cp:revision>
  <dc:subject/>
  <dc:title>Math starter quiz What is the missing number?</dc:title>
</cp:coreProperties>
</file>