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BEB1-186B-4572-9F35-55E89400A6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tarter quiz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arter qui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rection is the opposite to clockwi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rection is the opposite to clockwi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clockw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lockw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 divided by ?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divided by ?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ape is a pie char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ape is a pie ch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lar, 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r, 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centimetres in 1.8 m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centimetres in 1.8 m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issing sig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?  9  = 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issing sig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?  9  = 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  X  ?  =  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 X  ?  = 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line of symmetry on your bod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line of symmetry on your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 the middle from top to bottom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 the middle from top to botto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/10  -  Superst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/10  -  Very Good inde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/10  -  Good on ya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/10  -  O.K (ish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/10  -  Go home and learn you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/10  -  Superst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/10  -  Very Good inde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/10  -  Good on y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/10  -  O.K (ish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/10  -  Go home and learn y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2D shape has 5 sid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2D shape has 5 s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A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A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s between 0 and 14 are impossible to get with a throw of 2 dic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numbers between 0 and 14 are impossible to get with a throw of 2 dic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 and 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and 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years are there in a centu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ars are there in a centu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4A31-5709-49AD-B731-2F024896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A59-EA46-4C86-9DC4-6CB212A3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9B2B-6E99-45C1-B113-78F3637C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83DE-15D1-4816-9E05-5382951F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EB0-389B-4C33-9FEE-DAA4F8CE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38D7-3495-4C36-8CB9-F4DDFC55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AB17-8822-44F4-B70D-75FA6E8F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EC7E-EC9B-4C12-910C-FABC75FB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FA69-4840-42A2-A407-17E6CE63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02B7-5117-4A78-80F0-5A6661F0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E377-1B93-4CCE-BF34-18B1347A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510E-01DC-4D1F-8804-3B732428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1133-F757-4EF3-A164-8C013BA81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icsearch.com/info.cgi?q=question%20marks&amp;id=fxDpCZ5s6hjg-Q85jYAcRDT26V40JV0roz4pkS1ahqE&amp;opt=%26cols%3D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26920" y="1557360"/>
            <a:ext cx="4638960" cy="31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0 starter quiz 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estions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icture 6" descr="Click to view image detai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628640"/>
            <a:ext cx="2735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direction is the opposite to clockwis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Anticlockwi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37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70 divided by ? =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shape is a pie char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Circular, rou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2133720"/>
            <a:ext cx="8218440" cy="20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How many centimetres in 1.8 m?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is the missing sig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4220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3  ?  9  =  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8  X  ?  =  1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ere is the line of symmetry on your bod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Down the middle from top to bottom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0/10  -  Supersta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9/10  -  Very Good indee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8/10  -  Good on y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7/10  -  O.K (ish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/10  -  Go home and learn your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or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ich 2D shape has 5 side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PENTAG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ich numbers between 0 and 14 are impossible to get with a throw of 2 dice?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  and  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How many years are there in a centur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1:53:06Z</dcterms:created>
  <dc:creator>Technical Services</dc:creator>
  <dc:description/>
  <dc:language>en-US</dc:language>
  <cp:lastModifiedBy>LEGION</cp:lastModifiedBy>
  <dcterms:modified xsi:type="dcterms:W3CDTF">2015-09-08T10:36:37Z</dcterms:modified>
  <cp:revision>26</cp:revision>
  <dc:subject/>
  <dc:title>Math starter quiz What is the missing number?</dc:title>
</cp:coreProperties>
</file>