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6E04-738D-4C2D-BB06-57B54CE93C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s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69 B.C. – 47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ure 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69 B.C. – 47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irst pure 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 belief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cret socie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sto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4 B.C. – 322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iloso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mathematics in relation to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istot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84 B.C. – 322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hilosop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tudied mathematics in relation to scie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c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 B.C. – 26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te Th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ucli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25 B.C. – 26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Wrote The Elemen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toda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-Khwariz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0 A.D.-850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ghdad (in Ir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book o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-Khwarizm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780 A.D.-850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Baghdad (in Iraq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st book on 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tural Numb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ardo da Vin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52 A.D. - 1519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with mechanic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ardo da Vinc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452 A.D. - 1519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with mechanical metho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ain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chitec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Gali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4 A.D. – 1642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alileo Galile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564 A.D. – 1642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eac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strolog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L’hop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61 A.D. – 1704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”Hopital’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e L’hopit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661 A.D. – 1704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ifferential Calculu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”Hopital’s Ru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hard Eu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7 A.D. – 1783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zer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 (book on mathematical analy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of var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tic 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hard Eul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707 A.D. – 1783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witzerlan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a (book on mathematical analysis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alculus of vari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nalytic  Ge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rigon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262-920A-4E2C-9601-84FB9325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FB5-D7FA-425B-9437-A73363D1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EF4-AD7B-4C70-8D9D-4739C3C3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2FD-1C61-4DAF-B701-8A67CD3D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BA19-234E-46AF-BF19-D2296DC1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0D8F-5833-41BE-B99A-F9A21BD1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B511-3733-4607-BF48-4435B5EB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2511-185E-42AE-BE8C-D220B0D3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33B6-A230-497B-A69A-E514D2AF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3A91-B013-46E2-B745-B4AB1A8C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63A1-379D-4ADF-8ACB-EA0E0ECA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671-F11E-4B96-90FF-EB1921DF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B313-10CF-4A10-AAA7-9DF888EE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88B7-84A8-4643-A6A6-5A9F9188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8F20-649A-47E7-9D75-DE8BB1A2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5DA3-29E5-454D-BBBA-03F855E6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8100-BF8B-4A02-8251-9D4BB6EC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51B-A504-4A3B-B073-F5DDF1E8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065-5C98-4BE0-8589-35668E3E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FA2-C7A0-4CE1-8562-FB4249CA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4698-D81A-4FBE-A16D-898BE967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05E5-BC21-4007-9FC4-8A103739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311-C658-47ED-960D-004BAE1E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BFF-6C0B-4CFC-ABA6-DEF3216C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EAF1-18A1-44DC-9132-BD15E79C39F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E7BE-3B09-40AB-A34A-C622DF80FDF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Mathematicians</a:t>
            </a:r>
            <a:r>
              <a:rPr b="1" lang="en-US" sz="54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1640" y="2971800"/>
            <a:ext cx="5156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r. Clu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llegas Middle Schoo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006-200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Pythagora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638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69 B.C. – 47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rst pure 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 belief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ret socie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Pythagoras_6"/>
          <p:cNvPicPr/>
          <p:nvPr/>
        </p:nvPicPr>
        <p:blipFill>
          <a:blip r:embed="rId1"/>
          <a:stretch/>
        </p:blipFill>
        <p:spPr>
          <a:xfrm>
            <a:off x="6324480" y="2743200"/>
            <a:ext cx="23259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ristotl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3392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84 B.C. – 322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hilosop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udied mathematics in relation to sc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6" descr="Aristotle_4"/>
          <p:cNvPicPr/>
          <p:nvPr/>
        </p:nvPicPr>
        <p:blipFill>
          <a:blip r:embed="rId1"/>
          <a:stretch/>
        </p:blipFill>
        <p:spPr>
          <a:xfrm>
            <a:off x="990720" y="2514600"/>
            <a:ext cx="23461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Euclid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25 B.C. – 26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ote The Ele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toda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Euclid_3"/>
          <p:cNvPicPr/>
          <p:nvPr/>
        </p:nvPicPr>
        <p:blipFill>
          <a:blip r:embed="rId1"/>
          <a:stretch/>
        </p:blipFill>
        <p:spPr>
          <a:xfrm>
            <a:off x="6248520" y="2286000"/>
            <a:ext cx="2361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l-Khwarizm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029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780 A.D.-850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aghdad (in Iraq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book on 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tural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qu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Al-Khwarizmi_2"/>
          <p:cNvPicPr/>
          <p:nvPr/>
        </p:nvPicPr>
        <p:blipFill>
          <a:blip r:embed="rId1"/>
          <a:stretch/>
        </p:blipFill>
        <p:spPr>
          <a:xfrm>
            <a:off x="914400" y="2666880"/>
            <a:ext cx="2313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ardo da Vinc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452 A.D. - 1519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with mechanical meth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in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rchit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Leonardo_2"/>
          <p:cNvPicPr/>
          <p:nvPr/>
        </p:nvPicPr>
        <p:blipFill>
          <a:blip r:embed="rId1"/>
          <a:stretch/>
        </p:blipFill>
        <p:spPr>
          <a:xfrm>
            <a:off x="6172200" y="2895480"/>
            <a:ext cx="25066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Galileo Galile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564 A.D. – 1642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strolo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5" descr="Copy of Galileo"/>
          <p:cNvPicPr/>
          <p:nvPr/>
        </p:nvPicPr>
        <p:blipFill>
          <a:blip r:embed="rId1"/>
          <a:stretch/>
        </p:blipFill>
        <p:spPr>
          <a:xfrm>
            <a:off x="1479600" y="2362320"/>
            <a:ext cx="2793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De L’hopital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661 A.D. – 1704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Calcul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”Hopital’s Ru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De_L'Hopital"/>
          <p:cNvPicPr/>
          <p:nvPr/>
        </p:nvPicPr>
        <p:blipFill>
          <a:blip r:embed="rId1"/>
          <a:stretch/>
        </p:blipFill>
        <p:spPr>
          <a:xfrm>
            <a:off x="6019920" y="2666880"/>
            <a:ext cx="256860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hard Euler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0920" y="23619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707 A.D. – 1783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witzerland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a (book on mathematical analysi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alculus of vari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tic  Ge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rigon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Euler_9"/>
          <p:cNvPicPr/>
          <p:nvPr/>
        </p:nvPicPr>
        <p:blipFill>
          <a:blip r:embed="rId1"/>
          <a:stretch/>
        </p:blipFill>
        <p:spPr>
          <a:xfrm>
            <a:off x="1066680" y="2666880"/>
            <a:ext cx="2359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01:59Z</dcterms:created>
  <dc:creator>Mr. Clutter</dc:creator>
  <dc:description/>
  <dc:language>en-US</dc:language>
  <cp:lastModifiedBy>RomaK</cp:lastModifiedBy>
  <dcterms:modified xsi:type="dcterms:W3CDTF">2015-09-04T07:43:39Z</dcterms:modified>
  <cp:revision>11</cp:revision>
  <dc:subject/>
  <dc:title>Mathematicians  history</dc:title>
</cp:coreProperties>
</file>