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0BC3-D608-4861-93D3-43C204DB399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ian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thematicians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2006-2007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69 B.C. – 475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pure mathematic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belie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 soci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ythagorean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ythagora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569 B.C. – 475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First pure mathematicia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5 belief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ecret socie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ythagorean theorem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isto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4 B.C. – 322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ilosop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d mathematics in relation to sci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ristot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384 B.C. – 322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hilosoph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tudied mathematics in relation to scien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ucl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5 B.C. – 265 B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ote The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Euclid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325 B.C. – 265 B.C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Wrote The Element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eometry toda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-Khwariz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0 A.D.-850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ghdad (in Ira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book on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l-Khwarizm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780 A.D.-850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Baghdad (in Iraq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st book on Algebr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Natural Numb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Equatio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nardo da Vinc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52 A.D. - 1519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 with mechanical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chit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eonardo da Vinc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452 A.D. - 1519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eometry with mechanical method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Paint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rchitect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echanic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ileo Gali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64 A.D. – 1642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Galileo Galilei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564 A.D. – 1642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Teach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strolog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athematician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 L’hopi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61 A.D. – 1704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Calcu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”Hopital’s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De L’hopital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661 A.D. – 1704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Differential Calculu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”Hopital’s Rule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nhard Eu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07 A.D. – 1783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zer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 (book on mathematical analysi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us of vari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lytic  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b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Leonhard Euler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1707 A.D. – 1783 A.D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witzerland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Mechanica (book on mathematical analysis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Calculus of variation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Analytic  Geometr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Trigonometr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Symbol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FE45-4907-4A4C-95FD-8C0B4732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8745-96BF-45C4-BAE6-839CEFF7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AB18-EC56-4FCA-8F51-6DCDE5E5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A9F5-5F22-4FC1-8BDB-2C5775E60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DE829-2120-4B15-B03D-1B3CDF21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0F56-4AFC-4794-B5BE-79BDE64D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EDAF-9665-4C0A-AF1B-3E4089E4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0621-CA71-4CF4-9AE6-2FA50AED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044E-AF64-4E32-BCDD-14FE1841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A84A-EC93-4FF1-93CB-9766F776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64EA-E74A-4C2B-ABD2-7807F3D6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187A-D509-4A5B-9373-D281076D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2D39-154C-41EB-96DC-35F874C4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D709-4516-4291-BC36-ABD983B4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6C3A-9700-4015-AB8F-D71DBEE5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FCD9-3040-4BF7-802E-678BCAF1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4612-4DBF-42A7-BDF1-05F591D0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1A4B-EC87-46C9-9952-2FAE0E4D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2E1-7C7A-4F95-959F-F00A5C69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778B-3A05-443A-B7E7-E7272732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4222-CFC2-436F-9F8C-31871463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4B8-5376-461A-91BE-54247D80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5900-250F-4A23-8AAA-520EF8C9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F29B-53A5-4465-8C2A-21E30931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8764-9037-4E77-8228-B2E268A12B8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4853-ED0C-46AD-96ED-3F7088AFB72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Mathematicians</a:t>
            </a:r>
            <a:r>
              <a:rPr b="1" lang="en-US" sz="5400" spc="-1" strike="noStrike">
                <a:solidFill>
                  <a:srgbClr val="99cc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1640" y="2971800"/>
            <a:ext cx="5156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r. Clu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Villegas Middle Schoo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006-2007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Pythagoras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56386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569 B.C. – 475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irst pure mathematici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5 belief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ecret socie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ythagorean theore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Pythagoras_6"/>
          <p:cNvPicPr/>
          <p:nvPr/>
        </p:nvPicPr>
        <p:blipFill>
          <a:blip r:embed="rId1"/>
          <a:stretch/>
        </p:blipFill>
        <p:spPr>
          <a:xfrm>
            <a:off x="6324480" y="2743200"/>
            <a:ext cx="23259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Aristotle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33920" y="2361960"/>
            <a:ext cx="5410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84 B.C. – 322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hilosoph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tudied mathematics in relation to scie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6" descr="Aristotle_4"/>
          <p:cNvPicPr/>
          <p:nvPr/>
        </p:nvPicPr>
        <p:blipFill>
          <a:blip r:embed="rId1"/>
          <a:stretch/>
        </p:blipFill>
        <p:spPr>
          <a:xfrm>
            <a:off x="990720" y="2514600"/>
            <a:ext cx="234612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Euclid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49528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25 B.C. – 265 B.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ree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rote The Ele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eometry toda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5" descr="Euclid_3"/>
          <p:cNvPicPr/>
          <p:nvPr/>
        </p:nvPicPr>
        <p:blipFill>
          <a:blip r:embed="rId1"/>
          <a:stretch/>
        </p:blipFill>
        <p:spPr>
          <a:xfrm>
            <a:off x="6248520" y="2286000"/>
            <a:ext cx="23619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Al-Khwarizm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86200" y="2361960"/>
            <a:ext cx="5029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780 A.D.-850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Baghdad (in Iraq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en-US" sz="32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book on Algebr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Algebr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atural Numb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qu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5" descr="Al-Khwarizmi_2"/>
          <p:cNvPicPr/>
          <p:nvPr/>
        </p:nvPicPr>
        <p:blipFill>
          <a:blip r:embed="rId1"/>
          <a:stretch/>
        </p:blipFill>
        <p:spPr>
          <a:xfrm>
            <a:off x="914400" y="2666880"/>
            <a:ext cx="2313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Leonardo da Vinc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5410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452 A.D. - 1519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Geometry with mechanical metho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ain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rchitec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chanic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5" descr="Leonardo_2"/>
          <p:cNvPicPr/>
          <p:nvPr/>
        </p:nvPicPr>
        <p:blipFill>
          <a:blip r:embed="rId1"/>
          <a:stretch/>
        </p:blipFill>
        <p:spPr>
          <a:xfrm>
            <a:off x="6172200" y="2895480"/>
            <a:ext cx="25066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Galileo Galilei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564 A.D. – 1642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tal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each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strolog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athematici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5" descr="Copy of Galileo"/>
          <p:cNvPicPr/>
          <p:nvPr/>
        </p:nvPicPr>
        <p:blipFill>
          <a:blip r:embed="rId1"/>
          <a:stretch/>
        </p:blipFill>
        <p:spPr>
          <a:xfrm>
            <a:off x="1479600" y="2362320"/>
            <a:ext cx="27939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De L’hopital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4876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661 A.D. – 1704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Fr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ifferential Calculu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”Hopital’s Rul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5" descr="De_L'Hopital"/>
          <p:cNvPicPr/>
          <p:nvPr/>
        </p:nvPicPr>
        <p:blipFill>
          <a:blip r:embed="rId1"/>
          <a:stretch/>
        </p:blipFill>
        <p:spPr>
          <a:xfrm>
            <a:off x="6019920" y="2666880"/>
            <a:ext cx="256860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99"/>
                </a:solidFill>
                <a:latin typeface="Arial"/>
              </a:rPr>
              <a:t>Leonhard Euler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80920" y="2361960"/>
            <a:ext cx="5334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707 A.D. – 1783 A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witzerland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Mechanica (book on mathematical analysi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alculus of varia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alytic  Geome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Trigonome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Symbo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5" descr="Euler_9"/>
          <p:cNvPicPr/>
          <p:nvPr/>
        </p:nvPicPr>
        <p:blipFill>
          <a:blip r:embed="rId1"/>
          <a:stretch/>
        </p:blipFill>
        <p:spPr>
          <a:xfrm>
            <a:off x="1066680" y="2666880"/>
            <a:ext cx="23590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0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0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8T15:01:59Z</dcterms:created>
  <dc:creator>Mr. Clutter</dc:creator>
  <dc:description/>
  <dc:language>en-US</dc:language>
  <cp:lastModifiedBy>RomaK</cp:lastModifiedBy>
  <dcterms:modified xsi:type="dcterms:W3CDTF">2015-09-04T07:43:39Z</dcterms:modified>
  <cp:revision>11</cp:revision>
  <dc:subject/>
  <dc:title>Mathematicians  history</dc:title>
</cp:coreProperties>
</file>