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B9E2-D0BF-4AEB-B94D-72D4B2A7DA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CORE 1</a:t>
            </a:r>
            <a:br>
              <a:rPr sz="1200"/>
            </a:b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2n be any even number, where n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 + 1 be any odd number, where m is an inte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 + 2m + 1 = 2(n+m)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m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is o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n+m) + 1 = 2n + 2m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m of an even number and an odd number is alway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hematical Pro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 of starting with an assumption, or a statement which is given, and, by using logical argument, arriving at a 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…’ or ‘Given …, prove …’ or ‘ Prove …, given …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a logical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with what is given or standar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e each step from prev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results can be used at any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θ = 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ient of y=mx+c is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o express the relationship between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im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es and is impli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e that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_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A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ΔABC is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he statements a = 0 and ab = 0 using implication sig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0 (b could be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 = 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a = 0 or b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1FE-7F7E-4EC8-9C32-DB208D12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993-B5F6-4B6B-B370-F8F4AB5D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2E3-6C44-4AD4-8968-0CC4B59D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DC4-2B9B-49D0-AF21-7D070EF1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871-4DCF-49FC-ADF0-CBF5D837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84B-3540-4047-9F46-9851629C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663-3D1C-4459-9979-34618591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11DB-9AA6-49DA-A1B0-A0448154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E4BE-BEC8-4E42-8A8B-CF42A804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A356-889F-47D2-8111-DD35CBE5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6F81-9043-4AB4-899A-32A74C4A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D41-94F8-4F8D-93BB-62B3BD96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9765-3647-45D4-A130-5A4EBBD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99DD-CE6A-48E2-B574-BEA33A1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58F0-A726-4EFF-B076-6D51CF6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62C9-FC44-4770-825E-D67DD563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CB8D-09C7-4697-839C-82924510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4D49-F310-4F8C-B1D3-9EE3F056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E323-5B1B-43A2-BCA4-158DA00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48B9-4502-4A64-8075-75E83DE8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3D321-6B97-4C8E-97D3-A230E8ED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A59CB-072B-4C28-BB1D-EDAE2E70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E73-9169-4CF0-B0BC-768A61B4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DD670-C138-4466-BF97-5AC67B9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0877-9B2F-49C8-83FB-038D201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C4B2-23E0-40EB-9C7B-5E5EF84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EAA9-D5B4-4FB8-B312-B5A51A9E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C44E-653C-479E-84B3-19F4604E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1CA8-913A-48DA-A126-5FC3213D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979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1160" y="281916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1979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1160" y="4546440"/>
            <a:ext cx="218340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B9850-5F27-484F-BCDC-A48FCD4B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082-79DE-458F-B24D-59FA8A60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2E0-9A22-49EE-BF24-3554301B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676520"/>
            <a:ext cx="67816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881-DA8F-4457-8575-A161FA1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2DE-B01C-4722-A389-D3935925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454644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53D-D781-422E-907E-DE4D0B4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2819160"/>
            <a:ext cx="330912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546440"/>
            <a:ext cx="6781680" cy="157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FDA-2DC0-4263-8242-851B5A8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F8D0-8BBE-42E1-872D-016C98BA93A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A78D-E33F-4D30-96EC-2606D65EED9E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9A7B-F17F-4FB5-8749-75E26FF987EB}" type="slidenum">
              <a:rPr b="0" lang="en-GB" sz="10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59280" y="-360"/>
            <a:ext cx="42847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ecff"/>
                </a:solidFill>
                <a:latin typeface="Castellar"/>
              </a:rPr>
              <a:t>CORE 1</a:t>
            </a:r>
            <a:br>
              <a:rPr sz="6000"/>
            </a:br>
            <a:r>
              <a:rPr b="1" lang="en-GB" sz="4400" spc="-1" strike="noStrike">
                <a:solidFill>
                  <a:srgbClr val="ccecff"/>
                </a:solidFill>
                <a:latin typeface="Castellar"/>
              </a:rPr>
              <a:t>proof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7640" y="1844640"/>
            <a:ext cx="678204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7640" y="3141360"/>
            <a:ext cx="678204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99ff"/>
                </a:solidFill>
                <a:latin typeface="Comic Sans MS"/>
              </a:rPr>
              <a:t>Prove that sum of an even number and an odd number is always odd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905120" y="2060280"/>
            <a:ext cx="67816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Let 2n be any even number, where n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m + 1 be any odd number, where m is an integer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n + 2m + 1 = 2(n+m)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n+m is an integ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is eve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is od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2(n+m) + 1 = 2n + 2m + 1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99ff"/>
                </a:solidFill>
                <a:latin typeface="Arial"/>
              </a:rPr>
              <a:t>the sum of an even number and an odd number is always odd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" name="Picture 4" descr="implies"/>
          <p:cNvPicPr/>
          <p:nvPr/>
        </p:nvPicPr>
        <p:blipFill>
          <a:blip r:embed="rId1"/>
          <a:stretch/>
        </p:blipFill>
        <p:spPr>
          <a:xfrm>
            <a:off x="2340000" y="364500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implies"/>
          <p:cNvPicPr/>
          <p:nvPr/>
        </p:nvPicPr>
        <p:blipFill>
          <a:blip r:embed="rId2"/>
          <a:stretch/>
        </p:blipFill>
        <p:spPr>
          <a:xfrm>
            <a:off x="2340000" y="400536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plies"/>
          <p:cNvPicPr/>
          <p:nvPr/>
        </p:nvPicPr>
        <p:blipFill>
          <a:blip r:embed="rId3"/>
          <a:stretch/>
        </p:blipFill>
        <p:spPr>
          <a:xfrm>
            <a:off x="234000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implies"/>
          <p:cNvPicPr/>
          <p:nvPr/>
        </p:nvPicPr>
        <p:blipFill>
          <a:blip r:embed="rId4"/>
          <a:stretch/>
        </p:blipFill>
        <p:spPr>
          <a:xfrm>
            <a:off x="234000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What is Mathematical Proof?</a:t>
            </a:r>
            <a:endParaRPr b="0" lang="en-US" sz="36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35280" y="3070080"/>
            <a:ext cx="6781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8dc6ff"/>
                </a:solidFill>
                <a:latin typeface="Comic Sans MS"/>
              </a:rPr>
              <a:t>The process of starting with an assumption, or a statement which is given, and, by using logical argument, arriving at a conclus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99"/>
                </a:solidFill>
                <a:latin typeface="Comic Sans MS"/>
              </a:rPr>
              <a:t>Mathematical Proof</a:t>
            </a:r>
            <a:endParaRPr b="0" lang="en-US" sz="5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47280" y="2819160"/>
            <a:ext cx="74883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‘</a:t>
            </a: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Prove that …’ or ‘Given …, prove …’ or ‘ Prove …, given …’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Form a logical argu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rt with what is given or standard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Deduce each step from previou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Comic Sans MS"/>
              </a:rPr>
              <a:t>Standard results can be used at any stag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360" y="1700280"/>
            <a:ext cx="670896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MATHEMATICAL STATEMENTS</a:t>
            </a:r>
            <a:endParaRPr b="0" lang="en-US" sz="32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19280" y="2819160"/>
            <a:ext cx="526716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Δ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ABC is isoscel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sin</a:t>
            </a:r>
            <a:r>
              <a:rPr b="0" lang="el-GR" sz="2800" spc="-1" strike="noStrike">
                <a:solidFill>
                  <a:srgbClr val="0099cc"/>
                </a:solidFill>
                <a:latin typeface="Arial"/>
                <a:ea typeface="Arial"/>
              </a:rPr>
              <a:t>θ</a:t>
            </a:r>
            <a:r>
              <a:rPr b="0" lang="en-GB" sz="2800" spc="-1" strike="noStrike">
                <a:solidFill>
                  <a:srgbClr val="0099cc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¾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The gradient of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y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=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x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+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c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 is </a:t>
            </a:r>
            <a:r>
              <a:rPr b="0" i="1" lang="en-US" sz="2800" spc="-1" strike="noStrike">
                <a:solidFill>
                  <a:srgbClr val="0099cc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258560" y="2781000"/>
            <a:ext cx="77058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Use to express the relationship between state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mpl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does not impl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Comic Sans MS"/>
              </a:rPr>
              <a:t>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ff"/>
                </a:solidFill>
                <a:latin typeface="Comic Sans MS"/>
              </a:rPr>
              <a:t>implies and is implied b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31640" y="1700280"/>
            <a:ext cx="6708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Implication Signs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39" name="Picture 6" descr="implies"/>
          <p:cNvPicPr/>
          <p:nvPr/>
        </p:nvPicPr>
        <p:blipFill>
          <a:blip r:embed="rId1"/>
          <a:stretch/>
        </p:blipFill>
        <p:spPr>
          <a:xfrm>
            <a:off x="3276720" y="33577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implies"/>
          <p:cNvPicPr/>
          <p:nvPr/>
        </p:nvPicPr>
        <p:blipFill>
          <a:blip r:embed="rId2"/>
          <a:stretch/>
        </p:blipFill>
        <p:spPr>
          <a:xfrm>
            <a:off x="3276720" y="3813120"/>
            <a:ext cx="382320" cy="192240"/>
          </a:xfrm>
          <a:prstGeom prst="rect">
            <a:avLst/>
          </a:prstGeom>
          <a:ln w="0">
            <a:noFill/>
          </a:ln>
        </p:spPr>
      </p:pic>
      <p:sp>
        <p:nvSpPr>
          <p:cNvPr id="141" name="Line 10"/>
          <p:cNvSpPr/>
          <p:nvPr/>
        </p:nvSpPr>
        <p:spPr>
          <a:xfrm flipV="1">
            <a:off x="3276720" y="371592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Picture 11" descr="implies"/>
          <p:cNvPicPr/>
          <p:nvPr/>
        </p:nvPicPr>
        <p:blipFill>
          <a:blip r:embed="rId3"/>
          <a:stretch/>
        </p:blipFill>
        <p:spPr>
          <a:xfrm>
            <a:off x="3252960" y="424512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iff"/>
          <p:cNvPicPr/>
          <p:nvPr/>
        </p:nvPicPr>
        <p:blipFill>
          <a:blip r:embed="rId4"/>
          <a:stretch/>
        </p:blipFill>
        <p:spPr>
          <a:xfrm>
            <a:off x="3276720" y="4653000"/>
            <a:ext cx="358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Prove that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</a:rPr>
              <a:t>AB = A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‗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B = _C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 = AC 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0099ff"/>
                </a:solidFill>
                <a:latin typeface="Arial"/>
                <a:ea typeface="Arial"/>
              </a:rPr>
              <a:t>Δ</a:t>
            </a:r>
            <a:r>
              <a:rPr b="0" lang="en-GB" sz="2400" spc="-1" strike="noStrike">
                <a:solidFill>
                  <a:srgbClr val="0099ff"/>
                </a:solidFill>
                <a:latin typeface="Arial"/>
                <a:ea typeface="Arial"/>
              </a:rPr>
              <a:t>ABC is isosce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 flipV="1">
            <a:off x="197964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 flipV="1">
            <a:off x="2700360" y="4149360"/>
            <a:ext cx="144360" cy="360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8" name="Picture 6" descr="implies"/>
          <p:cNvPicPr/>
          <p:nvPr/>
        </p:nvPicPr>
        <p:blipFill>
          <a:blip r:embed="rId1"/>
          <a:stretch/>
        </p:blipFill>
        <p:spPr>
          <a:xfrm>
            <a:off x="3348000" y="4724280"/>
            <a:ext cx="382680" cy="192240"/>
          </a:xfrm>
          <a:prstGeom prst="rect">
            <a:avLst/>
          </a:prstGeom>
          <a:ln w="0">
            <a:noFill/>
          </a:ln>
        </p:spPr>
      </p:pic>
      <p:sp>
        <p:nvSpPr>
          <p:cNvPr id="149" name="Line 7"/>
          <p:cNvSpPr/>
          <p:nvPr/>
        </p:nvSpPr>
        <p:spPr>
          <a:xfrm flipH="1">
            <a:off x="6587640" y="2276640"/>
            <a:ext cx="576360" cy="7920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7164360" y="2276640"/>
            <a:ext cx="432000" cy="863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6587640" y="3068640"/>
            <a:ext cx="100836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6732720" y="2637000"/>
            <a:ext cx="144360" cy="1425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H="1">
            <a:off x="7308720" y="2637000"/>
            <a:ext cx="216000" cy="712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7021440" y="198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6302160" y="2924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7526160" y="299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63280" y="2819160"/>
            <a:ext cx="72010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Link the statements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and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using implication signs.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(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could be 0)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Eithe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a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 or </a:t>
            </a:r>
            <a:r>
              <a:rPr b="0" i="1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b</a:t>
            </a:r>
            <a:r>
              <a:rPr b="0" lang="en-GB" sz="2000" spc="-1" strike="noStrike">
                <a:solidFill>
                  <a:srgbClr val="0033cc"/>
                </a:solidFill>
                <a:latin typeface="Arial"/>
                <a:ea typeface="Arial"/>
              </a:rPr>
              <a:t> = 0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9" name="Picture 6" descr="implies"/>
          <p:cNvPicPr/>
          <p:nvPr/>
        </p:nvPicPr>
        <p:blipFill>
          <a:blip r:embed="rId1"/>
          <a:stretch/>
        </p:blipFill>
        <p:spPr>
          <a:xfrm>
            <a:off x="2843280" y="3645000"/>
            <a:ext cx="382680" cy="191880"/>
          </a:xfrm>
          <a:prstGeom prst="rect">
            <a:avLst/>
          </a:prstGeom>
          <a:ln w="0">
            <a:noFill/>
          </a:ln>
        </p:spPr>
      </p:pic>
      <p:sp>
        <p:nvSpPr>
          <p:cNvPr id="160" name="Line 7"/>
          <p:cNvSpPr/>
          <p:nvPr/>
        </p:nvSpPr>
        <p:spPr>
          <a:xfrm flipV="1">
            <a:off x="2844720" y="4292280"/>
            <a:ext cx="287280" cy="36036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1" name="Picture 8" descr="implies"/>
          <p:cNvPicPr/>
          <p:nvPr/>
        </p:nvPicPr>
        <p:blipFill>
          <a:blip r:embed="rId2"/>
          <a:stretch/>
        </p:blipFill>
        <p:spPr>
          <a:xfrm>
            <a:off x="2843280" y="4365720"/>
            <a:ext cx="382680" cy="191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implies"/>
          <p:cNvPicPr/>
          <p:nvPr/>
        </p:nvPicPr>
        <p:blipFill>
          <a:blip r:embed="rId3"/>
          <a:stretch/>
        </p:blipFill>
        <p:spPr>
          <a:xfrm>
            <a:off x="2820960" y="508464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220500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Comic Sans MS"/>
              </a:rPr>
              <a:t>Example: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1692360" y="3284640"/>
            <a:ext cx="7057800" cy="412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709128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7" descr=""/>
          <p:cNvPicPr/>
          <p:nvPr/>
        </p:nvPicPr>
        <p:blipFill>
          <a:blip r:embed="rId1"/>
          <a:stretch/>
        </p:blipFill>
        <p:spPr>
          <a:xfrm>
            <a:off x="3635280" y="36496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2627280" y="2135160"/>
            <a:ext cx="3745080" cy="573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1657440" cy="426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mplies"/>
          <p:cNvPicPr/>
          <p:nvPr/>
        </p:nvPicPr>
        <p:blipFill>
          <a:blip r:embed="rId4"/>
          <a:stretch/>
        </p:blipFill>
        <p:spPr>
          <a:xfrm>
            <a:off x="4500720" y="2997360"/>
            <a:ext cx="382320" cy="191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"/>
          <p:cNvPicPr/>
          <p:nvPr/>
        </p:nvPicPr>
        <p:blipFill>
          <a:blip r:embed="rId5"/>
          <a:stretch/>
        </p:blipFill>
        <p:spPr>
          <a:xfrm>
            <a:off x="5148360" y="2865600"/>
            <a:ext cx="3384360" cy="49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6"/>
          <a:stretch/>
        </p:blipFill>
        <p:spPr>
          <a:xfrm>
            <a:off x="3348000" y="3544920"/>
            <a:ext cx="1009800" cy="460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implies"/>
          <p:cNvPicPr/>
          <p:nvPr/>
        </p:nvPicPr>
        <p:blipFill>
          <a:blip r:embed="rId7"/>
          <a:stretch/>
        </p:blipFill>
        <p:spPr>
          <a:xfrm>
            <a:off x="2771640" y="3716280"/>
            <a:ext cx="382680" cy="1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9:34:41Z</dcterms:created>
  <dc:creator>zafer</dc:creator>
  <dc:description>Mathematical Proof</dc:description>
  <cp:keywords>Mathematical Proof</cp:keywords>
  <dc:language>en-US</dc:language>
  <cp:lastModifiedBy>RomaK</cp:lastModifiedBy>
  <dcterms:modified xsi:type="dcterms:W3CDTF">2015-09-04T07:43:27Z</dcterms:modified>
  <cp:revision>14</cp:revision>
  <dc:subject>Mathematical Proof</dc:subject>
  <dc:title>Mathematical Proo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1361033</vt:lpwstr>
  </property>
</Properties>
</file>