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DBB0-3EA8-4EE8-A583-B4BE3272C3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CORE 1</a:t>
            </a:r>
            <a:br>
              <a:rPr sz="1200"/>
            </a:b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8E1-38FB-4F4D-933A-611F952F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9FB-8FAE-4289-900C-F99F0B51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48B2-4FD6-4D13-AAA3-6B72B458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2C2-1AEC-4DB9-AA56-388E49AB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9D93-E7C7-4B60-A68B-28C93877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E4C3-2E74-4647-8884-1C6713B8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5437-704F-4C6B-AF80-54699BE4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1F12-F85C-4888-9305-09A22899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1217-3D43-47DF-B3B9-1A2964E6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B4A9-BAD3-4C2A-8DE8-815D21DE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D669-02B6-43AC-8D93-E1A98AAF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6DB-2069-453F-B323-9637FC5B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1855-140A-4CD1-A399-2C1F6444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5D52-6D93-4D8B-A1AD-92FB251B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24AC-2810-4CA6-96E1-63D380EF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8C06-F7DE-46D2-A3A8-B59612B4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38DC-84B1-4171-B3D0-90631BF6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F7006-7008-4FC7-AB0B-874B07D3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3FD82-C8D2-4436-B31D-AA328989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32142-FD7F-4EF6-AAA4-9D038C7D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A4E6-1D7A-4912-90D6-C7215018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914A-CAD2-4577-8600-917C626F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876-B11C-4C40-9E91-AA083825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7543-BEF8-407F-B63B-D9FD1D1C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CB2F-6EA1-4A6A-AE2F-4F51D66D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FEF5-27F4-4EB3-9A8D-12E64022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1554-7B5A-462B-86E1-12B2FDB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8F24-FF2D-4C1B-9B29-ED3D3E83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4FE0-B84D-4115-85C3-371EBD9B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08FF-5806-4330-9B10-1BA719FD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20A-114E-49EB-9123-5CAA0646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C22-B385-4C25-8D6D-8362C275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F83-A813-41EF-88CD-AF779796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806-6FB4-4AE3-AA20-69913DA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522-9D15-4F2C-8252-ACBA5845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393-7881-4795-90C4-2CBF5F4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A3C9-FD76-48F9-8A1B-9D9801C13B3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945C-8057-45FB-9DEC-1CF75E39494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2B01-273F-4AE8-B0B1-A306C05D4AFD}" type="slidenum"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42847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ecff"/>
                </a:solidFill>
                <a:latin typeface="Castellar"/>
              </a:rPr>
              <a:t>CORE 1</a:t>
            </a:r>
            <a:br>
              <a:rPr sz="6000"/>
            </a:br>
            <a:r>
              <a:rPr b="1" lang="en-GB" sz="4400" spc="-1" strike="noStrike">
                <a:solidFill>
                  <a:srgbClr val="ccecff"/>
                </a:solidFill>
                <a:latin typeface="Castellar"/>
              </a:rPr>
              <a:t>proof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7640" y="184464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314136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Prove that sum of an even number and an odd number is always od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5120" y="2060280"/>
            <a:ext cx="67816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Let 2n be any even number, where n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m + 1 be any odd number, where m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n + 2m + 1 = 2(n+m)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is ev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is od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= 2n + 2m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the sum of an even number and an odd number is always od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4" descr="implies"/>
          <p:cNvPicPr/>
          <p:nvPr/>
        </p:nvPicPr>
        <p:blipFill>
          <a:blip r:embed="rId1"/>
          <a:stretch/>
        </p:blipFill>
        <p:spPr>
          <a:xfrm>
            <a:off x="2340000" y="364500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implies"/>
          <p:cNvPicPr/>
          <p:nvPr/>
        </p:nvPicPr>
        <p:blipFill>
          <a:blip r:embed="rId2"/>
          <a:stretch/>
        </p:blipFill>
        <p:spPr>
          <a:xfrm>
            <a:off x="2340000" y="400536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plies"/>
          <p:cNvPicPr/>
          <p:nvPr/>
        </p:nvPicPr>
        <p:blipFill>
          <a:blip r:embed="rId3"/>
          <a:stretch/>
        </p:blipFill>
        <p:spPr>
          <a:xfrm>
            <a:off x="234000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plies"/>
          <p:cNvPicPr/>
          <p:nvPr/>
        </p:nvPicPr>
        <p:blipFill>
          <a:blip r:embed="rId4"/>
          <a:stretch/>
        </p:blipFill>
        <p:spPr>
          <a:xfrm>
            <a:off x="234000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What is Mathematical Proof?</a:t>
            </a:r>
            <a:endParaRPr b="0" lang="en-US" sz="36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35280" y="3070080"/>
            <a:ext cx="6781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8dc6ff"/>
                </a:solidFill>
                <a:latin typeface="Comic Sans MS"/>
              </a:rPr>
              <a:t>The process of starting with an assumption, or a statement which is given, and, by using logical argument, arriving at a con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Comic Sans MS"/>
              </a:rPr>
              <a:t>Mathematical Proof</a:t>
            </a:r>
            <a:endParaRPr b="0" lang="en-US" sz="5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280" y="2819160"/>
            <a:ext cx="748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Prove that …’ or ‘Given …, prove …’ or ‘ Prove …, given …’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Form a logical argu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rt with what is given or standard resul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Deduce each step from previo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ndard results can be used at any sta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360" y="1700280"/>
            <a:ext cx="67089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ATHEMATICAL STATEMENTS</a:t>
            </a:r>
            <a:endParaRPr b="0" lang="en-US" sz="32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19280" y="2819160"/>
            <a:ext cx="5267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ABC is isosce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sin</a:t>
            </a: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θ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The gradient of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x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is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2781000"/>
            <a:ext cx="7705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Use to express the relationship between state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does not impl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implies and 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1700280"/>
            <a:ext cx="6708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Implication Sign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39" name="Picture 6" descr="implies"/>
          <p:cNvPicPr/>
          <p:nvPr/>
        </p:nvPicPr>
        <p:blipFill>
          <a:blip r:embed="rId1"/>
          <a:stretch/>
        </p:blipFill>
        <p:spPr>
          <a:xfrm>
            <a:off x="3276720" y="33577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plies"/>
          <p:cNvPicPr/>
          <p:nvPr/>
        </p:nvPicPr>
        <p:blipFill>
          <a:blip r:embed="rId2"/>
          <a:stretch/>
        </p:blipFill>
        <p:spPr>
          <a:xfrm>
            <a:off x="3276720" y="3813120"/>
            <a:ext cx="382320" cy="19224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 flipV="1">
            <a:off x="3276720" y="371592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Picture 11" descr="implies"/>
          <p:cNvPicPr/>
          <p:nvPr/>
        </p:nvPicPr>
        <p:blipFill>
          <a:blip r:embed="rId3"/>
          <a:stretch/>
        </p:blipFill>
        <p:spPr>
          <a:xfrm>
            <a:off x="3252960" y="42451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ff"/>
          <p:cNvPicPr/>
          <p:nvPr/>
        </p:nvPicPr>
        <p:blipFill>
          <a:blip r:embed="rId4"/>
          <a:stretch/>
        </p:blipFill>
        <p:spPr>
          <a:xfrm>
            <a:off x="3276720" y="4653000"/>
            <a:ext cx="3585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Prove that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</a:rPr>
              <a:t>AB = A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‗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B = _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 = AC 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 flipV="1">
            <a:off x="197964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70036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8" name="Picture 6" descr="implies"/>
          <p:cNvPicPr/>
          <p:nvPr/>
        </p:nvPicPr>
        <p:blipFill>
          <a:blip r:embed="rId1"/>
          <a:stretch/>
        </p:blipFill>
        <p:spPr>
          <a:xfrm>
            <a:off x="3348000" y="4724280"/>
            <a:ext cx="382680" cy="192240"/>
          </a:xfrm>
          <a:prstGeom prst="rect">
            <a:avLst/>
          </a:prstGeom>
          <a:ln w="0">
            <a:noFill/>
          </a:ln>
        </p:spPr>
      </p:pic>
      <p:sp>
        <p:nvSpPr>
          <p:cNvPr id="149" name="Line 7"/>
          <p:cNvSpPr/>
          <p:nvPr/>
        </p:nvSpPr>
        <p:spPr>
          <a:xfrm flipH="1">
            <a:off x="6587640" y="2276640"/>
            <a:ext cx="576360" cy="792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7164360" y="2276640"/>
            <a:ext cx="432000" cy="863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6587640" y="3068640"/>
            <a:ext cx="100836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6732720" y="2637000"/>
            <a:ext cx="144360" cy="1425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7308720" y="2637000"/>
            <a:ext cx="21600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021440" y="198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302160" y="292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526160" y="299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63280" y="2819160"/>
            <a:ext cx="72010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Link the statements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and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using implication sig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(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could be 0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Eithe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o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9" name="Picture 6" descr="implies"/>
          <p:cNvPicPr/>
          <p:nvPr/>
        </p:nvPicPr>
        <p:blipFill>
          <a:blip r:embed="rId1"/>
          <a:stretch/>
        </p:blipFill>
        <p:spPr>
          <a:xfrm>
            <a:off x="2843280" y="3645000"/>
            <a:ext cx="382680" cy="1918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 flipV="1">
            <a:off x="2844720" y="429228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1" name="Picture 8" descr="implies"/>
          <p:cNvPicPr/>
          <p:nvPr/>
        </p:nvPicPr>
        <p:blipFill>
          <a:blip r:embed="rId2"/>
          <a:stretch/>
        </p:blipFill>
        <p:spPr>
          <a:xfrm>
            <a:off x="284328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mplies"/>
          <p:cNvPicPr/>
          <p:nvPr/>
        </p:nvPicPr>
        <p:blipFill>
          <a:blip r:embed="rId3"/>
          <a:stretch/>
        </p:blipFill>
        <p:spPr>
          <a:xfrm>
            <a:off x="282096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7057800" cy="41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709128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635280" y="36496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627280" y="2135160"/>
            <a:ext cx="3745080" cy="5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plies"/>
          <p:cNvPicPr/>
          <p:nvPr/>
        </p:nvPicPr>
        <p:blipFill>
          <a:blip r:embed="rId4"/>
          <a:stretch/>
        </p:blipFill>
        <p:spPr>
          <a:xfrm>
            <a:off x="4500720" y="299736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148360" y="2865600"/>
            <a:ext cx="3384360" cy="49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6"/>
          <a:stretch/>
        </p:blipFill>
        <p:spPr>
          <a:xfrm>
            <a:off x="3348000" y="3544920"/>
            <a:ext cx="1009800" cy="460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mplies"/>
          <p:cNvPicPr/>
          <p:nvPr/>
        </p:nvPicPr>
        <p:blipFill>
          <a:blip r:embed="rId7"/>
          <a:stretch/>
        </p:blipFill>
        <p:spPr>
          <a:xfrm>
            <a:off x="2771640" y="371628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34:41Z</dcterms:created>
  <dc:creator>zafer</dc:creator>
  <dc:description>Mathematical Proof</dc:description>
  <cp:keywords>Mathematical Proof</cp:keywords>
  <dc:language>en-US</dc:language>
  <cp:lastModifiedBy>RomaK</cp:lastModifiedBy>
  <dcterms:modified xsi:type="dcterms:W3CDTF">2015-09-04T07:43:27Z</dcterms:modified>
  <cp:revision>14</cp:revision>
  <dc:subject>Mathematical Proof</dc:subject>
  <dc:title>Mathematical Pro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61033</vt:lpwstr>
  </property>
</Properties>
</file>