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9204-0C49-4997-9784-08CA068CD0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CORE 1</a:t>
            </a:r>
            <a:br>
              <a:rPr sz="1200"/>
            </a:b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1C7-4764-412C-B184-B18EF3EF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6A5-DF53-459F-AAF0-18BA02BF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E4E-8B66-4E1C-AF2A-7C05F365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AC1-5922-491C-9F8F-9C131596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9AF6-0A7C-4576-A50E-ED6DA95D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5312-9775-4180-A1AA-CE16D173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2582-21A2-47E5-8821-21C44B68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3685-DCDA-42E9-AEA6-8C124586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7BD8-3B98-4AF8-B4BD-3D9A7B0E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223E-6BAE-43A1-BA76-78CB997E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1430-AB66-491C-B53C-B947CD42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5A2-DAE0-4388-A82B-25B40397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7AC5-2765-4600-AA4F-B991268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1D6C-28B0-4627-9503-476A8895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3552-7E39-4AFC-95EF-07E28BCD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26EB-EB09-46EA-A8A8-EC4C79EA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A1E0-3934-4E01-BB3F-F3F7948E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49CB-F3E1-4804-9F4F-73A568A5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9A0D-F1F7-44DF-A0E8-5D326D89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4C0C-25C7-4CF6-BC4B-C55F18BD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0631E-5DE2-44D7-AE54-312A2349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600B-F9D6-4571-94B2-6110578E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E99-AFB4-4E97-A098-4DF9CED1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42CB-5FD9-447F-9E99-4DFDE52A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B7A87-41EE-439E-A6E6-37B86E69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BA2A-A99A-4407-BE5A-1AD3791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3766C-42E7-42EF-AACF-6DE1EBBC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8198-6DB7-42AB-A639-E5B24C51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063A6-EB64-407B-B371-00CBDAFF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3991-E5CB-499C-8212-8DE60EC9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75A-71C2-46D7-BA85-72568C5E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1A7-D384-4160-AC06-C9DA7B40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55E-9093-481A-81F2-7DD86ACF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B9E-4A1D-4D8D-A23A-8A7F33F4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65F-28D4-4E4B-A1A3-CD977490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D97-E10E-41FB-B294-A6FF59FF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459F-BF8D-479B-A2E7-64AA4D460D9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7520-6312-406E-9FAF-FF0E0598A9F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A2E3-FAF3-4F77-8F9A-1FEBE2AAE64A}" type="slidenum"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42847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ecff"/>
                </a:solidFill>
                <a:latin typeface="Castellar"/>
              </a:rPr>
              <a:t>CORE 1</a:t>
            </a:r>
            <a:br>
              <a:rPr sz="6000"/>
            </a:br>
            <a:r>
              <a:rPr b="1" lang="en-GB" sz="4400" spc="-1" strike="noStrike">
                <a:solidFill>
                  <a:srgbClr val="ccecff"/>
                </a:solidFill>
                <a:latin typeface="Castellar"/>
              </a:rPr>
              <a:t>proof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7640" y="184464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314136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Prove that sum of an even number and an odd number is always od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5120" y="2060280"/>
            <a:ext cx="67816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Let 2n be any even number, where n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m + 1 be any odd number, where m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n + 2m + 1 = 2(n+m)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is ev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is od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= 2n + 2m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the sum of an even number and an odd number is always od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" name="Picture 4" descr="implies"/>
          <p:cNvPicPr/>
          <p:nvPr/>
        </p:nvPicPr>
        <p:blipFill>
          <a:blip r:embed="rId1"/>
          <a:stretch/>
        </p:blipFill>
        <p:spPr>
          <a:xfrm>
            <a:off x="2340000" y="364500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implies"/>
          <p:cNvPicPr/>
          <p:nvPr/>
        </p:nvPicPr>
        <p:blipFill>
          <a:blip r:embed="rId2"/>
          <a:stretch/>
        </p:blipFill>
        <p:spPr>
          <a:xfrm>
            <a:off x="2340000" y="400536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plies"/>
          <p:cNvPicPr/>
          <p:nvPr/>
        </p:nvPicPr>
        <p:blipFill>
          <a:blip r:embed="rId3"/>
          <a:stretch/>
        </p:blipFill>
        <p:spPr>
          <a:xfrm>
            <a:off x="234000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plies"/>
          <p:cNvPicPr/>
          <p:nvPr/>
        </p:nvPicPr>
        <p:blipFill>
          <a:blip r:embed="rId4"/>
          <a:stretch/>
        </p:blipFill>
        <p:spPr>
          <a:xfrm>
            <a:off x="234000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What is Mathematical Proof?</a:t>
            </a:r>
            <a:endParaRPr b="0" lang="en-US" sz="36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35280" y="3070080"/>
            <a:ext cx="6781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8dc6ff"/>
                </a:solidFill>
                <a:latin typeface="Comic Sans MS"/>
              </a:rPr>
              <a:t>The process of starting with an assumption, or a statement which is given, and, by using logical argument, arriving at a conclu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Comic Sans MS"/>
              </a:rPr>
              <a:t>Mathematical Proof</a:t>
            </a:r>
            <a:endParaRPr b="0" lang="en-US" sz="5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280" y="2819160"/>
            <a:ext cx="74883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Prove that …’ or ‘Given …, prove …’ or ‘ Prove …, given …’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Form a logical argu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rt with what is given or standard resul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Deduce each step from previou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ndard results can be used at any stag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68360" y="1700280"/>
            <a:ext cx="67089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ATHEMATICAL STATEMENTS</a:t>
            </a:r>
            <a:endParaRPr b="0" lang="en-US" sz="32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19280" y="2819160"/>
            <a:ext cx="5267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ABC is isosce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sin</a:t>
            </a: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θ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¾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The gradient of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x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is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2781000"/>
            <a:ext cx="7705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Use to express the relationship between statem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does not impl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implies and 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1700280"/>
            <a:ext cx="6708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Implication Sign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39" name="Picture 6" descr="implies"/>
          <p:cNvPicPr/>
          <p:nvPr/>
        </p:nvPicPr>
        <p:blipFill>
          <a:blip r:embed="rId1"/>
          <a:stretch/>
        </p:blipFill>
        <p:spPr>
          <a:xfrm>
            <a:off x="3276720" y="33577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implies"/>
          <p:cNvPicPr/>
          <p:nvPr/>
        </p:nvPicPr>
        <p:blipFill>
          <a:blip r:embed="rId2"/>
          <a:stretch/>
        </p:blipFill>
        <p:spPr>
          <a:xfrm>
            <a:off x="3276720" y="3813120"/>
            <a:ext cx="382320" cy="19224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 flipV="1">
            <a:off x="3276720" y="371592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Picture 11" descr="implies"/>
          <p:cNvPicPr/>
          <p:nvPr/>
        </p:nvPicPr>
        <p:blipFill>
          <a:blip r:embed="rId3"/>
          <a:stretch/>
        </p:blipFill>
        <p:spPr>
          <a:xfrm>
            <a:off x="3252960" y="42451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ff"/>
          <p:cNvPicPr/>
          <p:nvPr/>
        </p:nvPicPr>
        <p:blipFill>
          <a:blip r:embed="rId4"/>
          <a:stretch/>
        </p:blipFill>
        <p:spPr>
          <a:xfrm>
            <a:off x="3276720" y="4653000"/>
            <a:ext cx="3585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Prove that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</a:rPr>
              <a:t>AB = A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‗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B = _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 = AC 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 flipV="1">
            <a:off x="197964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270036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8" name="Picture 6" descr="implies"/>
          <p:cNvPicPr/>
          <p:nvPr/>
        </p:nvPicPr>
        <p:blipFill>
          <a:blip r:embed="rId1"/>
          <a:stretch/>
        </p:blipFill>
        <p:spPr>
          <a:xfrm>
            <a:off x="3348000" y="4724280"/>
            <a:ext cx="382680" cy="192240"/>
          </a:xfrm>
          <a:prstGeom prst="rect">
            <a:avLst/>
          </a:prstGeom>
          <a:ln w="0">
            <a:noFill/>
          </a:ln>
        </p:spPr>
      </p:pic>
      <p:sp>
        <p:nvSpPr>
          <p:cNvPr id="149" name="Line 7"/>
          <p:cNvSpPr/>
          <p:nvPr/>
        </p:nvSpPr>
        <p:spPr>
          <a:xfrm flipH="1">
            <a:off x="6587640" y="2276640"/>
            <a:ext cx="576360" cy="792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7164360" y="2276640"/>
            <a:ext cx="432000" cy="863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H="1" flipV="1">
            <a:off x="6587640" y="3068640"/>
            <a:ext cx="100836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6732720" y="2637000"/>
            <a:ext cx="144360" cy="1425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7308720" y="2637000"/>
            <a:ext cx="21600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021440" y="198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302160" y="292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526160" y="2997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63280" y="2819160"/>
            <a:ext cx="72010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Link the statements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and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using implication sign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(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could be 0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Eithe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o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9" name="Picture 6" descr="implies"/>
          <p:cNvPicPr/>
          <p:nvPr/>
        </p:nvPicPr>
        <p:blipFill>
          <a:blip r:embed="rId1"/>
          <a:stretch/>
        </p:blipFill>
        <p:spPr>
          <a:xfrm>
            <a:off x="2843280" y="3645000"/>
            <a:ext cx="382680" cy="191880"/>
          </a:xfrm>
          <a:prstGeom prst="rect">
            <a:avLst/>
          </a:prstGeom>
          <a:ln w="0">
            <a:noFill/>
          </a:ln>
        </p:spPr>
      </p:pic>
      <p:sp>
        <p:nvSpPr>
          <p:cNvPr id="160" name="Line 7"/>
          <p:cNvSpPr/>
          <p:nvPr/>
        </p:nvSpPr>
        <p:spPr>
          <a:xfrm flipV="1">
            <a:off x="2844720" y="429228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1" name="Picture 8" descr="implies"/>
          <p:cNvPicPr/>
          <p:nvPr/>
        </p:nvPicPr>
        <p:blipFill>
          <a:blip r:embed="rId2"/>
          <a:stretch/>
        </p:blipFill>
        <p:spPr>
          <a:xfrm>
            <a:off x="284328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mplies"/>
          <p:cNvPicPr/>
          <p:nvPr/>
        </p:nvPicPr>
        <p:blipFill>
          <a:blip r:embed="rId3"/>
          <a:stretch/>
        </p:blipFill>
        <p:spPr>
          <a:xfrm>
            <a:off x="282096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22050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7057800" cy="41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709128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"/>
          <p:cNvPicPr/>
          <p:nvPr/>
        </p:nvPicPr>
        <p:blipFill>
          <a:blip r:embed="rId1"/>
          <a:stretch/>
        </p:blipFill>
        <p:spPr>
          <a:xfrm>
            <a:off x="3635280" y="36496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627280" y="2135160"/>
            <a:ext cx="3745080" cy="573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mplies"/>
          <p:cNvPicPr/>
          <p:nvPr/>
        </p:nvPicPr>
        <p:blipFill>
          <a:blip r:embed="rId4"/>
          <a:stretch/>
        </p:blipFill>
        <p:spPr>
          <a:xfrm>
            <a:off x="4500720" y="299736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5148360" y="2865600"/>
            <a:ext cx="3384360" cy="49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6"/>
          <a:stretch/>
        </p:blipFill>
        <p:spPr>
          <a:xfrm>
            <a:off x="3348000" y="3544920"/>
            <a:ext cx="1009800" cy="460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mplies"/>
          <p:cNvPicPr/>
          <p:nvPr/>
        </p:nvPicPr>
        <p:blipFill>
          <a:blip r:embed="rId7"/>
          <a:stretch/>
        </p:blipFill>
        <p:spPr>
          <a:xfrm>
            <a:off x="2771640" y="371628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34:41Z</dcterms:created>
  <dc:creator>zafer</dc:creator>
  <dc:description>Mathematical Proof</dc:description>
  <cp:keywords>Mathematical Proof</cp:keywords>
  <dc:language>en-US</dc:language>
  <cp:lastModifiedBy>RomaK</cp:lastModifiedBy>
  <dcterms:modified xsi:type="dcterms:W3CDTF">2015-09-04T07:43:27Z</dcterms:modified>
  <cp:revision>14</cp:revision>
  <dc:subject>Mathematical Proof</dc:subject>
  <dc:title>Mathematical Pro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361033</vt:lpwstr>
  </property>
</Properties>
</file>