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9B9FA-FD18-4CAE-8EB5-084AE0E03F9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f5f5f"/>
                </a:solidFill>
                <a:latin typeface="Arial"/>
              </a:rPr>
              <a:t>CORE 1</a:t>
            </a:r>
            <a:br>
              <a:rPr sz="1200"/>
            </a:br>
            <a:r>
              <a:rPr b="0" lang="en-GB" sz="1200" spc="-1" strike="noStrike">
                <a:solidFill>
                  <a:srgbClr val="5f5f5f"/>
                </a:solidFill>
                <a:latin typeface="Arial"/>
              </a:rPr>
              <a:t>proof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Prove that sum of an even number and an odd number is always odd.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e that sum of an even number and an odd number is alway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Let 2n be any even number, where n is an integer.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2m + 1 be any odd number, where m is an integer.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2n + 2m + 1 = 2(n+m) + 1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n+m is an integer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n+m is an integer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2(n+m) is even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2(n+m) + 1 is odd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2(n+m) + 1 = 2n + 2m + 1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the sum of an even number and an odd number is always odd.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2n be any even number, where n is an integ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 + 1 be any odd number, where m is an integ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 + 2m + 1 = 2(n+m)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+m is an inte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+m is an inte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(n+m) is e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(n+m) + 1 is o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(n+m) + 1 = 2n + 2m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m of an even number and an odd number is alway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What is Mathematical Proof?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The process of starting with an assumption, or a statement which is given, and, by using logical argument, arriving at a conclusion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athematical Proof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cess of starting with an assumption, or a statement which is given, and, by using logical argument, arriving at a co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Mathematical Proof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Prove that …’ or ‘Given …, prove …’ or ‘ Prove …, given …’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Form a logical argument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Start with what is given or standard results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Deduce each step from previous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Standard results can be used at any stage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al Pro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e that …’ or ‘Given …, prove …’ or ‘ Prove …, given …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a logical arg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with what is given or standard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duce each step from 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results can be used at any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MATHEMATICAL STATEMENTS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ΔABC is isosceles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sinθ = ¾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The gradient of y=mx+c is m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AL STAT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ΔABC is isosc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θ = 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adient of y=mx+c is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Use to express the relationship between statements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implies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does not imply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is implied by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implies and is implied by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Implication Signs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o express the relationship between stat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not im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implied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ies and is implied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ication Sig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Prove that ΔABC is isosceles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AB = AC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‗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B = _C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AB = AC 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 ΔABC is isosceles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e that ΔABC is isosc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 = 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‗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 = _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 = AC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ΔABC is isosc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Link the statements a = 0 and ab = 0 using implication signs.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a = 0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ab = 0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ab = 0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a = 0 (b could be 0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ab = 0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Either a = 0 or b = 0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he statements a = 0 and ab = 0 using implication sig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 = 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0 (b could be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 = 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ther a = 0 or b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f5f5f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6EB6-C181-4F94-8110-17A814C33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5120" y="454644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BC03-C21E-4179-BF32-AF9383824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8020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547A-AC7D-42DC-B822-75D2BC7F7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9796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116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512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9796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116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79B3-A9C8-4641-8151-80E7106DB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A0A05-07C3-43BC-8071-7FB76590B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F4E01-B92A-44EB-8036-E22D9CCD0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68593-4102-402C-B17E-EC86E6AEC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6E89E-3C5A-4B38-8468-67954035D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C4B47-538B-4F4C-A535-7A39C9640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05120" y="1676520"/>
            <a:ext cx="678168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98B90-781A-4611-80D4-1CBAE74B7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DC28A-EDD2-4FC2-B4FE-570C0CAC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335E-A660-4AB1-940A-F080D898B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8020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109B9-A571-4ABA-AA2B-6DA44D0C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E5CB5-4ACD-4839-8C0E-25242088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05120" y="454644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83AAF-2EE4-40EB-8577-F2B3857F0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8020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22F11-A48D-4AC2-9D9C-233A2568A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9796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116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0512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9796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116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3BE3F-DE88-48F6-9EA7-BFC9D6B06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48FA4-BDC3-4E72-B850-710AB671D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BCE04-FF3E-42E5-8315-6CF9C2B9B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A8B6F-1568-40A5-A3A5-6A71AA9D2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4C26B-FEAE-4F09-AF52-B1759CE41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C6F4F-5576-4910-80A2-18153AEFE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3EFD-87EE-4176-A165-F4634CED7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905120" y="1676520"/>
            <a:ext cx="678168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E72FD-9498-4535-A28A-68F580274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7D817-C45F-4235-8C06-39E9BF40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8020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B10A4-CFB1-40DD-9747-7F970C14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0FA24-DEFC-4DC9-9FB9-65768F87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905120" y="454644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70084-51C9-4AA2-89CC-665ACB4B8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38020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B5516-838C-4AF4-AFDD-1F6112470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19796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49116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90512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19796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49116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6EC06-4531-412F-BA05-A98FE2C3F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7CC5-676F-4110-8089-69419886B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A92A-A984-4A1F-A62E-E42B6DD2C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05120" y="1676520"/>
            <a:ext cx="678168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F620-5258-45DB-86B6-900EDBA6F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73C1-8899-4C0A-AF96-557B0677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8020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B953-3901-44B5-AB3E-2117C200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9467-6037-4E00-8EE5-E3CD0568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61D29-E2AB-4267-A2F7-0446662B7F3E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120" y="1676520"/>
            <a:ext cx="7086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2120" y="2819520"/>
            <a:ext cx="7086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199880" indent="-171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F27B8-AD1D-4541-A2CE-2FFE63649AC3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02898-5F50-442B-80FE-57A62DB0D01E}" type="slidenum">
              <a:rPr b="0" lang="en-GB" sz="1000" spc="-1" strike="noStrike">
                <a:solidFill>
                  <a:srgbClr val="5f5f5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4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859280" y="-360"/>
            <a:ext cx="4284720" cy="24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ccecff"/>
                </a:solidFill>
                <a:latin typeface="Castellar"/>
              </a:rPr>
              <a:t>CORE 1</a:t>
            </a:r>
            <a:br>
              <a:rPr sz="6000"/>
            </a:br>
            <a:r>
              <a:rPr b="1" lang="en-GB" sz="4400" spc="-1" strike="noStrike">
                <a:solidFill>
                  <a:srgbClr val="ccecff"/>
                </a:solidFill>
                <a:latin typeface="Castellar"/>
              </a:rPr>
              <a:t>proof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07640" y="1844640"/>
            <a:ext cx="678204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Comic Sans MS"/>
              </a:rPr>
              <a:t>Example: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07640" y="3141360"/>
            <a:ext cx="678204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99ff"/>
                </a:solidFill>
                <a:latin typeface="Comic Sans MS"/>
              </a:rPr>
              <a:t>Prove that sum of an even number and an odd number is always odd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905120" y="2060280"/>
            <a:ext cx="678168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Let 2n be any even number, where n is an integer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2m + 1 be any odd number, where m is an integer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2n + 2m + 1 = 2(n+m) + 1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n+m is an integer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n+m is an integer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2(n+m) is even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2(n+m) + 1 is odd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2(n+m) + 1 = 2n + 2m + 1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the sum of an even number and an odd number is always odd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76" name="Picture 4" descr="implies"/>
          <p:cNvPicPr/>
          <p:nvPr/>
        </p:nvPicPr>
        <p:blipFill>
          <a:blip r:embed="rId1"/>
          <a:stretch/>
        </p:blipFill>
        <p:spPr>
          <a:xfrm>
            <a:off x="2340000" y="3645000"/>
            <a:ext cx="382680" cy="191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implies"/>
          <p:cNvPicPr/>
          <p:nvPr/>
        </p:nvPicPr>
        <p:blipFill>
          <a:blip r:embed="rId2"/>
          <a:stretch/>
        </p:blipFill>
        <p:spPr>
          <a:xfrm>
            <a:off x="2340000" y="4005360"/>
            <a:ext cx="382680" cy="1918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implies"/>
          <p:cNvPicPr/>
          <p:nvPr/>
        </p:nvPicPr>
        <p:blipFill>
          <a:blip r:embed="rId3"/>
          <a:stretch/>
        </p:blipFill>
        <p:spPr>
          <a:xfrm>
            <a:off x="2340000" y="4365720"/>
            <a:ext cx="382680" cy="1918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7" descr="implies"/>
          <p:cNvPicPr/>
          <p:nvPr/>
        </p:nvPicPr>
        <p:blipFill>
          <a:blip r:embed="rId4"/>
          <a:stretch/>
        </p:blipFill>
        <p:spPr>
          <a:xfrm>
            <a:off x="2340000" y="5084640"/>
            <a:ext cx="382680" cy="1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3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8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3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8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8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8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8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3" dur="50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3" dur="500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Comic Sans MS"/>
              </a:rPr>
              <a:t>What is Mathematical Proof?</a:t>
            </a:r>
            <a:endParaRPr b="0" lang="en-US" sz="36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835280" y="3070080"/>
            <a:ext cx="678168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8dc6ff"/>
                </a:solidFill>
                <a:latin typeface="Comic Sans MS"/>
              </a:rPr>
              <a:t>The process of starting with an assumption, or a statement which is given, and, by using logical argument, arriving at a conclusion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99"/>
                </a:solidFill>
                <a:latin typeface="Comic Sans MS"/>
              </a:rPr>
              <a:t>Mathematical Proof</a:t>
            </a:r>
            <a:endParaRPr b="0" lang="en-US" sz="5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47280" y="2819160"/>
            <a:ext cx="748836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‘</a:t>
            </a: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Prove that …’ or ‘Given …, prove …’ or ‘ Prove …, given …’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Form a logical argument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Start with what is given or standard resul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Deduce each step from previou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Standard results can be used at any stage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68360" y="1700280"/>
            <a:ext cx="670896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Comic Sans MS"/>
              </a:rPr>
              <a:t>MATHEMATICAL STATEMENTS</a:t>
            </a:r>
            <a:endParaRPr b="0" lang="en-US" sz="32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419280" y="2819160"/>
            <a:ext cx="526716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99cc"/>
                </a:solidFill>
                <a:latin typeface="Arial"/>
                <a:ea typeface="Arial"/>
              </a:rPr>
              <a:t>Δ</a:t>
            </a:r>
            <a:r>
              <a:rPr b="0" lang="en-GB" sz="2800" spc="-1" strike="noStrike">
                <a:solidFill>
                  <a:srgbClr val="0099cc"/>
                </a:solidFill>
                <a:latin typeface="Arial"/>
                <a:ea typeface="Arial"/>
              </a:rPr>
              <a:t>ABC is isoscele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rial"/>
                <a:ea typeface="Arial"/>
              </a:rPr>
              <a:t>sin</a:t>
            </a:r>
            <a:r>
              <a:rPr b="0" lang="el-GR" sz="2800" spc="-1" strike="noStrike">
                <a:solidFill>
                  <a:srgbClr val="0099cc"/>
                </a:solidFill>
                <a:latin typeface="Arial"/>
                <a:ea typeface="Arial"/>
              </a:rPr>
              <a:t>θ</a:t>
            </a:r>
            <a:r>
              <a:rPr b="0" lang="en-GB" sz="2800" spc="-1" strike="noStrike">
                <a:solidFill>
                  <a:srgbClr val="0099cc"/>
                </a:solidFill>
                <a:latin typeface="Arial"/>
                <a:ea typeface="Arial"/>
              </a:rPr>
              <a:t> = </a:t>
            </a:r>
            <a:r>
              <a:rPr b="0" lang="en-US" sz="2800" spc="-1" strike="noStrike">
                <a:solidFill>
                  <a:srgbClr val="0099cc"/>
                </a:solidFill>
                <a:latin typeface="Arial"/>
                <a:ea typeface="Arial"/>
              </a:rPr>
              <a:t>¾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  <a:ea typeface="Arial"/>
              </a:rPr>
              <a:t>The gradient of </a:t>
            </a:r>
            <a:r>
              <a:rPr b="0" i="1" lang="en-US" sz="2800" spc="-1" strike="noStrike">
                <a:solidFill>
                  <a:srgbClr val="0099cc"/>
                </a:solidFill>
                <a:latin typeface="Arial"/>
                <a:ea typeface="Arial"/>
              </a:rPr>
              <a:t>y</a:t>
            </a:r>
            <a:r>
              <a:rPr b="0" lang="en-US" sz="2800" spc="-1" strike="noStrike">
                <a:solidFill>
                  <a:srgbClr val="0099cc"/>
                </a:solidFill>
                <a:latin typeface="Arial"/>
                <a:ea typeface="Arial"/>
              </a:rPr>
              <a:t>=</a:t>
            </a:r>
            <a:r>
              <a:rPr b="0" i="1" lang="en-US" sz="2800" spc="-1" strike="noStrike">
                <a:solidFill>
                  <a:srgbClr val="0099cc"/>
                </a:solidFill>
                <a:latin typeface="Arial"/>
                <a:ea typeface="Arial"/>
              </a:rPr>
              <a:t>mx</a:t>
            </a:r>
            <a:r>
              <a:rPr b="0" lang="en-US" sz="2800" spc="-1" strike="noStrike">
                <a:solidFill>
                  <a:srgbClr val="0099cc"/>
                </a:solidFill>
                <a:latin typeface="Arial"/>
                <a:ea typeface="Arial"/>
              </a:rPr>
              <a:t>+</a:t>
            </a:r>
            <a:r>
              <a:rPr b="0" i="1" lang="en-US" sz="2800" spc="-1" strike="noStrike">
                <a:solidFill>
                  <a:srgbClr val="0099cc"/>
                </a:solidFill>
                <a:latin typeface="Arial"/>
                <a:ea typeface="Arial"/>
              </a:rPr>
              <a:t>c</a:t>
            </a:r>
            <a:r>
              <a:rPr b="0" lang="en-US" sz="2800" spc="-1" strike="noStrike">
                <a:solidFill>
                  <a:srgbClr val="0099cc"/>
                </a:solidFill>
                <a:latin typeface="Arial"/>
                <a:ea typeface="Arial"/>
              </a:rPr>
              <a:t> is </a:t>
            </a:r>
            <a:r>
              <a:rPr b="0" i="1" lang="en-US" sz="2800" spc="-1" strike="noStrike">
                <a:solidFill>
                  <a:srgbClr val="0099cc"/>
                </a:solidFill>
                <a:latin typeface="Arial"/>
                <a:ea typeface="Arial"/>
              </a:rPr>
              <a:t>m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258560" y="2781000"/>
            <a:ext cx="77058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Use to express the relationship between statement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implie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does not imply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is implied by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ff"/>
                </a:solidFill>
                <a:latin typeface="Comic Sans MS"/>
              </a:rPr>
              <a:t>implies and is implied by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1331640" y="1700280"/>
            <a:ext cx="6708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ff"/>
                </a:solidFill>
                <a:latin typeface="Comic Sans MS"/>
              </a:rPr>
              <a:t>Implication Signs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pic>
        <p:nvPicPr>
          <p:cNvPr id="139" name="Picture 6" descr="implies"/>
          <p:cNvPicPr/>
          <p:nvPr/>
        </p:nvPicPr>
        <p:blipFill>
          <a:blip r:embed="rId1"/>
          <a:stretch/>
        </p:blipFill>
        <p:spPr>
          <a:xfrm>
            <a:off x="3276720" y="3357720"/>
            <a:ext cx="382320" cy="1918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implies"/>
          <p:cNvPicPr/>
          <p:nvPr/>
        </p:nvPicPr>
        <p:blipFill>
          <a:blip r:embed="rId2"/>
          <a:stretch/>
        </p:blipFill>
        <p:spPr>
          <a:xfrm>
            <a:off x="3276720" y="3813120"/>
            <a:ext cx="382320" cy="192240"/>
          </a:xfrm>
          <a:prstGeom prst="rect">
            <a:avLst/>
          </a:prstGeom>
          <a:ln w="0">
            <a:noFill/>
          </a:ln>
        </p:spPr>
      </p:pic>
      <p:sp>
        <p:nvSpPr>
          <p:cNvPr id="141" name="Line 10"/>
          <p:cNvSpPr/>
          <p:nvPr/>
        </p:nvSpPr>
        <p:spPr>
          <a:xfrm flipV="1">
            <a:off x="3276720" y="3715920"/>
            <a:ext cx="287280" cy="360360"/>
          </a:xfrm>
          <a:prstGeom prst="line">
            <a:avLst/>
          </a:prstGeom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42" name="Picture 11" descr="implies"/>
          <p:cNvPicPr/>
          <p:nvPr/>
        </p:nvPicPr>
        <p:blipFill>
          <a:blip r:embed="rId3"/>
          <a:stretch/>
        </p:blipFill>
        <p:spPr>
          <a:xfrm>
            <a:off x="3252960" y="4245120"/>
            <a:ext cx="382320" cy="191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3" descr="iff"/>
          <p:cNvPicPr/>
          <p:nvPr/>
        </p:nvPicPr>
        <p:blipFill>
          <a:blip r:embed="rId4"/>
          <a:stretch/>
        </p:blipFill>
        <p:spPr>
          <a:xfrm>
            <a:off x="3276720" y="4653000"/>
            <a:ext cx="358560" cy="1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Comic Sans MS"/>
              </a:rPr>
              <a:t>Example: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Arial"/>
                <a:ea typeface="Arial"/>
              </a:rPr>
              <a:t>Prove that </a:t>
            </a:r>
            <a:r>
              <a:rPr b="0" lang="el-GR" sz="2400" spc="-1" strike="noStrike">
                <a:solidFill>
                  <a:srgbClr val="0099ff"/>
                </a:solidFill>
                <a:latin typeface="Arial"/>
                <a:ea typeface="Arial"/>
              </a:rPr>
              <a:t>Δ</a:t>
            </a:r>
            <a:r>
              <a:rPr b="0" lang="en-GB" sz="2400" spc="-1" strike="noStrike">
                <a:solidFill>
                  <a:srgbClr val="0099ff"/>
                </a:solidFill>
                <a:latin typeface="Arial"/>
                <a:ea typeface="Arial"/>
              </a:rPr>
              <a:t>ABC is isoscele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Arial"/>
              </a:rPr>
              <a:t>AB = AC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Arial"/>
                <a:ea typeface="Arial"/>
              </a:rPr>
              <a:t>‗</a:t>
            </a:r>
            <a:r>
              <a:rPr b="0" lang="en-GB" sz="2400" spc="-1" strike="noStrike">
                <a:solidFill>
                  <a:srgbClr val="0099ff"/>
                </a:solidFill>
                <a:latin typeface="Arial"/>
                <a:ea typeface="Arial"/>
              </a:rPr>
              <a:t>B = _C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Arial"/>
                <a:ea typeface="Arial"/>
              </a:rPr>
              <a:t>AB = AC </a:t>
            </a:r>
            <a:r>
              <a:rPr b="0" lang="en-GB" sz="24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Arial"/>
                <a:ea typeface="Arial"/>
              </a:rPr>
              <a:t> </a:t>
            </a:r>
            <a:r>
              <a:rPr b="0" lang="el-GR" sz="2400" spc="-1" strike="noStrike">
                <a:solidFill>
                  <a:srgbClr val="0099ff"/>
                </a:solidFill>
                <a:latin typeface="Arial"/>
                <a:ea typeface="Arial"/>
              </a:rPr>
              <a:t>Δ</a:t>
            </a:r>
            <a:r>
              <a:rPr b="0" lang="en-GB" sz="2400" spc="-1" strike="noStrike">
                <a:solidFill>
                  <a:srgbClr val="0099ff"/>
                </a:solidFill>
                <a:latin typeface="Arial"/>
                <a:ea typeface="Arial"/>
              </a:rPr>
              <a:t>ABC is isoscele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" name="Line 4"/>
          <p:cNvSpPr/>
          <p:nvPr/>
        </p:nvSpPr>
        <p:spPr>
          <a:xfrm flipV="1">
            <a:off x="1979640" y="4149360"/>
            <a:ext cx="144360" cy="36036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7" name="Line 5"/>
          <p:cNvSpPr/>
          <p:nvPr/>
        </p:nvSpPr>
        <p:spPr>
          <a:xfrm flipV="1">
            <a:off x="2700360" y="4149360"/>
            <a:ext cx="144360" cy="36036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48" name="Picture 6" descr="implies"/>
          <p:cNvPicPr/>
          <p:nvPr/>
        </p:nvPicPr>
        <p:blipFill>
          <a:blip r:embed="rId1"/>
          <a:stretch/>
        </p:blipFill>
        <p:spPr>
          <a:xfrm>
            <a:off x="3348000" y="4724280"/>
            <a:ext cx="382680" cy="192240"/>
          </a:xfrm>
          <a:prstGeom prst="rect">
            <a:avLst/>
          </a:prstGeom>
          <a:ln w="0">
            <a:noFill/>
          </a:ln>
        </p:spPr>
      </p:pic>
      <p:sp>
        <p:nvSpPr>
          <p:cNvPr id="149" name="Line 7"/>
          <p:cNvSpPr/>
          <p:nvPr/>
        </p:nvSpPr>
        <p:spPr>
          <a:xfrm flipH="1">
            <a:off x="6587640" y="2276640"/>
            <a:ext cx="576360" cy="79200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0" name="Line 8"/>
          <p:cNvSpPr/>
          <p:nvPr/>
        </p:nvSpPr>
        <p:spPr>
          <a:xfrm>
            <a:off x="7164360" y="2276640"/>
            <a:ext cx="432000" cy="86328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1" name="Line 9"/>
          <p:cNvSpPr/>
          <p:nvPr/>
        </p:nvSpPr>
        <p:spPr>
          <a:xfrm flipH="1" flipV="1">
            <a:off x="6587640" y="3068640"/>
            <a:ext cx="1008360" cy="7128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2" name="Line 10"/>
          <p:cNvSpPr/>
          <p:nvPr/>
        </p:nvSpPr>
        <p:spPr>
          <a:xfrm>
            <a:off x="6732720" y="2637000"/>
            <a:ext cx="144360" cy="14256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3" name="Line 11"/>
          <p:cNvSpPr/>
          <p:nvPr/>
        </p:nvSpPr>
        <p:spPr>
          <a:xfrm flipH="1">
            <a:off x="7308720" y="2637000"/>
            <a:ext cx="216000" cy="7128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7021440" y="19890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6302160" y="29242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7526160" y="29973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Comic Sans MS"/>
              </a:rPr>
              <a:t>Example: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63280" y="2819160"/>
            <a:ext cx="72010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Link the statements </a:t>
            </a:r>
            <a:r>
              <a:rPr b="0" i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a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 = 0 and </a:t>
            </a:r>
            <a:r>
              <a:rPr b="0" i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ab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 = 0 using implication signs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a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 = 0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0" i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ab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 = 0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ab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 = 0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0" i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a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 = 0 (</a:t>
            </a:r>
            <a:r>
              <a:rPr b="0" i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b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 could be 0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ab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 = 0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Either </a:t>
            </a:r>
            <a:r>
              <a:rPr b="0" i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a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 = 0 or </a:t>
            </a:r>
            <a:r>
              <a:rPr b="0" i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b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 = 0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59" name="Picture 6" descr="implies"/>
          <p:cNvPicPr/>
          <p:nvPr/>
        </p:nvPicPr>
        <p:blipFill>
          <a:blip r:embed="rId1"/>
          <a:stretch/>
        </p:blipFill>
        <p:spPr>
          <a:xfrm>
            <a:off x="2843280" y="3645000"/>
            <a:ext cx="382680" cy="191880"/>
          </a:xfrm>
          <a:prstGeom prst="rect">
            <a:avLst/>
          </a:prstGeom>
          <a:ln w="0">
            <a:noFill/>
          </a:ln>
        </p:spPr>
      </p:pic>
      <p:sp>
        <p:nvSpPr>
          <p:cNvPr id="160" name="Line 7"/>
          <p:cNvSpPr/>
          <p:nvPr/>
        </p:nvSpPr>
        <p:spPr>
          <a:xfrm flipV="1">
            <a:off x="2844720" y="4292280"/>
            <a:ext cx="287280" cy="360360"/>
          </a:xfrm>
          <a:prstGeom prst="line">
            <a:avLst/>
          </a:prstGeom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61" name="Picture 8" descr="implies"/>
          <p:cNvPicPr/>
          <p:nvPr/>
        </p:nvPicPr>
        <p:blipFill>
          <a:blip r:embed="rId2"/>
          <a:stretch/>
        </p:blipFill>
        <p:spPr>
          <a:xfrm>
            <a:off x="2843280" y="4365720"/>
            <a:ext cx="382680" cy="1918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implies"/>
          <p:cNvPicPr/>
          <p:nvPr/>
        </p:nvPicPr>
        <p:blipFill>
          <a:blip r:embed="rId3"/>
          <a:stretch/>
        </p:blipFill>
        <p:spPr>
          <a:xfrm>
            <a:off x="2820960" y="5084640"/>
            <a:ext cx="382680" cy="1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92360" y="220500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Comic Sans MS"/>
              </a:rPr>
              <a:t>Example: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pic>
        <p:nvPicPr>
          <p:cNvPr id="164" name="Picture 9" descr=""/>
          <p:cNvPicPr/>
          <p:nvPr/>
        </p:nvPicPr>
        <p:blipFill>
          <a:blip r:embed="rId1"/>
          <a:stretch/>
        </p:blipFill>
        <p:spPr>
          <a:xfrm>
            <a:off x="1692360" y="3284640"/>
            <a:ext cx="7057800" cy="4125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0" descr=""/>
          <p:cNvPicPr/>
          <p:nvPr/>
        </p:nvPicPr>
        <p:blipFill>
          <a:blip r:embed="rId2"/>
          <a:stretch/>
        </p:blipFill>
        <p:spPr>
          <a:xfrm>
            <a:off x="1692360" y="4005360"/>
            <a:ext cx="7091280" cy="80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17" descr=""/>
          <p:cNvPicPr/>
          <p:nvPr/>
        </p:nvPicPr>
        <p:blipFill>
          <a:blip r:embed="rId1"/>
          <a:stretch/>
        </p:blipFill>
        <p:spPr>
          <a:xfrm>
            <a:off x="3635280" y="3649680"/>
            <a:ext cx="1657440" cy="4269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"/>
          <p:cNvPicPr/>
          <p:nvPr/>
        </p:nvPicPr>
        <p:blipFill>
          <a:blip r:embed="rId2"/>
          <a:stretch/>
        </p:blipFill>
        <p:spPr>
          <a:xfrm>
            <a:off x="2627280" y="2135160"/>
            <a:ext cx="3745080" cy="573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"/>
          <p:cNvPicPr/>
          <p:nvPr/>
        </p:nvPicPr>
        <p:blipFill>
          <a:blip r:embed="rId3"/>
          <a:stretch/>
        </p:blipFill>
        <p:spPr>
          <a:xfrm>
            <a:off x="2627280" y="2924280"/>
            <a:ext cx="1657440" cy="4269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implies"/>
          <p:cNvPicPr/>
          <p:nvPr/>
        </p:nvPicPr>
        <p:blipFill>
          <a:blip r:embed="rId4"/>
          <a:stretch/>
        </p:blipFill>
        <p:spPr>
          <a:xfrm>
            <a:off x="4500720" y="2997360"/>
            <a:ext cx="382320" cy="191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"/>
          <p:cNvPicPr/>
          <p:nvPr/>
        </p:nvPicPr>
        <p:blipFill>
          <a:blip r:embed="rId5"/>
          <a:stretch/>
        </p:blipFill>
        <p:spPr>
          <a:xfrm>
            <a:off x="5148360" y="2865600"/>
            <a:ext cx="3384360" cy="4921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2" descr=""/>
          <p:cNvPicPr/>
          <p:nvPr/>
        </p:nvPicPr>
        <p:blipFill>
          <a:blip r:embed="rId6"/>
          <a:stretch/>
        </p:blipFill>
        <p:spPr>
          <a:xfrm>
            <a:off x="3348000" y="3544920"/>
            <a:ext cx="1009800" cy="4604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3" descr="implies"/>
          <p:cNvPicPr/>
          <p:nvPr/>
        </p:nvPicPr>
        <p:blipFill>
          <a:blip r:embed="rId7"/>
          <a:stretch/>
        </p:blipFill>
        <p:spPr>
          <a:xfrm>
            <a:off x="2771640" y="3716280"/>
            <a:ext cx="382680" cy="1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9T19:34:41Z</dcterms:created>
  <dc:creator>zafer</dc:creator>
  <dc:description>Mathematical Proof</dc:description>
  <cp:keywords>Mathematical Proof</cp:keywords>
  <dc:language>en-US</dc:language>
  <cp:lastModifiedBy>RomaK</cp:lastModifiedBy>
  <dcterms:modified xsi:type="dcterms:W3CDTF">2015-09-04T07:43:27Z</dcterms:modified>
  <cp:revision>14</cp:revision>
  <dc:subject>Mathematical Proof</dc:subject>
  <dc:title>Mathematical Proof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811361033</vt:lpwstr>
  </property>
</Properties>
</file>