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1606-9515-4D46-818F-1DA6D69611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EAC-1E3B-46D3-B200-4DEE26E4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F72-3A7B-4087-B655-1AFB0212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CE2-6769-42CF-9A45-3ED26FD0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1DB-4B78-4DC8-98E6-114C6DAA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2156-1911-44E6-A5FC-F1E40F9A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3A2B-665B-44B5-B087-EC783ECF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32DC-3CC6-41BA-A6BC-293630F9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1093-6E17-44D4-93DD-83C3F41E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40AF-48E0-44C1-83D9-6C17A5E4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E29E-9F6E-4B9F-B116-33488639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4436-81FF-49FD-898A-E39E1577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43C-1FD5-4373-B362-3F7D5C7A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D1C8-8311-4FB5-8500-F2FC15C4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FC6C-3E3A-4D90-9F97-D0887B3B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8483-6BCA-4074-B3D3-EA3858A5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7CA7-953E-4BCC-ABE2-168881AF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E25E-DAC6-46DA-9614-9C8AC750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829-C555-466B-98C5-0E156718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120-6B14-4AF8-9992-1D431EBF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B24-3DDF-4966-B3DA-D9656620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753-A6F1-43C7-9F83-0AD1FA4D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987-D701-46B8-9A1B-E3954333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9BF-6BE1-4090-A13B-64E31450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BE3-C1E3-4982-8094-53E3BB18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84B4-4D13-4AC9-A3FB-A47FBF7F2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EAAE-11B5-4ECC-A615-4771AA0388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43000" y="304920"/>
            <a:ext cx="685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cc"/>
                </a:solidFill>
                <a:latin typeface="Comic Sans MS"/>
              </a:rPr>
              <a:t>Math vocabulary</a:t>
            </a:r>
            <a:endParaRPr b="0" lang="en-US" sz="6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2590920"/>
            <a:ext cx="868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Lessons 6-10 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&amp;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Investigation 1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U.S. Customary System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ystem of measurement used almost exclusively in the United Stat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Perimete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distance around a closed, flat shap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ounting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numbers used to count; the members of the set (1,2,3,4,5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Negativ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less than zer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ber 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1981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Comic Sans MS"/>
              </a:rPr>
              <a:t>A line for representing and graphing numbers. Each point on the line corresponds to a number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Whol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members of the set (0,1,2,3,4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Celsius 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ven Numbe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can be divided by 2 without a remainder; members of the set (-4,-2,0,2,4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Fahrenheit Scale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dd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have a remainder of 1 when divided by 2; members of the set (-3,-1,1,3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Fraction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name parts of a who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display of numbers with an indicator to show the value of a certain meas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quenc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list of numbers arranged according to a certain ru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Ter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 in a sequ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losed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in which the possible responses are limite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Histogra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2362320"/>
            <a:ext cx="8001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A method of displaying a range of data. A histogram is a special type of bar graph that displays data in intervals of equal size with </a:t>
            </a:r>
            <a:r>
              <a:rPr b="1" i="1" lang="en-US" sz="4300" spc="-1" strike="noStrike" u="sng">
                <a:solidFill>
                  <a:srgbClr val="ffffcc"/>
                </a:solidFill>
                <a:uFillTx/>
                <a:latin typeface="Comic Sans MS"/>
              </a:rPr>
              <a:t>no</a:t>
            </a: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 space between them.</a:t>
            </a:r>
            <a:endParaRPr b="0" lang="en-US" sz="4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020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pen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that does not limit the possible respons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urve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method of collecting data about a particular popula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Denomin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bottom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er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top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Endpoints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Points at which segments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traight collection of points extending in opposite directions without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Metric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n international system of measurement based on multiples of t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Ra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that begins at a point and continues without end in one dire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gment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with two distinct endpoin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2:06:29Z</dcterms:created>
  <dc:creator>one1</dc:creator>
  <dc:description/>
  <dc:language>en-US</dc:language>
  <cp:lastModifiedBy>RomaK</cp:lastModifiedBy>
  <dcterms:modified xsi:type="dcterms:W3CDTF">2015-09-04T07:43:19Z</dcterms:modified>
  <cp:revision>4</cp:revision>
  <dc:subject/>
  <dc:title>No Slide Title</dc:title>
</cp:coreProperties>
</file>