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LASER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27904-19F7-4207-BD01-2F7DD81A1C4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th vocabula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ssons 6-10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amp;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vestigation 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s 6-1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stig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.S. Customary Syste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system of measurement used almost exclusively in the United Stat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.S. Customary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ystem of measurement used almost exclusively in the Unit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erimet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distance around a closed, flat shap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tance around a closed, flat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unting Numb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numbers used to count; the members of the set (1,2,3,4,5…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ing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mbers used to count; the members of the set (1,2,3,4,5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gative Numb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umbers less than zero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 less than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umber Lin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line for representing and graphing numbers. Each point on the line corresponds to a numb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ne for representing and graphing numbers. Each point on the line corresponds to a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ole Numb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members of the set (0,1,2,3,4…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mbers of the set (0,1,2,3,4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elsius sca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scale used on some thermometers to measure temperatur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sius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cale used on some thermometers to measure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ven Numb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umbers that can be divided by 2 without a remainder; members of the set (-4,-2,0,2,4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 that can be divided by 2 without a remainder; members of the set (-4,-2,0,2,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ahrenheit Sca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scale used on some thermometers to measure temperatur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hrenheit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cale used on some thermometers to measure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dd Numb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umbers that have a remainder of 1 when divided by 2; members of the set (-3,-1,1,3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d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 that have a remainder of 1 when divided by 2; members of the set (-3,-1,1,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ra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umbers that name parts of a who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 that name parts of a wh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ca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display of numbers with an indicator to show the value of a certain measur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play of numbers with an indicator to show the value of a certain mea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equenc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list of numbers arranged according to a certain ru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st of numbers arranged according to a certain r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er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umber in a sequenc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in a sequ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losed-Option Surve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survey in which the possible responses are limit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d-Option Surv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urvey in which the possible responses are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istogra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method of displaying a range of data. A histogram is a special type of bar graph that displays data in intervals of equal size with no space between them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ethod of displaying a range of data. A histogram is a special type of bar graph that displays data in intervals of equal size with no space between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pen-Option Surve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survey that does not limit the possible respon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n-Option Surv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urvey that does not limit the possible respon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rve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method of collecting data about a particular popul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ethod of collecting data about a particular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nominato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bottom number of a fra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omin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ttom number of a 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umerato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top number of a fra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p number of a 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ndpoin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oints at which segments en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 at which segments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n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straight collection of points extending in opposite directions without en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raight collection of points extending in opposite directions withou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tric Syste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 international system of measurement based on multiples of te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ric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ternational system of measurement based on multiples of 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part of a line that begins at a point and continues without end in one dire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rt of a line that begins at a point and continues without end in one di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egmen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part of a line with two distinct endpoin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rt of a line with two distinct end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DE44-555F-4A16-A72B-9CCA46976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05A1-3139-4D94-BE1B-8A8694ED3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D632-444B-4CCA-99C7-0BF1E491D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5D92-078D-41A7-96B9-1E841A2C4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3AC27-35A5-498D-8DA5-5C88AF44F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BAA2B-C122-4305-9421-95487E4AE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2C5DD-657A-4F64-8398-8A9C13ED5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403C8-B9FF-4FA7-8451-F9F5E2ACB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D0513-5022-4255-9B67-105E5950D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C8F78-C6F3-437A-A804-E37290A1E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01E06-1AEC-4565-AE1D-DE64263D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C722-2CAA-4DD8-92C4-F1A6ED045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C6FFF-A880-4D1C-A7A2-BFE005B2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54519-64D8-49EF-8FBA-CC10A0F0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7B078-14BD-4F76-A075-D5DFBB8E4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47930-A833-4429-A2C1-554F89CF4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31DDC-88BB-4F96-A05C-D16FCFF3B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C861-F21B-424E-9D59-B2F2AE427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83A6-6FA4-48A7-9C79-AE5FE67EA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ED97-180A-4E29-BABB-0DB36FB3E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716F-52D0-48B1-A38F-80E6CEBE1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E55D-ED1A-4752-A915-5EBB3BEF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BE34-F361-42F1-BD06-52FF91A8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CB37-5847-4A1D-8055-728DFFD4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ffcc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 algn="ctr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 algn="ctr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808DF-A786-41EB-99E2-6EBF6B262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ffcc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 algn="ctr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 algn="ctr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17DBF-FB0B-4961-BB0C-0B9D26BE410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3"/>
          <p:cNvSpPr/>
          <p:nvPr/>
        </p:nvSpPr>
        <p:spPr>
          <a:xfrm>
            <a:off x="1143000" y="304920"/>
            <a:ext cx="6858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ffffcc"/>
                </a:solidFill>
                <a:latin typeface="Comic Sans MS"/>
              </a:rPr>
              <a:t>Math vocabulary</a:t>
            </a:r>
            <a:endParaRPr b="0" lang="en-US" sz="6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228600" y="2590920"/>
            <a:ext cx="868680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Lessons 6-10 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&amp;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Investigation 1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1676520" y="0"/>
            <a:ext cx="58672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U.S. Customary System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762120" y="236232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system of measurement used almost exclusively in the United State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Perimeter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762120" y="236232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The distance around a closed, flat shape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676520" y="533520"/>
            <a:ext cx="58672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Counting Numbers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762120" y="2362320"/>
            <a:ext cx="754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The numbers used to count; the members of the set (1,2,3,4,5…)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676520" y="533520"/>
            <a:ext cx="58672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Negative Numbers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762120" y="236232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Numbers less than zero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1676520" y="533520"/>
            <a:ext cx="58672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Number Line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762120" y="1981080"/>
            <a:ext cx="754380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cc"/>
                </a:solidFill>
                <a:latin typeface="Comic Sans MS"/>
              </a:rPr>
              <a:t>A line for representing and graphing numbers. Each point on the line corresponds to a number</a:t>
            </a:r>
            <a:endParaRPr b="0" lang="en-US" sz="5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676520" y="533520"/>
            <a:ext cx="5867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Whole Numbers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762120" y="236232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The members of the set (0,1,2,3,4…)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Celsius scale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762120" y="236232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scale used on some thermometers to measure temperature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1676520" y="533520"/>
            <a:ext cx="586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Comic Sans MS"/>
              </a:rPr>
              <a:t>Even Numbers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762120" y="2362320"/>
            <a:ext cx="7543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Numbers that can be divided by 2 without a remainder; members of the set (-4,-2,0,2,4)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1676520" y="533520"/>
            <a:ext cx="5867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Fahrenheit Scale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762120" y="236232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scale used on some thermometers to measure temperature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1676520" y="533520"/>
            <a:ext cx="5867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Odd Numbers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762120" y="2362320"/>
            <a:ext cx="7543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Numbers that have a remainder of 1 when divided by 2; members of the set (-3,-1,1,3)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3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Fraction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762120" y="236232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Numbers that name parts of a whole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Scale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762120" y="236232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display of numbers with an indicator to show the value of a certain measure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Sequence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762120" y="2362320"/>
            <a:ext cx="754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list of numbers arranged according to a certain rule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Term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762120" y="236232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Number in a sequence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676520" y="0"/>
            <a:ext cx="58672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Closed-Option Survey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762120" y="2362320"/>
            <a:ext cx="754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survey in which the possible responses are limited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Histogram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762120" y="2362320"/>
            <a:ext cx="800100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cc"/>
                </a:solidFill>
                <a:latin typeface="Comic Sans MS"/>
              </a:rPr>
              <a:t>A method of displaying a range of data. A histogram is a special type of bar graph that displays data in intervals of equal size with </a:t>
            </a:r>
            <a:r>
              <a:rPr b="1" i="1" lang="en-US" sz="4300" spc="-1" strike="noStrike" u="sng">
                <a:solidFill>
                  <a:srgbClr val="ffffcc"/>
                </a:solidFill>
                <a:uFillTx/>
                <a:latin typeface="Comic Sans MS"/>
              </a:rPr>
              <a:t>no</a:t>
            </a:r>
            <a:r>
              <a:rPr b="1" lang="en-US" sz="4300" spc="-1" strike="noStrike">
                <a:solidFill>
                  <a:srgbClr val="ffffcc"/>
                </a:solidFill>
                <a:latin typeface="Comic Sans MS"/>
              </a:rPr>
              <a:t> space between them.</a:t>
            </a:r>
            <a:endParaRPr b="0" lang="en-US" sz="4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600200" y="0"/>
            <a:ext cx="58672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Open-Option Survey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762120" y="2362320"/>
            <a:ext cx="754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survey that does not limit the possible response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Survey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762120" y="236232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method of collecting data about a particular population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1676520" y="533520"/>
            <a:ext cx="58672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Denominator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762120" y="236232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The bottom number of a fraction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Numerator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762120" y="236232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The top number of a fraction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Endpoints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762120" y="236232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Points at which segments end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Line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762120" y="2362320"/>
            <a:ext cx="7543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straight collection of points extending in opposite directions without end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1676520" y="533520"/>
            <a:ext cx="586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Comic Sans MS"/>
              </a:rPr>
              <a:t>Metric System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762120" y="236232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n international system of measurement based on multiples of ten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Ray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762120" y="236232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part of a line that begins at a point and continues without end in one direction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Segment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762120" y="2362320"/>
            <a:ext cx="754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part of a line with two distinct endpoint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9T02:06:29Z</dcterms:created>
  <dc:creator>one1</dc:creator>
  <dc:description/>
  <dc:language>en-US</dc:language>
  <cp:lastModifiedBy>RomaK</cp:lastModifiedBy>
  <dcterms:modified xsi:type="dcterms:W3CDTF">2015-09-04T07:43:19Z</dcterms:modified>
  <cp:revision>4</cp:revision>
  <dc:subject/>
  <dc:title>No Slide Title</dc:title>
</cp:coreProperties>
</file>