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45DF-C2C8-4B13-AB1F-6D0C2A9065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804-DCBA-45EE-BEF4-9C643840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409-1FB8-4974-97F8-5965C8DB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DCC-2583-4F03-8FDF-26658E10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E3F-2CE6-4F95-A57C-D25615E7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38B0-5FF2-45CE-913E-100D03F9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4003-3011-42F1-AF90-3D9EEBAB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7759-05AD-477E-A8D1-0AA5944B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8012-CC75-4AAF-B39C-A37F63FA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8AFD-4F31-4A38-B491-D6478221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9371-3620-4245-9222-83AAD602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3EDF-CBE1-4525-B19E-49CAEEAA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DD2-25C0-44BE-8F10-4F705B3B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8AB5-A737-4A21-AF45-0F0C9253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DC1E-CD83-4450-81B9-F3387387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30AA-B55F-4A9E-85DE-15E2029B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4B86-AA57-4C9E-BC08-46E5B80E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AAD7-2A96-4C7A-8F3F-55F69A50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D70-97B0-4FBE-8FDC-E3F83408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141-DEA4-4522-BF74-F98BF4AD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5FD-6C09-41A3-80B3-BD7C3F24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CBA-926E-4D80-B6EF-9F7C9B3A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D0B-69BA-456F-9E9E-D9D24C8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F1A-EC70-454E-A15E-42322CD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C47-DA2D-4BA3-B403-6E24214F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7859-77DF-4BF9-94C7-5B428BD38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159A-517A-4F21-B82A-9DDB1F7293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43000" y="304920"/>
            <a:ext cx="685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cc"/>
                </a:solidFill>
                <a:latin typeface="Comic Sans MS"/>
              </a:rPr>
              <a:t>Math vocabulary</a:t>
            </a:r>
            <a:endParaRPr b="0" lang="en-US" sz="6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2590920"/>
            <a:ext cx="868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Lessons 6-10 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&amp;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Investigation 1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U.S. Customary System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ystem of measurement used almost exclusively in the United Stat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Perimete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distance around a closed, flat shap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ounting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numbers used to count; the members of the set (1,2,3,4,5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Negativ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less than zer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ber 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1981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Comic Sans MS"/>
              </a:rPr>
              <a:t>A line for representing and graphing numbers. Each point on the line corresponds to a number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Whol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members of the set (0,1,2,3,4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Celsius 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ven Numbe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can be divided by 2 without a remainder; members of the set (-4,-2,0,2,4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Fahrenheit Scale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dd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have a remainder of 1 when divided by 2; members of the set (-3,-1,1,3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Fraction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name parts of a who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display of numbers with an indicator to show the value of a certain meas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quenc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list of numbers arranged according to a certain ru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Ter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 in a sequ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losed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in which the possible responses are limite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Histogra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2362320"/>
            <a:ext cx="8001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A method of displaying a range of data. A histogram is a special type of bar graph that displays data in intervals of equal size with </a:t>
            </a:r>
            <a:r>
              <a:rPr b="1" i="1" lang="en-US" sz="4300" spc="-1" strike="noStrike" u="sng">
                <a:solidFill>
                  <a:srgbClr val="ffffcc"/>
                </a:solidFill>
                <a:uFillTx/>
                <a:latin typeface="Comic Sans MS"/>
              </a:rPr>
              <a:t>no</a:t>
            </a: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 space between them.</a:t>
            </a:r>
            <a:endParaRPr b="0" lang="en-US" sz="4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020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pen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that does not limit the possible respons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urve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method of collecting data about a particular popula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Denomin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bottom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er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top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Endpoints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Points at which segments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traight collection of points extending in opposite directions without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Metric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n international system of measurement based on multiples of t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Ra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that begins at a point and continues without end in one dire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gment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with two distinct endpoin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2:06:29Z</dcterms:created>
  <dc:creator>one1</dc:creator>
  <dc:description/>
  <dc:language>en-US</dc:language>
  <cp:lastModifiedBy>RomaK</cp:lastModifiedBy>
  <dcterms:modified xsi:type="dcterms:W3CDTF">2015-09-04T07:43:19Z</dcterms:modified>
  <cp:revision>4</cp:revision>
  <dc:subject/>
  <dc:title>No Slide Title</dc:title>
</cp:coreProperties>
</file>