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image5.jpeg" ContentType="image/jpeg"/>
  <Override PartName="/ppt/media/chimes.wav" ContentType="audio/x-wav"/>
  <Override PartName="/ppt/media/image6.png" ContentType="image/png"/>
  <Override PartName="/ppt/media/glass.wav" ContentType="audio/x-wav"/>
  <Override PartName="/ppt/media/image7.png" ContentType="image/pn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B140-6F04-4955-996C-EA64895EB75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832E-E526-4EE5-8062-3A02B36C6F0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a light ye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ight year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 period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ight year is 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light yea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is the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distanc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hat light travels in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one ye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 light travels at a speed of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300 000 000 m/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(or 300 000 km/s) then if we multiply this by the number of seconds in a year we will see that light will have travelled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9.5 x 10</a:t>
            </a:r>
            <a:r>
              <a:rPr b="0" lang="en-GB" sz="1200" spc="-1" strike="noStrike" baseline="30000">
                <a:solidFill>
                  <a:srgbClr val="ff0000"/>
                </a:solidFill>
                <a:latin typeface="Calibri"/>
              </a:rPr>
              <a:t>15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 m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(9 500 000 000 000 000 m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galaxy is 100 000 times this distance acr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1D48-30AB-4DEF-A427-D93A8F04B97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re are millions of other galaxies which are seen further and further away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laxies themselves are millions of times further apart than the stars are within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ll these galaxies make up the Universe (which includes all the empty space between galax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Universe is perhaps 20 000 million light years acr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B9E2-679F-4F05-A090-5AF91E855E5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un, its planets and other objects in orbit are all together known as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1B5F-46E8-4156-9FE4-84E4F018F51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nine planets </a:t>
            </a:r>
            <a:br>
              <a:rPr sz="12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starting with the closest to the Sun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Calibri"/>
              </a:rPr>
              <a:t>Mercu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cc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M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alibri"/>
              </a:rPr>
              <a:t>Jup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2400" spc="-1" strike="noStrike">
                <a:solidFill>
                  <a:srgbClr val="ccff33"/>
                </a:solidFill>
                <a:latin typeface="Calibri"/>
              </a:rPr>
              <a:t>Satu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GB" sz="2400" spc="-1" strike="noStrike">
                <a:solidFill>
                  <a:srgbClr val="00ffff"/>
                </a:solidFill>
                <a:latin typeface="Calibri"/>
              </a:rPr>
              <a:t>Ura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GB" sz="2400" spc="-1" strike="noStrike">
                <a:solidFill>
                  <a:srgbClr val="dddddd"/>
                </a:solidFill>
                <a:latin typeface="Calibri"/>
              </a:rPr>
              <a:t>Neptu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en-GB" sz="2400" spc="-1" strike="noStrike">
                <a:solidFill>
                  <a:srgbClr val="800080"/>
                </a:solidFill>
                <a:latin typeface="Calibri"/>
              </a:rPr>
              <a:t>Plu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EFC0-4EC4-474A-8D62-2B3F8EC6C34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w do these planets mo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un is a star which the nine planets move ar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ath each planet travels around is called it orb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lanets are kept in their orbits due to the pulling force of the Suns gra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E2DE-B765-42B8-AB74-07A21E9E1F1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are mo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ons are ‘natural satellite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ons orbit around a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oon stays in its orbit due to the gravitational pull of the plan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moon has a circular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see the moon because it reflects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98DD-0326-46D6-ABBD-826148D12A2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else is  found in our Solar syste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Astero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Meteo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minor planets found in their thousands between Mars and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probably fragments of asteroids that broke u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lumps of ‘dirty ice’ a few km across that travel in highly elliptical orbits. As they near the Sun they warm up. This causes a tail of dust and clou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1AFF-EB66-4BF5-8489-163ED49B9CD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galaxy is made up of billions of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galaxy is called the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Milky Way galaxy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that has 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spiral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Sun is just one of the stars that form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ilky Way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100 000 light yea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cross, and the nearest star to Earth (apart from the Sun)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4.2 light yea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6614-84DB-4A91-9461-61D1100D4F9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badi MT Condensed Extra Bold"/>
              </a:rPr>
              <a:t>Our solar system i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3CEB-7287-4E42-92A9-A6D405CD8E7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4E1-6073-4C95-8B7F-8463843B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48A4-B968-4EC4-9EC7-167D9D6C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C2ED-6FF4-44F0-99B1-8253618C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DD83-6E70-4257-B474-9B6BEC0F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BC13-D2AD-43ED-8383-2BC7E2EF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26F8-7B60-47A5-B344-E91A8775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9A7A-4582-45E6-9FD1-4734B1AF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6471-2194-46A7-A2B8-E54A237D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4A4D-461F-489C-B723-A3E8A062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3DC8-620E-42B4-AC3C-CAE4F1DD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7E0A-60AC-4345-8C70-330A0B91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4EE9-0244-4117-B728-28DAC52E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7452-B046-4646-AA27-09FBB009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C597-D43C-4850-9AE5-C8BB1064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8FED-A450-4EA7-83ED-443921A9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D041-7FA0-4556-B424-7A4A9B83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7AEC-7F5B-4756-B0CA-B37A9B64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6B4D-C502-43DD-9AC1-B7F39BD4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EB59-AE46-4784-9087-839E1490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587F-68B9-4BFB-B3F3-0B2206F9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935-0B5E-4F0C-B78B-EB801E67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948-D63A-4AD8-84DA-BB5D6831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058-83BE-47B6-927F-59E0E2BA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CC8-0B46-4ECE-AC2B-F12EF658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5ED3-A40A-4167-9340-DC88FDC2190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B13E-0927-44F7-ADC9-62A511E7DDA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solar syst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a light year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light year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 period of ti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light year is 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dista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light year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is t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distance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that light travels in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ne yea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s light travels at a speed of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300 000 000 m/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(or 300 000 km/s) then if we multiply this by the number of seconds in a year we will see that light will have travelle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9.5 x 10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15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m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(9 500 000 000 000 000 m 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galaxy is 100 000 times this distance acro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6854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Univer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re are millions of other galaxies which are seen further and further away in spa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Galaxies themselves are millions of times further apart than the stars are within a galax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ll these galaxies make up the Universe (which includes all the empty space between galaxie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 Universe is perhaps 20 000 million light years acro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the solar system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Arial"/>
              </a:rPr>
              <a:t>The Sun, its planets and other objects in orbit are all together known as the solar system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nine planets </a:t>
            </a:r>
            <a:br>
              <a:rPr sz="4400"/>
            </a:b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(starting with the closest to the Sun)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32448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Mercur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cc"/>
                </a:solidFill>
                <a:latin typeface="Arial"/>
              </a:rPr>
              <a:t>Eart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a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Jupi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Satur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Uran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       </a:t>
            </a:r>
            <a:r>
              <a:rPr b="1" lang="en-GB" sz="2400" spc="-1" strike="noStrike">
                <a:solidFill>
                  <a:srgbClr val="dddddd"/>
                </a:solidFill>
                <a:latin typeface="Arial"/>
              </a:rPr>
              <a:t>Neptun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                                    </a:t>
            </a:r>
            <a:r>
              <a:rPr b="1" lang="en-GB" sz="2400" spc="-1" strike="noStrike">
                <a:solidFill>
                  <a:srgbClr val="969696"/>
                </a:solidFill>
                <a:latin typeface="Arial"/>
              </a:rPr>
              <a:t>Plut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How do these planets mov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Sun is a star which the nine planets move around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path each planet travels around is called it orbit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planets are kept in their orbits due to the pulling force of the Suns gravity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are moons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oons are ‘natural satellites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oons orbit around a plane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moon stays in its orbit due to the gravitational pull of the planet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Our moon has a circular orbi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e see the moon because it reflects ligh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533520" y="28440"/>
          <a:ext cx="7543800" cy="667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440"/>
                    <a:ext cx="7543800" cy="667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What else is  found in our Solar system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320" y="2057400"/>
            <a:ext cx="23382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steroi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Meteori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ome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895480" y="1676520"/>
            <a:ext cx="564192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minor planets found in their thousands between Mars and Jupi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probably fragments of asteroids that broke up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lumps of ‘dirty ice’ a few km across that travel in highly elliptical orbits. As they near the Sun they warm up. This causes a tail of dust and clou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a galax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galaxy is made up of billions of sta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galaxy is called t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Milky Way galaxy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, that has 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piral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shap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Sun is just one of the stars that form the Milky way galax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 Milky Way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00 000 light year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cross, and the nearest star to Earth (apart from the Sun)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4.2 light year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wa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The Milky Way galax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badi MT Condensed Extra Bold"/>
              </a:rPr>
              <a:t>Our solar system is he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V="1">
            <a:off x="3886200" y="4952520"/>
            <a:ext cx="121932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1:50:59Z</dcterms:created>
  <dc:creator>LEGION</dc:creator>
  <dc:description/>
  <dc:language>en-US</dc:language>
  <cp:lastModifiedBy>LEGION</cp:lastModifiedBy>
  <dcterms:modified xsi:type="dcterms:W3CDTF">2015-09-04T08:02:49Z</dcterms:modified>
  <cp:revision>4</cp:revision>
  <dc:subject/>
  <dc:title>The solar system</dc:title>
</cp:coreProperties>
</file>