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MERA.WAV" ContentType="audio/x-wav"/>
  <Override PartName="/ppt/media/CHIMES.WAV" ContentType="audio/x-wav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48C7-3C28-47A3-834C-AEBF50AC7F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BD72-7176-4757-ADA1-B603730C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C901-D874-4ED4-B9DD-C86A7D97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3E94-208D-4DFB-8FDA-F3DA2106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EB12-F4E1-402C-8385-D79AD662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2A36-06B0-4849-A8D1-6903C817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E1B2-327B-486E-95BF-1EE0921D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AC77-860D-46E6-BE61-F8B45379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74F-44FB-4188-8801-92082D0C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6FAB-069F-40A2-B3EB-5E88D2A7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C8AE-4333-4149-958D-19F4FC72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3A48-BA12-417D-8C19-31FD2DC1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FABD-7F61-4772-BE68-C24F01A7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B2A8-9724-484A-BDAF-E76354B11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Vocabulary Quiz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Review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09320" y="3809520"/>
            <a:ext cx="4419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ssons 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axon7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699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Su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219320" y="38088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ommutative Property of Multiplic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factors does not change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 A x B = B x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d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that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s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by which another number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cto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multipli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19320" y="3048120"/>
            <a:ext cx="7086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product of any number and 1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x 1 = 7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rodu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multiplicatio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Quoti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Remaind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n amount left after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219320" y="3048120"/>
            <a:ext cx="7086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times any number is zer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Ex. 0 x 4 =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219320" y="38088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Adden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52480" y="2057400"/>
            <a:ext cx="6172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added to find a s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addends does not affect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(a + b) + c = a + (b + c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Multiplica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19320" y="3048120"/>
            <a:ext cx="708660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factors does not affect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(a x b) x c = a x (b x 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219320" y="1066680"/>
            <a:ext cx="70866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ffffff"/>
                </a:solidFill>
                <a:latin typeface="Comic Sans MS"/>
              </a:rPr>
              <a:t>Study!!!!!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4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12956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219320" y="380880"/>
            <a:ext cx="6705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Commut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52480" y="2971800"/>
            <a:ext cx="61722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addends does not change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+ B = B +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Differenc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52480" y="2895480"/>
            <a:ext cx="6172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The result of subtra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Fact Famil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676520" y="1981080"/>
            <a:ext cx="6172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 group of three numbers related by addition and subtraction or by multiplication and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2+3=5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3+2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2=3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3=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sum of any number and 0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+ 0 = 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nverse Oper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219320" y="3048120"/>
            <a:ext cx="708660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Operations that “undo” one anoth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ddition/Subtrac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Multiplication/Divis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Minu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from which another number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- 3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219320" y="914400"/>
            <a:ext cx="6858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Comic Sans MS"/>
              </a:rPr>
              <a:t>Subtrahend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that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- A 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5:08:59Z</dcterms:created>
  <dc:creator>one1</dc:creator>
  <dc:description/>
  <dc:language>en-US</dc:language>
  <cp:lastModifiedBy>RomaK</cp:lastModifiedBy>
  <dcterms:modified xsi:type="dcterms:W3CDTF">2015-09-04T07:43:12Z</dcterms:modified>
  <cp:revision>11</cp:revision>
  <dc:subject/>
  <dc:title>Vocabulary Quiz Review</dc:title>
</cp:coreProperties>
</file>