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F93B-6BA9-4006-B7E4-CD114778E1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910-A9D0-427A-99C6-ABAC31F3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AA0-0474-4496-B343-29A835E1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07C-D714-4F00-97F9-0B68D530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63F-9782-4DCC-96AB-4D53B1FF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D09-AFB7-44BA-837C-495B4E8E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6F0-A555-49B3-AA3F-FF4FD83E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665-35B3-4274-8ACB-E7DA961A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7EF-13D5-4838-B0A2-80F1735F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CBF-A9A1-4098-BBFC-9004B2F2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DB7-1BCC-4CB4-81EA-F2A77153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490-51C2-4903-A054-C6A43E92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714-C974-454A-AA8B-C9D8FA84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42AE-11F4-4DAB-A9B5-63FC1EF8A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Vocabulary Quiz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320" y="3809520"/>
            <a:ext cx="4419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ssons 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xon7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9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u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3808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ommutative Property of Multiplic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factors does not change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 A x B = B x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d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that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s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by which another number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multipli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3048120"/>
            <a:ext cx="7086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product of any number and 1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x 1 = 7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du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multiplica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Quoti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n amount left after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3048120"/>
            <a:ext cx="7086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times any number is z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Ex. 0 x 4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dde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52480" y="205740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added to find a s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addends does not affect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(a + b) + c = a + (b + c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Multiplic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3048120"/>
            <a:ext cx="70866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factors does not affect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(a x b) x c = a x (b x 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066680"/>
            <a:ext cx="7086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Comic Sans MS"/>
              </a:rPr>
              <a:t>Study!!!!!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ommut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52480" y="2971800"/>
            <a:ext cx="6172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addends does not change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+ B = B +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Differ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2480" y="289548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e result of subtr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act Famil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1981080"/>
            <a:ext cx="6172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group of three numbers related by addition and subtraction or by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2+3=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3+2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2=3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3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sum of any number and 0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+ 0 = 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nverse Oper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19320" y="3048120"/>
            <a:ext cx="70866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Operations that “undo” one ano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ddition/Subtrac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Multiplication/Divis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inu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from which another number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- 3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19320" y="9144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Subtrahe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that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- A 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08:59Z</dcterms:created>
  <dc:creator>one1</dc:creator>
  <dc:description/>
  <dc:language>en-US</dc:language>
  <cp:lastModifiedBy>RomaK</cp:lastModifiedBy>
  <dcterms:modified xsi:type="dcterms:W3CDTF">2015-09-04T07:43:12Z</dcterms:modified>
  <cp:revision>11</cp:revision>
  <dc:subject/>
  <dc:title>Vocabulary Quiz Review</dc:title>
</cp:coreProperties>
</file>