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WHOOSH.WAV" ContentType="audio/x-wav"/>
  <Override PartName="/ppt/media/CAMERA.WAV" ContentType="audio/x-wav"/>
  <Override PartName="/ppt/media/CHIMES.WAV" ContentType="audio/x-wav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CD96F-0C73-42BE-93D9-F4A2D0BAED1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cabulary Quiz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ssons 1-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xon7/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cabulary Quiz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ssons 1-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xon7/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sult of ad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sult of ad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utative Property of Multi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ing the order of factors does not change their produc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.  A x B = B x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utative Property of Multi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ing the order of factors does not change their produc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.  A x B = B x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vid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umber that is divid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vid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umber that is divid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vis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umber by which another number is divid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vis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umber by which another number is divid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or more numbers that are multipl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or more numbers that are multipl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dentity Property of Multi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duct of any number and 1 is equal to the initial numb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. 7 x 1 = 7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dentity Property of Multi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duct of any number and 1 is equal to the initial numb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. 7 x 1 = 7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sult of multiplic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sult of multiplic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ot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sult of div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ot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sult of div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ain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mount left after div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ain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mount left after div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ero Property of Multi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ero times any number is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. 0 x 4 =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ero Property of Multi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ero times any number is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. 0 x 4 =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or more numbers that are added to find a s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or more numbers that are added to find a s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sociative Property of Ad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rouping of addends does not affect their su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. (a + b) + c = a + (b + 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sociative Property of Ad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rouping of addends does not affect their su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. (a + b) + c = a + (b + 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sociative Property of Multi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rouping of factors does not affect their produc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. (a x b) x c = a x (b x 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sociative Property of Multi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rouping of factors does not affect their produc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. (a x b) x c = a x (b x 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tudy!!!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tudy!!!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utative Property of Ad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ing the order of addends does not change their su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. A + B = B +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utative Property of Ad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ing the order of addends does not change their su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. A + B = B +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sult of 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sult of 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 Fami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group of three numbers related by addition and subtraction or by multiplication and div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. 2+3=5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3+2=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-2=3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-3=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 Fami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group of three numbers related by addition and subtraction or by multiplication and div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. 2+3=5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3+2=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-2=3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-3=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dentity Property of Ad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m of any number and 0 is equal to the initial numb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. 7 + 0 =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dentity Property of Ad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m of any number and 0 is equal to the initial numb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. 7 + 0 =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verse Oper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erations that “undo” one an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.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ication/Div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verse Oper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erations that “undo” one an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.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ication/Div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nu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umber from which another number is subtrac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. A - 3 =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nu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umber from which another number is subtrac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. A - 3 =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trah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umber that is subtrac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. 7 - A  =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trah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umber that is subtrac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. 7 - A  =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AD826-FF85-4D68-8FF7-EA52E5961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55918-CBFD-4AE5-AC5B-1535A1BD7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9810F-262A-4DC3-AA07-20CF6054A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94D4B-922D-4176-A548-ABC9D1A6F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40E11-09E1-491B-AEA0-BF7872B30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99F90-FE34-41B2-96BE-1F2CB79C1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1FB49-3CBC-4E04-8F2C-9E9EEF3F1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02330-383C-4ABC-9B2B-4AA7EAEA8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2221F-9BAE-424F-81BF-65F7E447D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00359-ECB0-47F1-8182-5F55E6DA1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06E98-2850-4CB4-A466-AB7911800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4FDC1-5C40-40A0-8434-8E6D4736F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cc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973A9-56F0-45EA-BB59-8C4D807A50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omic Sans MS"/>
              </a:rPr>
              <a:t>Vocabulary Quiz </a:t>
            </a:r>
            <a:br>
              <a:rPr sz="8000"/>
            </a:br>
            <a:r>
              <a:rPr b="0" lang="en-US" sz="8000" spc="-1" strike="noStrike">
                <a:solidFill>
                  <a:srgbClr val="ffffff"/>
                </a:solidFill>
                <a:latin typeface="Comic Sans MS"/>
              </a:rPr>
              <a:t>Review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209320" y="3809520"/>
            <a:ext cx="441972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Lessons 1-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axon7/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Object 4" descr=""/>
          <p:cNvPicPr/>
          <p:nvPr/>
        </p:nvPicPr>
        <p:blipFill>
          <a:blip r:embed="rId1"/>
          <a:stretch/>
        </p:blipFill>
        <p:spPr>
          <a:xfrm>
            <a:off x="533520" y="2438280"/>
            <a:ext cx="16999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2"/>
          <p:cNvSpPr/>
          <p:nvPr/>
        </p:nvSpPr>
        <p:spPr>
          <a:xfrm>
            <a:off x="1219320" y="914400"/>
            <a:ext cx="6858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omic Sans MS"/>
              </a:rPr>
              <a:t>Sum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1219320" y="3048120"/>
            <a:ext cx="7086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The result of addit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2"/>
          <p:cNvSpPr/>
          <p:nvPr/>
        </p:nvSpPr>
        <p:spPr>
          <a:xfrm>
            <a:off x="1219320" y="380880"/>
            <a:ext cx="73152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Comic Sans MS"/>
              </a:rPr>
              <a:t>Commutative Property of Multiplication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3"/>
          <p:cNvSpPr/>
          <p:nvPr/>
        </p:nvSpPr>
        <p:spPr>
          <a:xfrm>
            <a:off x="1219320" y="3048120"/>
            <a:ext cx="7086600" cy="319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Comic Sans MS"/>
              </a:rPr>
              <a:t>Changing the order of factors does not change their product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Comic Sans MS"/>
              </a:rPr>
              <a:t>Ex.  A x B = B x A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2"/>
          <p:cNvSpPr/>
          <p:nvPr/>
        </p:nvSpPr>
        <p:spPr>
          <a:xfrm>
            <a:off x="990720" y="1066680"/>
            <a:ext cx="7315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Dividend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1219320" y="3048120"/>
            <a:ext cx="7086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A number that is divided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2"/>
          <p:cNvSpPr/>
          <p:nvPr/>
        </p:nvSpPr>
        <p:spPr>
          <a:xfrm>
            <a:off x="990720" y="1066680"/>
            <a:ext cx="7315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Diviso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3"/>
          <p:cNvSpPr/>
          <p:nvPr/>
        </p:nvSpPr>
        <p:spPr>
          <a:xfrm>
            <a:off x="1219320" y="3048120"/>
            <a:ext cx="70866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A number by which another number is divided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2"/>
          <p:cNvSpPr/>
          <p:nvPr/>
        </p:nvSpPr>
        <p:spPr>
          <a:xfrm>
            <a:off x="990720" y="1066680"/>
            <a:ext cx="7315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Factor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1219320" y="3048120"/>
            <a:ext cx="70866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Two or more numbers that are multiplied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2"/>
          <p:cNvSpPr/>
          <p:nvPr/>
        </p:nvSpPr>
        <p:spPr>
          <a:xfrm>
            <a:off x="990720" y="1066680"/>
            <a:ext cx="7315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Identity Property of Multiplicat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3"/>
          <p:cNvSpPr/>
          <p:nvPr/>
        </p:nvSpPr>
        <p:spPr>
          <a:xfrm>
            <a:off x="1219320" y="3048120"/>
            <a:ext cx="7086600" cy="354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Comic Sans MS"/>
              </a:rPr>
              <a:t>The product of any number and 1 is equal to the initial number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Comic Sans MS"/>
              </a:rPr>
              <a:t>Ex. 7 x 1 = 7</a:t>
            </a: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2"/>
          <p:cNvSpPr/>
          <p:nvPr/>
        </p:nvSpPr>
        <p:spPr>
          <a:xfrm>
            <a:off x="990720" y="1066680"/>
            <a:ext cx="7315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Product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3"/>
          <p:cNvSpPr/>
          <p:nvPr/>
        </p:nvSpPr>
        <p:spPr>
          <a:xfrm>
            <a:off x="1219320" y="3048120"/>
            <a:ext cx="7086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The result of multiplication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2"/>
          <p:cNvSpPr/>
          <p:nvPr/>
        </p:nvSpPr>
        <p:spPr>
          <a:xfrm>
            <a:off x="990720" y="1066680"/>
            <a:ext cx="7315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Quotient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3"/>
          <p:cNvSpPr/>
          <p:nvPr/>
        </p:nvSpPr>
        <p:spPr>
          <a:xfrm>
            <a:off x="1219320" y="3048120"/>
            <a:ext cx="7086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The result of divis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2"/>
          <p:cNvSpPr/>
          <p:nvPr/>
        </p:nvSpPr>
        <p:spPr>
          <a:xfrm>
            <a:off x="990720" y="1066680"/>
            <a:ext cx="7315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Remainde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3"/>
          <p:cNvSpPr/>
          <p:nvPr/>
        </p:nvSpPr>
        <p:spPr>
          <a:xfrm>
            <a:off x="1219320" y="3048120"/>
            <a:ext cx="7086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An amount left after divis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2"/>
          <p:cNvSpPr/>
          <p:nvPr/>
        </p:nvSpPr>
        <p:spPr>
          <a:xfrm>
            <a:off x="990720" y="1066680"/>
            <a:ext cx="7315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Zero Property of Multiplicat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1219320" y="3048120"/>
            <a:ext cx="7086600" cy="33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Zero times any number is zero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Ex. 0 x 4 = 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2"/>
          <p:cNvSpPr/>
          <p:nvPr/>
        </p:nvSpPr>
        <p:spPr>
          <a:xfrm>
            <a:off x="1219320" y="380880"/>
            <a:ext cx="6705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omic Sans MS"/>
              </a:rPr>
              <a:t>Addend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3"/>
          <p:cNvSpPr/>
          <p:nvPr/>
        </p:nvSpPr>
        <p:spPr>
          <a:xfrm>
            <a:off x="1752480" y="2057400"/>
            <a:ext cx="61722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Two or more numbers that are added to find a sum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2"/>
          <p:cNvSpPr/>
          <p:nvPr/>
        </p:nvSpPr>
        <p:spPr>
          <a:xfrm>
            <a:off x="990720" y="1066680"/>
            <a:ext cx="769608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Comic Sans MS"/>
              </a:rPr>
              <a:t>Associative Property of Addition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3"/>
          <p:cNvSpPr/>
          <p:nvPr/>
        </p:nvSpPr>
        <p:spPr>
          <a:xfrm>
            <a:off x="1219320" y="3048120"/>
            <a:ext cx="7086600" cy="25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Comic Sans MS"/>
              </a:rPr>
              <a:t>The grouping of addends does not affect their sum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Comic Sans MS"/>
              </a:rPr>
              <a:t>Ex. (a + b) + c = a + (b + c)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2"/>
          <p:cNvSpPr/>
          <p:nvPr/>
        </p:nvSpPr>
        <p:spPr>
          <a:xfrm>
            <a:off x="990720" y="1066680"/>
            <a:ext cx="769608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Comic Sans MS"/>
              </a:rPr>
              <a:t>Associative Property of Multiplication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1219320" y="3048120"/>
            <a:ext cx="7086600" cy="30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Comic Sans MS"/>
              </a:rPr>
              <a:t>The grouping of factors does not affect their product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Ex. (a x b) x c = a x (b x c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3"/>
          <p:cNvSpPr/>
          <p:nvPr/>
        </p:nvSpPr>
        <p:spPr>
          <a:xfrm>
            <a:off x="1219320" y="1066680"/>
            <a:ext cx="7086600" cy="19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ffffff"/>
                </a:solidFill>
                <a:latin typeface="Comic Sans MS"/>
              </a:rPr>
              <a:t>Study!!!!!!</a:t>
            </a:r>
            <a:endParaRPr b="0" lang="en-US" sz="1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Object 4" descr=""/>
          <p:cNvPicPr/>
          <p:nvPr/>
        </p:nvPicPr>
        <p:blipFill>
          <a:blip r:embed="rId1"/>
          <a:stretch/>
        </p:blipFill>
        <p:spPr>
          <a:xfrm>
            <a:off x="152280" y="2666880"/>
            <a:ext cx="1295640" cy="39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1219320" y="380880"/>
            <a:ext cx="670536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Comic Sans MS"/>
              </a:rPr>
              <a:t>Commutative Property of Addition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1752480" y="2971800"/>
            <a:ext cx="6172200" cy="319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Comic Sans MS"/>
              </a:rPr>
              <a:t>Changing the order of addends does not change their sum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Comic Sans MS"/>
              </a:rPr>
              <a:t>Ex. A + B = B + A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1219320" y="380880"/>
            <a:ext cx="6705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omic Sans MS"/>
              </a:rPr>
              <a:t>Difference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1752480" y="2895480"/>
            <a:ext cx="6172200" cy="39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omic Sans MS"/>
              </a:rPr>
              <a:t>The result of subtraction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2"/>
          <p:cNvSpPr/>
          <p:nvPr/>
        </p:nvSpPr>
        <p:spPr>
          <a:xfrm>
            <a:off x="1219320" y="380880"/>
            <a:ext cx="6705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omic Sans MS"/>
              </a:rPr>
              <a:t>Fact Family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1676520" y="1981080"/>
            <a:ext cx="6172200" cy="49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A group of three numbers related by addition and subtraction or by multiplication and divi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Ex. 2+3=5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 3+2=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5-2=3 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5-3=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"/>
          <p:cNvSpPr/>
          <p:nvPr/>
        </p:nvSpPr>
        <p:spPr>
          <a:xfrm>
            <a:off x="1219320" y="380880"/>
            <a:ext cx="6858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Identity Property of Addit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3"/>
          <p:cNvSpPr/>
          <p:nvPr/>
        </p:nvSpPr>
        <p:spPr>
          <a:xfrm>
            <a:off x="1219320" y="3048120"/>
            <a:ext cx="7086600" cy="319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Comic Sans MS"/>
              </a:rPr>
              <a:t>The sum of any number and 0 is equal to the initial number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Comic Sans MS"/>
              </a:rPr>
              <a:t>Ex. 7 + 0 = 7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2"/>
          <p:cNvSpPr/>
          <p:nvPr/>
        </p:nvSpPr>
        <p:spPr>
          <a:xfrm>
            <a:off x="1219320" y="380880"/>
            <a:ext cx="6858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Inverse Operation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3"/>
          <p:cNvSpPr/>
          <p:nvPr/>
        </p:nvSpPr>
        <p:spPr>
          <a:xfrm>
            <a:off x="1219320" y="3048120"/>
            <a:ext cx="7086600" cy="35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Comic Sans MS"/>
              </a:rPr>
              <a:t>Operations that “undo” one another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Comic Sans MS"/>
              </a:rPr>
              <a:t>Ex. Addition/Subtraction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Comic Sans MS"/>
              </a:rPr>
              <a:t>Multiplication/Division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2"/>
          <p:cNvSpPr/>
          <p:nvPr/>
        </p:nvSpPr>
        <p:spPr>
          <a:xfrm>
            <a:off x="1219320" y="914400"/>
            <a:ext cx="6858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omic Sans MS"/>
              </a:rPr>
              <a:t>Minuend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1219320" y="3048120"/>
            <a:ext cx="7086600" cy="319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Comic Sans MS"/>
              </a:rPr>
              <a:t>A number from which another number is subtracted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Comic Sans MS"/>
              </a:rPr>
              <a:t>Ex. A - 3 = 2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2"/>
          <p:cNvSpPr/>
          <p:nvPr/>
        </p:nvSpPr>
        <p:spPr>
          <a:xfrm>
            <a:off x="1219320" y="914400"/>
            <a:ext cx="685800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ffffff"/>
                </a:solidFill>
                <a:latin typeface="Comic Sans MS"/>
              </a:rPr>
              <a:t>Subtrahend</a:t>
            </a:r>
            <a:endParaRPr b="0" lang="en-US" sz="7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"/>
          <p:cNvSpPr/>
          <p:nvPr/>
        </p:nvSpPr>
        <p:spPr>
          <a:xfrm>
            <a:off x="1219320" y="3048120"/>
            <a:ext cx="7086600" cy="25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4500" spc="-1" strike="noStrike">
                <a:solidFill>
                  <a:srgbClr val="ffffff"/>
                </a:solidFill>
                <a:latin typeface="Comic Sans MS"/>
              </a:rPr>
              <a:t>A number that is subtracted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Comic Sans MS"/>
              </a:rPr>
              <a:t>Ex. 7 - A  = 2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6T05:08:59Z</dcterms:created>
  <dc:creator>one1</dc:creator>
  <dc:description/>
  <dc:language>en-US</dc:language>
  <cp:lastModifiedBy>RomaK</cp:lastModifiedBy>
  <dcterms:modified xsi:type="dcterms:W3CDTF">2015-09-04T07:43:12Z</dcterms:modified>
  <cp:revision>11</cp:revision>
  <dc:subject/>
  <dc:title>Vocabulary Quiz Review</dc:title>
</cp:coreProperties>
</file>