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WHOOSH.WAV" ContentType="audio/x-wav"/>
  <Override PartName="/ppt/media/CAMERA.WAV" ContentType="audio/x-wav"/>
  <Override PartName="/ppt/media/CHIMES.WAV" ContentType="audio/x-wav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DC2E-82C5-41A3-9C21-94809A264C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cabulary Quiz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s 1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xon7/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factors does not change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 A x B = B x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by which another number is divi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multipl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duct of any number and 1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x 1 = 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multipl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o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ai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mount left afte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ero times any number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0 x 4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or more numbers that are added to find a s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addends does not affect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+ b) + c = a + (b +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ive Property of Multi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uping of factors does not affect their pro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(a x b) x c = a x (b x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udy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tative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order of addends does not change their s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+ B = B +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sult of 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oup of three numbers related by addition and subtraction or by multiplication and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2+3=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3+2=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=3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=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ty Property of Ad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m of any number and 0 is equal to the initial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+ 0 =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s that “undo”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ication/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u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from which another number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A - 3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trah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mber that is subtra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. 7 - A  =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624D-D2DF-468E-8F98-F26FF22A5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95FD-7A9D-4FD9-9F3B-4C1B4B3EB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015E-0E40-4130-BB0A-4F094166D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BD5-5F93-475F-803F-9CA7CD81C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9C38-53C8-4230-BCCF-AF7C1E7B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BD34-0A18-488E-8063-F8B99B7BB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8964-56DF-4CA7-9BF9-676B7B6F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94DD-D55E-4CF2-804C-9A8B6358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6EFD-D0A8-4E31-8ECA-30EAC32C9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3C0-F741-4132-89F9-390817B3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88D-F9B1-4A14-A37E-7A07C6D0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87BB-D9DF-4881-AF83-FF1D9BCE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817EA-EAB0-4560-BADE-5934495C37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Vocabulary Quiz </a:t>
            </a: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Review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09320" y="3809520"/>
            <a:ext cx="4419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essons 1-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axon7/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1699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Sum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1219320" y="380880"/>
            <a:ext cx="7315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ommutative Property of Multiplic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factors does not change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 A x B = B x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d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that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Divis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 number by which another number is divid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or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219320" y="304812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multiplie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19320" y="3048120"/>
            <a:ext cx="708660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product of any number and 1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x 1 = 7</a:t>
            </a: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roduc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multiplication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Quoti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e result of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990720" y="1066680"/>
            <a:ext cx="731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Remaind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219320" y="3048120"/>
            <a:ext cx="7086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n amount left after divis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990720" y="10666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Property of Multiplica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1219320" y="3048120"/>
            <a:ext cx="70866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Zero times any number is zer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Ex. 0 x 4 = 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1219320" y="380880"/>
            <a:ext cx="67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Addend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52480" y="2057400"/>
            <a:ext cx="6172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wo or more numbers that are added to find a su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addends does not affect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(a + b) + c = a + (b + c)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990720" y="1066680"/>
            <a:ext cx="76960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Associative Property of Multiplica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219320" y="3048120"/>
            <a:ext cx="7086600" cy="30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grouping of factors does not affect their product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(a x b) x c = a x (b x c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3"/>
          <p:cNvSpPr/>
          <p:nvPr/>
        </p:nvSpPr>
        <p:spPr>
          <a:xfrm>
            <a:off x="1219320" y="1066680"/>
            <a:ext cx="7086600" cy="19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500" spc="-1" strike="noStrike">
                <a:solidFill>
                  <a:srgbClr val="ffffff"/>
                </a:solidFill>
                <a:latin typeface="Comic Sans MS"/>
              </a:rPr>
              <a:t>Study!!!!!!</a:t>
            </a:r>
            <a:endParaRPr b="0" lang="en-US" sz="1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4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129564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219320" y="380880"/>
            <a:ext cx="67053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Comic Sans MS"/>
              </a:rPr>
              <a:t>Commutative Property of Addition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752480" y="2971800"/>
            <a:ext cx="61722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Changing the order of addends does not change their sum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+ B = B + 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Differen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1752480" y="2895480"/>
            <a:ext cx="61722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mic Sans MS"/>
              </a:rPr>
              <a:t>The result of subtract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380880"/>
            <a:ext cx="670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Fact Family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676520" y="1981080"/>
            <a:ext cx="6172200" cy="49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A group of three numbers related by addition and subtraction or by multiplication and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Ex. 2+3=5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 3+2=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2=3 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-3=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dentity Property of Ad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The sum of any number and 0 is equal to the initial number.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+ 0 = 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219320" y="380880"/>
            <a:ext cx="685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Inverse Operati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1219320" y="3048120"/>
            <a:ext cx="7086600" cy="35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Operations that “undo” one anoth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ddition/Subtrac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Multiplication/Divis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19320" y="9144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mic Sans MS"/>
              </a:rPr>
              <a:t>Minuend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219320" y="3048120"/>
            <a:ext cx="708660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from which another number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A - 3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219320" y="914400"/>
            <a:ext cx="685800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ffff"/>
                </a:solidFill>
                <a:latin typeface="Comic Sans MS"/>
              </a:rPr>
              <a:t>Subtrahend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19320" y="3048120"/>
            <a:ext cx="7086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A number that is subtracte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omic Sans MS"/>
              </a:rPr>
              <a:t>Ex. 7 - A  = 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6T05:08:59Z</dcterms:created>
  <dc:creator>one1</dc:creator>
  <dc:description/>
  <dc:language>en-US</dc:language>
  <cp:lastModifiedBy>RomaK</cp:lastModifiedBy>
  <dcterms:modified xsi:type="dcterms:W3CDTF">2015-09-04T07:43:12Z</dcterms:modified>
  <cp:revision>11</cp:revision>
  <dc:subject/>
  <dc:title>Vocabulary Quiz Review</dc:title>
</cp:coreProperties>
</file>