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13.jpeg" ContentType="image/jpeg"/>
  <Override PartName="/ppt/media/image8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2.png" ContentType="image/png"/>
  <Override PartName="/ppt/media/image10.wmf" ContentType="image/x-wmf"/>
  <Override PartName="/ppt/media/image4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0B730-ED10-4BA8-9977-FF14DAB5D3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Vocabul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Fi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amp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IC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ICAL LINE goes up &amp; dow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RIZONTAL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HORIZONTAL LINE goes “across” (left and r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andy bars are Horizon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 &amp; CLOSED FIG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LOSED FIGURE/SHAPE starts and ends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PEN FIGURE/SHAPE does NOT start and end at the same po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a “closed”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LYGON is made up of line segments that do not cros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sides gives a POLYGON its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POLYG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RA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a PROTRACTOR to measure vertex/angles in degre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UTE ANGLES are less than 90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GHT ANGLES measure exactly 9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“square” symbol means 90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UES ANGLES are greater than 90 ° but less than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TYPES OF 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IGHT ANGLE is exactly 180 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Geometr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the study of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udied Geometry in Ancient Mesopotamia &amp; Ancient Egy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ometry is important in the art and construction fie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OINT is an exact location on a graph, shape or in “spa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Kiss is a POINT on the 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goes in opposite directions and never, never, never e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AY is part of a line, but it has one endpoint and the other end keeps go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aaaaaaaaaaaaaaaaaaaaaaayyyyyyyyyyyyyyyyyyyyyyyyyy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POINT is a point at the end of a ray or line segm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LINE SEGMENT  is part of a ray or 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two 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VERTEX is a fancy name for “angl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rays or lines that have the same endpoint make a VERTEX/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TEX/angles are measured in “degree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rs of a square are its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wo lines cross, they make vertex/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means the “sam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LINE SEGMENTS means two line segment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UENT Vertex/Angles means two angles are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rshey &amp; Crunch Bar are a Congruent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F80-E40A-4A65-828A-031CF43A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3569-4935-4413-8110-754EA79A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84A8-66C1-429F-8F6B-BEA872075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262-73BA-4FC7-A527-DB86241F4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0ED5-1454-402E-A0CB-93A8524AE5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DA489-CB02-4FAB-9E2E-6E2D696BD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15B0E-B1AD-4C28-AC0E-0C62BA5C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7AB80-39B8-4EAE-85F5-2480F81F8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9A91E-62D7-4A50-9D55-ED954A50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064B5-0F70-4805-A08B-2A627DEA2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1DD1-DB4F-4BDB-BEDB-AB17B8FA3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C207-B626-4DEB-9EBE-0A40109D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9E43E-12EA-41AA-A83D-38179BBB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29264-1E78-4E7D-8400-9D18563F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BC8C2-7981-4FCA-A667-71DCC5E82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CCF41-9ABB-4FD0-A239-6FBEDB11E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9CF52-35CC-4605-BF38-4C556BDA9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B62133-642B-4D07-AAAA-7AA679143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83CABE-2022-4A24-9E1D-F11B00C9A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6C473-09D2-4D28-AE3F-29DADB9D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C2A10-5E9C-410D-B24E-275B304A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D9D525-7F5F-45C6-9A9F-2E99136C8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2BBB-8DB8-4086-B6E1-0AEA721E1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33B903-7538-4C86-A5A4-92FC372F2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85F8B-F3F5-4D7A-B90D-312C782E5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E108C0-CCD9-4C5D-B25B-43DD2B95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4D9DBE-63DA-482B-A7C9-96FA23A1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8C16A0-C221-4B06-8E29-6B2503E8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B4259-D33B-4E18-BE33-23379C86A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A121D-49F2-4DD4-9298-416FBEEB7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AC0FF-F974-4EAC-BD6D-1D9684C9A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DC4-BD27-42C5-9F74-4DFF7807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5EA9-F333-4320-A149-6DEA5DC85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80CC-8329-465F-B04A-DFF627DB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7CE5-82B4-4C1F-958D-69BC0B1C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7EA8-5345-4B83-94E0-2751AEE7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AF997-4859-442E-9DAC-D7697BE0854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E5C3-DEC0-4499-BBB9-FEFAEB0F5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3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9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0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16DB8-40B4-44C8-9F90-842AEE19A5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Geometry Vocabulary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Fio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&amp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r. Rya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IC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ICAL LINE goes up &amp; d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4"/>
          <p:cNvSpPr/>
          <p:nvPr/>
        </p:nvSpPr>
        <p:spPr>
          <a:xfrm>
            <a:off x="1600200" y="2971800"/>
            <a:ext cx="0" cy="304812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6" descr="Hershey"/>
          <p:cNvPicPr/>
          <p:nvPr/>
        </p:nvPicPr>
        <p:blipFill>
          <a:blip r:embed="rId2"/>
          <a:stretch/>
        </p:blipFill>
        <p:spPr>
          <a:xfrm>
            <a:off x="3743280" y="3267000"/>
            <a:ext cx="2421000" cy="3057480"/>
          </a:xfrm>
          <a:prstGeom prst="rect">
            <a:avLst/>
          </a:prstGeom>
          <a:ln w="0">
            <a:noFill/>
          </a:ln>
        </p:spPr>
      </p:pic>
      <p:sp>
        <p:nvSpPr>
          <p:cNvPr id="282" name="Text Box 7"/>
          <p:cNvSpPr/>
          <p:nvPr/>
        </p:nvSpPr>
        <p:spPr>
          <a:xfrm>
            <a:off x="7147080" y="3541680"/>
            <a:ext cx="161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vertic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HORIZONTAL 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HORIZONTAL LINE goes “across” (left and righ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4"/>
          <p:cNvSpPr/>
          <p:nvPr/>
        </p:nvSpPr>
        <p:spPr>
          <a:xfrm>
            <a:off x="990720" y="3429000"/>
            <a:ext cx="67816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6" name="Picture 5" descr="Hershey"/>
          <p:cNvPicPr/>
          <p:nvPr/>
        </p:nvPicPr>
        <p:blipFill>
          <a:blip r:embed="rId2"/>
          <a:stretch/>
        </p:blipFill>
        <p:spPr>
          <a:xfrm>
            <a:off x="1447920" y="3886200"/>
            <a:ext cx="3276360" cy="2593800"/>
          </a:xfrm>
          <a:prstGeom prst="rect">
            <a:avLst/>
          </a:prstGeom>
          <a:ln w="0">
            <a:noFill/>
          </a:ln>
        </p:spPr>
      </p:pic>
      <p:sp>
        <p:nvSpPr>
          <p:cNvPr id="287" name="Text Box 6"/>
          <p:cNvSpPr/>
          <p:nvPr/>
        </p:nvSpPr>
        <p:spPr>
          <a:xfrm>
            <a:off x="6172200" y="45324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andy bars are Horizon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PLAN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LANE (no, not the one that flies!) is a flat surface that goes on forever in all direction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agine sitting on a row boat in the middle of the ocean.  No matter which way you look…all you see is water…forev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0" name="Picture 4" descr="j0233070"/>
          <p:cNvPicPr/>
          <p:nvPr/>
        </p:nvPicPr>
        <p:blipFill>
          <a:blip r:embed="rId1"/>
          <a:stretch/>
        </p:blipFill>
        <p:spPr>
          <a:xfrm>
            <a:off x="0" y="304920"/>
            <a:ext cx="2209680" cy="11062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5" descr="j0292152"/>
          <p:cNvPicPr/>
          <p:nvPr/>
        </p:nvPicPr>
        <p:blipFill>
          <a:blip r:embed="rId2"/>
          <a:stretch/>
        </p:blipFill>
        <p:spPr>
          <a:xfrm>
            <a:off x="304920" y="4648320"/>
            <a:ext cx="1538280" cy="18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PEN &amp; CLOSED FIG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CLOSED FIGURE/SHAPE starts and ends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OPEN FIGURE/SHAPE does NOT start and end at the same poi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Line 4"/>
          <p:cNvSpPr/>
          <p:nvPr/>
        </p:nvSpPr>
        <p:spPr>
          <a:xfrm flipV="1">
            <a:off x="838080" y="4723920"/>
            <a:ext cx="83844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Line 5"/>
          <p:cNvSpPr/>
          <p:nvPr/>
        </p:nvSpPr>
        <p:spPr>
          <a:xfrm>
            <a:off x="1676520" y="4724280"/>
            <a:ext cx="76176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Line 6"/>
          <p:cNvSpPr/>
          <p:nvPr/>
        </p:nvSpPr>
        <p:spPr>
          <a:xfrm flipH="1">
            <a:off x="838080" y="6019920"/>
            <a:ext cx="15242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7"/>
          <p:cNvSpPr/>
          <p:nvPr/>
        </p:nvSpPr>
        <p:spPr>
          <a:xfrm>
            <a:off x="1219320" y="4114800"/>
            <a:ext cx="123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8"/>
          <p:cNvSpPr/>
          <p:nvPr/>
        </p:nvSpPr>
        <p:spPr>
          <a:xfrm>
            <a:off x="5638680" y="4648320"/>
            <a:ext cx="1622520" cy="1461960"/>
          </a:xfrm>
          <a:custGeom>
            <a:avLst/>
            <a:gdLst/>
            <a:ahLst/>
            <a:rect l="l" t="t" r="r" b="b"/>
            <a:pathLst>
              <a:path w="1022" h="921">
                <a:moveTo>
                  <a:pt x="0" y="721"/>
                </a:moveTo>
                <a:cubicBezTo>
                  <a:pt x="28" y="653"/>
                  <a:pt x="42" y="572"/>
                  <a:pt x="94" y="520"/>
                </a:cubicBezTo>
                <a:cubicBezTo>
                  <a:pt x="105" y="509"/>
                  <a:pt x="122" y="504"/>
                  <a:pt x="134" y="493"/>
                </a:cubicBezTo>
                <a:cubicBezTo>
                  <a:pt x="145" y="483"/>
                  <a:pt x="255" y="373"/>
                  <a:pt x="282" y="346"/>
                </a:cubicBezTo>
                <a:cubicBezTo>
                  <a:pt x="351" y="277"/>
                  <a:pt x="380" y="169"/>
                  <a:pt x="402" y="78"/>
                </a:cubicBezTo>
                <a:cubicBezTo>
                  <a:pt x="398" y="56"/>
                  <a:pt x="410" y="19"/>
                  <a:pt x="389" y="11"/>
                </a:cubicBezTo>
                <a:cubicBezTo>
                  <a:pt x="361" y="0"/>
                  <a:pt x="258" y="28"/>
                  <a:pt x="215" y="38"/>
                </a:cubicBezTo>
                <a:cubicBezTo>
                  <a:pt x="192" y="84"/>
                  <a:pt x="164" y="123"/>
                  <a:pt x="148" y="172"/>
                </a:cubicBezTo>
                <a:cubicBezTo>
                  <a:pt x="175" y="190"/>
                  <a:pt x="198" y="214"/>
                  <a:pt x="228" y="225"/>
                </a:cubicBezTo>
                <a:cubicBezTo>
                  <a:pt x="241" y="230"/>
                  <a:pt x="256" y="232"/>
                  <a:pt x="268" y="239"/>
                </a:cubicBezTo>
                <a:cubicBezTo>
                  <a:pt x="296" y="255"/>
                  <a:pt x="349" y="292"/>
                  <a:pt x="349" y="292"/>
                </a:cubicBezTo>
                <a:cubicBezTo>
                  <a:pt x="394" y="288"/>
                  <a:pt x="440" y="291"/>
                  <a:pt x="483" y="279"/>
                </a:cubicBezTo>
                <a:cubicBezTo>
                  <a:pt x="504" y="273"/>
                  <a:pt x="517" y="251"/>
                  <a:pt x="536" y="239"/>
                </a:cubicBezTo>
                <a:cubicBezTo>
                  <a:pt x="553" y="228"/>
                  <a:pt x="573" y="222"/>
                  <a:pt x="590" y="212"/>
                </a:cubicBezTo>
                <a:cubicBezTo>
                  <a:pt x="617" y="196"/>
                  <a:pt x="643" y="177"/>
                  <a:pt x="670" y="159"/>
                </a:cubicBezTo>
                <a:cubicBezTo>
                  <a:pt x="683" y="150"/>
                  <a:pt x="710" y="132"/>
                  <a:pt x="710" y="132"/>
                </a:cubicBezTo>
                <a:cubicBezTo>
                  <a:pt x="719" y="150"/>
                  <a:pt x="736" y="165"/>
                  <a:pt x="737" y="185"/>
                </a:cubicBezTo>
                <a:cubicBezTo>
                  <a:pt x="741" y="252"/>
                  <a:pt x="735" y="320"/>
                  <a:pt x="724" y="386"/>
                </a:cubicBezTo>
                <a:cubicBezTo>
                  <a:pt x="709" y="474"/>
                  <a:pt x="494" y="464"/>
                  <a:pt x="456" y="467"/>
                </a:cubicBezTo>
                <a:cubicBezTo>
                  <a:pt x="407" y="483"/>
                  <a:pt x="357" y="490"/>
                  <a:pt x="309" y="507"/>
                </a:cubicBezTo>
                <a:cubicBezTo>
                  <a:pt x="359" y="817"/>
                  <a:pt x="734" y="564"/>
                  <a:pt x="992" y="614"/>
                </a:cubicBezTo>
                <a:cubicBezTo>
                  <a:pt x="1001" y="627"/>
                  <a:pt x="1022" y="639"/>
                  <a:pt x="1018" y="654"/>
                </a:cubicBezTo>
                <a:cubicBezTo>
                  <a:pt x="1014" y="668"/>
                  <a:pt x="992" y="667"/>
                  <a:pt x="978" y="668"/>
                </a:cubicBezTo>
                <a:cubicBezTo>
                  <a:pt x="907" y="676"/>
                  <a:pt x="835" y="677"/>
                  <a:pt x="764" y="681"/>
                </a:cubicBezTo>
                <a:cubicBezTo>
                  <a:pt x="670" y="686"/>
                  <a:pt x="577" y="690"/>
                  <a:pt x="483" y="694"/>
                </a:cubicBezTo>
                <a:cubicBezTo>
                  <a:pt x="514" y="921"/>
                  <a:pt x="453" y="707"/>
                  <a:pt x="831" y="801"/>
                </a:cubicBezTo>
                <a:cubicBezTo>
                  <a:pt x="853" y="806"/>
                  <a:pt x="828" y="848"/>
                  <a:pt x="818" y="868"/>
                </a:cubicBezTo>
                <a:cubicBezTo>
                  <a:pt x="815" y="874"/>
                  <a:pt x="809" y="859"/>
                  <a:pt x="804" y="855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9"/>
          <p:cNvSpPr/>
          <p:nvPr/>
        </p:nvSpPr>
        <p:spPr>
          <a:xfrm>
            <a:off x="5791320" y="4114800"/>
            <a:ext cx="100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P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Rectangle 10"/>
          <p:cNvSpPr/>
          <p:nvPr/>
        </p:nvSpPr>
        <p:spPr>
          <a:xfrm>
            <a:off x="68724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Rectangle 11"/>
          <p:cNvSpPr/>
          <p:nvPr/>
        </p:nvSpPr>
        <p:spPr>
          <a:xfrm>
            <a:off x="5487840" y="5562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Rectangle 12"/>
          <p:cNvSpPr/>
          <p:nvPr/>
        </p:nvSpPr>
        <p:spPr>
          <a:xfrm>
            <a:off x="6783120" y="5867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AutoShape 13"/>
          <p:cNvSpPr/>
          <p:nvPr/>
        </p:nvSpPr>
        <p:spPr>
          <a:xfrm rot="3493800">
            <a:off x="59040" y="535068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AutoShape 14"/>
          <p:cNvSpPr/>
          <p:nvPr/>
        </p:nvSpPr>
        <p:spPr>
          <a:xfrm rot="13153200">
            <a:off x="914400" y="60955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5"/>
          <p:cNvSpPr/>
          <p:nvPr/>
        </p:nvSpPr>
        <p:spPr>
          <a:xfrm>
            <a:off x="0" y="4800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16"/>
          <p:cNvSpPr/>
          <p:nvPr/>
        </p:nvSpPr>
        <p:spPr>
          <a:xfrm>
            <a:off x="1905120" y="6491160"/>
            <a:ext cx="85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17"/>
          <p:cNvSpPr/>
          <p:nvPr/>
        </p:nvSpPr>
        <p:spPr>
          <a:xfrm rot="3493800">
            <a:off x="4707720" y="504576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18"/>
          <p:cNvSpPr/>
          <p:nvPr/>
        </p:nvSpPr>
        <p:spPr>
          <a:xfrm rot="10800000">
            <a:off x="7086600" y="59432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19"/>
          <p:cNvSpPr/>
          <p:nvPr/>
        </p:nvSpPr>
        <p:spPr>
          <a:xfrm>
            <a:off x="4632480" y="441972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0"/>
          <p:cNvSpPr/>
          <p:nvPr/>
        </p:nvSpPr>
        <p:spPr>
          <a:xfrm>
            <a:off x="8077320" y="5943600"/>
            <a:ext cx="7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a “closed” sha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LYGON is made up of line segments that do not cross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number of sides gives a POLYGON its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4"/>
          <p:cNvSpPr/>
          <p:nvPr/>
        </p:nvSpPr>
        <p:spPr>
          <a:xfrm>
            <a:off x="1143000" y="48006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Oval 5"/>
          <p:cNvSpPr/>
          <p:nvPr/>
        </p:nvSpPr>
        <p:spPr>
          <a:xfrm>
            <a:off x="7315200" y="4343400"/>
            <a:ext cx="914400" cy="9144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Freeform 6"/>
          <p:cNvSpPr/>
          <p:nvPr/>
        </p:nvSpPr>
        <p:spPr>
          <a:xfrm>
            <a:off x="6135840" y="4290840"/>
            <a:ext cx="1255680" cy="1641600"/>
          </a:xfrm>
          <a:custGeom>
            <a:avLst/>
            <a:gdLst/>
            <a:ahLst/>
            <a:rect l="l" t="t" r="r" b="b"/>
            <a:pathLst>
              <a:path w="791" h="1034">
                <a:moveTo>
                  <a:pt x="20" y="365"/>
                </a:moveTo>
                <a:cubicBezTo>
                  <a:pt x="36" y="131"/>
                  <a:pt x="348" y="34"/>
                  <a:pt x="542" y="3"/>
                </a:cubicBezTo>
                <a:cubicBezTo>
                  <a:pt x="791" y="63"/>
                  <a:pt x="607" y="0"/>
                  <a:pt x="582" y="619"/>
                </a:cubicBezTo>
                <a:cubicBezTo>
                  <a:pt x="576" y="758"/>
                  <a:pt x="494" y="935"/>
                  <a:pt x="395" y="1034"/>
                </a:cubicBezTo>
                <a:cubicBezTo>
                  <a:pt x="395" y="1034"/>
                  <a:pt x="291" y="1022"/>
                  <a:pt x="274" y="1008"/>
                </a:cubicBezTo>
                <a:cubicBezTo>
                  <a:pt x="244" y="985"/>
                  <a:pt x="221" y="954"/>
                  <a:pt x="194" y="927"/>
                </a:cubicBezTo>
                <a:cubicBezTo>
                  <a:pt x="181" y="914"/>
                  <a:pt x="154" y="887"/>
                  <a:pt x="154" y="887"/>
                </a:cubicBezTo>
                <a:cubicBezTo>
                  <a:pt x="128" y="821"/>
                  <a:pt x="101" y="769"/>
                  <a:pt x="87" y="699"/>
                </a:cubicBezTo>
                <a:cubicBezTo>
                  <a:pt x="70" y="515"/>
                  <a:pt x="85" y="600"/>
                  <a:pt x="46" y="445"/>
                </a:cubicBezTo>
                <a:cubicBezTo>
                  <a:pt x="42" y="429"/>
                  <a:pt x="11" y="433"/>
                  <a:pt x="6" y="418"/>
                </a:cubicBezTo>
                <a:cubicBezTo>
                  <a:pt x="0" y="401"/>
                  <a:pt x="15" y="383"/>
                  <a:pt x="20" y="365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8"/>
          <p:cNvSpPr/>
          <p:nvPr/>
        </p:nvSpPr>
        <p:spPr>
          <a:xfrm>
            <a:off x="7086600" y="5638680"/>
            <a:ext cx="914400" cy="735120"/>
          </a:xfrm>
          <a:custGeom>
            <a:avLst/>
            <a:gdLst/>
            <a:ahLst/>
            <a:rect l="l" t="t" r="r" b="b"/>
            <a:pathLst>
              <a:path w="576" h="463">
                <a:moveTo>
                  <a:pt x="576" y="13"/>
                </a:moveTo>
                <a:cubicBezTo>
                  <a:pt x="548" y="70"/>
                  <a:pt x="507" y="183"/>
                  <a:pt x="429" y="201"/>
                </a:cubicBezTo>
                <a:cubicBezTo>
                  <a:pt x="359" y="217"/>
                  <a:pt x="286" y="215"/>
                  <a:pt x="215" y="227"/>
                </a:cubicBezTo>
                <a:cubicBezTo>
                  <a:pt x="141" y="252"/>
                  <a:pt x="80" y="259"/>
                  <a:pt x="0" y="268"/>
                </a:cubicBezTo>
                <a:cubicBezTo>
                  <a:pt x="58" y="279"/>
                  <a:pt x="122" y="279"/>
                  <a:pt x="174" y="308"/>
                </a:cubicBezTo>
                <a:cubicBezTo>
                  <a:pt x="264" y="358"/>
                  <a:pt x="329" y="416"/>
                  <a:pt x="429" y="442"/>
                </a:cubicBezTo>
                <a:cubicBezTo>
                  <a:pt x="469" y="437"/>
                  <a:pt x="528" y="463"/>
                  <a:pt x="549" y="428"/>
                </a:cubicBezTo>
                <a:cubicBezTo>
                  <a:pt x="565" y="401"/>
                  <a:pt x="492" y="398"/>
                  <a:pt x="469" y="375"/>
                </a:cubicBezTo>
                <a:cubicBezTo>
                  <a:pt x="456" y="362"/>
                  <a:pt x="440" y="350"/>
                  <a:pt x="429" y="335"/>
                </a:cubicBezTo>
                <a:cubicBezTo>
                  <a:pt x="387" y="275"/>
                  <a:pt x="370" y="216"/>
                  <a:pt x="308" y="174"/>
                </a:cubicBezTo>
                <a:cubicBezTo>
                  <a:pt x="290" y="147"/>
                  <a:pt x="273" y="120"/>
                  <a:pt x="255" y="93"/>
                </a:cubicBezTo>
                <a:cubicBezTo>
                  <a:pt x="246" y="80"/>
                  <a:pt x="228" y="53"/>
                  <a:pt x="228" y="53"/>
                </a:cubicBezTo>
                <a:cubicBezTo>
                  <a:pt x="224" y="40"/>
                  <a:pt x="209" y="25"/>
                  <a:pt x="215" y="13"/>
                </a:cubicBezTo>
                <a:cubicBezTo>
                  <a:pt x="221" y="1"/>
                  <a:pt x="241" y="0"/>
                  <a:pt x="255" y="0"/>
                </a:cubicBezTo>
                <a:cubicBezTo>
                  <a:pt x="313" y="0"/>
                  <a:pt x="371" y="9"/>
                  <a:pt x="429" y="13"/>
                </a:cubicBezTo>
                <a:cubicBezTo>
                  <a:pt x="456" y="31"/>
                  <a:pt x="482" y="49"/>
                  <a:pt x="509" y="67"/>
                </a:cubicBezTo>
                <a:cubicBezTo>
                  <a:pt x="572" y="109"/>
                  <a:pt x="544" y="107"/>
                  <a:pt x="576" y="13"/>
                </a:cubicBezTo>
                <a:close/>
              </a:path>
            </a:pathLst>
          </a:custGeom>
          <a:solidFill>
            <a:srgbClr val="33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AutoShape 9"/>
          <p:cNvSpPr/>
          <p:nvPr/>
        </p:nvSpPr>
        <p:spPr>
          <a:xfrm>
            <a:off x="2514600" y="419112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AutoShape 10"/>
          <p:cNvSpPr/>
          <p:nvPr/>
        </p:nvSpPr>
        <p:spPr>
          <a:xfrm>
            <a:off x="2133720" y="5334120"/>
            <a:ext cx="1057320" cy="914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11"/>
          <p:cNvSpPr/>
          <p:nvPr/>
        </p:nvSpPr>
        <p:spPr>
          <a:xfrm>
            <a:off x="1066680" y="441972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12"/>
          <p:cNvSpPr/>
          <p:nvPr/>
        </p:nvSpPr>
        <p:spPr>
          <a:xfrm>
            <a:off x="6400800" y="388620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POLYG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RACTO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use a PROTRACTOR to measure vertex/angles in degre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4" descr="protractor"/>
          <p:cNvPicPr/>
          <p:nvPr/>
        </p:nvPicPr>
        <p:blipFill>
          <a:blip r:embed="rId2"/>
          <a:stretch/>
        </p:blipFill>
        <p:spPr>
          <a:xfrm>
            <a:off x="5257800" y="3581280"/>
            <a:ext cx="2971800" cy="2006640"/>
          </a:xfrm>
          <a:prstGeom prst="rect">
            <a:avLst/>
          </a:prstGeom>
          <a:ln w="0">
            <a:noFill/>
          </a:ln>
        </p:spPr>
      </p:pic>
      <p:sp>
        <p:nvSpPr>
          <p:cNvPr id="324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6" name="Picture 9" descr="protractor2"/>
          <p:cNvPicPr/>
          <p:nvPr/>
        </p:nvPicPr>
        <p:blipFill>
          <a:blip r:embed="rId3"/>
          <a:stretch/>
        </p:blipFill>
        <p:spPr>
          <a:xfrm>
            <a:off x="1143000" y="358128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TE ANGLES are less than 9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Picture 6" descr="acute angle1"/>
          <p:cNvPicPr/>
          <p:nvPr/>
        </p:nvPicPr>
        <p:blipFill>
          <a:blip r:embed="rId2"/>
          <a:stretch/>
        </p:blipFill>
        <p:spPr>
          <a:xfrm>
            <a:off x="2286000" y="2971800"/>
            <a:ext cx="4229280" cy="257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IGHT ANGLES measure exactly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Picture 4" descr="right angle"/>
          <p:cNvPicPr/>
          <p:nvPr/>
        </p:nvPicPr>
        <p:blipFill>
          <a:blip r:embed="rId2"/>
          <a:stretch/>
        </p:blipFill>
        <p:spPr>
          <a:xfrm>
            <a:off x="1752480" y="3276720"/>
            <a:ext cx="3362400" cy="2676240"/>
          </a:xfrm>
          <a:prstGeom prst="rect">
            <a:avLst/>
          </a:prstGeom>
          <a:ln w="0">
            <a:noFill/>
          </a:ln>
        </p:spPr>
      </p:pic>
      <p:sp>
        <p:nvSpPr>
          <p:cNvPr id="333" name="AutoShape 5"/>
          <p:cNvSpPr/>
          <p:nvPr/>
        </p:nvSpPr>
        <p:spPr>
          <a:xfrm rot="2089200">
            <a:off x="3111120" y="2935440"/>
            <a:ext cx="485640" cy="2271600"/>
          </a:xfrm>
          <a:prstGeom prst="downArrow">
            <a:avLst>
              <a:gd name="adj1" fmla="val 50000"/>
              <a:gd name="adj2" fmla="val 116938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4038480" y="2057400"/>
            <a:ext cx="138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“square” symbol means 90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5" name="Picture 7" descr="right angle 2"/>
          <p:cNvPicPr/>
          <p:nvPr/>
        </p:nvPicPr>
        <p:blipFill>
          <a:blip r:embed="rId3"/>
          <a:stretch/>
        </p:blipFill>
        <p:spPr>
          <a:xfrm>
            <a:off x="5638680" y="3581280"/>
            <a:ext cx="304812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UES ANGLES are greater than 9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 but less than 180 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4" descr="obtuse angle"/>
          <p:cNvPicPr/>
          <p:nvPr/>
        </p:nvPicPr>
        <p:blipFill>
          <a:blip r:embed="rId2"/>
          <a:stretch/>
        </p:blipFill>
        <p:spPr>
          <a:xfrm>
            <a:off x="838080" y="3733920"/>
            <a:ext cx="3676680" cy="180180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5" descr="protractor2"/>
          <p:cNvPicPr/>
          <p:nvPr/>
        </p:nvPicPr>
        <p:blipFill>
          <a:blip r:embed="rId3"/>
          <a:stretch/>
        </p:blipFill>
        <p:spPr>
          <a:xfrm>
            <a:off x="5105520" y="3733920"/>
            <a:ext cx="26668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4 TYPES OF 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IGHT ANGLE is exactly 180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2" name="Picture 4" descr="straight angle"/>
          <p:cNvPicPr/>
          <p:nvPr/>
        </p:nvPicPr>
        <p:blipFill>
          <a:blip r:embed="rId2"/>
          <a:stretch/>
        </p:blipFill>
        <p:spPr>
          <a:xfrm>
            <a:off x="2971800" y="2895480"/>
            <a:ext cx="3328920" cy="31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is Geometry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the study of shap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y studied Geometry in Ancient Mesopotamia &amp; Ancient Egyp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metry is important in the art and construction fie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4" descr="gingerbread house"/>
          <p:cNvPicPr/>
          <p:nvPr/>
        </p:nvPicPr>
        <p:blipFill>
          <a:blip r:embed="rId4"/>
          <a:stretch/>
        </p:blipFill>
        <p:spPr>
          <a:xfrm>
            <a:off x="5334120" y="3809880"/>
            <a:ext cx="24526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G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you “name” an angle.  The vertex/angle “letter/number” goes in the center of the lab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 flipV="1">
            <a:off x="2590920" y="3733560"/>
            <a:ext cx="190476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Line 7"/>
          <p:cNvSpPr/>
          <p:nvPr/>
        </p:nvSpPr>
        <p:spPr>
          <a:xfrm>
            <a:off x="4495680" y="3809880"/>
            <a:ext cx="12956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Line 8"/>
          <p:cNvSpPr/>
          <p:nvPr/>
        </p:nvSpPr>
        <p:spPr>
          <a:xfrm flipH="1" flipV="1">
            <a:off x="2666520" y="4876560"/>
            <a:ext cx="3124440" cy="759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Text Box 9"/>
          <p:cNvSpPr/>
          <p:nvPr/>
        </p:nvSpPr>
        <p:spPr>
          <a:xfrm>
            <a:off x="2193840" y="483696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Text Box 10"/>
          <p:cNvSpPr/>
          <p:nvPr/>
        </p:nvSpPr>
        <p:spPr>
          <a:xfrm>
            <a:off x="4403880" y="3084480"/>
            <a:ext cx="54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 Box 11"/>
          <p:cNvSpPr/>
          <p:nvPr/>
        </p:nvSpPr>
        <p:spPr>
          <a:xfrm>
            <a:off x="6080040" y="4913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AutoShape 12"/>
          <p:cNvSpPr/>
          <p:nvPr/>
        </p:nvSpPr>
        <p:spPr>
          <a:xfrm>
            <a:off x="251460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Text Box 13"/>
          <p:cNvSpPr/>
          <p:nvPr/>
        </p:nvSpPr>
        <p:spPr>
          <a:xfrm>
            <a:off x="3718080" y="5446800"/>
            <a:ext cx="5045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I wanted to know the measurement of Angle A…I would ask:” What is the measurement for BAC?” (Notice A is in the cen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he En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ce you study all the “fancy words”, Geometry is very easy to understand…so STUDY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POINT is an exact location on a graph, shape or in “space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The Hershey Kiss is a POINT on the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2057400" y="4572000"/>
            <a:ext cx="51055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4421160" y="44197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4191120" y="4038480"/>
            <a:ext cx="761760" cy="89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goes in opposite directions and never, never, never end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4"/>
          <p:cNvSpPr/>
          <p:nvPr/>
        </p:nvSpPr>
        <p:spPr>
          <a:xfrm>
            <a:off x="533520" y="3809880"/>
            <a:ext cx="8153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3" name="Picture 5" descr="twizzler"/>
          <p:cNvPicPr/>
          <p:nvPr/>
        </p:nvPicPr>
        <p:blipFill>
          <a:blip r:embed="rId2"/>
          <a:stretch/>
        </p:blipFill>
        <p:spPr>
          <a:xfrm>
            <a:off x="-380880" y="4724280"/>
            <a:ext cx="9524880" cy="12049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6"/>
          <p:cNvSpPr/>
          <p:nvPr/>
        </p:nvSpPr>
        <p:spPr>
          <a:xfrm>
            <a:off x="0" y="605628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magine if this Twizzler went on forever and ever and ever and ever and ever and e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RAY is part of a line, but it has one endpoint and the other end keeps going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Line 4"/>
          <p:cNvSpPr/>
          <p:nvPr/>
        </p:nvSpPr>
        <p:spPr>
          <a:xfrm>
            <a:off x="1752480" y="4724280"/>
            <a:ext cx="6705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5"/>
          <p:cNvSpPr/>
          <p:nvPr/>
        </p:nvSpPr>
        <p:spPr>
          <a:xfrm>
            <a:off x="1677960" y="44956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6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600200" y="41911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30" name="Text Box 7"/>
          <p:cNvSpPr/>
          <p:nvPr/>
        </p:nvSpPr>
        <p:spPr>
          <a:xfrm>
            <a:off x="609480" y="5943600"/>
            <a:ext cx="138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AutoShape 8"/>
          <p:cNvSpPr/>
          <p:nvPr/>
        </p:nvSpPr>
        <p:spPr>
          <a:xfrm rot="1683600">
            <a:off x="1294920" y="49528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9"/>
          <p:cNvSpPr/>
          <p:nvPr/>
        </p:nvSpPr>
        <p:spPr>
          <a:xfrm>
            <a:off x="2590920" y="5029200"/>
            <a:ext cx="65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aaaaaaaaaaaaaaaaaaaaaaayyyyyyyyyyyyyyyyyyyyyyyyyy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 ENDPOINT is a point at the end of a ray or line segmen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Line 4"/>
          <p:cNvSpPr/>
          <p:nvPr/>
        </p:nvSpPr>
        <p:spPr>
          <a:xfrm>
            <a:off x="1447920" y="4572000"/>
            <a:ext cx="6172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Picture 5" descr="kiss"/>
          <p:cNvPicPr/>
          <p:nvPr/>
        </p:nvPicPr>
        <p:blipFill>
          <a:blip r:embed="rId2"/>
          <a:srcRect l="0" t="14536" r="21564" b="0"/>
          <a:stretch/>
        </p:blipFill>
        <p:spPr>
          <a:xfrm>
            <a:off x="1447920" y="4114800"/>
            <a:ext cx="761760" cy="895320"/>
          </a:xfrm>
          <a:prstGeom prst="rect">
            <a:avLst/>
          </a:prstGeom>
          <a:ln w="0">
            <a:noFill/>
          </a:ln>
        </p:spPr>
      </p:pic>
      <p:sp>
        <p:nvSpPr>
          <p:cNvPr id="237" name="AutoShape 6"/>
          <p:cNvSpPr/>
          <p:nvPr/>
        </p:nvSpPr>
        <p:spPr>
          <a:xfrm rot="774600">
            <a:off x="1371240" y="5029200"/>
            <a:ext cx="485640" cy="976320"/>
          </a:xfrm>
          <a:prstGeom prst="up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Text Box 7"/>
          <p:cNvSpPr/>
          <p:nvPr/>
        </p:nvSpPr>
        <p:spPr>
          <a:xfrm>
            <a:off x="1127160" y="6056280"/>
            <a:ext cx="16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LINE SEGMENT  is part of a ray or lin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has two endpoi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Line 4"/>
          <p:cNvSpPr/>
          <p:nvPr/>
        </p:nvSpPr>
        <p:spPr>
          <a:xfrm>
            <a:off x="685800" y="5105520"/>
            <a:ext cx="784872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50306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6"/>
          <p:cNvSpPr/>
          <p:nvPr/>
        </p:nvSpPr>
        <p:spPr>
          <a:xfrm>
            <a:off x="3430440" y="49528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44" name="AutoShape 7"/>
          <p:cNvCxnSpPr>
            <a:stCxn id="243" idx="0"/>
            <a:endCxn id="242" idx="0"/>
          </p:cNvCxnSpPr>
          <p:nvPr/>
        </p:nvCxnSpPr>
        <p:spPr>
          <a:xfrm>
            <a:off x="3590640" y="4952520"/>
            <a:ext cx="1600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8"/>
          <p:cNvSpPr/>
          <p:nvPr/>
        </p:nvSpPr>
        <p:spPr>
          <a:xfrm>
            <a:off x="3794040" y="422748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 Seg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0" y="4952880"/>
            <a:ext cx="7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Text Box 12"/>
          <p:cNvSpPr/>
          <p:nvPr/>
        </p:nvSpPr>
        <p:spPr>
          <a:xfrm>
            <a:off x="8442360" y="495288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Line 14"/>
          <p:cNvSpPr/>
          <p:nvPr/>
        </p:nvSpPr>
        <p:spPr>
          <a:xfrm>
            <a:off x="5257800" y="5486400"/>
            <a:ext cx="31240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5"/>
          <p:cNvSpPr/>
          <p:nvPr/>
        </p:nvSpPr>
        <p:spPr>
          <a:xfrm>
            <a:off x="6308640" y="5675400"/>
            <a:ext cx="7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16"/>
          <p:cNvSpPr/>
          <p:nvPr/>
        </p:nvSpPr>
        <p:spPr>
          <a:xfrm>
            <a:off x="5182920" y="53341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1" name="Picture 17" descr="kiss"/>
          <p:cNvPicPr/>
          <p:nvPr/>
        </p:nvPicPr>
        <p:blipFill>
          <a:blip r:embed="rId3"/>
          <a:srcRect l="0" t="14536" r="21564" b="0"/>
          <a:stretch/>
        </p:blipFill>
        <p:spPr>
          <a:xfrm>
            <a:off x="3048120" y="4648320"/>
            <a:ext cx="761760" cy="8953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8" descr="kiss"/>
          <p:cNvPicPr/>
          <p:nvPr/>
        </p:nvPicPr>
        <p:blipFill>
          <a:blip r:embed="rId4"/>
          <a:srcRect l="0" t="14536" r="21564" b="0"/>
          <a:stretch/>
        </p:blipFill>
        <p:spPr>
          <a:xfrm>
            <a:off x="4952880" y="4648320"/>
            <a:ext cx="762120" cy="895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19"/>
          <p:cNvSpPr/>
          <p:nvPr/>
        </p:nvSpPr>
        <p:spPr>
          <a:xfrm>
            <a:off x="3184560" y="559908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ndpoi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ERTE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VERTEX is a fancy name for “angl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wo rays or lines that have the same endpoint make a VERTEX/ang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RTEX/angles are measured in “degrees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1371600" y="5486400"/>
            <a:ext cx="914400" cy="9144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AutoShape 5"/>
          <p:cNvSpPr/>
          <p:nvPr/>
        </p:nvSpPr>
        <p:spPr>
          <a:xfrm rot="1525800">
            <a:off x="304560" y="50288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AutoShape 6"/>
          <p:cNvSpPr/>
          <p:nvPr/>
        </p:nvSpPr>
        <p:spPr>
          <a:xfrm rot="19798800">
            <a:off x="2285640" y="49528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7"/>
          <p:cNvSpPr/>
          <p:nvPr/>
        </p:nvSpPr>
        <p:spPr>
          <a:xfrm>
            <a:off x="2438280" y="5638680"/>
            <a:ext cx="222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orners of a square are its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8"/>
          <p:cNvSpPr/>
          <p:nvPr/>
        </p:nvSpPr>
        <p:spPr>
          <a:xfrm>
            <a:off x="6095880" y="4572000"/>
            <a:ext cx="0" cy="160020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Line 9"/>
          <p:cNvSpPr/>
          <p:nvPr/>
        </p:nvSpPr>
        <p:spPr>
          <a:xfrm>
            <a:off x="5486400" y="5334120"/>
            <a:ext cx="129528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AutoShape 10"/>
          <p:cNvSpPr/>
          <p:nvPr/>
        </p:nvSpPr>
        <p:spPr>
          <a:xfrm rot="19798800">
            <a:off x="617220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AutoShape 11"/>
          <p:cNvSpPr/>
          <p:nvPr/>
        </p:nvSpPr>
        <p:spPr>
          <a:xfrm rot="1255800">
            <a:off x="6248520" y="540972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AutoShape 12"/>
          <p:cNvSpPr/>
          <p:nvPr/>
        </p:nvSpPr>
        <p:spPr>
          <a:xfrm rot="13038600">
            <a:off x="5105520" y="46479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AutoShape 13"/>
          <p:cNvSpPr/>
          <p:nvPr/>
        </p:nvSpPr>
        <p:spPr>
          <a:xfrm rot="9735600">
            <a:off x="380520" y="63720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14"/>
          <p:cNvSpPr/>
          <p:nvPr/>
        </p:nvSpPr>
        <p:spPr>
          <a:xfrm rot="7965000">
            <a:off x="5088240" y="5579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15"/>
          <p:cNvSpPr/>
          <p:nvPr/>
        </p:nvSpPr>
        <p:spPr>
          <a:xfrm>
            <a:off x="7467480" y="445608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two lines cross, they make vertex/ang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NGRU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means the “sam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LINE SEGMENTS means two line segment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GRUENT Vertex/Angles means two angles are the s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Line 4"/>
          <p:cNvSpPr/>
          <p:nvPr/>
        </p:nvSpPr>
        <p:spPr>
          <a:xfrm>
            <a:off x="2819520" y="4876920"/>
            <a:ext cx="28954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Line 5"/>
          <p:cNvSpPr/>
          <p:nvPr/>
        </p:nvSpPr>
        <p:spPr>
          <a:xfrm>
            <a:off x="2819520" y="5334120"/>
            <a:ext cx="2971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6"/>
          <p:cNvSpPr/>
          <p:nvPr/>
        </p:nvSpPr>
        <p:spPr>
          <a:xfrm>
            <a:off x="259236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5640120" y="47242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8"/>
          <p:cNvSpPr/>
          <p:nvPr/>
        </p:nvSpPr>
        <p:spPr>
          <a:xfrm>
            <a:off x="2592360" y="510552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5640120" y="5181480"/>
            <a:ext cx="3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6" name="Picture 10" descr="Hershey"/>
          <p:cNvPicPr/>
          <p:nvPr/>
        </p:nvPicPr>
        <p:blipFill>
          <a:blip r:embed="rId4"/>
          <a:stretch/>
        </p:blipFill>
        <p:spPr>
          <a:xfrm>
            <a:off x="0" y="5048280"/>
            <a:ext cx="2286000" cy="180972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11"/>
          <p:cNvSpPr/>
          <p:nvPr/>
        </p:nvSpPr>
        <p:spPr>
          <a:xfrm>
            <a:off x="3108240" y="62485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Hershey &amp; Crunch Bar are a Congruent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4T00:10:02Z</dcterms:created>
  <dc:creator>Mr. Ryan</dc:creator>
  <dc:description/>
  <dc:language>en-US</dc:language>
  <cp:lastModifiedBy>LEGION</cp:lastModifiedBy>
  <dcterms:modified xsi:type="dcterms:W3CDTF">2015-09-08T10:22:36Z</dcterms:modified>
  <cp:revision>26</cp:revision>
  <dc:subject/>
  <dc:title>Geometry Vocabulary</dc:title>
</cp:coreProperties>
</file>