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4F22-0DA3-4100-8EEC-33A0C9C479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A68-2F2A-4452-BB67-F2957C85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C32-E959-4CA7-9714-88CCE3BD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814-9341-4053-8A2C-EF747B8F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E88-1102-40AB-91C2-E7378616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E4DC-1F4D-457F-82EB-7B3F1421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5070-AFD2-49A1-BFC3-68E37588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A465-D4B4-483D-8C1A-9402F5C1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5A9F-7C3D-48E8-9EEF-DF546E5C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DDFD-5691-49DB-94B3-7D3D3885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4869-2A3F-4339-8878-85531BAD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C5B5-5E68-4381-8D73-0B82B13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F8B-70DE-4D3F-B3B3-77B30605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B22E-6483-44B7-8D50-99D4C158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BF7D-5B18-4D12-9EB4-EE54170B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5B12-D14D-439F-AFCA-D2D25BE8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7143-289A-41AD-B38E-4726BD10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75DE-A7B9-40FE-977D-9020747A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DFDA-31B9-4C28-A7FA-1EB8E83E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AEF0-C3AD-4D39-92CC-D1730229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18D4-CAF2-4A98-B1D3-FD285887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E247-F9F3-4FF5-8544-04CCAD44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0838-663E-4667-BADE-2C754131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DFF-CF8B-4487-8C3B-28814DE2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09F4-69AA-43AF-BBC6-E96D193C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7828-7C50-47EE-8DF3-1E91CAC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F746-9711-4590-8169-045A5809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EECE3-6E04-4DE4-BCE8-577394C3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D963-B986-4613-955A-824E7EF0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2F9A-320C-4CB8-BB8F-9C2D67AD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129F-5A08-4384-8584-A38D4AFD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844-5B5A-4995-86AB-CB32B813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074-5658-4C73-8908-B1758F57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754-FBCC-4719-9E61-EE87FAA9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307-C1C4-4B6F-BEE7-06EE5D4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946-383D-45EF-92B7-69B2D99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62A-46E4-444F-B71B-CF333D3B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9E6F-59CB-4F76-9451-D7ACA420E3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0013-7A40-4ED0-8984-CC3FC7161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9BB5-A531-4651-BE33-554F9AC5D0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1600200" y="29718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Hershey"/>
          <p:cNvPicPr/>
          <p:nvPr/>
        </p:nvPicPr>
        <p:blipFill>
          <a:blip r:embed="rId2"/>
          <a:stretch/>
        </p:blipFill>
        <p:spPr>
          <a:xfrm>
            <a:off x="3743280" y="3267000"/>
            <a:ext cx="2421000" cy="3057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7147080" y="354168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990720" y="3429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Hershey"/>
          <p:cNvPicPr/>
          <p:nvPr/>
        </p:nvPicPr>
        <p:blipFill>
          <a:blip r:embed="rId2"/>
          <a:stretch/>
        </p:blipFill>
        <p:spPr>
          <a:xfrm>
            <a:off x="1447920" y="3886200"/>
            <a:ext cx="3276360" cy="2593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6172200" y="4532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j0233070"/>
          <p:cNvPicPr/>
          <p:nvPr/>
        </p:nvPicPr>
        <p:blipFill>
          <a:blip r:embed="rId1"/>
          <a:stretch/>
        </p:blipFill>
        <p:spPr>
          <a:xfrm>
            <a:off x="0" y="304920"/>
            <a:ext cx="2209680" cy="110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92152"/>
          <p:cNvPicPr/>
          <p:nvPr/>
        </p:nvPicPr>
        <p:blipFill>
          <a:blip r:embed="rId2"/>
          <a:stretch/>
        </p:blipFill>
        <p:spPr>
          <a:xfrm>
            <a:off x="304920" y="464832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 flipV="1">
            <a:off x="838080" y="4723920"/>
            <a:ext cx="8384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1676520" y="472428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8380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219320" y="411480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8"/>
          <p:cNvSpPr/>
          <p:nvPr/>
        </p:nvSpPr>
        <p:spPr>
          <a:xfrm>
            <a:off x="5638680" y="4648320"/>
            <a:ext cx="1622520" cy="1461960"/>
          </a:xfrm>
          <a:custGeom>
            <a:avLst/>
            <a:gdLst/>
            <a:ahLst/>
            <a:rect l="l" t="t" r="r" b="b"/>
            <a:pathLst>
              <a:path w="1022" h="921">
                <a:moveTo>
                  <a:pt x="0" y="721"/>
                </a:moveTo>
                <a:cubicBezTo>
                  <a:pt x="28" y="653"/>
                  <a:pt x="42" y="572"/>
                  <a:pt x="94" y="520"/>
                </a:cubicBezTo>
                <a:cubicBezTo>
                  <a:pt x="105" y="509"/>
                  <a:pt x="122" y="504"/>
                  <a:pt x="134" y="493"/>
                </a:cubicBezTo>
                <a:cubicBezTo>
                  <a:pt x="145" y="483"/>
                  <a:pt x="255" y="373"/>
                  <a:pt x="282" y="346"/>
                </a:cubicBezTo>
                <a:cubicBezTo>
                  <a:pt x="351" y="277"/>
                  <a:pt x="380" y="169"/>
                  <a:pt x="402" y="78"/>
                </a:cubicBezTo>
                <a:cubicBezTo>
                  <a:pt x="398" y="56"/>
                  <a:pt x="410" y="19"/>
                  <a:pt x="389" y="11"/>
                </a:cubicBezTo>
                <a:cubicBezTo>
                  <a:pt x="361" y="0"/>
                  <a:pt x="258" y="28"/>
                  <a:pt x="215" y="38"/>
                </a:cubicBezTo>
                <a:cubicBezTo>
                  <a:pt x="192" y="84"/>
                  <a:pt x="164" y="123"/>
                  <a:pt x="148" y="172"/>
                </a:cubicBezTo>
                <a:cubicBezTo>
                  <a:pt x="175" y="190"/>
                  <a:pt x="198" y="214"/>
                  <a:pt x="228" y="225"/>
                </a:cubicBezTo>
                <a:cubicBezTo>
                  <a:pt x="241" y="230"/>
                  <a:pt x="256" y="232"/>
                  <a:pt x="268" y="239"/>
                </a:cubicBezTo>
                <a:cubicBezTo>
                  <a:pt x="296" y="255"/>
                  <a:pt x="349" y="292"/>
                  <a:pt x="349" y="292"/>
                </a:cubicBezTo>
                <a:cubicBezTo>
                  <a:pt x="394" y="288"/>
                  <a:pt x="440" y="291"/>
                  <a:pt x="483" y="279"/>
                </a:cubicBezTo>
                <a:cubicBezTo>
                  <a:pt x="504" y="273"/>
                  <a:pt x="517" y="251"/>
                  <a:pt x="536" y="239"/>
                </a:cubicBezTo>
                <a:cubicBezTo>
                  <a:pt x="553" y="228"/>
                  <a:pt x="573" y="222"/>
                  <a:pt x="590" y="212"/>
                </a:cubicBezTo>
                <a:cubicBezTo>
                  <a:pt x="617" y="196"/>
                  <a:pt x="643" y="177"/>
                  <a:pt x="670" y="159"/>
                </a:cubicBezTo>
                <a:cubicBezTo>
                  <a:pt x="683" y="150"/>
                  <a:pt x="710" y="132"/>
                  <a:pt x="710" y="132"/>
                </a:cubicBezTo>
                <a:cubicBezTo>
                  <a:pt x="719" y="150"/>
                  <a:pt x="736" y="165"/>
                  <a:pt x="737" y="185"/>
                </a:cubicBezTo>
                <a:cubicBezTo>
                  <a:pt x="741" y="252"/>
                  <a:pt x="735" y="320"/>
                  <a:pt x="724" y="386"/>
                </a:cubicBezTo>
                <a:cubicBezTo>
                  <a:pt x="709" y="474"/>
                  <a:pt x="494" y="464"/>
                  <a:pt x="456" y="467"/>
                </a:cubicBezTo>
                <a:cubicBezTo>
                  <a:pt x="407" y="483"/>
                  <a:pt x="357" y="490"/>
                  <a:pt x="309" y="507"/>
                </a:cubicBezTo>
                <a:cubicBezTo>
                  <a:pt x="359" y="817"/>
                  <a:pt x="734" y="564"/>
                  <a:pt x="992" y="614"/>
                </a:cubicBezTo>
                <a:cubicBezTo>
                  <a:pt x="1001" y="627"/>
                  <a:pt x="1022" y="639"/>
                  <a:pt x="1018" y="654"/>
                </a:cubicBezTo>
                <a:cubicBezTo>
                  <a:pt x="1014" y="668"/>
                  <a:pt x="992" y="667"/>
                  <a:pt x="978" y="668"/>
                </a:cubicBezTo>
                <a:cubicBezTo>
                  <a:pt x="907" y="676"/>
                  <a:pt x="835" y="677"/>
                  <a:pt x="764" y="681"/>
                </a:cubicBezTo>
                <a:cubicBezTo>
                  <a:pt x="670" y="686"/>
                  <a:pt x="577" y="690"/>
                  <a:pt x="483" y="694"/>
                </a:cubicBezTo>
                <a:cubicBezTo>
                  <a:pt x="514" y="921"/>
                  <a:pt x="453" y="707"/>
                  <a:pt x="831" y="801"/>
                </a:cubicBezTo>
                <a:cubicBezTo>
                  <a:pt x="853" y="806"/>
                  <a:pt x="828" y="848"/>
                  <a:pt x="818" y="868"/>
                </a:cubicBezTo>
                <a:cubicBezTo>
                  <a:pt x="815" y="874"/>
                  <a:pt x="809" y="859"/>
                  <a:pt x="804" y="8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791320" y="41148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8724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487840" y="5562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678312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3493800">
            <a:off x="59040" y="53506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13153200">
            <a:off x="914400" y="6095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905120" y="64911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 rot="3493800">
            <a:off x="4707720" y="5045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 rot="10800000">
            <a:off x="7086600" y="59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632480" y="441972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8077320" y="59436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143000" y="48006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7315200" y="43434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135840" y="4290840"/>
            <a:ext cx="1255680" cy="1641600"/>
          </a:xfrm>
          <a:custGeom>
            <a:avLst/>
            <a:gdLst/>
            <a:ahLst/>
            <a:rect l="l" t="t" r="r" b="b"/>
            <a:pathLst>
              <a:path w="791" h="1034">
                <a:moveTo>
                  <a:pt x="20" y="365"/>
                </a:moveTo>
                <a:cubicBezTo>
                  <a:pt x="36" y="131"/>
                  <a:pt x="348" y="34"/>
                  <a:pt x="542" y="3"/>
                </a:cubicBezTo>
                <a:cubicBezTo>
                  <a:pt x="791" y="63"/>
                  <a:pt x="607" y="0"/>
                  <a:pt x="582" y="619"/>
                </a:cubicBezTo>
                <a:cubicBezTo>
                  <a:pt x="576" y="758"/>
                  <a:pt x="494" y="935"/>
                  <a:pt x="395" y="1034"/>
                </a:cubicBezTo>
                <a:cubicBezTo>
                  <a:pt x="395" y="1034"/>
                  <a:pt x="291" y="1022"/>
                  <a:pt x="274" y="1008"/>
                </a:cubicBezTo>
                <a:cubicBezTo>
                  <a:pt x="244" y="985"/>
                  <a:pt x="221" y="954"/>
                  <a:pt x="194" y="927"/>
                </a:cubicBezTo>
                <a:cubicBezTo>
                  <a:pt x="181" y="914"/>
                  <a:pt x="154" y="887"/>
                  <a:pt x="154" y="887"/>
                </a:cubicBezTo>
                <a:cubicBezTo>
                  <a:pt x="128" y="821"/>
                  <a:pt x="101" y="769"/>
                  <a:pt x="87" y="699"/>
                </a:cubicBezTo>
                <a:cubicBezTo>
                  <a:pt x="70" y="515"/>
                  <a:pt x="85" y="600"/>
                  <a:pt x="46" y="445"/>
                </a:cubicBezTo>
                <a:cubicBezTo>
                  <a:pt x="42" y="429"/>
                  <a:pt x="11" y="433"/>
                  <a:pt x="6" y="418"/>
                </a:cubicBezTo>
                <a:cubicBezTo>
                  <a:pt x="0" y="401"/>
                  <a:pt x="15" y="383"/>
                  <a:pt x="20" y="365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7086600" y="5638680"/>
            <a:ext cx="914400" cy="735120"/>
          </a:xfrm>
          <a:custGeom>
            <a:avLst/>
            <a:gdLst/>
            <a:ahLst/>
            <a:rect l="l" t="t" r="r" b="b"/>
            <a:pathLst>
              <a:path w="576" h="463">
                <a:moveTo>
                  <a:pt x="576" y="13"/>
                </a:moveTo>
                <a:cubicBezTo>
                  <a:pt x="548" y="70"/>
                  <a:pt x="507" y="183"/>
                  <a:pt x="429" y="201"/>
                </a:cubicBezTo>
                <a:cubicBezTo>
                  <a:pt x="359" y="217"/>
                  <a:pt x="286" y="215"/>
                  <a:pt x="215" y="227"/>
                </a:cubicBezTo>
                <a:cubicBezTo>
                  <a:pt x="141" y="252"/>
                  <a:pt x="80" y="259"/>
                  <a:pt x="0" y="268"/>
                </a:cubicBezTo>
                <a:cubicBezTo>
                  <a:pt x="58" y="279"/>
                  <a:pt x="122" y="279"/>
                  <a:pt x="174" y="308"/>
                </a:cubicBezTo>
                <a:cubicBezTo>
                  <a:pt x="264" y="358"/>
                  <a:pt x="329" y="416"/>
                  <a:pt x="429" y="442"/>
                </a:cubicBezTo>
                <a:cubicBezTo>
                  <a:pt x="469" y="437"/>
                  <a:pt x="528" y="463"/>
                  <a:pt x="549" y="428"/>
                </a:cubicBezTo>
                <a:cubicBezTo>
                  <a:pt x="565" y="401"/>
                  <a:pt x="492" y="398"/>
                  <a:pt x="469" y="375"/>
                </a:cubicBezTo>
                <a:cubicBezTo>
                  <a:pt x="456" y="362"/>
                  <a:pt x="440" y="350"/>
                  <a:pt x="429" y="335"/>
                </a:cubicBezTo>
                <a:cubicBezTo>
                  <a:pt x="387" y="275"/>
                  <a:pt x="370" y="216"/>
                  <a:pt x="308" y="174"/>
                </a:cubicBezTo>
                <a:cubicBezTo>
                  <a:pt x="290" y="147"/>
                  <a:pt x="273" y="120"/>
                  <a:pt x="255" y="93"/>
                </a:cubicBezTo>
                <a:cubicBezTo>
                  <a:pt x="246" y="80"/>
                  <a:pt x="228" y="53"/>
                  <a:pt x="228" y="53"/>
                </a:cubicBezTo>
                <a:cubicBezTo>
                  <a:pt x="224" y="40"/>
                  <a:pt x="209" y="25"/>
                  <a:pt x="215" y="13"/>
                </a:cubicBezTo>
                <a:cubicBezTo>
                  <a:pt x="221" y="1"/>
                  <a:pt x="241" y="0"/>
                  <a:pt x="255" y="0"/>
                </a:cubicBezTo>
                <a:cubicBezTo>
                  <a:pt x="313" y="0"/>
                  <a:pt x="371" y="9"/>
                  <a:pt x="429" y="13"/>
                </a:cubicBezTo>
                <a:cubicBezTo>
                  <a:pt x="456" y="31"/>
                  <a:pt x="482" y="49"/>
                  <a:pt x="509" y="67"/>
                </a:cubicBezTo>
                <a:cubicBezTo>
                  <a:pt x="572" y="109"/>
                  <a:pt x="544" y="107"/>
                  <a:pt x="576" y="13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14600" y="4191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133720" y="5334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06668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400800" y="388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rotractor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9" descr="protractor2"/>
          <p:cNvPicPr/>
          <p:nvPr/>
        </p:nvPicPr>
        <p:blipFill>
          <a:blip r:embed="rId3"/>
          <a:stretch/>
        </p:blipFill>
        <p:spPr>
          <a:xfrm>
            <a:off x="1143000" y="35812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NGLES are less than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acute angle1"/>
          <p:cNvPicPr/>
          <p:nvPr/>
        </p:nvPicPr>
        <p:blipFill>
          <a:blip r:embed="rId2"/>
          <a:stretch/>
        </p:blipFill>
        <p:spPr>
          <a:xfrm>
            <a:off x="2286000" y="2971800"/>
            <a:ext cx="4229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ANGLES measure exactly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right angle"/>
          <p:cNvPicPr/>
          <p:nvPr/>
        </p:nvPicPr>
        <p:blipFill>
          <a:blip r:embed="rId2"/>
          <a:stretch/>
        </p:blipFill>
        <p:spPr>
          <a:xfrm>
            <a:off x="1752480" y="3276720"/>
            <a:ext cx="3362400" cy="26762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 rot="2089200">
            <a:off x="3111120" y="2935440"/>
            <a:ext cx="485640" cy="2271600"/>
          </a:xfrm>
          <a:prstGeom prst="downArrow">
            <a:avLst>
              <a:gd name="adj1" fmla="val 50000"/>
              <a:gd name="adj2" fmla="val 11693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038480" y="20574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7" descr="right angle 2"/>
          <p:cNvPicPr/>
          <p:nvPr/>
        </p:nvPicPr>
        <p:blipFill>
          <a:blip r:embed="rId3"/>
          <a:stretch/>
        </p:blipFill>
        <p:spPr>
          <a:xfrm>
            <a:off x="5638680" y="3581280"/>
            <a:ext cx="3048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UES ANGLES are greater than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but less than 180 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obtuse angle"/>
          <p:cNvPicPr/>
          <p:nvPr/>
        </p:nvPicPr>
        <p:blipFill>
          <a:blip r:embed="rId2"/>
          <a:stretch/>
        </p:blipFill>
        <p:spPr>
          <a:xfrm>
            <a:off x="838080" y="3733920"/>
            <a:ext cx="3676680" cy="180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protractor2"/>
          <p:cNvPicPr/>
          <p:nvPr/>
        </p:nvPicPr>
        <p:blipFill>
          <a:blip r:embed="rId3"/>
          <a:stretch/>
        </p:blipFill>
        <p:spPr>
          <a:xfrm>
            <a:off x="5105520" y="373392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 ANGLE is exactly 18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traight angle"/>
          <p:cNvPicPr/>
          <p:nvPr/>
        </p:nvPicPr>
        <p:blipFill>
          <a:blip r:embed="rId2"/>
          <a:stretch/>
        </p:blipFill>
        <p:spPr>
          <a:xfrm>
            <a:off x="2971800" y="2895480"/>
            <a:ext cx="3328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gingerbread house"/>
          <p:cNvPicPr/>
          <p:nvPr/>
        </p:nvPicPr>
        <p:blipFill>
          <a:blip r:embed="rId4"/>
          <a:stretch/>
        </p:blipFill>
        <p:spPr>
          <a:xfrm>
            <a:off x="5334120" y="3809880"/>
            <a:ext cx="24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2590920" y="3733560"/>
            <a:ext cx="1904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495680" y="3809880"/>
            <a:ext cx="1295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 flipH="1" flipV="1">
            <a:off x="2666520" y="4876560"/>
            <a:ext cx="31244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2193840" y="4836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4403880" y="308448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080040" y="4913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251460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718080" y="5446800"/>
            <a:ext cx="50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Hershey Kiss is a POINT on t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2057400" y="4572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1160" y="441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4191120" y="4038480"/>
            <a:ext cx="761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twizzler"/>
          <p:cNvPicPr/>
          <p:nvPr/>
        </p:nvPicPr>
        <p:blipFill>
          <a:blip r:embed="rId2"/>
          <a:stretch/>
        </p:blipFill>
        <p:spPr>
          <a:xfrm>
            <a:off x="-380880" y="4724280"/>
            <a:ext cx="9524880" cy="12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0" y="605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752480" y="472428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7960" y="4495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600200" y="41911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9480" y="594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 rot="1683600">
            <a:off x="129492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590920" y="5029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447920" y="45720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447920" y="4114800"/>
            <a:ext cx="761760" cy="8953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 rot="774600">
            <a:off x="137124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127160" y="6056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5800" y="51055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0306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4304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AutoShape 7"/>
          <p:cNvCxnSpPr>
            <a:stCxn id="243" idx="0"/>
            <a:endCxn id="242" idx="0"/>
          </p:cNvCxnSpPr>
          <p:nvPr/>
        </p:nvCxnSpPr>
        <p:spPr>
          <a:xfrm>
            <a:off x="3590640" y="4952520"/>
            <a:ext cx="160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8"/>
          <p:cNvSpPr/>
          <p:nvPr/>
        </p:nvSpPr>
        <p:spPr>
          <a:xfrm>
            <a:off x="3794040" y="42274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4952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8442360" y="49528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486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308640" y="56754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182920" y="5334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3048120" y="4648320"/>
            <a:ext cx="76176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kiss"/>
          <p:cNvPicPr/>
          <p:nvPr/>
        </p:nvPicPr>
        <p:blipFill>
          <a:blip r:embed="rId4"/>
          <a:srcRect l="0" t="14536" r="21564" b="0"/>
          <a:stretch/>
        </p:blipFill>
        <p:spPr>
          <a:xfrm>
            <a:off x="4952880" y="46483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9"/>
          <p:cNvSpPr/>
          <p:nvPr/>
        </p:nvSpPr>
        <p:spPr>
          <a:xfrm>
            <a:off x="3184560" y="5599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371600" y="54864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525800">
            <a:off x="304560" y="5028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798800">
            <a:off x="228564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438280" y="56386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6095880" y="4572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486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9798800">
            <a:off x="617220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 rot="1255800">
            <a:off x="6248520" y="5409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 rot="13038600">
            <a:off x="5105520" y="4647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 rot="9735600">
            <a:off x="380520" y="6372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 rot="7965000">
            <a:off x="5088240" y="5579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467480" y="4456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2819520" y="4876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819520" y="53341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9236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64012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92360" y="51055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640120" y="5181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Hershey"/>
          <p:cNvPicPr/>
          <p:nvPr/>
        </p:nvPicPr>
        <p:blipFill>
          <a:blip r:embed="rId4"/>
          <a:stretch/>
        </p:blipFill>
        <p:spPr>
          <a:xfrm>
            <a:off x="0" y="5048280"/>
            <a:ext cx="2286000" cy="1809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3108240" y="62485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0:10:02Z</dcterms:created>
  <dc:creator>Mr. Ryan</dc:creator>
  <dc:description/>
  <dc:language>en-US</dc:language>
  <cp:lastModifiedBy>LEGION</cp:lastModifiedBy>
  <dcterms:modified xsi:type="dcterms:W3CDTF">2015-09-08T10:22:36Z</dcterms:modified>
  <cp:revision>26</cp:revision>
  <dc:subject/>
  <dc:title>Geometry Vocabulary</dc:title>
</cp:coreProperties>
</file>