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4912-FDDE-4233-A4A2-6907430902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25A-E51D-449B-9E0F-2F796FDC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32B-777B-448F-9413-73706250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C79-B975-4271-B323-C2532D3E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B88-64D6-4E00-9391-01CA3902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CF13-4253-4B98-9A32-9B23A025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189C-D664-4FBF-B754-1BE3C00C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09F3-DBD7-4A1D-A956-EE89FF05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8FFF-7D95-4FDB-AC4D-3BBA9026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AD56-3CE7-425F-B31B-05329F30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8E59-52F7-4D29-A28F-C195A8D0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F514-F609-45A3-9001-58CDC68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E38-40CC-44DA-870B-CE946964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CB5C-16CA-41CB-A73B-B4F5FB52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0B25-A3F6-47A2-93A2-BCCB1699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9FB6-3C32-4A19-8C79-5BDAF471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97F0-BDE2-4619-9906-1ADA1699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F625-A459-40D0-BDA5-042B85E6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923-1681-4C23-B16C-AA5BFCBD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140-A59B-4AC6-B21C-CBEF2B22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C87-508F-471C-9860-29A8C831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74C-63E8-4F17-B626-574BE9B2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92F-E555-4EF9-8E96-738F5B47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CD5-075F-4C47-A163-76B27F8D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5EC-557C-4556-9C25-D0AFE642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39CA-9FC4-43D0-961F-5222E0585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9AB8-418D-4BDC-9C37-C7CE15AB6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066680" y="23623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LONG DIVISION 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CAN BE EASY!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441972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’re moving the second part of your dividend into your workspa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41972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48769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  You’ve just completed every step 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!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wait!  There’s mo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6"/>
          <p:cNvSpPr/>
          <p:nvPr/>
        </p:nvSpPr>
        <p:spPr>
          <a:xfrm rot="15737400">
            <a:off x="5188680" y="3878280"/>
            <a:ext cx="1073160" cy="1087560"/>
          </a:xfrm>
          <a:custGeom>
            <a:avLst/>
            <a:gdLst>
              <a:gd name="textAreaLeft" fmla="*/ 187560 w 1073160"/>
              <a:gd name="textAreaRight" fmla="*/ 777960 w 1073160"/>
              <a:gd name="textAreaTop" fmla="*/ 145440 h 1087560"/>
              <a:gd name="textAreaBottom" fmla="*/ 9421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114800" y="1676520"/>
          <a:ext cx="5029200" cy="4529160"/>
        </p:xfrm>
        <a:graphic>
          <a:graphicData uri="http://schemas.openxmlformats.org/drawingml/2006/table">
            <a:tbl>
              <a:tblPr/>
              <a:tblGrid>
                <a:gridCol w="2438280"/>
                <a:gridCol w="25909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2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91120" y="1371600"/>
          <a:ext cx="4419360" cy="4495680"/>
        </p:xfrm>
        <a:graphic>
          <a:graphicData uri="http://schemas.openxmlformats.org/drawingml/2006/table">
            <a:tbl>
              <a:tblPr/>
              <a:tblGrid>
                <a:gridCol w="2211120"/>
                <a:gridCol w="22082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13"/>
          <p:cNvSpPr/>
          <p:nvPr/>
        </p:nvSpPr>
        <p:spPr>
          <a:xfrm>
            <a:off x="2895480" y="38098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518112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4 becomes the second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You’re almost d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4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4 = 12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286000" y="3733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!  We know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-12 =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Leave your 2 in it’s spot, because we’re going to use it for the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1972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’re moving the next part of your dividend into your workspa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ait!!  There’s nothing to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!!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OK!  You have no more numbers in your dividend to add to your workspace so you’re almost done!  If there was a third number in our dividend, then we would start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ver again!  You want to keep going until you ha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bring do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4419720" y="2209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3a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219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L.O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know how to use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work out long divi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.T-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cc"/>
                </a:solidFill>
                <a:latin typeface="Comic Sans MS"/>
              </a:rPr>
              <a:t>(Remember To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what you have left over (or what is remaining) after you have nothing to bring dow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R -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problem, 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2  because 14-12 = 2.  Write your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to your ans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410080" y="3124080"/>
            <a:ext cx="609840" cy="1524240"/>
          </a:xfrm>
          <a:custGeom>
            <a:avLst/>
            <a:gdLst>
              <a:gd name="textAreaLeft" fmla="*/ 0 w 609840"/>
              <a:gd name="textAreaRight" fmla="*/ 522720 w 609840"/>
              <a:gd name="textAreaTop" fmla="*/ 101628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4495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order of operations for division.  It stands for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ubtrac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ing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of groups we are dividing into or the number we are dividing by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we break into groups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8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ot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nswer in divi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26668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33526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1676520" y="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Review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2480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try these problems on your own!  Remember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’re finished, move to the next slide to check your answ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3200400"/>
          <a:ext cx="8381880" cy="28954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8"/>
          <p:cNvSpPr/>
          <p:nvPr/>
        </p:nvSpPr>
        <p:spPr>
          <a:xfrm>
            <a:off x="14479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35053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56386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7696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57200" y="2133720"/>
          <a:ext cx="8381880" cy="41018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 r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Line 16"/>
          <p:cNvSpPr/>
          <p:nvPr/>
        </p:nvSpPr>
        <p:spPr>
          <a:xfrm>
            <a:off x="13716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4290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5627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76201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752480" y="3048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8862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5943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807732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id a really awesome job with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!  Long division can be easy!  And when you need a little help just think of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819520" y="5715000"/>
            <a:ext cx="3686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eep dividing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s scary, huh?  Well, when you us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simple.  Move to the next slide to ge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19920" y="23623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  The dividend is the number we break into grou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9480" y="2438280"/>
            <a:ext cx="2057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4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1" i="1" lang="en-US" sz="1400" spc="-1" strike="noStrike">
                <a:solidFill>
                  <a:srgbClr val="ff66ff"/>
                </a:solidFill>
                <a:latin typeface="Comic Sans MS"/>
              </a:rPr>
              <a:t>. </a:t>
            </a: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e divisor is the number of groups we are dividing into or the number we are dividing b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05480" y="1828800"/>
          <a:ext cx="3776400" cy="3657600"/>
        </p:xfrm>
        <a:graphic>
          <a:graphicData uri="http://schemas.openxmlformats.org/drawingml/2006/table">
            <a:tbl>
              <a:tblPr/>
              <a:tblGrid>
                <a:gridCol w="1888920"/>
                <a:gridCol w="1887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14"/>
          <p:cNvSpPr/>
          <p:nvPr/>
        </p:nvSpPr>
        <p:spPr>
          <a:xfrm>
            <a:off x="24382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9720" y="1905120"/>
          <a:ext cx="4572000" cy="3657600"/>
        </p:xfrm>
        <a:graphic>
          <a:graphicData uri="http://schemas.openxmlformats.org/drawingml/2006/table">
            <a:tbl>
              <a:tblPr/>
              <a:tblGrid>
                <a:gridCol w="2287440"/>
                <a:gridCol w="22845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Line 13"/>
          <p:cNvSpPr/>
          <p:nvPr/>
        </p:nvSpPr>
        <p:spPr>
          <a:xfrm>
            <a:off x="3733920" y="40384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5105160" y="3505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2 becomes the first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The quotient is the answer in div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41972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2= 6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4197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205740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41:07Z</dcterms:created>
  <dc:creator>corinn</dc:creator>
  <dc:description/>
  <dc:language>en-US</dc:language>
  <cp:lastModifiedBy>LEGION</cp:lastModifiedBy>
  <dcterms:modified xsi:type="dcterms:W3CDTF">2015-09-08T10:01:39Z</dcterms:modified>
  <cp:revision>22</cp:revision>
  <dc:subject/>
  <dc:title>Long Division Can Be Easy!</dc:title>
</cp:coreProperties>
</file>