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7238-5EF0-4F23-873B-BC3F3779B4A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EAS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N BE EAS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 know how many times 3 goes into 7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!  We know 7 – 6 = 1.  Leave your 1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 that we know how many times 3 goes into 7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ood!  We know 7 – 6 = 1.  Leave your 1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bring down, you’re moving the second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you bring down, you’re moving the second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w!  You’ve just completed every step of DMSB! But, wait!  There’s mo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ow have a new number          and we have to start all over agai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w!  You’ve just completed every step of DMSB! But, wait!  There’s mo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now have a new number          and we have to start all over again…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yourself:  “How many times can 3 go into 14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k yourself:  “How many times can 3 go into 14?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ant to find the closest number to 14 without going ov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case it’s 4 times because 3 x 4 is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times is too high since 3 x 5 =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want to find the closest number to 14 without going over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case it’s 4 times because 3 x 4 is 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 times is too high since 3 x 5 = 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place your 4 above the 4, because 3 goes into 14 four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 becomes the second part of your quotient.  You’re almost d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place your 4 above the 4, because 3 goes into 14 four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4 becomes the second part of your quotient.  You’re almost don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you want to multiply 3 times 4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x 4 = 12                            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o this because we said that 3 can go into 14 four times, but now we have to find out how close to 14 we can get.  So we multipl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xt, you want to multiply 3 times 4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x 4 = 12                             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do this because we said that 3 can go into 14 four times, but now we have to find out how close to 14 we can get.  So we multipl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 know how many times 3 goes into 14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!  We know 14-12 = 2.  Leave your 2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 that we know how many times 3 goes into 14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ood!  We know 14-12 = 2.  Leave your 2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bring down, you’re moving the next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ait!!  There’s nothing to bring down!!  This is OK!  You have no more numbers in your dividend to add to your workspace so you’re almost done!  If there was a third number in our dividend, then we would start DMSB all over again!  You want to keep going until you have nothing to bring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you bring down, you’re moving the next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ut wait!!  There’s nothing to bring down!!  This is OK!  You have no more numbers in your dividend to add to your workspace so you’re almost done!  If there was a third number in our dividend, then we would start DMSB all over again!  You want to keep going until you have nothing to bring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.O - To know how to use DMSB to work out long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.T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member T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.O - To know how to use DMSB to work out long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.T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Remember To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what you have left over (or what is remaining) after you have nothing to bring d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problem, the remainder is 2  because 14-12 = 2.  Write your remainder next to your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emainder is what you have left over (or what is remaining) after you have nothing to bring dow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problem, the remainder is 2  because 14-12 = 2.  Write your remainder next to your answ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what your division problem should look lik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re is what your division problem should look lik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SB is the order of operations for division.  It stands for Divide, Multiply, Subtract, 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visor is the number of groups we are dividing into or the number we are dividing by. In 2)81  2 is the divis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vidend is the number we break into groups. In 2)81  81 is the divid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!  You want to keep going until              you have nothing to bring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's Review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MSB is the order of operations for division.  It stands for Divide, Multiply, Subtract, 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ivisor is the number of groups we are dividing into or the number we are dividing by. In 2)81  2 is the divis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ividend is the number we break into groups. In 2)81  81 is the divide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!  You want to keep going until              you have nothing to bring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's Review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It Yourself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try these problems on your own!  Remember DMSB.  When you’re finished, move to the next slide to check your answe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 It Your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try these problems on your own!  Remember DMSB.  When you’re finished, move to the next slide to check your answer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self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ck Your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id a really awesome job with DMSB.  Remember!  Long division can be easy!  And when you need a little help just think of DMSB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divid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did a really awesome job with DMSB.  Remember!  Long division can be easy!  And when you need a little help just think of DMSB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eep dividing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S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MSB?  You won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ands for the order of 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MS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DMSB?  You wond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stands for the order of 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a look at this division proble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s scary, huh?  Well, when you use DMSB It can be simple.  Move to the next slide to get start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dividend.  The dividend is the number we break into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divisor. The divisor is the number of groups we are dividing into or the number we are dividing b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ke a look at this division probl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oks scary, huh?  Well, when you use DMSB It can be simple.  Move to the next slide to get start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the dividend.  The dividend is the number we break into group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the divisor. The divisor is the number of groups we are dividing into or the number we are dividing b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yourself:  “How many times can 3 go into 7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k yourself:  “How many times can 3 go into 7?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ant to find the closest number to 7 without going ov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case it’s 2 times because 3 x 2 is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imes is too high since 3 x 3 =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want to find the closest number to 7 without going over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case it’s 2 times because 3 x 2 is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times is too high since 3 x 3 = 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place your 2 above the 7, because 3 goes into 7 two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2 becomes the first part of your quotient.  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place your 2 above the 7, because 3 goes into 7 two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2 becomes the first part of your quotient.  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you want to multiply 3 times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x 2= 6                           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o this because we said that 3 can go into 7 two times, but now we have to find out how close to 7 we can get.  So we multipl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xt, you want to multiply 3 times 2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x 2= 6                           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do this because we said that 3 can go into 7 two times, but now we have to find out how close to 7 we can get.  So we multipl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EC5D-8CA8-49CC-9157-0C29D79D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0072-708A-4358-A5D9-F6DB9385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0C0D-479A-4470-B89D-FA65749D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0324-6809-4C22-8AF5-C2B84011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A460-F01F-46D2-935A-2D2A34EDE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D3C2-7614-4527-B597-D53684E2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80C3-C147-4FB1-8359-4587991F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C569-A59F-44E4-BC6B-B89F8E7E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4FD5-8577-446E-9E3A-7C3A638B0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D87A-7943-429A-A7DA-833CE9C2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3EF6-59A3-4D1F-9565-18E2C46D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F7AA-4D68-4D39-B5C3-7C016FCE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A44A-B4DD-49B4-BA9E-EBAD61EB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C346-30CC-4D12-AC6F-0D49D14E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8A79-159C-424B-B61A-6E6114F4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312E-67D8-4428-B1B5-E46AB9B8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F34C-E5A0-48E7-B431-9BD1F068D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96D9-C403-4EED-90A7-5755C039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A7F4-84DF-41B5-B6C6-D15283B5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1F12-D509-4FDA-851E-FAAFF6C7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1756-AC5D-4199-A6F8-050C263A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73BA-B9B1-4327-B650-948C83A4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CB08-2D4D-4CDF-8949-3E96D485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89FC-65D1-47DC-82EB-31685606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02F8-E2C5-4EBE-8B4D-5F1E5212F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50B4-29E8-4B96-BD6E-7E5F06AB7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1066680" y="2362320"/>
            <a:ext cx="70106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8000">
                  <a:solidFill>
                    <a:srgbClr val="000000"/>
                  </a:solidFill>
                  <a:miter/>
                </a:ln>
                <a:noFill/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comic"/>
              </a:rPr>
              <a:t>LONG DIVISION </a:t>
            </a:r>
            <a:endParaRPr b="1" lang="en-US" sz="6000" spc="1" strike="noStrike">
              <a:ln w="18000">
                <a:solidFill>
                  <a:srgbClr val="000000"/>
                </a:solidFill>
                <a:miter/>
              </a:ln>
              <a:noFill/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8000">
                  <a:solidFill>
                    <a:srgbClr val="000000"/>
                  </a:solidFill>
                  <a:miter/>
                </a:ln>
                <a:noFill/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comic"/>
              </a:rPr>
              <a:t>CAN BE EASY!</a:t>
            </a:r>
            <a:endParaRPr b="1" lang="en-US" sz="6000" spc="1" strike="noStrike">
              <a:ln w="18000">
                <a:solidFill>
                  <a:srgbClr val="000000"/>
                </a:solidFill>
                <a:miter/>
              </a:ln>
              <a:noFill/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comic"/>
              <a:ea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that we know how many times 3 goes into 7, we have to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ee the difference between the number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   </a:t>
            </a:r>
            <a:r>
              <a:rPr b="0" lang="en-US" sz="2800" spc="-1" strike="noStrike" u="sng">
                <a:solidFill>
                  <a:srgbClr val="9900cc"/>
                </a:solidFill>
                <a:uFillTx/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d!  We know 7 – 6 = 1.  Leave your 1 in it’s spot, because we’re going to use it for the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4419720" y="3276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-2289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you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ou’re moving the second part of your dividend into your workspa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4419720" y="4038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4876920" y="4419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w!  You’ve just completed every step of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!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, wait!  There’s mor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now have a new number          and we have to start all over again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4495680" y="3200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6"/>
          <p:cNvSpPr/>
          <p:nvPr/>
        </p:nvSpPr>
        <p:spPr>
          <a:xfrm rot="15737400">
            <a:off x="5188680" y="3878280"/>
            <a:ext cx="1073160" cy="1087560"/>
          </a:xfrm>
          <a:custGeom>
            <a:avLst/>
            <a:gdLst>
              <a:gd name="textAreaLeft" fmla="*/ 187560 w 1073160"/>
              <a:gd name="textAreaRight" fmla="*/ 777960 w 1073160"/>
              <a:gd name="textAreaTop" fmla="*/ 145440 h 1087560"/>
              <a:gd name="textAreaBottom" fmla="*/ 942120 h 108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, we want to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IVI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k yourself:  “How many times can 3 go into 14?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114800" y="1676520"/>
          <a:ext cx="5029200" cy="4529160"/>
        </p:xfrm>
        <a:graphic>
          <a:graphicData uri="http://schemas.openxmlformats.org/drawingml/2006/table">
            <a:tbl>
              <a:tblPr/>
              <a:tblGrid>
                <a:gridCol w="2438280"/>
                <a:gridCol w="2590920"/>
              </a:tblGrid>
              <a:tr h="455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4 =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5 = 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Line 12"/>
          <p:cNvSpPr/>
          <p:nvPr/>
        </p:nvSpPr>
        <p:spPr>
          <a:xfrm>
            <a:off x="2438280" y="4267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want to find the closest number to 14 without going over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case it’s 4 times because 3 x 4 is 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times is too high since 3 x 5 = 1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191120" y="1371600"/>
          <a:ext cx="4419360" cy="4495680"/>
        </p:xfrm>
        <a:graphic>
          <a:graphicData uri="http://schemas.openxmlformats.org/drawingml/2006/table">
            <a:tbl>
              <a:tblPr/>
              <a:tblGrid>
                <a:gridCol w="2211120"/>
                <a:gridCol w="2208240"/>
              </a:tblGrid>
              <a:tr h="44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4 =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5 = 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Line 13"/>
          <p:cNvSpPr/>
          <p:nvPr/>
        </p:nvSpPr>
        <p:spPr>
          <a:xfrm>
            <a:off x="2895480" y="3809880"/>
            <a:ext cx="137160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place your 4 above the 4, because 3 goes into 14 four tim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just completed the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divid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we’ll move on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Line 4"/>
          <p:cNvSpPr/>
          <p:nvPr/>
        </p:nvSpPr>
        <p:spPr>
          <a:xfrm flipH="1">
            <a:off x="5181120" y="2971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7010280" y="2590920"/>
            <a:ext cx="19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The 4 becomes the second part of your </a:t>
            </a:r>
            <a:r>
              <a:rPr b="1" lang="en-US" sz="1800" spc="-1" strike="noStrike">
                <a:solidFill>
                  <a:srgbClr val="ff66ff"/>
                </a:solidFill>
                <a:latin typeface="Bauhaus 93"/>
              </a:rPr>
              <a:t>quotient.</a:t>
            </a: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  You’re almost don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4495680" y="3200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, you want 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times 4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x 4 = 12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 this because we said that 3 can go into 14 four times, but now we have to find out how close to 14 we can get.  So w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4495680" y="25909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286000" y="3733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we want to move on to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-305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 that we know how many times 3 goes into 14, we have to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see the difference between the number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                                           </a:t>
            </a:r>
            <a:r>
              <a:rPr b="0" lang="en-US" sz="2400" spc="-1" strike="noStrike" u="sng">
                <a:solidFill>
                  <a:srgbClr val="9900cc"/>
                </a:solidFill>
                <a:uFillTx/>
                <a:latin typeface="Comic Sans MS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!  We know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4-12 =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Leave your 2 in it’s spot, because we’re going to use it for the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4419720" y="2819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-305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you 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ou’re moving the next part of your dividend into your workspac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)74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wait!!  There’s nothing to 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ring down!!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OK!  You have no more numbers in your dividend to add to your workspace so you’re almost done!  If there was a third number in our dividend, then we would start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over again!  You want to keep going until you hav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hing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bring dow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4419720" y="22096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5029200" y="2666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3a000"/>
                </a:solidFill>
                <a:latin typeface="Comic Sans MS"/>
              </a:rPr>
              <a:t>Long Di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2120" y="12193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L.O -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know how to use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GB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work out long divis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R.T-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cc"/>
                </a:solidFill>
                <a:latin typeface="Comic Sans MS"/>
              </a:rPr>
              <a:t>(Remember To)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what you have left over (or what is remaining) after you have nothing to bring dow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4    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R -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is problem, the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2  because 14-12 = 2.  Write your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xt to your answ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5410080" y="3124080"/>
            <a:ext cx="609840" cy="1524240"/>
          </a:xfrm>
          <a:custGeom>
            <a:avLst/>
            <a:gdLst>
              <a:gd name="textAreaLeft" fmla="*/ 0 w 609840"/>
              <a:gd name="textAreaRight" fmla="*/ 522720 w 609840"/>
              <a:gd name="textAreaTop" fmla="*/ 101628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495680" y="29718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 is what your division problem should look lik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449568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order of operations for division.  It stands for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vid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ultip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ubtrac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ring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number of groups we are dividing into or the number we are dividing by. In 2)81 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number we break into groups. In 2)81 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8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quoti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answer in divis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ember!  You want to keep going until              you hav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hing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5"/>
          <p:cNvSpPr/>
          <p:nvPr/>
        </p:nvSpPr>
        <p:spPr>
          <a:xfrm>
            <a:off x="2666880" y="30481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6"/>
          <p:cNvSpPr/>
          <p:nvPr/>
        </p:nvSpPr>
        <p:spPr>
          <a:xfrm>
            <a:off x="3352680" y="3886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WordArt 7"/>
          <p:cNvSpPr txBox="1"/>
          <p:nvPr/>
        </p:nvSpPr>
        <p:spPr>
          <a:xfrm>
            <a:off x="1676520" y="0"/>
            <a:ext cx="5790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et's Review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It Yourself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2480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try these problems on your own!  Remember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B.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you’re finished, move to the next slide to check your answer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33520" y="3200400"/>
          <a:ext cx="8381880" cy="28954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  <a:gridCol w="2095560"/>
                <a:gridCol w="2095560"/>
              </a:tblGrid>
              <a:tr h="28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)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)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)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Line 18"/>
          <p:cNvSpPr/>
          <p:nvPr/>
        </p:nvSpPr>
        <p:spPr>
          <a:xfrm>
            <a:off x="14479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Line 19"/>
          <p:cNvSpPr/>
          <p:nvPr/>
        </p:nvSpPr>
        <p:spPr>
          <a:xfrm>
            <a:off x="35053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Line 20"/>
          <p:cNvSpPr/>
          <p:nvPr/>
        </p:nvSpPr>
        <p:spPr>
          <a:xfrm>
            <a:off x="563868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21"/>
          <p:cNvSpPr/>
          <p:nvPr/>
        </p:nvSpPr>
        <p:spPr>
          <a:xfrm>
            <a:off x="769608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457200" y="2133720"/>
          <a:ext cx="8381880" cy="410184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200"/>
              </a:tblGrid>
              <a:tr h="412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 r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)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 r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  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)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 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)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Line 16"/>
          <p:cNvSpPr/>
          <p:nvPr/>
        </p:nvSpPr>
        <p:spPr>
          <a:xfrm>
            <a:off x="137160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342900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18"/>
          <p:cNvSpPr/>
          <p:nvPr/>
        </p:nvSpPr>
        <p:spPr>
          <a:xfrm>
            <a:off x="556272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762012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 Yourself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Line 23"/>
          <p:cNvSpPr/>
          <p:nvPr/>
        </p:nvSpPr>
        <p:spPr>
          <a:xfrm>
            <a:off x="1752480" y="30481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24"/>
          <p:cNvSpPr/>
          <p:nvPr/>
        </p:nvSpPr>
        <p:spPr>
          <a:xfrm>
            <a:off x="388620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25"/>
          <p:cNvSpPr/>
          <p:nvPr/>
        </p:nvSpPr>
        <p:spPr>
          <a:xfrm>
            <a:off x="594360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807732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did a really awesome job with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member!  Long division can be easy!  And when you need a little help just think of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2819520" y="5715000"/>
            <a:ext cx="36860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eep dividing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DMSB?  You wond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stands for the order of long divi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ke a look at this division problem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oks scary, huh?  Well, when you use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can be simple.  Move to the next slide to get started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25744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6019920" y="2362320"/>
            <a:ext cx="167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This is the </a:t>
            </a:r>
            <a:r>
              <a:rPr b="1" lang="en-US" sz="1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.  The dividend is the number we break into group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609480" y="2438280"/>
            <a:ext cx="20574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ff"/>
                </a:solidFill>
                <a:latin typeface="Comic Sans MS"/>
              </a:rPr>
              <a:t>This is the </a:t>
            </a:r>
            <a:r>
              <a:rPr b="1" lang="en-US" sz="14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1" i="1" lang="en-US" sz="1400" spc="-1" strike="noStrike">
                <a:solidFill>
                  <a:srgbClr val="ff66ff"/>
                </a:solidFill>
                <a:latin typeface="Comic Sans MS"/>
              </a:rPr>
              <a:t>. </a:t>
            </a:r>
            <a:r>
              <a:rPr b="0" lang="en-US" sz="1400" spc="-1" strike="noStrike">
                <a:solidFill>
                  <a:srgbClr val="ff66ff"/>
                </a:solidFill>
                <a:latin typeface="Comic Sans MS"/>
              </a:rPr>
              <a:t>The divisor is the number of groups we are dividing into or the number we are dividing b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st, we want to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DIVID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k yourself:  “How many times can 3 go into 7?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605480" y="1828800"/>
          <a:ext cx="3776400" cy="3657600"/>
        </p:xfrm>
        <a:graphic>
          <a:graphicData uri="http://schemas.openxmlformats.org/drawingml/2006/table">
            <a:tbl>
              <a:tblPr/>
              <a:tblGrid>
                <a:gridCol w="1888920"/>
                <a:gridCol w="1887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Line 14"/>
          <p:cNvSpPr/>
          <p:nvPr/>
        </p:nvSpPr>
        <p:spPr>
          <a:xfrm>
            <a:off x="2438280" y="4724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want to find the closest number to 7 without going over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case it’s 2 times because 3 x 2 is 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times is too high since 3 x 3 = 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419720" y="1905120"/>
          <a:ext cx="4572000" cy="3657600"/>
        </p:xfrm>
        <a:graphic>
          <a:graphicData uri="http://schemas.openxmlformats.org/drawingml/2006/table">
            <a:tbl>
              <a:tblPr/>
              <a:tblGrid>
                <a:gridCol w="2287440"/>
                <a:gridCol w="228456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Line 13"/>
          <p:cNvSpPr/>
          <p:nvPr/>
        </p:nvSpPr>
        <p:spPr>
          <a:xfrm>
            <a:off x="3733920" y="4038480"/>
            <a:ext cx="6858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, place your 2 above the 7, because 3 goes into 7 two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’ve just completed the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ivid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, we’ll move onto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4"/>
          <p:cNvSpPr/>
          <p:nvPr/>
        </p:nvSpPr>
        <p:spPr>
          <a:xfrm flipH="1">
            <a:off x="5105160" y="35053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010280" y="2590920"/>
            <a:ext cx="19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The 2 becomes the first part of your </a:t>
            </a:r>
            <a:r>
              <a:rPr b="1" lang="en-US" sz="1800" spc="-1" strike="noStrike">
                <a:solidFill>
                  <a:srgbClr val="ff66ff"/>
                </a:solidFill>
                <a:latin typeface="Bauhaus 93"/>
              </a:rPr>
              <a:t>quotient.</a:t>
            </a: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  The quotient is the answer in divis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4419720" y="3581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, you want 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times 2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x 2= 6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 this because we said that 3 can go into 7 two times, but now we have to find out how close to 7 we can get.  So w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4419720" y="30481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2057400" y="35812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we want to move on to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2:41:07Z</dcterms:created>
  <dc:creator>corinn</dc:creator>
  <dc:description/>
  <dc:language>en-US</dc:language>
  <cp:lastModifiedBy>LEGION</cp:lastModifiedBy>
  <dcterms:modified xsi:type="dcterms:W3CDTF">2015-09-08T10:01:39Z</dcterms:modified>
  <cp:revision>22</cp:revision>
  <dc:subject/>
  <dc:title>Long Division Can Be Easy!</dc:title>
</cp:coreProperties>
</file>